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8B0F-FD4A-40DA-837E-139A5F7B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3171-EFBF-468E-A416-E507DBAA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F42F-E050-4F0E-8933-F72F2BCF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4D46-0216-4E57-93B0-01AA1C37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7386-4AF8-4B3D-8753-1ED3ABD7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E66F-4F48-46C0-A202-F3C3EF25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8758-4A59-49BB-BC7C-1AD46E5C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201C-01BE-40C7-84B1-C71CCAE0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EF1E-1AAB-4107-AF3B-BAC2915F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0703-5C7D-4C74-91B7-FC8D739C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3E32-D271-4B42-8E43-BEE72A19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82F0-5139-4EC9-BDAF-8FF3636D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4BFE-862B-4E37-B723-1EC3468589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9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38120" y="1523880"/>
            <a:ext cx="48769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小孩与大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4572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的贝壳小小的，细致的花纹很美丽，那是美人鱼公主珍藏的宝贝；有的贝壳大大的，放在耳边，仔细听一听，可以听到海浪的声音，那是赞美大海的音乐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2990880" cy="2185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91320" y="30492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52280" y="2743200"/>
            <a:ext cx="3086280" cy="2590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248520" y="25909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276720" y="30492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rcRect l="23999" t="21335" r="25002" b="17334"/>
          <a:stretch/>
        </p:blipFill>
        <p:spPr>
          <a:xfrm>
            <a:off x="3276720" y="2743200"/>
            <a:ext cx="2819160" cy="2543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95280" y="571500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54864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有的贝壳小小的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细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花纹很美丽，那是美人鱼公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珍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宝贝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5486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细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2280" y="30481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的贝壳大大的，放在耳边，仔细听一听，可以听到海浪的声音，那是赞美大海的音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4572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的贝壳小小的，细致的花纹很美丽，那是美人鱼公主珍藏的宝贝；有的贝壳大大的，放在耳边，仔细听一听，可以听到海浪的声音，那是赞美大海的音乐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1447560"/>
            <a:ext cx="8001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的贝壳（五颜六色的，形状像只美丽的蝴蝶），那是（            ）；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的贝壳（                  ）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是（             ）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90720" y="1219320"/>
            <a:ext cx="6933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楷体_GB2312"/>
              </a:rPr>
              <a:t>孩子们玩累了，沿着海边走，捡海浪打上来的椰子壳、枯木、珊瑚……有时候还会捡到一些贝壳。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楷体_GB2312"/>
              </a:rPr>
              <a:t>有的贝壳小小的，细致的花纹很美丽，那是美人鱼公主珍藏的宝贝；有的贝壳大大的，放在耳边，仔细听一听，可以听到海浪的声音，那是赞美大海的音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 rot="10800000">
            <a:off x="7620120" y="5638320"/>
            <a:ext cx="914400" cy="762120"/>
          </a:xfrm>
          <a:custGeom>
            <a:avLst/>
            <a:gdLst>
              <a:gd name="textAreaLeft" fmla="*/ 0 w 914400"/>
              <a:gd name="textAreaRight" fmla="*/ 914760 w 9144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4120" y="68580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沙滩外面是大海，大海的尽头是什么呢？海有多深呢？深深的海底又有什么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54864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船带着孩子的梦出海，孩子的梦里有神秘的大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600" y="1218960"/>
            <a:ext cx="1371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踏浪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4267080" y="1981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堆城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5715000" y="28195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拾贝壳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6629400" y="40384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看船远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3657600" cy="2666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91120" y="3352680"/>
            <a:ext cx="3733560" cy="2686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09480" y="3352680"/>
            <a:ext cx="3581640" cy="2667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343400" y="533520"/>
            <a:ext cx="3581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在海边，孩子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提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小水桶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拿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小铲子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挖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沙子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城堡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220968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提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89548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拿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28954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28954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99072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大家七手八脚地忙着，要再堆一座更大、更高的城堡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22096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七手八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50000">
              <a:srgbClr val="ffffff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5791320" cy="4319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0" t="12284" r="0" b="10530"/>
          <a:stretch/>
        </p:blipFill>
        <p:spPr>
          <a:xfrm>
            <a:off x="-304920" y="3200400"/>
            <a:ext cx="50292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4173480" cy="4343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1600200"/>
            <a:ext cx="4495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海边，孩子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提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水桶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拿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铲子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沙子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城堡。城堡有门也有窗，还有小旗子在上面飘扬，就像童话故事里王子和公主住的地方。呀！海水一下子涌进来，城堡哗啦啦地塌了。大家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七手八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地忙着，要再堆一座更大、更高的城堡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" action="ppaction://hlinksldjump"/>
          </p:cNvPr>
          <p:cNvSpPr/>
          <p:nvPr/>
        </p:nvSpPr>
        <p:spPr>
          <a:xfrm rot="10800000">
            <a:off x="7467120" y="5866920"/>
            <a:ext cx="685800" cy="685800"/>
          </a:xfrm>
          <a:custGeom>
            <a:avLst/>
            <a:gdLst>
              <a:gd name="textAreaLeft" fmla="*/ 0 w 685800"/>
              <a:gd name="textAreaRight" fmla="*/ 686160 w 6858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743200" y="41148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椰子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4876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枯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55627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珊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6095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贝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 </dc:creator>
  <dc:description>  </dc:description>
  <dc:language>en-US</dc:language>
  <cp:lastModifiedBy>微软用户</cp:lastModifiedBy>
  <dcterms:modified xsi:type="dcterms:W3CDTF">2013-03-22T18:29:32Z</dcterms:modified>
  <cp:revision>0</cp:revision>
  <dc:subject>  </dc:subject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