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854-0503-4D2F-90EB-ED722A8E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17B-27D1-4364-9BC8-FCE1874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034-E471-4355-BFD4-19158786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E93-70C9-4C80-8D77-6F7D14D6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C42-09F2-41F6-9342-27BE7651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502-7A6B-4BBF-9E27-E6C56252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E32-9D86-419D-A29D-740C0D8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88-EE3A-44A5-A62E-BBE46CF3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FAA-D66F-4013-BA34-E55FCC6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4A9-4DCA-4032-97D1-FB24F10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F7C-A6B4-4C7D-9D71-2A8A553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C5D-FA75-400B-AA4C-11165AD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561-9D25-415A-8189-55B9F9CAA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儿童绘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44560"/>
            <a:ext cx="9144000" cy="51688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93880"/>
            <a:ext cx="9144000" cy="5070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52480"/>
            <a:ext cx="9144000" cy="515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9880"/>
            <a:ext cx="9144000" cy="517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5080"/>
            <a:ext cx="9144000" cy="51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06480"/>
            <a:ext cx="9144000" cy="504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73000"/>
            <a:ext cx="9144000" cy="511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502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27000"/>
            <a:ext cx="9144000" cy="50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1160"/>
            <a:ext cx="9144000" cy="5035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5080"/>
            <a:ext cx="9144000" cy="51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06480"/>
            <a:ext cx="9144000" cy="504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5080"/>
            <a:ext cx="9144000" cy="512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88840"/>
            <a:ext cx="9144000" cy="507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01800"/>
            <a:ext cx="9144000" cy="5052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01800"/>
            <a:ext cx="9144000" cy="5052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39:03Z</dcterms:created>
  <dc:creator>Michael Ai</dc:creator>
  <dc:description/>
  <dc:language>en-US</dc:language>
  <cp:lastModifiedBy>linjuanjuan</cp:lastModifiedBy>
  <dcterms:modified xsi:type="dcterms:W3CDTF">2010-09-16T04:34:01Z</dcterms:modified>
  <cp:revision>4</cp:revision>
  <dc:subject/>
  <dc:title>相册</dc:title>
</cp:coreProperties>
</file>