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DE4-F5AF-4AEE-B85F-97788099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A232-F145-4384-9717-5A9904F3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FE67-2500-4398-AF1F-82D7B55B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D1B-226B-4FE9-BA84-712ED53C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EB17-36F6-4DE4-A10B-82608EC8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BE38-2F81-46E8-8C7A-1390965C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DF3-B89E-4071-A78A-CA79B6CB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6C1-BF3A-48B2-A4E5-5C8C05E0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8BF-B4FF-4935-906F-BB91BB12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58F9-7BEC-4AE5-8EB3-C896D4DE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149-F8FB-4086-B8B0-9A99035F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35F-293A-46B1-AB9B-5FB50D98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f8fd"/>
            </a:gs>
            <a:gs pos="100000">
              <a:srgbClr val="00f6b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E4F7-2E43-46F3-907E-7185588911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方正少儿_GBK"/>
                <a:ea typeface="方正少儿_GBK"/>
              </a:rPr>
              <a:t>  </a:t>
            </a:r>
            <a:r>
              <a:rPr b="0" lang="zh-CN" sz="6600" spc="-1" strike="noStrike">
                <a:solidFill>
                  <a:srgbClr val="00cc00"/>
                </a:solidFill>
                <a:latin typeface="方正少儿_GBK"/>
                <a:ea typeface="方正少儿_GBK"/>
              </a:rPr>
              <a:t>生命的签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44840" y="1890720"/>
            <a:ext cx="405432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03280" y="4762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国政府驻奥地利总领事何凤山的心被刺痛了。他决定向这些苦难的人们伸出援助之手。他表示，任何人只要提出申请，就能在中国总领事馆得到去上海的签证。这一消息像长了翅膀一样，迅速在奥地利的犹太人中传开了。中国政府驻奥地利总领事馆门前很快排起了长龙。何凤山和他手下的工作人员忘我地工作着，以最快的速度为他们办理各种手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4762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国政府驻奥地利总领事何凤山的心被刺痛了。他决定向这些苦难的人们伸出援助之手。他表示，任何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只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提出申请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能在中国总领事馆得到去上海的签证。这一消息像长了翅膀一样，迅速在奥地利的犹太人中传开了。中国政府驻奥地利总领事馆门前很快排起了长龙。何凤山和他手下的工作人员忘我地工作着，以最快的速度为他们办理各种手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4762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国政府驻奥地利总领事何凤山的心被刺痛了。他决定向这些苦难的人们伸出援助之手。他表示，任何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只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提出申请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能在中国总领事馆得到去上海的签证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这一消息像长了翅膀一样，迅速在奥地利的犹太人中传开了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国政府驻奥地利总领事馆门前很快排起了长龙。何凤山和他手下的工作人员忘我地工作着，以最快的速度为他们办理各种手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" y="4762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国政府驻奥地利总领事何凤山的心被刺痛了。他决定向这些苦难的人们伸出援助之手。他表示，任何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只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提出申请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能在中国总领事馆得到去上海的签证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这一消息像长了翅膀一样，迅速在奥地利的犹太人中传开了。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宋体"/>
              </a:rPr>
              <a:t>中国政府驻奥地利总领事馆门前很快排起了长龙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何凤山和他手下的工作人员忘我地工作着，以最快的速度为他们办理各种手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4000" y="47628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国政府驻奥地利总领事何凤山的心被刺痛了。他决定向这些苦难的人们伸出援助之手。他表示，任何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只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提出申请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能在中国总领事馆得到去上海的签证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这一消息像长了翅膀一样，迅速在奥地利的犹太人中传开了。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宋体"/>
              </a:rPr>
              <a:t>中国政府驻奥地利总领事馆门前很快排起了长龙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何凤山和他手下的工作人员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忘我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工作着，以最快的速度为他们办理各种手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33336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3148" t="31038" r="1853" b="27327"/>
          <a:stretch/>
        </p:blipFill>
        <p:spPr>
          <a:xfrm>
            <a:off x="395280" y="692280"/>
            <a:ext cx="8064360" cy="56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33336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3148" t="31038" r="1853" b="27327"/>
          <a:stretch/>
        </p:blipFill>
        <p:spPr>
          <a:xfrm>
            <a:off x="395280" y="692280"/>
            <a:ext cx="8064360" cy="5699160"/>
          </a:xfrm>
          <a:prstGeom prst="rect">
            <a:avLst/>
          </a:prstGeom>
          <a:ln w="0">
            <a:noFill/>
          </a:ln>
        </p:spPr>
      </p:pic>
      <p:sp>
        <p:nvSpPr>
          <p:cNvPr id="76" name="未知"/>
          <p:cNvSpPr/>
          <p:nvPr/>
        </p:nvSpPr>
        <p:spPr>
          <a:xfrm>
            <a:off x="433440" y="2262240"/>
            <a:ext cx="606240" cy="149040"/>
          </a:xfrm>
          <a:custGeom>
            <a:avLst/>
            <a:gdLst/>
            <a:ahLst/>
            <a:rect l="l" t="t" r="r" b="b"/>
            <a:pathLst>
              <a:path w="1684" h="414">
                <a:moveTo>
                  <a:pt x="1270" y="6286"/>
                </a:moveTo>
                <a:cubicBezTo>
                  <a:pt x="1391" y="6286"/>
                  <a:pt x="1356" y="6327"/>
                  <a:pt x="1429" y="6350"/>
                </a:cubicBezTo>
                <a:cubicBezTo>
                  <a:pt x="1511" y="6376"/>
                  <a:pt x="1596" y="6390"/>
                  <a:pt x="1683" y="6414"/>
                </a:cubicBezTo>
                <a:cubicBezTo>
                  <a:pt x="1777" y="6439"/>
                  <a:pt x="1881" y="6417"/>
                  <a:pt x="1968" y="6445"/>
                </a:cubicBezTo>
                <a:cubicBezTo>
                  <a:pt x="2147" y="6503"/>
                  <a:pt x="2538" y="6462"/>
                  <a:pt x="2699" y="6414"/>
                </a:cubicBezTo>
                <a:cubicBezTo>
                  <a:pt x="2741" y="6414"/>
                  <a:pt x="2762" y="6414"/>
                  <a:pt x="2794" y="6414"/>
                </a:cubicBezTo>
              </a:path>
              <a:path w="1684" h="414">
                <a:moveTo>
                  <a:pt x="1206" y="6509"/>
                </a:moveTo>
                <a:cubicBezTo>
                  <a:pt x="1222" y="6461"/>
                  <a:pt x="1245" y="6477"/>
                  <a:pt x="1302" y="6477"/>
                </a:cubicBezTo>
                <a:cubicBezTo>
                  <a:pt x="1382" y="6477"/>
                  <a:pt x="1417" y="6505"/>
                  <a:pt x="1492" y="6509"/>
                </a:cubicBezTo>
                <a:cubicBezTo>
                  <a:pt x="1595" y="6515"/>
                  <a:pt x="1570" y="6568"/>
                  <a:pt x="1651" y="6604"/>
                </a:cubicBezTo>
                <a:cubicBezTo>
                  <a:pt x="1718" y="6634"/>
                  <a:pt x="1798" y="6662"/>
                  <a:pt x="1873" y="6668"/>
                </a:cubicBezTo>
                <a:cubicBezTo>
                  <a:pt x="1950" y="6674"/>
                  <a:pt x="2012" y="6699"/>
                  <a:pt x="2096" y="6699"/>
                </a:cubicBezTo>
                <a:cubicBezTo>
                  <a:pt x="2303" y="6699"/>
                  <a:pt x="2543" y="6723"/>
                  <a:pt x="2730" y="6668"/>
                </a:cubicBezTo>
                <a:cubicBezTo>
                  <a:pt x="2790" y="6651"/>
                  <a:pt x="2802" y="6629"/>
                  <a:pt x="2858" y="6604"/>
                </a:cubicBezTo>
                <a:cubicBezTo>
                  <a:pt x="2868" y="6604"/>
                  <a:pt x="2879" y="6604"/>
                  <a:pt x="2889" y="6604"/>
                </a:cubicBezTo>
              </a:path>
            </a:pathLst>
          </a:custGeom>
          <a:solidFill>
            <a:srgbClr val="ffffff"/>
          </a:solidFill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33336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3148" t="31038" r="1853" b="27327"/>
          <a:stretch/>
        </p:blipFill>
        <p:spPr>
          <a:xfrm>
            <a:off x="395280" y="692280"/>
            <a:ext cx="8064360" cy="5699160"/>
          </a:xfrm>
          <a:prstGeom prst="rect">
            <a:avLst/>
          </a:prstGeom>
          <a:ln w="0">
            <a:noFill/>
          </a:ln>
        </p:spPr>
      </p:pic>
      <p:sp>
        <p:nvSpPr>
          <p:cNvPr id="79" name="未知"/>
          <p:cNvSpPr/>
          <p:nvPr/>
        </p:nvSpPr>
        <p:spPr>
          <a:xfrm>
            <a:off x="3349800" y="2879640"/>
            <a:ext cx="571320" cy="127080"/>
          </a:xfrm>
          <a:custGeom>
            <a:avLst/>
            <a:gdLst/>
            <a:ahLst/>
            <a:rect l="l" t="t" r="r" b="b"/>
            <a:pathLst>
              <a:path w="1588" h="350">
                <a:moveTo>
                  <a:pt x="9303" y="8001"/>
                </a:moveTo>
                <a:cubicBezTo>
                  <a:pt x="9699" y="8001"/>
                  <a:pt x="10162" y="7938"/>
                  <a:pt x="10541" y="8033"/>
                </a:cubicBezTo>
                <a:cubicBezTo>
                  <a:pt x="10610" y="8050"/>
                  <a:pt x="10658" y="8064"/>
                  <a:pt x="10732" y="8064"/>
                </a:cubicBezTo>
                <a:cubicBezTo>
                  <a:pt x="10792" y="8064"/>
                  <a:pt x="10834" y="8085"/>
                  <a:pt x="10890" y="8096"/>
                </a:cubicBezTo>
              </a:path>
              <a:path w="1588" h="350">
                <a:moveTo>
                  <a:pt x="9366" y="8350"/>
                </a:moveTo>
                <a:cubicBezTo>
                  <a:pt x="9366" y="8339"/>
                  <a:pt x="9366" y="8329"/>
                  <a:pt x="9366" y="8318"/>
                </a:cubicBezTo>
                <a:cubicBezTo>
                  <a:pt x="9789" y="8318"/>
                  <a:pt x="10295" y="8249"/>
                  <a:pt x="10700" y="8350"/>
                </a:cubicBezTo>
                <a:cubicBezTo>
                  <a:pt x="10732" y="8350"/>
                  <a:pt x="10742" y="8350"/>
                  <a:pt x="10763" y="8350"/>
                </a:cubicBezTo>
              </a:path>
            </a:pathLst>
          </a:custGeom>
          <a:solidFill>
            <a:srgbClr val="ffffff"/>
          </a:solidFill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19640" y="1268280"/>
            <a:ext cx="7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2720" y="1197000"/>
            <a:ext cx="1150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126828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989000"/>
            <a:ext cx="79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4000" y="1484280"/>
            <a:ext cx="730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1989000"/>
            <a:ext cx="72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1268280"/>
            <a:ext cx="72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836640"/>
            <a:ext cx="777708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自学提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默读课文，思考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当时的犹太人处于什么样的环境之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何凤山给犹太人办签证遇到哪些困难？他是怎样克服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2400" y="1193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33336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rcRect l="3148" t="31038" r="1853" b="27327"/>
          <a:stretch/>
        </p:blipFill>
        <p:spPr>
          <a:xfrm>
            <a:off x="395280" y="692280"/>
            <a:ext cx="8064360" cy="5699160"/>
          </a:xfrm>
          <a:prstGeom prst="rect">
            <a:avLst/>
          </a:prstGeom>
          <a:ln w="0">
            <a:noFill/>
          </a:ln>
        </p:spPr>
      </p:pic>
      <p:sp>
        <p:nvSpPr>
          <p:cNvPr id="82" name="未知"/>
          <p:cNvSpPr/>
          <p:nvPr/>
        </p:nvSpPr>
        <p:spPr>
          <a:xfrm>
            <a:off x="6161040" y="5292720"/>
            <a:ext cx="777960" cy="525600"/>
          </a:xfrm>
          <a:custGeom>
            <a:avLst/>
            <a:gdLst/>
            <a:ahLst/>
            <a:rect l="l" t="t" r="r" b="b"/>
            <a:pathLst>
              <a:path w="2160" h="1462">
                <a:moveTo>
                  <a:pt x="17716" y="14796"/>
                </a:moveTo>
                <a:cubicBezTo>
                  <a:pt x="17563" y="14796"/>
                  <a:pt x="17223" y="14736"/>
                  <a:pt x="17145" y="14859"/>
                </a:cubicBezTo>
                <a:cubicBezTo>
                  <a:pt x="17122" y="14896"/>
                  <a:pt x="17116" y="14938"/>
                  <a:pt x="17113" y="14986"/>
                </a:cubicBezTo>
                <a:cubicBezTo>
                  <a:pt x="17103" y="15157"/>
                  <a:pt x="17080" y="15413"/>
                  <a:pt x="17145" y="15558"/>
                </a:cubicBezTo>
                <a:cubicBezTo>
                  <a:pt x="17168" y="15609"/>
                  <a:pt x="17180" y="15660"/>
                  <a:pt x="17208" y="15716"/>
                </a:cubicBezTo>
                <a:cubicBezTo>
                  <a:pt x="17242" y="15785"/>
                  <a:pt x="17242" y="15824"/>
                  <a:pt x="17304" y="15875"/>
                </a:cubicBezTo>
                <a:cubicBezTo>
                  <a:pt x="17342" y="15907"/>
                  <a:pt x="17398" y="15912"/>
                  <a:pt x="17431" y="15938"/>
                </a:cubicBezTo>
                <a:cubicBezTo>
                  <a:pt x="17484" y="15979"/>
                  <a:pt x="17529" y="16022"/>
                  <a:pt x="17590" y="16034"/>
                </a:cubicBezTo>
                <a:cubicBezTo>
                  <a:pt x="17652" y="16046"/>
                  <a:pt x="17719" y="16059"/>
                  <a:pt x="17780" y="16066"/>
                </a:cubicBezTo>
                <a:cubicBezTo>
                  <a:pt x="17871" y="16077"/>
                  <a:pt x="17921" y="16070"/>
                  <a:pt x="18002" y="16097"/>
                </a:cubicBezTo>
                <a:cubicBezTo>
                  <a:pt x="18054" y="16114"/>
                  <a:pt x="18066" y="16125"/>
                  <a:pt x="18129" y="16129"/>
                </a:cubicBezTo>
                <a:cubicBezTo>
                  <a:pt x="18231" y="16135"/>
                  <a:pt x="18320" y="16145"/>
                  <a:pt x="18415" y="16161"/>
                </a:cubicBezTo>
                <a:cubicBezTo>
                  <a:pt x="18624" y="16196"/>
                  <a:pt x="18892" y="16161"/>
                  <a:pt x="19082" y="16129"/>
                </a:cubicBezTo>
                <a:cubicBezTo>
                  <a:pt x="19157" y="16116"/>
                  <a:pt x="19134" y="16098"/>
                  <a:pt x="19177" y="16066"/>
                </a:cubicBezTo>
                <a:cubicBezTo>
                  <a:pt x="19213" y="16039"/>
                  <a:pt x="19255" y="16027"/>
                  <a:pt x="19272" y="15970"/>
                </a:cubicBezTo>
                <a:cubicBezTo>
                  <a:pt x="19306" y="15855"/>
                  <a:pt x="19282" y="15622"/>
                  <a:pt x="19240" y="15526"/>
                </a:cubicBezTo>
                <a:cubicBezTo>
                  <a:pt x="19213" y="15464"/>
                  <a:pt x="19212" y="15383"/>
                  <a:pt x="19177" y="15335"/>
                </a:cubicBezTo>
                <a:cubicBezTo>
                  <a:pt x="19148" y="15295"/>
                  <a:pt x="19086" y="15223"/>
                  <a:pt x="19082" y="15208"/>
                </a:cubicBezTo>
                <a:cubicBezTo>
                  <a:pt x="19074" y="15181"/>
                  <a:pt x="19040" y="15072"/>
                  <a:pt x="19018" y="15050"/>
                </a:cubicBezTo>
                <a:cubicBezTo>
                  <a:pt x="18997" y="15029"/>
                  <a:pt x="18943" y="14998"/>
                  <a:pt x="18923" y="14986"/>
                </a:cubicBezTo>
                <a:cubicBezTo>
                  <a:pt x="18873" y="14955"/>
                  <a:pt x="18875" y="14913"/>
                  <a:pt x="18828" y="14891"/>
                </a:cubicBezTo>
                <a:cubicBezTo>
                  <a:pt x="18767" y="14863"/>
                  <a:pt x="18717" y="14853"/>
                  <a:pt x="18637" y="14827"/>
                </a:cubicBezTo>
                <a:cubicBezTo>
                  <a:pt x="18563" y="14803"/>
                  <a:pt x="18491" y="14775"/>
                  <a:pt x="18415" y="14764"/>
                </a:cubicBezTo>
                <a:cubicBezTo>
                  <a:pt x="18351" y="14755"/>
                  <a:pt x="18286" y="14748"/>
                  <a:pt x="18224" y="14732"/>
                </a:cubicBezTo>
                <a:cubicBezTo>
                  <a:pt x="18163" y="14716"/>
                  <a:pt x="18111" y="14700"/>
                  <a:pt x="18034" y="14700"/>
                </a:cubicBezTo>
                <a:cubicBezTo>
                  <a:pt x="17851" y="14700"/>
                  <a:pt x="17657" y="14687"/>
                  <a:pt x="17494" y="14732"/>
                </a:cubicBezTo>
              </a:path>
            </a:pathLst>
          </a:custGeom>
          <a:solidFill>
            <a:srgbClr val="ffffff"/>
          </a:solidFill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未知"/>
          <p:cNvSpPr/>
          <p:nvPr/>
        </p:nvSpPr>
        <p:spPr>
          <a:xfrm>
            <a:off x="674640" y="5897520"/>
            <a:ext cx="446040" cy="457200"/>
          </a:xfrm>
          <a:custGeom>
            <a:avLst/>
            <a:gdLst/>
            <a:ahLst/>
            <a:rect l="l" t="t" r="r" b="b"/>
            <a:pathLst>
              <a:path w="1240" h="1271">
                <a:moveTo>
                  <a:pt x="3080" y="16796"/>
                </a:moveTo>
                <a:cubicBezTo>
                  <a:pt x="3051" y="16811"/>
                  <a:pt x="3050" y="16835"/>
                  <a:pt x="2984" y="16796"/>
                </a:cubicBezTo>
                <a:cubicBezTo>
                  <a:pt x="2955" y="16779"/>
                  <a:pt x="2921" y="16684"/>
                  <a:pt x="2889" y="16637"/>
                </a:cubicBezTo>
                <a:cubicBezTo>
                  <a:pt x="2852" y="16583"/>
                  <a:pt x="2833" y="16525"/>
                  <a:pt x="2794" y="16478"/>
                </a:cubicBezTo>
                <a:cubicBezTo>
                  <a:pt x="2779" y="16460"/>
                  <a:pt x="2733" y="16417"/>
                  <a:pt x="2699" y="16383"/>
                </a:cubicBezTo>
                <a:cubicBezTo>
                  <a:pt x="2708" y="16472"/>
                  <a:pt x="2759" y="16466"/>
                  <a:pt x="2667" y="16478"/>
                </a:cubicBezTo>
                <a:cubicBezTo>
                  <a:pt x="2472" y="16504"/>
                  <a:pt x="2058" y="16387"/>
                  <a:pt x="1905" y="16510"/>
                </a:cubicBezTo>
                <a:cubicBezTo>
                  <a:pt x="1866" y="16541"/>
                  <a:pt x="1877" y="16537"/>
                  <a:pt x="1873" y="16605"/>
                </a:cubicBezTo>
                <a:cubicBezTo>
                  <a:pt x="1868" y="16688"/>
                  <a:pt x="1855" y="16797"/>
                  <a:pt x="1905" y="16859"/>
                </a:cubicBezTo>
                <a:cubicBezTo>
                  <a:pt x="1918" y="16876"/>
                  <a:pt x="1947" y="16926"/>
                  <a:pt x="1968" y="16954"/>
                </a:cubicBezTo>
                <a:cubicBezTo>
                  <a:pt x="2012" y="17012"/>
                  <a:pt x="2028" y="17009"/>
                  <a:pt x="2032" y="17082"/>
                </a:cubicBezTo>
                <a:cubicBezTo>
                  <a:pt x="2039" y="17196"/>
                  <a:pt x="2044" y="17301"/>
                  <a:pt x="2064" y="17399"/>
                </a:cubicBezTo>
                <a:cubicBezTo>
                  <a:pt x="2074" y="17446"/>
                  <a:pt x="2072" y="17486"/>
                  <a:pt x="2096" y="17526"/>
                </a:cubicBezTo>
                <a:cubicBezTo>
                  <a:pt x="2098" y="17530"/>
                  <a:pt x="2169" y="17584"/>
                  <a:pt x="2191" y="17590"/>
                </a:cubicBezTo>
                <a:cubicBezTo>
                  <a:pt x="2247" y="17606"/>
                  <a:pt x="2293" y="17605"/>
                  <a:pt x="2350" y="17621"/>
                </a:cubicBezTo>
                <a:cubicBezTo>
                  <a:pt x="2405" y="17636"/>
                  <a:pt x="2450" y="17650"/>
                  <a:pt x="2508" y="17653"/>
                </a:cubicBezTo>
                <a:cubicBezTo>
                  <a:pt x="2665" y="17660"/>
                  <a:pt x="2806" y="17646"/>
                  <a:pt x="2953" y="17621"/>
                </a:cubicBezTo>
                <a:cubicBezTo>
                  <a:pt x="3006" y="17612"/>
                  <a:pt x="3051" y="17620"/>
                  <a:pt x="3080" y="17558"/>
                </a:cubicBezTo>
                <a:cubicBezTo>
                  <a:pt x="3102" y="17511"/>
                  <a:pt x="3109" y="17453"/>
                  <a:pt x="3112" y="17399"/>
                </a:cubicBezTo>
                <a:cubicBezTo>
                  <a:pt x="3120" y="17263"/>
                  <a:pt x="3125" y="17102"/>
                  <a:pt x="3080" y="16986"/>
                </a:cubicBezTo>
                <a:cubicBezTo>
                  <a:pt x="3080" y="16941"/>
                  <a:pt x="3074" y="16919"/>
                  <a:pt x="3048" y="16891"/>
                </a:cubicBezTo>
              </a:path>
            </a:pathLst>
          </a:custGeom>
          <a:solidFill>
            <a:srgbClr val="ffffff"/>
          </a:solidFill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40464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何凤山担任驻奥地利总领事，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93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月上任，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9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月离任，短短两年，他到底给多少人发过签证，挽救了多少犹太人，现在已经很难查证了。但从一位犹太幸存者提供的护照可以看到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93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日，这位名叫艾兰克的幸存者领导的签证已超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2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号。这样算来，何凤山至少救了一千多名犹太人的性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40464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何凤山担任驻奥地利总领事，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93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月上任，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9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月离任，短短两年，他到底给多少人发过签证，挽救了多少犹太人，现在已经很难查证了。但从一位犹太幸存者提供的护照可以看到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93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日，这位名叫艾兰克的幸存者领导的签证已超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2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号。这样算来，何凤山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至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救了一千多名犹太人的性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40464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2097" t="4171" r="4723" b="6619"/>
          <a:stretch/>
        </p:blipFill>
        <p:spPr>
          <a:xfrm>
            <a:off x="324000" y="692280"/>
            <a:ext cx="8137440" cy="5327640"/>
          </a:xfrm>
          <a:prstGeom prst="rect">
            <a:avLst/>
          </a:prstGeom>
          <a:ln w="0">
            <a:noFill/>
          </a:ln>
        </p:spPr>
      </p:pic>
      <p:sp>
        <p:nvSpPr>
          <p:cNvPr id="88" name="未知"/>
          <p:cNvSpPr/>
          <p:nvPr/>
        </p:nvSpPr>
        <p:spPr>
          <a:xfrm>
            <a:off x="492120" y="4160880"/>
            <a:ext cx="1017720" cy="11160"/>
          </a:xfrm>
          <a:custGeom>
            <a:avLst/>
            <a:gdLst/>
            <a:ahLst/>
            <a:rect l="l" t="t" r="r" b="b"/>
            <a:pathLst>
              <a:path w="2827" h="33">
                <a:moveTo>
                  <a:pt x="1365" y="11557"/>
                </a:moveTo>
                <a:cubicBezTo>
                  <a:pt x="1725" y="11557"/>
                  <a:pt x="2096" y="11543"/>
                  <a:pt x="2445" y="11589"/>
                </a:cubicBezTo>
                <a:cubicBezTo>
                  <a:pt x="3005" y="11663"/>
                  <a:pt x="3626" y="11589"/>
                  <a:pt x="4191" y="11589"/>
                </a:cubicBezTo>
              </a:path>
            </a:pathLst>
          </a:custGeom>
          <a:solidFill>
            <a:srgbClr val="ffffff"/>
          </a:solidFill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未知"/>
          <p:cNvSpPr/>
          <p:nvPr/>
        </p:nvSpPr>
        <p:spPr>
          <a:xfrm>
            <a:off x="5829480" y="3565440"/>
            <a:ext cx="2606400" cy="1235160"/>
          </a:xfrm>
          <a:custGeom>
            <a:avLst/>
            <a:gdLst/>
            <a:ahLst/>
            <a:rect l="l" t="t" r="r" b="b"/>
            <a:pathLst>
              <a:path w="7241" h="3430">
                <a:moveTo>
                  <a:pt x="20669" y="9938"/>
                </a:moveTo>
                <a:cubicBezTo>
                  <a:pt x="20669" y="9927"/>
                  <a:pt x="20669" y="9917"/>
                  <a:pt x="20669" y="9906"/>
                </a:cubicBezTo>
                <a:cubicBezTo>
                  <a:pt x="21055" y="9906"/>
                  <a:pt x="21608" y="9810"/>
                  <a:pt x="21971" y="9938"/>
                </a:cubicBezTo>
                <a:cubicBezTo>
                  <a:pt x="22023" y="9956"/>
                  <a:pt x="22073" y="9967"/>
                  <a:pt x="22130" y="9970"/>
                </a:cubicBezTo>
                <a:cubicBezTo>
                  <a:pt x="22417" y="9986"/>
                  <a:pt x="22850" y="9885"/>
                  <a:pt x="23114" y="10001"/>
                </a:cubicBezTo>
                <a:cubicBezTo>
                  <a:pt x="23189" y="10034"/>
                  <a:pt x="23222" y="10030"/>
                  <a:pt x="23304" y="10033"/>
                </a:cubicBezTo>
                <a:cubicBezTo>
                  <a:pt x="23347" y="10035"/>
                  <a:pt x="23389" y="10033"/>
                  <a:pt x="23432" y="10033"/>
                </a:cubicBezTo>
              </a:path>
              <a:path w="7241" h="3430">
                <a:moveTo>
                  <a:pt x="16192" y="11684"/>
                </a:moveTo>
                <a:cubicBezTo>
                  <a:pt x="16742" y="11684"/>
                  <a:pt x="17306" y="11697"/>
                  <a:pt x="17844" y="11652"/>
                </a:cubicBezTo>
                <a:cubicBezTo>
                  <a:pt x="17949" y="11643"/>
                  <a:pt x="18064" y="11627"/>
                  <a:pt x="18161" y="11620"/>
                </a:cubicBezTo>
                <a:cubicBezTo>
                  <a:pt x="18571" y="11590"/>
                  <a:pt x="19066" y="11579"/>
                  <a:pt x="19463" y="11652"/>
                </a:cubicBezTo>
                <a:cubicBezTo>
                  <a:pt x="19537" y="11665"/>
                  <a:pt x="19610" y="11676"/>
                  <a:pt x="19685" y="11684"/>
                </a:cubicBezTo>
                <a:cubicBezTo>
                  <a:pt x="20461" y="11764"/>
                  <a:pt x="21309" y="11551"/>
                  <a:pt x="22066" y="11716"/>
                </a:cubicBezTo>
                <a:cubicBezTo>
                  <a:pt x="22130" y="11730"/>
                  <a:pt x="22191" y="11741"/>
                  <a:pt x="22257" y="11748"/>
                </a:cubicBezTo>
                <a:cubicBezTo>
                  <a:pt x="22309" y="11754"/>
                  <a:pt x="22380" y="11776"/>
                  <a:pt x="22416" y="11779"/>
                </a:cubicBezTo>
                <a:cubicBezTo>
                  <a:pt x="22489" y="11786"/>
                  <a:pt x="22564" y="11775"/>
                  <a:pt x="22638" y="11779"/>
                </a:cubicBezTo>
              </a:path>
              <a:path w="7241" h="3430">
                <a:moveTo>
                  <a:pt x="19177" y="13176"/>
                </a:moveTo>
                <a:cubicBezTo>
                  <a:pt x="19235" y="13188"/>
                  <a:pt x="19287" y="13219"/>
                  <a:pt x="19336" y="13240"/>
                </a:cubicBezTo>
                <a:cubicBezTo>
                  <a:pt x="19357" y="13251"/>
                  <a:pt x="19378" y="13261"/>
                  <a:pt x="19399" y="13272"/>
                </a:cubicBezTo>
                <a:cubicBezTo>
                  <a:pt x="19345" y="13230"/>
                  <a:pt x="19336" y="13247"/>
                  <a:pt x="19336" y="13176"/>
                </a:cubicBezTo>
                <a:cubicBezTo>
                  <a:pt x="19336" y="13109"/>
                  <a:pt x="19294" y="13113"/>
                  <a:pt x="19240" y="13113"/>
                </a:cubicBezTo>
                <a:cubicBezTo>
                  <a:pt x="19198" y="13113"/>
                  <a:pt x="19156" y="13113"/>
                  <a:pt x="19114" y="13113"/>
                </a:cubicBezTo>
                <a:cubicBezTo>
                  <a:pt x="19114" y="13164"/>
                  <a:pt x="19090" y="13276"/>
                  <a:pt x="19145" y="13303"/>
                </a:cubicBezTo>
                <a:cubicBezTo>
                  <a:pt x="19234" y="13347"/>
                  <a:pt x="19388" y="13305"/>
                  <a:pt x="19399" y="13240"/>
                </a:cubicBezTo>
              </a:path>
              <a:path w="7241" h="3430">
                <a:moveTo>
                  <a:pt x="20098" y="13144"/>
                </a:moveTo>
                <a:cubicBezTo>
                  <a:pt x="20145" y="13129"/>
                  <a:pt x="20130" y="13123"/>
                  <a:pt x="20193" y="13081"/>
                </a:cubicBezTo>
                <a:cubicBezTo>
                  <a:pt x="20224" y="13122"/>
                  <a:pt x="20231" y="13170"/>
                  <a:pt x="20256" y="13208"/>
                </a:cubicBezTo>
                <a:cubicBezTo>
                  <a:pt x="20287" y="13255"/>
                  <a:pt x="20288" y="13246"/>
                  <a:pt x="20288" y="13303"/>
                </a:cubicBezTo>
                <a:cubicBezTo>
                  <a:pt x="20230" y="13303"/>
                  <a:pt x="20213" y="13329"/>
                  <a:pt x="20161" y="13335"/>
                </a:cubicBezTo>
                <a:cubicBezTo>
                  <a:pt x="20130" y="13335"/>
                  <a:pt x="20119" y="13335"/>
                  <a:pt x="20098" y="13335"/>
                </a:cubicBezTo>
                <a:cubicBezTo>
                  <a:pt x="20098" y="13291"/>
                  <a:pt x="20081" y="13233"/>
                  <a:pt x="20130" y="13208"/>
                </a:cubicBezTo>
                <a:cubicBezTo>
                  <a:pt x="20161" y="13208"/>
                  <a:pt x="20172" y="13208"/>
                  <a:pt x="20161" y="13176"/>
                </a:cubicBezTo>
              </a:path>
            </a:pathLst>
          </a:custGeom>
          <a:solidFill>
            <a:srgbClr val="ffffff"/>
          </a:solidFill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未知"/>
          <p:cNvSpPr/>
          <p:nvPr/>
        </p:nvSpPr>
        <p:spPr>
          <a:xfrm>
            <a:off x="6904080" y="4732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9177" y="13144"/>
                </a:moveTo>
                <a:lnTo>
                  <a:pt x="19177" y="13144"/>
                </a:lnTo>
              </a:path>
            </a:pathLst>
          </a:custGeom>
          <a:solidFill>
            <a:srgbClr val="ffffff"/>
          </a:solidFill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美国参议院关于表彰何凤山博士的议案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彰他冒着个人危险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3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间为维也纳犹太人签发签证的巨大勇气和伟大仁爱，并向他致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赞扬他拯救数千犹太人逃离大屠杀的英雄事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麻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打猎归来，走在花园的林荫路上。狗在我前面奔跑。忽然它放慢了脚步，开始悄悄地走，好象嗅到了前边的野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顺着林荫路望去，看见了一只嘴边还带着黄色、头上生着柔毛的小麻雀。它从巢里跌落下来，呆呆地伏在地上，孤苦无援地张开两只刚刚长出羽毛的小翅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的狗慢慢逼近它。忽然，从附近一棵树上扑下一只黑胸脯的老麻雀，像一颗石子似地落在狗的嘴脸跟前——它全身倒竖着羽毛，惊惶万状，发出绝望、凄惨的吱吱喳喳叫声，两次向露出牙齿、大张着的狗嘴边跳扑上去。它是猛扑下来救护的，它以自己的躯体掩护着自己的幼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是，由于恐怖，它整个小小的躯体在颤抖，它那小小的叫声变得粗暴嘶哑，它兀立不动，它在自我牺牲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它看来，狗该是个多么庞大的怪物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然而，它还是不愿站定在自己高高的、安全的树枝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种比它意志更强大的力量，使它从那儿扑下身来。我的狗站住了，向后退了。显然，连它也认识到了这种力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急忙唤住惊慌的狗，肃然起敬地走开。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是的，请别发笑。我对那只小小的，英雄般的鸟儿，对它那它那爱的冲动肃然起敬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爱，我想比死的恐惧更强大。只是靠了爱，生命才得以维持，得以发展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麻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打猎归来，走在花园的林荫路上。狗在我前面奔跑。忽然它放慢了脚步，开始悄悄地走，好象嗅到了前边的野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顺着林荫路望去，看见了一只嘴边还带着黄色、头上生着柔毛的小麻雀。它从巢里跌落下来，呆呆地伏在地上，孤苦无援地张开两只刚刚长出羽毛的小翅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的狗慢慢逼近它。忽然，从附近一棵树上扑下一只黑胸脯的老麻雀，像一颗石子似地落在狗的嘴脸跟前——它全身倒竖着羽毛，惊惶万状，发出绝望、凄惨的吱吱喳喳叫声，两次向露出牙齿、大张着的狗嘴边跳扑上去。它是猛扑下来救护的，它以自己的躯体掩护着自己的幼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是，由于恐怖，它整个小小的躯体在颤抖，它那小小的叫声变得粗暴嘶哑，它兀立不动，它在自我牺牲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它看来，狗该是个多么庞大的怪物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然而，它还是不愿站定在自己高高的、安全的树枝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种比它意志更强大的力量，使它从那儿扑下身来。我的狗站住了，向后退了。显然，连它也认识到了这种力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急忙唤住惊慌的狗，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肃然起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地走开。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是的，请别发笑。我对那只小小的，英雄般的鸟儿，对它那它那爱的冲动肃然起敬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爱，我想比死的恐惧更强大。只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是靠了爱，生命才得以维持，得以发展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765000"/>
            <a:ext cx="8351640" cy="37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00"/>
                </a:solidFill>
                <a:latin typeface="Arial"/>
                <a:ea typeface="宋体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宋体"/>
              </a:rPr>
              <a:t>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宋体"/>
              </a:rPr>
              <a:t>           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宋体"/>
              </a:rPr>
              <a:t>何凤山为世界和平做出了不可磨灭的贡献，他是中国人的骄傲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2135" t="1378" r="0" b="0"/>
          <a:stretch/>
        </p:blipFill>
        <p:spPr>
          <a:xfrm>
            <a:off x="179280" y="0"/>
            <a:ext cx="2994120" cy="43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1125360"/>
            <a:ext cx="813600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他眼里，所有的生命没有高低贵贱之分，众生（公平、平等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他眼里，真理远远比自己的生命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宝贵、贵重、昂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他眼里，国土（  无疆、有界    ），大爱（无疆、有界 ）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他是一介书生，更是一位（勇敢、勇猛）的斗士；他是一位外交官，更是一名（正确、正义）的法官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凤山，是我们中国人的骄傲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404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想一想，选一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1197000"/>
            <a:ext cx="856908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他眼里，所有的生命没有高低贵贱之分，众生（公平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平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他眼里，真理远远比自己的生命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宝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贵重、昂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他眼里，国土（  无疆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有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），大爱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无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有界 ）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他是一介书生，更是一位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勇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勇猛）的斗士；他是一位外交官，更是一名（正确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正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的法官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凤山，是我们中国人的骄傲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40464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想一想，选一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rcRect l="2844" t="28201" r="3613" b="2309"/>
          <a:stretch/>
        </p:blipFill>
        <p:spPr>
          <a:xfrm>
            <a:off x="584280" y="1600200"/>
            <a:ext cx="7975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4T02:08:07Z</dcterms:created>
  <dc:creator>MC SYSTEM</dc:creator>
  <dc:description/>
  <dc:language>en-US</dc:language>
  <cp:lastModifiedBy>微软用户</cp:lastModifiedBy>
  <dcterms:modified xsi:type="dcterms:W3CDTF">2015-11-10T02:06:27Z</dcterms:modified>
  <cp:revision>1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