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6DE28-0A07-4D55-97A8-F2100EC5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1C386-C503-4F6F-96C2-72740D10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F6008-89F2-4F39-A242-9D94398C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8DC0B-4F21-4B01-9038-6908BE30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4BD2-336C-470F-BEAE-B4DB89BA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6EE67-60B5-430E-B218-E6DF710D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9FA63-D342-4060-B980-17CF2D55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1B4B-F61B-41C7-8589-BAFFEE8C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ED596-DBF1-4D18-8BA2-403F194A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B27D-0FE0-4589-A7B1-852C1A25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56CBD-41CC-40C4-95E2-DA91EC22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B4E83-AB93-4C09-B0D4-352D0D53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83FE5-16BD-41E8-A876-B12FAAD9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6243A-AF48-4909-8364-D1201023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E4C57-4F88-4A90-8CA0-48AB8FEB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D0C89-EAEC-4851-BBA9-EDF1B4D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FAAB3-43F5-4E0D-91B4-D0CAEF9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25434-8C82-49C2-80BA-07B550BF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4F46-5B4F-4C46-B0D4-2E9981ED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1366A-D183-4149-A87D-9F3A603A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E97D-D2AF-4487-A20D-CBF0D059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4F016-8BE4-483F-9E92-8E0A51CF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E1F6F-F9B5-4890-9AE3-2035D89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AB7E9-FE0A-41EC-A27B-ACA0630E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01953-97CE-409D-BDBE-C3C7D355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73FFF-F4C8-48D7-A0E0-5B1105E2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C028-16D0-41F8-B88C-8EB7DDCA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80268-9DB4-4CFD-93A3-F545992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A0EBB-CF07-4829-80C0-4F95BFF5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3CE31-BA0F-4075-B703-EC0CC942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99A66-8D0A-4980-8C03-AE530B8C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4B013-554D-49AF-8976-4EF89C57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3862C-A60D-48B7-A790-2F1F14C9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E4C3-AEDE-4B58-A7F4-8A4DCDDB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62FFB-2969-46E5-BCAB-8521AB0E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9C56D-C19A-4D74-BC89-1559D25B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A3248-E95A-4B1A-8220-A073B9A7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E1D8F-0C15-47B0-90CE-48F2DFC7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0B416-9378-458F-87B8-E135600B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E146D-6834-4B2A-B5E1-C19EF0E9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4FF53-D512-403E-BC45-57FBC574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A9D6E-973D-467F-8DA3-70679D7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5BE51-7DFE-4BBE-9C13-AEC2B944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83F51-4E33-4903-A3C0-9D1D91B1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4C799-23C4-483A-A381-88FC6A02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200AA-889D-4A3A-BED6-F90C826D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2BABE-F0D3-4A9B-B693-C5F60767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FAEB0-D140-4720-9F9F-5146FFDC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3A3C8-FAFA-4DA8-97C4-9CB46CE3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96252-351B-432B-BD26-CB512906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FE1CF-AD4C-4250-9ABB-810B999F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DBBDE-D389-4DBE-B432-686B2F02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8A3F2-9F3B-44B1-8042-6F89852F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7D7BD-A513-416F-9C48-DB249C3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BAF6A-D604-4BD3-95D4-4DEA7A7E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F9011-1702-4F53-8D37-6B72FB53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6050F-5410-4A84-B63E-DD9BD4D0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CC29D-6413-4C28-8132-5F5D1875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8B922-506C-4D6D-9131-A570F263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1D855-D599-496E-94C3-3BBB5DE8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AA6D6-908C-43EF-AC10-EFF503C0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E39B3-45C4-44BC-B736-84E6C333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D2C00-9D95-4B63-AEC5-D0698A6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E8E98-AF2C-4D74-9B71-7C84A0AD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27967-EEC4-4BA9-8826-CB138FC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4A3AB-6098-4A0F-9EE4-79643938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3BDB9-15CA-4779-A38B-D2012065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FFA4F-E466-46C9-A49F-AE1C0733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78646-E5ED-4C1B-BB0D-31F9C404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6B212-6928-4A6B-9B28-69127E90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C0026-483F-4E0B-97B9-F8D62CFF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88F78-0E82-47D7-8496-88113ACB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DC18C-A412-431A-9D33-6AD7AF66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DE616-7506-4BE6-AA59-FBC7FDC9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5E6AA-0304-43F7-A06B-4DDFB46D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83048-E2DD-4C42-AFCE-052758A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7B504-DF21-4700-BDEB-FF61BA5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6A002-D9A1-4B08-BBDF-F192EC31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68804-C096-49CE-96F6-FA68A9FC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AC731-3803-48D8-BEFA-C009E676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D6175-1651-48A4-916D-35D3C725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04F12-52B4-4C11-8CD3-27A58C3C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92818-B371-4FD8-8237-D5E21376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BA5D0-FFC7-40F9-AC29-BB980BD3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9B8E0-4F6E-4FB2-95B6-7AF417F2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C2C2A-CB42-4782-AE7B-F3F0DD45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FA44F-E85B-4A42-8A51-23AA059E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7F6FE-6913-4061-850F-7AE97A4E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5220D-D1A6-42C4-8231-4010A498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693BE-06CF-4C8A-8394-90BCE7AA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8A3D6-DBE4-4D0D-99A5-EDA78443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640C5-8C27-4415-BD74-DA3D71B1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2B8EB-BF28-4ED0-91EF-7AEC1D51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867F3-2965-4863-8C95-B8169345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EBE7A-CFBA-4A58-9947-D27EDC9A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65732-F3B4-4B1E-A7C7-B7045F5B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30B65-204A-426D-81CA-5087395F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8160D-F220-40E6-9301-69218BE7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A418C-5F8E-461B-B948-8BF08C9E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E38FC-3716-4A98-865C-F13BA2E6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B4A20-F840-4CEC-88C7-FF44E00A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D182E-E0A5-4A49-8047-EAE135EC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5E060-B21D-4558-888B-BC276049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ED5DE-0F61-43E0-95A6-32195A12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9003B-F034-4814-AF01-3941FF05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11CD8-2FDF-489B-BDA6-601C9CFE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4BBC7-BF89-4039-BB62-F3FD01BF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44813-9A67-4E85-BDEC-D548A91D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00DA0-0EA4-4CBD-8A7F-B2EFB024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9826C-3EE0-48C5-91E4-B6FBEC1B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E3B27-11F1-431E-A8D0-08A0329C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DD06C-89E7-48F8-814E-F19E6E78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83301-D639-4C60-A73D-1636231B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951B3-9558-451E-9E21-96B78412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4E77E-0C3D-4502-AEC3-13089EA9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11B0F-C5C9-4CEA-A669-61325090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585D3-485D-4E33-AE70-E1715170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24628-3A89-49AD-A18D-99086E5E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5A616-02AE-4D73-B95D-E781932D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BECBE-4450-4EDE-B7BF-C367D4D9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4B266-FF6D-40C2-8318-E5E7C5D1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4A1E2-7071-4654-BCA0-DCE2A5BE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D4F06-EAB9-4548-B810-1B6344E7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76172-15FD-4F16-B9A1-ECCDD70A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5A708-9B36-43E5-B70E-B4ED12B6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57047-42FC-471F-B5A8-4ED08E73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25C4E-F071-4C1E-B80E-91C8E3D7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5BCEA4-500C-4556-BE66-5BFBEA19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FFF11-4E83-4369-9C17-C648A091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E35-7BBB-4BC0-B899-1EB42932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C90-3E5F-49C2-92D3-EA420A17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3F7-0884-4374-A21D-59C3FF1C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527-26B0-41F6-A295-1713BEA8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313-E2CD-4A68-B42C-8EEB36E8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F89-0813-4673-ADAB-31C5DBB7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B13-8D47-4A63-B48A-EFA3810C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992-BA2B-46CA-8F62-3F33FBB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FF0-A9F5-4EC8-A674-9FE81AB8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A57-F615-4BE8-9B3E-D08286EB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F2D-188F-4EF9-A9A5-E0EF95F5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0CA-DB25-4F7B-8E58-AD65B7F7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2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3F74-E1C5-41A2-A065-D6D30714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292D-8351-4B6B-B8EA-6008C8BD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F838-5C3F-4122-8C48-6B31B314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470A-9C32-4335-9AFF-0015E8A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64B8-24BC-4F95-BBA2-1BD650B5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955A-5C49-4ABF-960B-926D7B85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7E67-B96D-4413-9BDA-6109370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B89C-5E0E-42F9-9699-EBFFCAA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3F53-6B9E-4DB8-A7C7-593173A3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B608-0E50-4248-8C9E-9D209946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CFAE-BC3D-4BEF-96CA-283E5236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AEA0-6B10-4B31-B30E-9D28D63E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2ABD-6CF8-4887-B5E1-1DCF3A68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1F65-F2AB-4D70-AB35-3F585B33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0FCA-BDAC-41BD-913F-D751A310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9FF4-E859-43FF-8991-1E9E2741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0298-7852-4755-BA5A-1CF9D8AB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2B03-CEAD-48D2-8AE3-8DE7C55B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2D891-1703-4DB9-B4AC-AF3F056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A6F2-EB08-4DA8-890F-61441ED2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1996-A4D6-4E5F-B65A-080FA02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A036-76A1-4C70-ABE5-063D833A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8220-9697-48C4-AEC7-4B1C2D92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B862-0940-433A-9B0E-A7551CF2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AE65-6216-4C2C-B79E-257C97F7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3070-C18E-4070-AB9B-B2B547BC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486B-FE32-43AC-8D25-5E6B3938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35F1-3303-4E1D-9A33-F1A15F46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7F4B-65FF-4F3E-8A08-9E383C8A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87D5A-E849-4C81-B8ED-937423C8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66B8-08C4-4060-B73A-62E0BEAB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0DEA-5F58-45A4-A023-5F55B2A1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5AA6E-0DD0-41AD-81C5-82910B6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55D74-EFE4-43BE-A0BF-9E69D6B8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D0BDD-9BCC-4366-9200-5CD5E556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C12C-CE02-4E92-966D-866BCD25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5493-DCF0-443E-A936-57512490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92758-D2DF-4B39-B112-D43B250B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0B5D-22F4-42B5-839A-1A3C769B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2833-8927-48F0-83F4-E5F5E6284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0596-22CE-4038-8AE3-7967BF396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8373-BC74-4526-9042-B9E0AB7D6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46C9-6DF5-46E1-97DC-1F7502C63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88A6-DE24-4F9E-9F0A-8DD372BF6B9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C973-9B32-4C8F-BC48-9217D86D9C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5597-F080-4D72-9372-42083A28009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633F-E58A-4C7D-9243-C4F0C0B8B9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009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2856-B518-4811-BAC0-479115988E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body"/>
          </p:nvPr>
        </p:nvSpPr>
        <p:spPr>
          <a:xfrm>
            <a:off x="457200" y="148068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7C5C-4393-4F15-8731-020C13AF8D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270180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60E6-2010-4D5B-8EBA-455614F63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3206880"/>
            <a:ext cx="7772400" cy="1209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7485-BF38-4BB0-8CFF-0B06AE87485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ACFA-49E1-49E5-84A1-BB906261F4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dc3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31612d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31612d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31612d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31612d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31612d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31612d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31612d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31612d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684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1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1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1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a1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a1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A185-D758-461F-8DAF-63630D8DB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99cc00"/>
              </a:solidFill>
              <a:latin typeface="微软雅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669900"/>
              </a:solidFill>
              <a:latin typeface="微软雅黑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3913-09A0-4879-9696-184285CBD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1B96-90C5-47DD-9DCB-DC4B7F13D5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13FB-C6A8-4624-A3ED-E7647ECDAD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92000" y="2757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692000" y="1601640"/>
            <a:ext cx="699444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244D-FD64-4227-A900-5E326F221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45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8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9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0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4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3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9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5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6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7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800" y="31413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pic>
        <p:nvPicPr>
          <p:cNvPr id="1923" name="" descr=""/>
          <p:cNvPicPr/>
          <p:nvPr/>
        </p:nvPicPr>
        <p:blipFill>
          <a:blip r:embed="rId2"/>
          <a:stretch/>
        </p:blipFill>
        <p:spPr>
          <a:xfrm>
            <a:off x="-30240" y="-22320"/>
            <a:ext cx="9282240" cy="69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692000" y="275760"/>
            <a:ext cx="699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月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1692000" y="1601640"/>
            <a:ext cx="699444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森林里的雪融化了，圣诞老人们开始给那些乖孩子准备礼物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在田里洒下玩具的种子，然后浇上水；还从大山里捡回用来装饰礼物的流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忙成了一片。逛荡，咣当，咣当当！玩具工厂里也传出热热闹闹的忙碌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48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212400" cy="69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月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pri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今天是驯鹿学校开学的日子。新入学的小驯鹿们要在这里学习拉雪橇和飞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在平安夜那天拉着雪橇是种荣誉，而成绩最好的驯鹿将被光荣地选为雪橇队队长。所以大家都很努力地练习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驯鹿妈妈们在地面上担心地看着她们的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12d"/>
                </a:solidFill>
                <a:latin typeface="微软雅黑"/>
              </a:rPr>
              <a:t> 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612d"/>
                </a:solidFill>
                <a:latin typeface="微软雅黑"/>
              </a:rPr>
              <a:t>    </a:t>
            </a: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   </a:t>
            </a: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在美丽北国那一望无际的森林里，住着很多善良友好的圣诞老人。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1612d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       </a:t>
            </a: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有个子高大的圣诞老人，有身材瘦小的圣诞老人</a:t>
            </a: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...</a:t>
            </a: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这里生活着各种各样的圣诞老人，其中有一位胡子最长，长得最帅的，大家都叫他“圣诞祖爷爷”，所有人都很尊敬他。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53" name="" descr=""/>
          <p:cNvPicPr/>
          <p:nvPr/>
        </p:nvPicPr>
        <p:blipFill>
          <a:blip r:embed="rId2"/>
          <a:stretch/>
        </p:blipFill>
        <p:spPr>
          <a:xfrm>
            <a:off x="-30240" y="-22320"/>
            <a:ext cx="946944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五月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M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圣诞老人们在广场上接受体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平安夜那天，圣诞老人们要去往世界的每一个角落，不够健壮可不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特别是要严格地测量腰围和体重，因为，如果圣诞老人们太重的话，驯鹿们就很难拉着他们飞上天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58" name="" descr=""/>
          <p:cNvPicPr/>
          <p:nvPr/>
        </p:nvPicPr>
        <p:blipFill>
          <a:blip r:embed="rId2"/>
          <a:stretch/>
        </p:blipFill>
        <p:spPr>
          <a:xfrm>
            <a:off x="-31680" y="-93600"/>
            <a:ext cx="9283680" cy="69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8160" cy="1009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Calibri"/>
              </a:rPr>
              <a:t>六月     </a:t>
            </a:r>
            <a:r>
              <a:rPr b="1" lang="zh-CN" sz="3200" spc="-1" strike="noStrike">
                <a:solidFill>
                  <a:srgbClr val="a50021"/>
                </a:solidFill>
                <a:latin typeface="Calibri"/>
              </a:rPr>
              <a:t>June</a:t>
            </a:r>
            <a:endParaRPr b="1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圣诞老人们趁着雨季赶紧给雪橇做做保养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63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21240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14444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月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圣诞老人们拿上大大的望远镜，开始去世界各地寻找乖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从一个小镇到另一个小镇，从一户人家到另一户人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没有认真学习？有没有好好帮妈妈干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圣诞老人们在本子上记下了全世界所有乖孩子的名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968" name="" descr=""/>
          <p:cNvPicPr/>
          <p:nvPr/>
        </p:nvPicPr>
        <p:blipFill>
          <a:blip r:embed="rId2"/>
          <a:stretch/>
        </p:blipFill>
        <p:spPr>
          <a:xfrm>
            <a:off x="0" y="-106200"/>
            <a:ext cx="9180360" cy="70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简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平安夜那天，圣诞老人要前往世界各地，为乖孩子们送去精心准备的礼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只有一个圣诞老人？那可不够！在遥远的北国森林里，住着许许多多的圣诞老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不过，除了圣诞节，平日里他们都在做些什么呢？  要培养驯鹿，要打理红色圣诞装，还要准备一大堆的玩具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当然，还要在夏日里度个假。可是，那么多的玩具礼物从哪里来呢？圣诞老人怎么知道谁是认真学习、好好帮妈妈干活的乖孩子呢？今年你会得到什么礼物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不用担心，圣诞老人们早就准备好了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八月      </a:t>
            </a: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Augus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北国迎来了短暂的夏天，也迎来了一年一度的快乐暑假。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圣诞老人们每天都和海豹、海象、海豚们开心地玩耍着。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圣诞祖爷爷还浮在海面上睡午觉呢，连胡子都晒黑了。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0124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九月      </a:t>
            </a: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September</a:t>
            </a:r>
            <a:endParaRPr b="1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玩具收获的日子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色、蓝色、黄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玩具树上结满了五颜六色的果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圣诞老人们把玩具一个一个丛树上摘下来，放进小盒子里。接下来，他们还要给盒子系上漂亮的丝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7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80720" cy="73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十月   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Octo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今天要举行隆重的“圣诞老人大会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圣诞老人们聚集到了森林中的大礼堂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个女孩送布娃娃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个男孩送玩具汽车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圣诞祖爷爷一边看着圣诞老人们的“乖孩子名单”，一边快速地安排着该给哪个孩子送什么礼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69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十一月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Novemb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为了迎接圣诞节的到来，圣诞老人们开始精心准备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他们不仅要打理长胡子，还要用刷子清洁红色圣诞装，驯鹿脖子上要挂的金铃铛，也得擦得闪闪发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为了防止迷路，他们还早早地把地图放进了衣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最后，他们把礼物全都装进大口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88" name="" descr=""/>
          <p:cNvPicPr/>
          <p:nvPr/>
        </p:nvPicPr>
        <p:blipFill>
          <a:blip r:embed="rId2"/>
          <a:stretch/>
        </p:blipFill>
        <p:spPr>
          <a:xfrm>
            <a:off x="1440" y="-22320"/>
            <a:ext cx="9142560" cy="709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2"/>
          <a:stretch/>
        </p:blipFill>
        <p:spPr>
          <a:xfrm>
            <a:off x="-31680" y="-22320"/>
            <a:ext cx="9273960" cy="69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微软雅黑"/>
              </a:rPr>
              <a:t> </a:t>
            </a:r>
            <a:endParaRPr b="0" lang="en-US" sz="3200" spc="-1" strike="noStrike">
              <a:solidFill>
                <a:srgbClr val="99cc00"/>
              </a:solidFill>
              <a:latin typeface="微软雅黑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在美丽北国那一望无际的森林里，住着很多善良友好的圣诞老人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有个子高大的圣诞老人，有身材瘦小的圣诞老人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...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这里生活着各种各样的圣诞老人，其中有一位胡子最长，长得最帅的，大家都叫他“圣诞祖爷爷”，所有人都很尊敬他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33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90756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月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圣诞老人们全都来到了圣诞祖爷爷家，一起庆祝新年的到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壁炉里的柴火噼噼啪啪地燃烧着，大大的桌子上摆满了美味佳肴。窗外雪不停地下着，他们开心地聊着天，屋子里到处都暖融融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38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4266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684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a1d00"/>
                </a:solidFill>
                <a:latin typeface="Arial"/>
              </a:rPr>
              <a:t>二月    </a:t>
            </a:r>
            <a:r>
              <a:rPr b="1" lang="zh-CN" sz="3200" spc="-1" strike="noStrike">
                <a:solidFill>
                  <a:srgbClr val="3a1d00"/>
                </a:solidFill>
                <a:latin typeface="Arial"/>
              </a:rPr>
              <a:t>February</a:t>
            </a:r>
            <a:endParaRPr b="1" lang="en-US" sz="32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1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       “</a:t>
            </a: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嘣咚”一声巨响，孩子们寄来了一堆堆的贺年卡。</a:t>
            </a:r>
            <a:endParaRPr b="0" lang="en-US" sz="2800" spc="-1" strike="noStrike">
              <a:solidFill>
                <a:srgbClr val="3a1d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1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圣诞祖爷爷最爱读那些可爱的贺卡了——那都是孩子们用心写的。</a:t>
            </a:r>
            <a:endParaRPr b="0" lang="en-US" sz="2800" spc="-1" strike="noStrike">
              <a:solidFill>
                <a:srgbClr val="3a1d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1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他一张一张仔细地读着，一会儿哈哈大笑，笑得肚皮一颤一颤的，一会儿又开心地眯起了眼睛。</a:t>
            </a:r>
            <a:endParaRPr b="0" lang="en-US" sz="2800" spc="-1" strike="noStrike">
              <a:solidFill>
                <a:srgbClr val="3a1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5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43:44Z</dcterms:created>
  <dc:creator>lenovo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