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968-70C4-4710-91CB-4778253D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EC0-02F0-43AA-BD84-E29ECD8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993DD-9F7C-4644-BF1A-CC021CF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B67CF-6A75-4B96-BB47-49E46B9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F6717-3EBF-4913-9818-80F60D76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375D-D1A4-41A0-BEC7-C5AE377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351B5-C2DE-4BBB-AFA9-65A8DF2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7B555-D6BD-4392-A385-B74B80B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9383-586B-4B2F-B74C-AD30DDE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7D672-2099-4E96-A321-839F1AE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E6A41-E34C-4D99-9F3B-A22F0B32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6D748-E03C-40D7-AC29-5A65BBFA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BBE-1FD9-48C2-81A3-6A16AA22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F8EA-E2BD-4A70-80BC-835D257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739D-D3AD-4101-9A02-662C5B9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49320-905C-4FC3-BE18-38F79AFD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CA2DE-90A7-466F-A6DA-EA7FA54C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FBD47-1FD2-49FC-B46E-FBA1C4A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21411-563A-44C4-B29E-E0902F4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ED6AE-70A3-4BF8-87E8-42DC2C8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B3F15-5A3F-423C-B6FF-C291E2F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8A7CA-F4E2-4FEB-A005-DE885C0C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F76C-F65F-44A5-B02D-47AF3CC2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9C3-F754-4C2E-BD7E-8825EABB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78D48-27ED-4814-9D84-AECC46E0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297FE-C421-49AD-A1EC-FFD41D5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0F586-2512-4426-BE7A-2C84612A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C9F7-290F-4A23-8041-9205DE6F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19AA-4D61-4905-8D67-C0E5A80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4D51-A3E3-46E1-98C2-1357109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0BB5-4662-48E2-9E14-AEADB59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1A59-538D-4186-BE5A-9DC3277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70B76-3D07-4AF0-835E-FFE1996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6ECC-34E8-4999-953A-EC3EDEE4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8F97-963E-4CF9-867D-6BFB1F6E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F60D2-0B83-4F8B-A1D3-CAC4FDA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F5F64-5CDB-455A-B427-1D926883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A264F-6B95-4CA2-8DC6-C9B92C7A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933ED-2E73-4B01-8987-EEAF1F3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B3788-C543-40A0-B500-A8B9CD5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E665-2B0E-4AB6-9CDB-2E8BB37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24C53-8DA1-4760-B617-ECA18544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110C4-AB74-4CEE-9C1C-A562546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E71CC-0170-4750-8E7D-AFB2066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60C05-A226-4332-94DB-4C597C1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5333-8CF4-4A66-96CA-8106E7E8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9C0D0-0B2D-40BA-98FB-289BF85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7570E-8BE3-4210-8490-EFFCCC1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961BD-2F01-4FC7-AEF0-9869892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4ED85-BF17-4EE5-8E47-77ABB44E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95003-A3B3-4531-9380-53D314B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C50E5-B950-4B62-8EAF-7796093B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5A86D-325D-4FB3-AC34-B950A66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27F48-3F03-487E-86CD-2B7DA17C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9326B-43E7-4E7B-845E-50E585C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63E72-D597-4B47-8A06-111C5AF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6188-3D11-4AEE-BCFF-C71F798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3A471-51C8-4C23-88C1-244A1B6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617CB-E016-4CB5-96DA-89F9E7C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DDBD9-3640-4BED-83D7-5DFF22B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B451F-52F3-4B2A-B043-3025A0D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E3A8C-91B9-4709-BA46-89DCBF30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BFBE-FAA9-4A1A-9656-DD6E7366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30A18-FA14-4370-BA2D-E9170D9B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64B10-D5A6-45C8-B3BA-60AAAEAF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A2E74-810B-410D-BFBC-36812D6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08D82-DC16-4DCC-AF87-0BF4476F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DA39-0363-418C-BA30-ABC3CB8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24A64-1B1E-499E-8B24-A17B986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172DB-A26B-4303-9270-84AD255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6BE54-D091-4036-983F-7DCA1A10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0DD81-A277-47F5-B966-EB464E5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C3CC1-FD52-4DA9-A8CB-D3E6790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66D4E-FFA1-410B-A80F-2BC94CE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B7348-D996-41A2-BA69-2657D93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5FB6B-CF9E-4667-B7BC-62DAED40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AB660-04B3-4117-B0C5-357CB336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D3DE-AC98-41E1-894C-6A9C700C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0BCE-FE81-4BF7-AAB2-BBDC2E1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960E-C42F-47FB-B09B-4D11CD7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29-3D9D-45EA-B9F4-D8C34B4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082C-4569-4B06-9108-B360284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B446-6B3C-4685-8425-E21FC21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D4CE-4B0F-44D4-8910-9651302F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6363-4504-4846-947E-61A968F8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2C1-2B92-4028-9BB5-6D94EDCF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4011-1F1A-4E49-A58B-481F197D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965E-0C4E-4D64-BE5B-AE482C1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4C05-7C4E-404F-B69A-741C5154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BF29-C757-42F3-BE19-280C4E6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2C33-852A-45CF-9668-C590502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69E-1E39-4A82-A438-0D9E9323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9A6B-238A-4E68-B510-60878FC4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848B-3639-4FCE-8A08-D485847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9804-D698-46DD-8246-A18DBED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C2AE-A3D3-4944-AD02-5D3B7921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399D-BE21-4AB3-87CC-B260A85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10BE-C7AE-4A85-B65E-8010A4F3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1D89-483B-4AAF-B0AD-61840855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45F5-17ED-4173-B79B-F5724D2B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A5E5-74DF-4FCD-B71D-9CC695D7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5F0A-BA40-4A91-93BF-CC1CDC5C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2AB-A340-4540-A646-DA589FD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C906-14CE-4B9E-91BE-FDC6D3D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168F-326E-45E1-BD1B-34A7A94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F6F4-8FE3-4CC6-9D36-C8F5E57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902A-3FAD-470D-AD84-ABA1CF4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89D0-D3B9-4162-8A5D-AE9A9D7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427C-DF21-4E9C-B553-69445DB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62E7-26E7-4C6F-BD12-3205BB7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05D8-0B45-40AD-8286-17962938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EC4C-7BF8-4B77-AAB9-5FEE3167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F4EA-EED7-47A0-BBDC-0A4E524A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56F-C3E5-45C4-9EBD-DA7DC82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9145-C1B9-43CF-ACFA-0DB79564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2729-890F-45FF-80D6-30B3355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3DE6-E14B-4F3C-9F1B-6BC9D85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ECCC1-8FA9-46A3-A50D-D195FE0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C5BDA-29B8-4704-95AD-EC236BD0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2C41-076C-4C10-AA7F-C3ED9C9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0728-3BCF-4CA8-B3CF-DAE20A1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A0F3-583F-42E4-BFA1-1C9C4DA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8DBC-5E87-499F-8DC7-DF2FFA9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B9E0F-799A-4CFB-8525-1FDCDA6D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3BC-599D-4564-A101-F372AA8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D0C4-585A-4D6B-8939-C428D100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0105-A2B5-451A-9559-67A5EBC6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8DA8-C1B0-4650-94C4-540301D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81FE-0E66-45E3-B66F-9A04376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FA0D-A663-43FB-AB34-37E82960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8C2CA-A6CE-47B1-80DF-1C3EC07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26E7-2007-4B97-AFA2-9C32702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2416B-ECC4-484C-944E-30ACE70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63AC-17CC-4B65-AD51-1BBAC25B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422D-247A-4CF1-A93D-462409D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BF0-0BF1-4B97-BDB3-8E0D8C92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B540-887F-4FB8-8656-51E2838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C0BB-9E05-4D0C-8D60-2D59FC2C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97AA-A2FE-4B5B-BAA4-67CB0D3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8686-0D6B-4CBF-8D01-9BD472A1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64C3-F839-4358-A721-92BCA2B2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9B21-92F1-411B-9340-5EF6277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60DE-D91B-4137-A794-5665069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30AF3-0D76-49DA-8230-826362F8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EBEF8-810C-41CA-BEBE-83E57673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3276-6ED0-4F47-BB18-6151C79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DC6-66CE-4A5A-BE0A-C1733A1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97242-3C10-411C-8597-395B627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91E6-7087-41B5-8B46-A7E23A5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C847-A894-4285-AEC0-45B1360F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3D9B-F6C2-4FF7-8E06-575B9397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1EC43-B27D-48AF-825C-ED8D7E7F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E610-3350-4057-B38D-A3EFA8EF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14698-535B-49DE-8260-41E91F01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D1B5-3258-4BD3-A880-C29C87CF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3B88-2F2A-4485-85F1-ADC17F2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B487-B01B-4361-84EC-7F8D9EE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C5D-05CC-4132-86D2-A5D3F49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FE613-012F-4FFF-8CBB-E33A392D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7E01-A4E8-4E79-9D0C-1E5D22B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83AA1-418F-4BA4-9C4B-20F52F2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B1F4-2D03-4842-902B-A8E238F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7140-7097-4AF1-8BBB-DF615E1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AD56-87FC-4411-8C1F-D3D7A5D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C306-94BD-474D-8A96-BA3B3B3C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C2478-2E28-4A18-A11B-370C7D41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0E1F-A1F9-496B-8967-B4F586B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87E70-5229-4B7D-9520-F498E362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111-0AD4-42A5-9D4D-6D3D0147F9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6015-E5B3-4034-8AF9-00772EEE9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30A8-674A-46E3-8200-789E88B6D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1CE-A88D-4162-856C-D537F6B52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4C4-8870-4463-A54E-74A5CB4A18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C81-B653-47BB-BF92-7199D59A0F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C582-CF0A-41AC-BB48-526F22D3F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A2E-0093-41BD-AAD8-9A374192E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AF44-4E76-457B-B391-03A455388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7F9-014D-4811-B51E-CB91903E11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B14A-CE77-4BEB-8761-1B0BD7D7B5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D5C-26C5-468D-8094-9572780C56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4BB-E0DF-4767-9AE3-534AA7A184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EA87-4394-4B8C-90E6-99801AD65B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8.xml"/><Relationship Id="rId5" Type="http://schemas.openxmlformats.org/officeDocument/2006/relationships/image" Target="../media/image18.png"/><Relationship Id="rId6" Type="http://schemas.openxmlformats.org/officeDocument/2006/relationships/slide" Target="slide6.xml"/><Relationship Id="rId7" Type="http://schemas.openxmlformats.org/officeDocument/2006/relationships/image" Target="../media/image19.pn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rcRect l="4120" t="0" r="48570" b="63004"/>
          <a:stretch/>
        </p:blipFill>
        <p:spPr>
          <a:xfrm>
            <a:off x="0" y="0"/>
            <a:ext cx="515448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836240" y="533520"/>
            <a:ext cx="28616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Arial"/>
              </a:rPr>
              <a:t>三袋麦子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228600" y="152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90920" y="45720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第二年，土地爷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又拜访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了他们，对他们的做法又是怎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评价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的呢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3352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>
            <a:lum bright="-18000"/>
          </a:blip>
          <a:srcRect l="31430" t="65413" r="14288" b="5410"/>
          <a:stretch/>
        </p:blipFill>
        <p:spPr>
          <a:xfrm>
            <a:off x="6095880" y="4191120"/>
            <a:ext cx="2895840" cy="22096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80880" y="762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他先到小猪家，小猪说：“感谢您去年送给我那袋麦子，让我吃到了最好吃的东西。”说着，不由得舔了舔嘴唇。看着小朱憨厚可爱的样子，土地爷爷忍不住哈哈大笑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37600" y="48769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想一想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他笑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2"/>
          <a:srcRect l="12903" t="3001" r="13980" b="62001"/>
          <a:stretch/>
        </p:blipFill>
        <p:spPr>
          <a:xfrm>
            <a:off x="0" y="0"/>
            <a:ext cx="3200400" cy="30430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590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告别了小猪，土地爷爷来到小牛家。小牛告诉老人：“去年您送我的麦子至今还没吃完呢。”小牛抱出那只口袋，里面仍有半口袋麦子。老人点点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84880" y="50292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讨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土地爷爷点点头什么意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rcRect l="11553" t="61002" r="0" b="0"/>
          <a:stretch/>
        </p:blipFill>
        <p:spPr>
          <a:xfrm>
            <a:off x="4476600" y="3505320"/>
            <a:ext cx="4667400" cy="2971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0948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猴拉着老人的手，神秘地说：“请跟我来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040" y="3625920"/>
            <a:ext cx="45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讨论：小猪、小牛、小猴的做法你最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赞成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谁？为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740600" y="2209680"/>
            <a:ext cx="568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人抚摸着小猴的头，兴奋地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：“你真聪明！真能干！”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85800" y="68580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推贤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2169360" y="2306520"/>
            <a:ext cx="5319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天宫的粮仓少了一个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保管员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推荐（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天宫的食堂需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面点大厨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觉得谁最合适（ 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你是天宫长远发展部门领导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想选个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规划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你选（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98600" y="2971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59120" y="4267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猪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5800" y="5638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90720" y="19810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"/>
              </a:rPr>
              <a:t>如果，土地爷爷也送你一袋麦子，你有什么打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405600" y="990720"/>
            <a:ext cx="469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麦子    迫不及待    食品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一份   保存   防止  拜访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仍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1840" y="4702680"/>
            <a:ext cx="10033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  <a:ea typeface="华文新魏"/>
              </a:rPr>
              <a:t>读一读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81280" y="3733920"/>
            <a:ext cx="4444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太棒啦  馒头  发霉  搬到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憨厚   告诉   神秘   收获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能干   烙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0"/>
            <a:ext cx="2209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45720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8600" y="3657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快要过年了，土地爷爷送（         ）（         ）（         ）一份礼物，他们获得礼物后的心情怎样？他们又是如何处置这份礼物的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502920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57920" y="3505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猪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42920" y="41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24360" y="41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819520" y="1676520"/>
            <a:ext cx="4876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"/>
              </a:rPr>
              <a:t>走进课文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152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2362320" y="2590920"/>
            <a:ext cx="6248160" cy="22874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读准字音（正确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读通句子（流利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抓住关键词句（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动作、语言、心理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读出感受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读出感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743200" y="685800"/>
            <a:ext cx="48769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我会读书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77120" y="13716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143000" y="1447920"/>
            <a:ext cx="1752480" cy="2590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8431200" y="632448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下一张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00120" y="4191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吃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43320" y="4191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保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08680" y="4191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种下了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04920" y="304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小猪看着黄灿灿的麦子，开心地喊道：“太棒啦！我最爱吃白面馒头和烙饼了！”他迫不及待地把麦子磨成面粉，做成了各种各样的食品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493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黄灿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08080" y="914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开心地喊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9520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676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6781680" y="2971800"/>
            <a:ext cx="2210040" cy="3505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87756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迫不及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822320" y="1752480"/>
            <a:ext cx="5734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、看到桌上香喷喷的饭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菜，我（        ）。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楷体"/>
                <a:ea typeface="楷体"/>
              </a:rPr>
              <a:t>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768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47480" y="4572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"/>
              </a:rPr>
              <a:t>造句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080" y="4114800"/>
            <a:ext cx="81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、不等妈妈说完，我就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（              ）。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357560" y="4002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19920"/>
            <a:ext cx="660240" cy="62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9480" y="8380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8954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15880" y="685800"/>
            <a:ext cx="6522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小牛捧起 饱满的麦粒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看了又看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心想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: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多好的麦子呀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我要先把它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存起来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等家里的草料和杂粮都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完了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再慢慢吃着好东西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为了防止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发霉和虫蛀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小牛经常把那袋麦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搬到屋外透透风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晒晒太阳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685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68580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捧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77120" y="685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看了又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457200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473680" y="1371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21337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存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76560" y="1371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先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41320" y="1447920"/>
            <a:ext cx="734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       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小猴呢，他觉得面前的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这袋麦子是上等的麦种，便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把一口袋麦子全种下了地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267080" y="30481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楷体"/>
              </a:rPr>
              <a:t>全种下了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2-07T12:21:3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