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11.gif" ContentType="image/gif"/>
  <Override PartName="/ppt/media/image5.jpeg" ContentType="image/jpeg"/>
  <Override PartName="/ppt/media/image18.wmf" ContentType="image/x-wmf"/>
  <Override PartName="/ppt/media/image20.wmf" ContentType="image/x-wmf"/>
  <Override PartName="/ppt/media/image24.wmf" ContentType="image/x-wmf"/>
  <Override PartName="/ppt/media/image22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5.jpeg" ContentType="image/jpeg"/>
  <Override PartName="/ppt/media/image16.wmf" ContentType="image/x-wmf"/>
  <Override PartName="/ppt/media/image4.jpeg" ContentType="image/jpeg"/>
  <Override PartName="/ppt/media/image2.jpeg" ContentType="image/jpeg"/>
  <Override PartName="/ppt/media/image14.wmf" ContentType="image/x-wmf"/>
  <Override PartName="/ppt/media/image3.gif" ContentType="image/gi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FFFB-FB1E-4DFF-884D-A5AB6271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7F43-BBE5-41C6-9F1A-8CE2D8F1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979E-7C8B-420C-A559-91279938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9960-6C9A-4AEF-A5D2-2462DB36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2488-EC34-41AF-925B-B99F1719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AC66-CBCF-479A-B7F5-0FC0C95F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2A4E-4BD1-4AE7-8664-B5DF9ADA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80D9-7111-4E8C-92F4-110B9AE5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8D98-CCCD-46C3-BD12-D0218909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B787-4383-4CC5-A530-0A5111AB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DB3C-8547-49B0-8E00-AD0590AA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D7E2-366C-4394-9FEE-29CE36FA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6AF6-2399-4B9D-B018-97F32FAB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17C1-FF5F-4C77-86A9-F6DFB507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467B-52FD-4B55-B021-082837FD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D5EE-FAB3-4680-BBB2-8583AEB1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97CE-F0CB-4E39-9868-A68C84DE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74E5-DF64-41A5-B6D7-32D2CD3B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710E-DB78-446E-8D19-279CEE9A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FAE2-C03B-4D54-BEF7-679153D2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3966-2610-4C51-B6A2-D6D194B3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54FC-8B77-469C-A37E-5ABB192C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F791-B784-459A-91AA-CDF6DF45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CFFE-8F50-4626-B0A5-4A74F077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2441-C880-415B-9942-3AA7CA914556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344F-AE5B-4DB0-B910-3614FAD1E70C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gi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 Black"/>
                <a:ea typeface="黑体"/>
              </a:rPr>
              <a:t>门窗知识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业务员培训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门窗分类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按开启方式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推拉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2541600" cy="3886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9480" y="396252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以你们的生活经验这种窗型，放在什么位置比较适合，如何与其他窗型搭配使用？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838080" y="1295280"/>
            <a:ext cx="5029200" cy="285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门窗分类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按开启方式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折叠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提升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门窗分类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按隔热方式分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90720" y="2209680"/>
            <a:ext cx="7315200" cy="2190600"/>
            <a:chOff x="990720" y="2209680"/>
            <a:chExt cx="7315200" cy="2190600"/>
          </a:xfrm>
        </p:grpSpPr>
        <p:graphicFrame>
          <p:nvGraphicFramePr>
            <p:cNvPr id="142" name=""/>
            <p:cNvGraphicFramePr/>
            <p:nvPr/>
          </p:nvGraphicFramePr>
          <p:xfrm>
            <a:off x="5943600" y="2209680"/>
            <a:ext cx="2362320" cy="219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943600" y="2209680"/>
                      <a:ext cx="2362320" cy="21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" name=""/>
            <p:cNvGraphicFramePr/>
            <p:nvPr/>
          </p:nvGraphicFramePr>
          <p:xfrm>
            <a:off x="3200400" y="2209680"/>
            <a:ext cx="2514600" cy="2125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00400" y="2209680"/>
                      <a:ext cx="2514600" cy="212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6" name=""/>
            <p:cNvGraphicFramePr/>
            <p:nvPr/>
          </p:nvGraphicFramePr>
          <p:xfrm>
            <a:off x="990720" y="2209680"/>
            <a:ext cx="1996920" cy="2133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90720" y="2209680"/>
                      <a:ext cx="1996920" cy="213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8" name=""/>
          <p:cNvSpPr/>
          <p:nvPr/>
        </p:nvSpPr>
        <p:spPr>
          <a:xfrm>
            <a:off x="990720" y="4572000"/>
            <a:ext cx="1904760" cy="1600200"/>
          </a:xfrm>
          <a:prstGeom prst="irregularSeal1">
            <a:avLst/>
          </a:prstGeom>
          <a:solidFill>
            <a:srgbClr val="bbe8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非隔热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4495680"/>
            <a:ext cx="1904760" cy="1600200"/>
          </a:xfrm>
          <a:prstGeom prst="irregularSeal1">
            <a:avLst/>
          </a:prstGeom>
          <a:solidFill>
            <a:srgbClr val="bbe8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穿条隔热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4495680"/>
            <a:ext cx="1905120" cy="1600200"/>
          </a:xfrm>
          <a:prstGeom prst="irregularSeal1">
            <a:avLst/>
          </a:prstGeom>
          <a:solidFill>
            <a:srgbClr val="bbe8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注胶隔热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838080" y="1295280"/>
            <a:ext cx="7086600" cy="285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门窗型材名词解析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143000" y="3130560"/>
          <a:ext cx="3139920" cy="29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130560"/>
                    <a:ext cx="313992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 flipV="1">
            <a:off x="2852640" y="3320640"/>
            <a:ext cx="503280" cy="36036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3044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 Narrow"/>
              </a:rPr>
              <a:t>固定在墙体上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447920"/>
            <a:ext cx="8062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框料：门窗材料中，与墙体相连接的材料。其主要特点是与墙体相接处表面多为平面，固定在墙体上，不能移动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181480" y="2971800"/>
            <a:ext cx="1600200" cy="2057400"/>
            <a:chOff x="5181480" y="2971800"/>
            <a:chExt cx="1600200" cy="2057400"/>
          </a:xfrm>
        </p:grpSpPr>
        <p:grpSp>
          <p:nvGrpSpPr>
            <p:cNvPr id="159" name=""/>
            <p:cNvGrpSpPr/>
            <p:nvPr/>
          </p:nvGrpSpPr>
          <p:grpSpPr>
            <a:xfrm>
              <a:off x="5181480" y="2971800"/>
              <a:ext cx="1600200" cy="2057400"/>
              <a:chOff x="5181480" y="2971800"/>
              <a:chExt cx="1600200" cy="2057400"/>
            </a:xfrm>
          </p:grpSpPr>
          <p:sp>
            <p:nvSpPr>
              <p:cNvPr id="160" name=""/>
              <p:cNvSpPr/>
              <p:nvPr/>
            </p:nvSpPr>
            <p:spPr>
              <a:xfrm>
                <a:off x="5181480" y="2971800"/>
                <a:ext cx="1600200" cy="205740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299200" y="3093480"/>
                <a:ext cx="1323360" cy="189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218560" y="3004200"/>
                <a:ext cx="131040" cy="1981440"/>
              </a:xfrm>
              <a:custGeom>
                <a:avLst/>
                <a:gdLst/>
                <a:ahLst/>
                <a:rect l="l" t="t" r="r" b="b"/>
                <a:pathLst>
                  <a:path w="254" h="4393">
                    <a:moveTo>
                      <a:pt x="0" y="0"/>
                    </a:moveTo>
                    <a:lnTo>
                      <a:pt x="254" y="254"/>
                    </a:lnTo>
                    <a:lnTo>
                      <a:pt x="254" y="4393"/>
                    </a:lnTo>
                    <a:lnTo>
                      <a:pt x="0" y="439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218560" y="3003480"/>
                <a:ext cx="1533960" cy="114480"/>
              </a:xfrm>
              <a:custGeom>
                <a:avLst/>
                <a:gdLst/>
                <a:ahLst/>
                <a:rect l="l" t="t" r="r" b="b"/>
                <a:pathLst>
                  <a:path w="2970" h="254">
                    <a:moveTo>
                      <a:pt x="0" y="2"/>
                    </a:moveTo>
                    <a:lnTo>
                      <a:pt x="2970" y="0"/>
                    </a:lnTo>
                    <a:lnTo>
                      <a:pt x="2688" y="254"/>
                    </a:lnTo>
                    <a:lnTo>
                      <a:pt x="238" y="25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607080" y="3004200"/>
                <a:ext cx="139320" cy="1981440"/>
              </a:xfrm>
              <a:custGeom>
                <a:avLst/>
                <a:gdLst/>
                <a:ahLst/>
                <a:rect l="l" t="t" r="r" b="b"/>
                <a:pathLst>
                  <a:path w="269" h="4391">
                    <a:moveTo>
                      <a:pt x="0" y="252"/>
                    </a:moveTo>
                    <a:lnTo>
                      <a:pt x="269" y="0"/>
                    </a:lnTo>
                    <a:lnTo>
                      <a:pt x="268" y="4391"/>
                    </a:lnTo>
                    <a:lnTo>
                      <a:pt x="0" y="4391"/>
                    </a:lnTo>
                    <a:lnTo>
                      <a:pt x="0" y="252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5359320" y="3099240"/>
              <a:ext cx="884160" cy="1883520"/>
              <a:chOff x="5359320" y="3099240"/>
              <a:chExt cx="884160" cy="1883520"/>
            </a:xfrm>
          </p:grpSpPr>
          <p:sp>
            <p:nvSpPr>
              <p:cNvPr id="166" name=""/>
              <p:cNvSpPr/>
              <p:nvPr/>
            </p:nvSpPr>
            <p:spPr>
              <a:xfrm>
                <a:off x="5422320" y="3099240"/>
                <a:ext cx="821160" cy="1877400"/>
              </a:xfrm>
              <a:custGeom>
                <a:avLst/>
                <a:gdLst/>
                <a:ahLst/>
                <a:rect l="l" t="t" r="r" b="b"/>
                <a:pathLst>
                  <a:path w="1973" h="4095">
                    <a:moveTo>
                      <a:pt x="2" y="0"/>
                    </a:moveTo>
                    <a:lnTo>
                      <a:pt x="0" y="4095"/>
                    </a:lnTo>
                    <a:lnTo>
                      <a:pt x="1973" y="3632"/>
                    </a:lnTo>
                    <a:lnTo>
                      <a:pt x="1973" y="40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0c0c0"/>
              </a:solidFill>
              <a:ln w="4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5569920" y="3279600"/>
                <a:ext cx="570960" cy="706320"/>
                <a:chOff x="5569920" y="3279600"/>
                <a:chExt cx="570960" cy="7063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5605560" y="3285720"/>
                  <a:ext cx="535320" cy="700200"/>
                </a:xfrm>
                <a:custGeom>
                  <a:avLst/>
                  <a:gdLst/>
                  <a:ahLst/>
                  <a:rect l="l" t="t" r="r" b="b"/>
                  <a:pathLst>
                    <a:path w="1287" h="1528">
                      <a:moveTo>
                        <a:pt x="0" y="0"/>
                      </a:moveTo>
                      <a:lnTo>
                        <a:pt x="1287" y="246"/>
                      </a:lnTo>
                      <a:lnTo>
                        <a:pt x="1283" y="1528"/>
                      </a:lnTo>
                      <a:lnTo>
                        <a:pt x="0" y="14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607720" y="3311280"/>
                  <a:ext cx="511200" cy="636120"/>
                </a:xfrm>
                <a:custGeom>
                  <a:avLst/>
                  <a:gdLst/>
                  <a:ahLst/>
                  <a:rect l="l" t="t" r="r" b="b"/>
                  <a:pathLst>
                    <a:path w="1227" h="1387">
                      <a:moveTo>
                        <a:pt x="0" y="0"/>
                      </a:moveTo>
                      <a:lnTo>
                        <a:pt x="1227" y="233"/>
                      </a:lnTo>
                      <a:lnTo>
                        <a:pt x="1224" y="1387"/>
                      </a:lnTo>
                      <a:lnTo>
                        <a:pt x="0" y="13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569920" y="3279600"/>
                  <a:ext cx="29520" cy="690120"/>
                </a:xfrm>
                <a:custGeom>
                  <a:avLst/>
                  <a:gdLst/>
                  <a:ahLst/>
                  <a:rect l="l" t="t" r="r" b="b"/>
                  <a:pathLst>
                    <a:path w="70" h="1506">
                      <a:moveTo>
                        <a:pt x="0" y="0"/>
                      </a:moveTo>
                      <a:lnTo>
                        <a:pt x="70" y="28"/>
                      </a:lnTo>
                      <a:lnTo>
                        <a:pt x="70" y="1506"/>
                      </a:lnTo>
                      <a:lnTo>
                        <a:pt x="0" y="150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568840" y="4071960"/>
                <a:ext cx="565920" cy="730440"/>
                <a:chOff x="5568840" y="4071960"/>
                <a:chExt cx="565920" cy="7304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599440" y="4071960"/>
                  <a:ext cx="535320" cy="730440"/>
                </a:xfrm>
                <a:custGeom>
                  <a:avLst/>
                  <a:gdLst/>
                  <a:ahLst/>
                  <a:rect l="l" t="t" r="r" b="b"/>
                  <a:pathLst>
                    <a:path w="1287" h="1595">
                      <a:moveTo>
                        <a:pt x="0" y="60"/>
                      </a:moveTo>
                      <a:lnTo>
                        <a:pt x="1285" y="0"/>
                      </a:lnTo>
                      <a:lnTo>
                        <a:pt x="1287" y="1355"/>
                      </a:lnTo>
                      <a:lnTo>
                        <a:pt x="0" y="1595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612040" y="4095360"/>
                  <a:ext cx="496080" cy="667440"/>
                </a:xfrm>
                <a:custGeom>
                  <a:avLst/>
                  <a:gdLst/>
                  <a:ahLst/>
                  <a:rect l="l" t="t" r="r" b="b"/>
                  <a:pathLst>
                    <a:path w="1191" h="1455">
                      <a:moveTo>
                        <a:pt x="0" y="63"/>
                      </a:moveTo>
                      <a:lnTo>
                        <a:pt x="1190" y="0"/>
                      </a:lnTo>
                      <a:lnTo>
                        <a:pt x="1191" y="1250"/>
                      </a:lnTo>
                      <a:lnTo>
                        <a:pt x="0" y="1455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568840" y="4099320"/>
                  <a:ext cx="30600" cy="698400"/>
                </a:xfrm>
                <a:custGeom>
                  <a:avLst/>
                  <a:gdLst/>
                  <a:ahLst/>
                  <a:rect l="l" t="t" r="r" b="b"/>
                  <a:pathLst>
                    <a:path w="74" h="1524">
                      <a:moveTo>
                        <a:pt x="2" y="0"/>
                      </a:moveTo>
                      <a:lnTo>
                        <a:pt x="74" y="4"/>
                      </a:lnTo>
                      <a:lnTo>
                        <a:pt x="74" y="1524"/>
                      </a:lnTo>
                      <a:lnTo>
                        <a:pt x="0" y="151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5359320" y="3105360"/>
                <a:ext cx="63720" cy="1877400"/>
              </a:xfrm>
              <a:custGeom>
                <a:avLst/>
                <a:gdLst/>
                <a:ahLst/>
                <a:rect l="l" t="t" r="r" b="b"/>
                <a:pathLst>
                  <a:path w="155" h="4097">
                    <a:moveTo>
                      <a:pt x="155" y="0"/>
                    </a:moveTo>
                    <a:lnTo>
                      <a:pt x="0" y="56"/>
                    </a:lnTo>
                    <a:lnTo>
                      <a:pt x="0" y="4097"/>
                    </a:lnTo>
                    <a:lnTo>
                      <a:pt x="155" y="4097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6109920" y="3907440"/>
                <a:ext cx="126000" cy="226440"/>
                <a:chOff x="6109920" y="3907440"/>
                <a:chExt cx="126000" cy="22644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6109920" y="3967920"/>
                  <a:ext cx="102240" cy="13104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148800" y="3907440"/>
                  <a:ext cx="73800" cy="226440"/>
                </a:xfrm>
                <a:prstGeom prst="rect">
                  <a:avLst/>
                </a:pr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154560" y="3911760"/>
                  <a:ext cx="63720" cy="216360"/>
                </a:xfrm>
                <a:prstGeom prst="rect">
                  <a:avLst/>
                </a:prstGeom>
                <a:solidFill>
                  <a:srgbClr val="e07000"/>
                </a:solidFill>
                <a:ln w="4320">
                  <a:solidFill>
                    <a:srgbClr val="ffc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6159600" y="3924720"/>
                  <a:ext cx="76320" cy="113400"/>
                  <a:chOff x="6159600" y="3924720"/>
                  <a:chExt cx="76320" cy="11340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6159600" y="3924720"/>
                    <a:ext cx="74520" cy="113400"/>
                  </a:xfrm>
                  <a:prstGeom prst="ellipse">
                    <a:avLst/>
                  </a:pr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6174360" y="3929040"/>
                    <a:ext cx="61560" cy="105120"/>
                  </a:xfrm>
                  <a:prstGeom prst="ellipse">
                    <a:avLst/>
                  </a:prstGeom>
                  <a:solidFill>
                    <a:srgbClr val="e0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6192000" y="3952080"/>
                    <a:ext cx="72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72">
                        <a:moveTo>
                          <a:pt x="2" y="0"/>
                        </a:moveTo>
                        <a:lnTo>
                          <a:pt x="0" y="70"/>
                        </a:lnTo>
                        <a:lnTo>
                          <a:pt x="19" y="72"/>
                        </a:lnTo>
                        <a:lnTo>
                          <a:pt x="12" y="3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c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4" name=""/>
                <p:cNvSpPr/>
                <p:nvPr/>
              </p:nvSpPr>
              <p:spPr>
                <a:xfrm>
                  <a:off x="6183000" y="4041000"/>
                  <a:ext cx="12960" cy="309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5" name=""/>
          <p:cNvSpPr/>
          <p:nvPr/>
        </p:nvSpPr>
        <p:spPr>
          <a:xfrm rot="10800000">
            <a:off x="6629400" y="4495320"/>
            <a:ext cx="1752480" cy="11430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2271" y="11010"/>
                </a:moveTo>
                <a:arcTo wR="-8532" hR="-8532" stAng="10715382" swAng="-10668218"/>
                <a:lnTo>
                  <a:pt x="1" y="10652"/>
                </a:lnTo>
                <a:arcTo wR="10800" hR="10800" stAng="-10752836" swAng="10668218"/>
                <a:lnTo>
                  <a:pt x="24296" y="10468"/>
                </a:lnTo>
                <a:lnTo>
                  <a:pt x="20557" y="14395"/>
                </a:lnTo>
                <a:lnTo>
                  <a:pt x="16630" y="10656"/>
                </a:lnTo>
                <a:close/>
              </a:path>
            </a:pathLst>
          </a:custGeom>
          <a:solidFill>
            <a:srgbClr val="bbe8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162920" y="4692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框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门窗型材名词解析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676160"/>
            <a:ext cx="771696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扇料：门窗中，能够开启的材料。其特点是能够移动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971640" y="3048120"/>
          <a:ext cx="7488000" cy="303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3048120"/>
                    <a:ext cx="7488000" cy="30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 flipV="1">
            <a:off x="4859280" y="4952880"/>
            <a:ext cx="792360" cy="71928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3995280" y="4952520"/>
            <a:ext cx="863640" cy="79236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00720" y="56386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 Narrow"/>
              </a:rPr>
              <a:t>扇料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门窗型材名词解析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1752480"/>
            <a:ext cx="7561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450720" indent="-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中挺：将框料所组成的矩形分割成若干个小矩形的材料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50720" indent="-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0720" indent="-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0720" indent="-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真中挺：固定在框料上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0720" indent="-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0720" indent="-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假中挺：固定在扇料上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495680" y="2362320"/>
          <a:ext cx="3395880" cy="362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2362320"/>
                    <a:ext cx="3395880" cy="36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5487840" y="28656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 Narrow"/>
              </a:rPr>
              <a:t>中挺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72200" y="437688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 Narrow"/>
              </a:rPr>
              <a:t>中挺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08560" y="3152880"/>
            <a:ext cx="432000" cy="57600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91120" y="4592520"/>
            <a:ext cx="289080" cy="3603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门窗型材名词解析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79440" y="1447920"/>
            <a:ext cx="86882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压线：室内一侧，固定玻璃所用的型材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圆压线：适合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45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度拼接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方压线：适合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90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度拼接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184400" y="3060720"/>
          <a:ext cx="6435720" cy="273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4400" y="3060720"/>
                    <a:ext cx="6435720" cy="27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门窗型材名词解析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000" y="2360160"/>
            <a:ext cx="7861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143000" y="2583000"/>
          <a:ext cx="2405160" cy="33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583000"/>
                    <a:ext cx="2405160" cy="33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4743360" y="2438280"/>
          <a:ext cx="2449440" cy="3459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43360" y="2438280"/>
                    <a:ext cx="2449440" cy="34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152280" y="1371600"/>
            <a:ext cx="868860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由于普通推拉窗是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90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度拼接，横竖材料有所不同，所以对框、扇材料又分别用了新的名称加以区分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门窗性能简介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7520"/>
            <a:ext cx="777240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门窗在我们生活中无处不在，大家都很“熟悉”，熟悉到几乎“视而不见”。给您十秒钟时间，您能够说出几个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门窗的功能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067280" y="3429000"/>
            <a:ext cx="3816360" cy="2774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门窗性能简介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46240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保温性好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2819520"/>
            <a:ext cx="540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K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值——传热系数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普通铝合金  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K=207  W/(m2k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断桥铝合金  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K=2~4 W/(m2k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743200" y="4952880"/>
            <a:ext cx="4751280" cy="792000"/>
            <a:chOff x="2743200" y="4952880"/>
            <a:chExt cx="4751280" cy="792000"/>
          </a:xfrm>
        </p:grpSpPr>
        <p:sp>
          <p:nvSpPr>
            <p:cNvPr id="91" name=""/>
            <p:cNvSpPr/>
            <p:nvPr/>
          </p:nvSpPr>
          <p:spPr>
            <a:xfrm>
              <a:off x="2743200" y="4952880"/>
              <a:ext cx="4751280" cy="792000"/>
            </a:xfrm>
            <a:custGeom>
              <a:avLst/>
              <a:gdLst>
                <a:gd name="textAreaLeft" fmla="*/ 0 w 4751280"/>
                <a:gd name="textAreaRight" fmla="*/ 4751640 w 475128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48" y="0"/>
                  </a:lnTo>
                  <a:lnTo>
                    <a:pt x="21600" y="10800"/>
                  </a:lnTo>
                  <a:lnTo>
                    <a:pt x="182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03560" y="5168880"/>
              <a:ext cx="367128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断桥铝合金的保温性和冰箱差不多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29080" y="1557360"/>
            <a:ext cx="2519640" cy="200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门窗性能简介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752480"/>
            <a:ext cx="24624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隔音性好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148280" y="2133720"/>
            <a:ext cx="3929040" cy="2766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55640" y="27115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精心的结构设计、接缝严密。经测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4292640"/>
            <a:ext cx="2303640" cy="1944720"/>
          </a:xfrm>
          <a:prstGeom prst="irregularSeal1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隔音≥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35db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门窗性能简介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46240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气密性好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048120" cy="2165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95280" y="2475000"/>
            <a:ext cx="24624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水密性好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876920" y="4572000"/>
            <a:ext cx="1828800" cy="127008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395280" y="3886200"/>
            <a:ext cx="3240000" cy="1297080"/>
            <a:chOff x="395280" y="3886200"/>
            <a:chExt cx="3240000" cy="1297080"/>
          </a:xfrm>
        </p:grpSpPr>
        <p:sp>
          <p:nvSpPr>
            <p:cNvPr id="105" name=""/>
            <p:cNvSpPr/>
            <p:nvPr/>
          </p:nvSpPr>
          <p:spPr>
            <a:xfrm>
              <a:off x="395280" y="3886200"/>
              <a:ext cx="3240000" cy="1297080"/>
            </a:xfrm>
            <a:custGeom>
              <a:avLst/>
              <a:gdLst>
                <a:gd name="textAreaLeft" fmla="*/ 810000 w 3240000"/>
                <a:gd name="textAreaRight" fmla="*/ 2430000 w 3240000"/>
                <a:gd name="textAreaTop" fmla="*/ 0 h 1297080"/>
                <a:gd name="textAreaBottom" fmla="*/ 113508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bbe8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58920" y="410220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99"/>
                  </a:solidFill>
                  <a:latin typeface="Arial"/>
                </a:rPr>
                <a:t>为您提供舒适的生活环境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门窗性能简介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752480"/>
            <a:ext cx="24624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抗风压性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2832120"/>
            <a:ext cx="24624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防火性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840120"/>
            <a:ext cx="24624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防盗性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1900080"/>
            <a:ext cx="41050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两侧装饰面均为铝合金，抗风压性好，门窗成品可达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级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铝合金为金属材料，不燃烧。中间的尼龙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66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加有阻燃剂，不燃烧。是公认的阻燃材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断桥铝合金门窗，配置优良的五金件，使盗贼束手无策。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553080" y="4191120"/>
            <a:ext cx="2448000" cy="1766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门窗性能简介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752480"/>
            <a:ext cx="24624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其他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2475000"/>
            <a:ext cx="6192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免维护：断桥隔热型材不易受酸碱腐蚀，不会退黄变色，脏污时可用水加清洗剂擦洗，简便快捷，洁净如初。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铝合金表面采用静电喷涂、阳极氧化、电泳涂漆、氟碳喷涂等着色技术工艺，绚丽的色彩可匹配任何个性化设计的建筑。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简捷易行的加工性能。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欧标槽口，配件通用性强。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5257800"/>
            <a:ext cx="1479600" cy="777960"/>
          </a:xfrm>
          <a:custGeom>
            <a:avLst/>
            <a:gdLst/>
            <a:ahLst/>
            <a:rect l="l" t="t" r="r" b="b"/>
            <a:pathLst>
              <a:path w="2328" h="1225">
                <a:moveTo>
                  <a:pt x="1170" y="1210"/>
                </a:moveTo>
                <a:lnTo>
                  <a:pt x="1194" y="1206"/>
                </a:lnTo>
                <a:lnTo>
                  <a:pt x="1226" y="1201"/>
                </a:lnTo>
                <a:lnTo>
                  <a:pt x="1258" y="1194"/>
                </a:lnTo>
                <a:lnTo>
                  <a:pt x="1281" y="1189"/>
                </a:lnTo>
                <a:lnTo>
                  <a:pt x="1308" y="1182"/>
                </a:lnTo>
                <a:lnTo>
                  <a:pt x="1334" y="1174"/>
                </a:lnTo>
                <a:lnTo>
                  <a:pt x="1361" y="1167"/>
                </a:lnTo>
                <a:lnTo>
                  <a:pt x="1385" y="1159"/>
                </a:lnTo>
                <a:lnTo>
                  <a:pt x="1412" y="1149"/>
                </a:lnTo>
                <a:lnTo>
                  <a:pt x="1445" y="1137"/>
                </a:lnTo>
                <a:lnTo>
                  <a:pt x="1473" y="1125"/>
                </a:lnTo>
                <a:lnTo>
                  <a:pt x="1500" y="1113"/>
                </a:lnTo>
                <a:lnTo>
                  <a:pt x="1531" y="1099"/>
                </a:lnTo>
                <a:lnTo>
                  <a:pt x="1560" y="1085"/>
                </a:lnTo>
                <a:lnTo>
                  <a:pt x="1587" y="1071"/>
                </a:lnTo>
                <a:lnTo>
                  <a:pt x="1611" y="1055"/>
                </a:lnTo>
                <a:lnTo>
                  <a:pt x="1633" y="1042"/>
                </a:lnTo>
                <a:lnTo>
                  <a:pt x="1656" y="1026"/>
                </a:lnTo>
                <a:lnTo>
                  <a:pt x="1681" y="1011"/>
                </a:lnTo>
                <a:lnTo>
                  <a:pt x="1709" y="993"/>
                </a:lnTo>
                <a:lnTo>
                  <a:pt x="1735" y="974"/>
                </a:lnTo>
                <a:lnTo>
                  <a:pt x="1759" y="955"/>
                </a:lnTo>
                <a:lnTo>
                  <a:pt x="1780" y="939"/>
                </a:lnTo>
                <a:lnTo>
                  <a:pt x="1817" y="910"/>
                </a:lnTo>
                <a:lnTo>
                  <a:pt x="1851" y="880"/>
                </a:lnTo>
                <a:lnTo>
                  <a:pt x="1884" y="847"/>
                </a:lnTo>
                <a:lnTo>
                  <a:pt x="1919" y="808"/>
                </a:lnTo>
                <a:lnTo>
                  <a:pt x="1943" y="780"/>
                </a:lnTo>
                <a:lnTo>
                  <a:pt x="1969" y="748"/>
                </a:lnTo>
                <a:lnTo>
                  <a:pt x="1999" y="714"/>
                </a:lnTo>
                <a:lnTo>
                  <a:pt x="2024" y="679"/>
                </a:lnTo>
                <a:lnTo>
                  <a:pt x="2048" y="642"/>
                </a:lnTo>
                <a:lnTo>
                  <a:pt x="2078" y="599"/>
                </a:lnTo>
                <a:lnTo>
                  <a:pt x="2328" y="746"/>
                </a:lnTo>
                <a:lnTo>
                  <a:pt x="2083" y="0"/>
                </a:lnTo>
                <a:lnTo>
                  <a:pt x="1286" y="141"/>
                </a:lnTo>
                <a:lnTo>
                  <a:pt x="1555" y="293"/>
                </a:lnTo>
                <a:lnTo>
                  <a:pt x="1532" y="325"/>
                </a:lnTo>
                <a:lnTo>
                  <a:pt x="1508" y="353"/>
                </a:lnTo>
                <a:lnTo>
                  <a:pt x="1484" y="381"/>
                </a:lnTo>
                <a:lnTo>
                  <a:pt x="1460" y="408"/>
                </a:lnTo>
                <a:lnTo>
                  <a:pt x="1440" y="428"/>
                </a:lnTo>
                <a:lnTo>
                  <a:pt x="1418" y="451"/>
                </a:lnTo>
                <a:lnTo>
                  <a:pt x="1394" y="469"/>
                </a:lnTo>
                <a:lnTo>
                  <a:pt x="1368" y="489"/>
                </a:lnTo>
                <a:lnTo>
                  <a:pt x="1336" y="511"/>
                </a:lnTo>
                <a:lnTo>
                  <a:pt x="1309" y="528"/>
                </a:lnTo>
                <a:lnTo>
                  <a:pt x="1286" y="542"/>
                </a:lnTo>
                <a:lnTo>
                  <a:pt x="1253" y="560"/>
                </a:lnTo>
                <a:lnTo>
                  <a:pt x="1224" y="572"/>
                </a:lnTo>
                <a:lnTo>
                  <a:pt x="1198" y="580"/>
                </a:lnTo>
                <a:lnTo>
                  <a:pt x="1172" y="590"/>
                </a:lnTo>
                <a:lnTo>
                  <a:pt x="1133" y="600"/>
                </a:lnTo>
                <a:lnTo>
                  <a:pt x="1094" y="606"/>
                </a:lnTo>
                <a:lnTo>
                  <a:pt x="1056" y="610"/>
                </a:lnTo>
                <a:lnTo>
                  <a:pt x="998" y="612"/>
                </a:lnTo>
                <a:lnTo>
                  <a:pt x="923" y="614"/>
                </a:lnTo>
                <a:lnTo>
                  <a:pt x="866" y="606"/>
                </a:lnTo>
                <a:lnTo>
                  <a:pt x="814" y="594"/>
                </a:lnTo>
                <a:lnTo>
                  <a:pt x="754" y="576"/>
                </a:lnTo>
                <a:lnTo>
                  <a:pt x="701" y="554"/>
                </a:lnTo>
                <a:lnTo>
                  <a:pt x="647" y="527"/>
                </a:lnTo>
                <a:lnTo>
                  <a:pt x="599" y="496"/>
                </a:lnTo>
                <a:lnTo>
                  <a:pt x="553" y="455"/>
                </a:lnTo>
                <a:lnTo>
                  <a:pt x="0" y="774"/>
                </a:lnTo>
                <a:lnTo>
                  <a:pt x="23" y="800"/>
                </a:lnTo>
                <a:lnTo>
                  <a:pt x="55" y="831"/>
                </a:lnTo>
                <a:lnTo>
                  <a:pt x="82" y="858"/>
                </a:lnTo>
                <a:lnTo>
                  <a:pt x="108" y="883"/>
                </a:lnTo>
                <a:lnTo>
                  <a:pt x="135" y="908"/>
                </a:lnTo>
                <a:lnTo>
                  <a:pt x="167" y="935"/>
                </a:lnTo>
                <a:lnTo>
                  <a:pt x="196" y="958"/>
                </a:lnTo>
                <a:lnTo>
                  <a:pt x="226" y="979"/>
                </a:lnTo>
                <a:lnTo>
                  <a:pt x="259" y="1001"/>
                </a:lnTo>
                <a:lnTo>
                  <a:pt x="291" y="1023"/>
                </a:lnTo>
                <a:lnTo>
                  <a:pt x="324" y="1045"/>
                </a:lnTo>
                <a:lnTo>
                  <a:pt x="355" y="1062"/>
                </a:lnTo>
                <a:lnTo>
                  <a:pt x="386" y="1079"/>
                </a:lnTo>
                <a:lnTo>
                  <a:pt x="415" y="1094"/>
                </a:lnTo>
                <a:lnTo>
                  <a:pt x="455" y="1113"/>
                </a:lnTo>
                <a:lnTo>
                  <a:pt x="493" y="1129"/>
                </a:lnTo>
                <a:lnTo>
                  <a:pt x="535" y="1145"/>
                </a:lnTo>
                <a:lnTo>
                  <a:pt x="567" y="1157"/>
                </a:lnTo>
                <a:lnTo>
                  <a:pt x="598" y="1169"/>
                </a:lnTo>
                <a:lnTo>
                  <a:pt x="634" y="1179"/>
                </a:lnTo>
                <a:lnTo>
                  <a:pt x="669" y="1189"/>
                </a:lnTo>
                <a:lnTo>
                  <a:pt x="703" y="1197"/>
                </a:lnTo>
                <a:lnTo>
                  <a:pt x="743" y="1205"/>
                </a:lnTo>
                <a:lnTo>
                  <a:pt x="783" y="1211"/>
                </a:lnTo>
                <a:lnTo>
                  <a:pt x="825" y="1217"/>
                </a:lnTo>
                <a:lnTo>
                  <a:pt x="867" y="1221"/>
                </a:lnTo>
                <a:lnTo>
                  <a:pt x="899" y="1222"/>
                </a:lnTo>
                <a:lnTo>
                  <a:pt x="943" y="1225"/>
                </a:lnTo>
                <a:lnTo>
                  <a:pt x="988" y="1225"/>
                </a:lnTo>
                <a:lnTo>
                  <a:pt x="1022" y="1223"/>
                </a:lnTo>
                <a:lnTo>
                  <a:pt x="1060" y="1222"/>
                </a:lnTo>
                <a:lnTo>
                  <a:pt x="1101" y="1219"/>
                </a:lnTo>
                <a:lnTo>
                  <a:pt x="1138" y="1214"/>
                </a:lnTo>
                <a:lnTo>
                  <a:pt x="1170" y="121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61040" y="4416480"/>
            <a:ext cx="749520" cy="1387440"/>
          </a:xfrm>
          <a:custGeom>
            <a:avLst/>
            <a:gdLst/>
            <a:ahLst/>
            <a:rect l="l" t="t" r="r" b="b"/>
            <a:pathLst>
              <a:path w="1180" h="2184">
                <a:moveTo>
                  <a:pt x="1180" y="0"/>
                </a:moveTo>
                <a:lnTo>
                  <a:pt x="1155" y="4"/>
                </a:lnTo>
                <a:lnTo>
                  <a:pt x="1130" y="8"/>
                </a:lnTo>
                <a:lnTo>
                  <a:pt x="1095" y="16"/>
                </a:lnTo>
                <a:lnTo>
                  <a:pt x="1070" y="21"/>
                </a:lnTo>
                <a:lnTo>
                  <a:pt x="1043" y="29"/>
                </a:lnTo>
                <a:lnTo>
                  <a:pt x="1018" y="37"/>
                </a:lnTo>
                <a:lnTo>
                  <a:pt x="991" y="44"/>
                </a:lnTo>
                <a:lnTo>
                  <a:pt x="966" y="52"/>
                </a:lnTo>
                <a:lnTo>
                  <a:pt x="939" y="62"/>
                </a:lnTo>
                <a:lnTo>
                  <a:pt x="907" y="74"/>
                </a:lnTo>
                <a:lnTo>
                  <a:pt x="880" y="86"/>
                </a:lnTo>
                <a:lnTo>
                  <a:pt x="852" y="98"/>
                </a:lnTo>
                <a:lnTo>
                  <a:pt x="823" y="112"/>
                </a:lnTo>
                <a:lnTo>
                  <a:pt x="793" y="126"/>
                </a:lnTo>
                <a:lnTo>
                  <a:pt x="767" y="140"/>
                </a:lnTo>
                <a:lnTo>
                  <a:pt x="741" y="156"/>
                </a:lnTo>
                <a:lnTo>
                  <a:pt x="719" y="169"/>
                </a:lnTo>
                <a:lnTo>
                  <a:pt x="696" y="185"/>
                </a:lnTo>
                <a:lnTo>
                  <a:pt x="671" y="200"/>
                </a:lnTo>
                <a:lnTo>
                  <a:pt x="643" y="218"/>
                </a:lnTo>
                <a:lnTo>
                  <a:pt x="617" y="238"/>
                </a:lnTo>
                <a:lnTo>
                  <a:pt x="593" y="257"/>
                </a:lnTo>
                <a:lnTo>
                  <a:pt x="571" y="273"/>
                </a:lnTo>
                <a:lnTo>
                  <a:pt x="533" y="304"/>
                </a:lnTo>
                <a:lnTo>
                  <a:pt x="496" y="340"/>
                </a:lnTo>
                <a:lnTo>
                  <a:pt x="467" y="366"/>
                </a:lnTo>
                <a:lnTo>
                  <a:pt x="432" y="405"/>
                </a:lnTo>
                <a:lnTo>
                  <a:pt x="408" y="433"/>
                </a:lnTo>
                <a:lnTo>
                  <a:pt x="381" y="465"/>
                </a:lnTo>
                <a:lnTo>
                  <a:pt x="352" y="501"/>
                </a:lnTo>
                <a:lnTo>
                  <a:pt x="328" y="535"/>
                </a:lnTo>
                <a:lnTo>
                  <a:pt x="304" y="573"/>
                </a:lnTo>
                <a:lnTo>
                  <a:pt x="280" y="611"/>
                </a:lnTo>
                <a:lnTo>
                  <a:pt x="256" y="651"/>
                </a:lnTo>
                <a:lnTo>
                  <a:pt x="236" y="685"/>
                </a:lnTo>
                <a:lnTo>
                  <a:pt x="217" y="728"/>
                </a:lnTo>
                <a:lnTo>
                  <a:pt x="198" y="769"/>
                </a:lnTo>
                <a:lnTo>
                  <a:pt x="182" y="812"/>
                </a:lnTo>
                <a:lnTo>
                  <a:pt x="166" y="859"/>
                </a:lnTo>
                <a:lnTo>
                  <a:pt x="146" y="916"/>
                </a:lnTo>
                <a:lnTo>
                  <a:pt x="133" y="970"/>
                </a:lnTo>
                <a:lnTo>
                  <a:pt x="120" y="1024"/>
                </a:lnTo>
                <a:lnTo>
                  <a:pt x="113" y="1078"/>
                </a:lnTo>
                <a:lnTo>
                  <a:pt x="104" y="1140"/>
                </a:lnTo>
                <a:lnTo>
                  <a:pt x="97" y="1218"/>
                </a:lnTo>
                <a:lnTo>
                  <a:pt x="96" y="1279"/>
                </a:lnTo>
                <a:lnTo>
                  <a:pt x="97" y="1339"/>
                </a:lnTo>
                <a:lnTo>
                  <a:pt x="102" y="1397"/>
                </a:lnTo>
                <a:lnTo>
                  <a:pt x="109" y="1450"/>
                </a:lnTo>
                <a:lnTo>
                  <a:pt x="116" y="1506"/>
                </a:lnTo>
                <a:lnTo>
                  <a:pt x="128" y="1563"/>
                </a:lnTo>
                <a:lnTo>
                  <a:pt x="144" y="1625"/>
                </a:lnTo>
                <a:lnTo>
                  <a:pt x="164" y="1687"/>
                </a:lnTo>
                <a:lnTo>
                  <a:pt x="184" y="1746"/>
                </a:lnTo>
                <a:lnTo>
                  <a:pt x="206" y="1803"/>
                </a:lnTo>
                <a:lnTo>
                  <a:pt x="233" y="1860"/>
                </a:lnTo>
                <a:lnTo>
                  <a:pt x="265" y="1913"/>
                </a:lnTo>
                <a:lnTo>
                  <a:pt x="0" y="2064"/>
                </a:lnTo>
                <a:lnTo>
                  <a:pt x="809" y="2184"/>
                </a:lnTo>
                <a:lnTo>
                  <a:pt x="1107" y="1439"/>
                </a:lnTo>
                <a:lnTo>
                  <a:pt x="796" y="1606"/>
                </a:lnTo>
                <a:lnTo>
                  <a:pt x="765" y="1558"/>
                </a:lnTo>
                <a:lnTo>
                  <a:pt x="747" y="1515"/>
                </a:lnTo>
                <a:lnTo>
                  <a:pt x="729" y="1471"/>
                </a:lnTo>
                <a:lnTo>
                  <a:pt x="717" y="1427"/>
                </a:lnTo>
                <a:lnTo>
                  <a:pt x="709" y="1385"/>
                </a:lnTo>
                <a:lnTo>
                  <a:pt x="707" y="1343"/>
                </a:lnTo>
                <a:lnTo>
                  <a:pt x="703" y="1302"/>
                </a:lnTo>
                <a:lnTo>
                  <a:pt x="703" y="1260"/>
                </a:lnTo>
                <a:lnTo>
                  <a:pt x="705" y="1211"/>
                </a:lnTo>
                <a:lnTo>
                  <a:pt x="711" y="1163"/>
                </a:lnTo>
                <a:lnTo>
                  <a:pt x="721" y="1110"/>
                </a:lnTo>
                <a:lnTo>
                  <a:pt x="733" y="1067"/>
                </a:lnTo>
                <a:lnTo>
                  <a:pt x="752" y="1019"/>
                </a:lnTo>
                <a:lnTo>
                  <a:pt x="768" y="978"/>
                </a:lnTo>
                <a:lnTo>
                  <a:pt x="791" y="938"/>
                </a:lnTo>
                <a:lnTo>
                  <a:pt x="809" y="907"/>
                </a:lnTo>
                <a:lnTo>
                  <a:pt x="828" y="881"/>
                </a:lnTo>
                <a:lnTo>
                  <a:pt x="847" y="856"/>
                </a:lnTo>
                <a:lnTo>
                  <a:pt x="868" y="831"/>
                </a:lnTo>
                <a:lnTo>
                  <a:pt x="891" y="804"/>
                </a:lnTo>
                <a:lnTo>
                  <a:pt x="911" y="785"/>
                </a:lnTo>
                <a:lnTo>
                  <a:pt x="934" y="761"/>
                </a:lnTo>
                <a:lnTo>
                  <a:pt x="956" y="743"/>
                </a:lnTo>
                <a:lnTo>
                  <a:pt x="983" y="723"/>
                </a:lnTo>
                <a:lnTo>
                  <a:pt x="1015" y="701"/>
                </a:lnTo>
                <a:lnTo>
                  <a:pt x="1042" y="684"/>
                </a:lnTo>
                <a:lnTo>
                  <a:pt x="1064" y="671"/>
                </a:lnTo>
                <a:lnTo>
                  <a:pt x="1098" y="652"/>
                </a:lnTo>
                <a:lnTo>
                  <a:pt x="1130" y="639"/>
                </a:lnTo>
                <a:lnTo>
                  <a:pt x="1180" y="624"/>
                </a:lnTo>
                <a:lnTo>
                  <a:pt x="118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39200" y="4227480"/>
            <a:ext cx="1114200" cy="1255680"/>
          </a:xfrm>
          <a:custGeom>
            <a:avLst/>
            <a:gdLst/>
            <a:ahLst/>
            <a:rect l="l" t="t" r="r" b="b"/>
            <a:pathLst>
              <a:path w="1754" h="1978">
                <a:moveTo>
                  <a:pt x="668" y="290"/>
                </a:moveTo>
                <a:lnTo>
                  <a:pt x="692" y="294"/>
                </a:lnTo>
                <a:lnTo>
                  <a:pt x="724" y="299"/>
                </a:lnTo>
                <a:lnTo>
                  <a:pt x="756" y="307"/>
                </a:lnTo>
                <a:lnTo>
                  <a:pt x="779" y="313"/>
                </a:lnTo>
                <a:lnTo>
                  <a:pt x="806" y="319"/>
                </a:lnTo>
                <a:lnTo>
                  <a:pt x="831" y="327"/>
                </a:lnTo>
                <a:lnTo>
                  <a:pt x="858" y="335"/>
                </a:lnTo>
                <a:lnTo>
                  <a:pt x="882" y="342"/>
                </a:lnTo>
                <a:lnTo>
                  <a:pt x="910" y="353"/>
                </a:lnTo>
                <a:lnTo>
                  <a:pt x="942" y="366"/>
                </a:lnTo>
                <a:lnTo>
                  <a:pt x="970" y="377"/>
                </a:lnTo>
                <a:lnTo>
                  <a:pt x="996" y="389"/>
                </a:lnTo>
                <a:lnTo>
                  <a:pt x="1027" y="402"/>
                </a:lnTo>
                <a:lnTo>
                  <a:pt x="1057" y="417"/>
                </a:lnTo>
                <a:lnTo>
                  <a:pt x="1083" y="430"/>
                </a:lnTo>
                <a:lnTo>
                  <a:pt x="1109" y="446"/>
                </a:lnTo>
                <a:lnTo>
                  <a:pt x="1131" y="459"/>
                </a:lnTo>
                <a:lnTo>
                  <a:pt x="1154" y="475"/>
                </a:lnTo>
                <a:lnTo>
                  <a:pt x="1179" y="490"/>
                </a:lnTo>
                <a:lnTo>
                  <a:pt x="1207" y="509"/>
                </a:lnTo>
                <a:lnTo>
                  <a:pt x="1233" y="527"/>
                </a:lnTo>
                <a:lnTo>
                  <a:pt x="1257" y="546"/>
                </a:lnTo>
                <a:lnTo>
                  <a:pt x="1279" y="563"/>
                </a:lnTo>
                <a:lnTo>
                  <a:pt x="1315" y="594"/>
                </a:lnTo>
                <a:lnTo>
                  <a:pt x="1353" y="629"/>
                </a:lnTo>
                <a:lnTo>
                  <a:pt x="1382" y="655"/>
                </a:lnTo>
                <a:lnTo>
                  <a:pt x="1417" y="694"/>
                </a:lnTo>
                <a:lnTo>
                  <a:pt x="1441" y="722"/>
                </a:lnTo>
                <a:lnTo>
                  <a:pt x="1467" y="754"/>
                </a:lnTo>
                <a:lnTo>
                  <a:pt x="1497" y="790"/>
                </a:lnTo>
                <a:lnTo>
                  <a:pt x="1521" y="825"/>
                </a:lnTo>
                <a:lnTo>
                  <a:pt x="1545" y="864"/>
                </a:lnTo>
                <a:lnTo>
                  <a:pt x="1570" y="901"/>
                </a:lnTo>
                <a:lnTo>
                  <a:pt x="1592" y="941"/>
                </a:lnTo>
                <a:lnTo>
                  <a:pt x="1613" y="976"/>
                </a:lnTo>
                <a:lnTo>
                  <a:pt x="1633" y="1018"/>
                </a:lnTo>
                <a:lnTo>
                  <a:pt x="1652" y="1060"/>
                </a:lnTo>
                <a:lnTo>
                  <a:pt x="1668" y="1102"/>
                </a:lnTo>
                <a:lnTo>
                  <a:pt x="1684" y="1149"/>
                </a:lnTo>
                <a:lnTo>
                  <a:pt x="1704" y="1207"/>
                </a:lnTo>
                <a:lnTo>
                  <a:pt x="1717" y="1260"/>
                </a:lnTo>
                <a:lnTo>
                  <a:pt x="1730" y="1315"/>
                </a:lnTo>
                <a:lnTo>
                  <a:pt x="1737" y="1368"/>
                </a:lnTo>
                <a:lnTo>
                  <a:pt x="1746" y="1431"/>
                </a:lnTo>
                <a:lnTo>
                  <a:pt x="1753" y="1508"/>
                </a:lnTo>
                <a:lnTo>
                  <a:pt x="1754" y="1568"/>
                </a:lnTo>
                <a:lnTo>
                  <a:pt x="1753" y="1628"/>
                </a:lnTo>
                <a:lnTo>
                  <a:pt x="1748" y="1686"/>
                </a:lnTo>
                <a:lnTo>
                  <a:pt x="1741" y="1739"/>
                </a:lnTo>
                <a:lnTo>
                  <a:pt x="1734" y="1795"/>
                </a:lnTo>
                <a:lnTo>
                  <a:pt x="1722" y="1852"/>
                </a:lnTo>
                <a:lnTo>
                  <a:pt x="1706" y="1914"/>
                </a:lnTo>
                <a:lnTo>
                  <a:pt x="1686" y="1978"/>
                </a:lnTo>
                <a:lnTo>
                  <a:pt x="1572" y="1620"/>
                </a:lnTo>
                <a:lnTo>
                  <a:pt x="1134" y="1695"/>
                </a:lnTo>
                <a:lnTo>
                  <a:pt x="1143" y="1632"/>
                </a:lnTo>
                <a:lnTo>
                  <a:pt x="1147" y="1592"/>
                </a:lnTo>
                <a:lnTo>
                  <a:pt x="1147" y="1549"/>
                </a:lnTo>
                <a:lnTo>
                  <a:pt x="1145" y="1500"/>
                </a:lnTo>
                <a:lnTo>
                  <a:pt x="1138" y="1453"/>
                </a:lnTo>
                <a:lnTo>
                  <a:pt x="1129" y="1400"/>
                </a:lnTo>
                <a:lnTo>
                  <a:pt x="1117" y="1357"/>
                </a:lnTo>
                <a:lnTo>
                  <a:pt x="1098" y="1309"/>
                </a:lnTo>
                <a:lnTo>
                  <a:pt x="1081" y="1268"/>
                </a:lnTo>
                <a:lnTo>
                  <a:pt x="1059" y="1228"/>
                </a:lnTo>
                <a:lnTo>
                  <a:pt x="1041" y="1197"/>
                </a:lnTo>
                <a:lnTo>
                  <a:pt x="1022" y="1172"/>
                </a:lnTo>
                <a:lnTo>
                  <a:pt x="1003" y="1146"/>
                </a:lnTo>
                <a:lnTo>
                  <a:pt x="982" y="1121"/>
                </a:lnTo>
                <a:lnTo>
                  <a:pt x="958" y="1094"/>
                </a:lnTo>
                <a:lnTo>
                  <a:pt x="938" y="1076"/>
                </a:lnTo>
                <a:lnTo>
                  <a:pt x="915" y="1053"/>
                </a:lnTo>
                <a:lnTo>
                  <a:pt x="892" y="1033"/>
                </a:lnTo>
                <a:lnTo>
                  <a:pt x="866" y="1013"/>
                </a:lnTo>
                <a:lnTo>
                  <a:pt x="834" y="993"/>
                </a:lnTo>
                <a:lnTo>
                  <a:pt x="807" y="974"/>
                </a:lnTo>
                <a:lnTo>
                  <a:pt x="784" y="962"/>
                </a:lnTo>
                <a:lnTo>
                  <a:pt x="751" y="942"/>
                </a:lnTo>
                <a:lnTo>
                  <a:pt x="722" y="932"/>
                </a:lnTo>
                <a:lnTo>
                  <a:pt x="696" y="922"/>
                </a:lnTo>
                <a:lnTo>
                  <a:pt x="670" y="913"/>
                </a:lnTo>
                <a:lnTo>
                  <a:pt x="630" y="904"/>
                </a:lnTo>
                <a:lnTo>
                  <a:pt x="592" y="897"/>
                </a:lnTo>
                <a:lnTo>
                  <a:pt x="554" y="893"/>
                </a:lnTo>
                <a:lnTo>
                  <a:pt x="515" y="890"/>
                </a:lnTo>
                <a:lnTo>
                  <a:pt x="494" y="889"/>
                </a:lnTo>
                <a:lnTo>
                  <a:pt x="494" y="1211"/>
                </a:lnTo>
                <a:lnTo>
                  <a:pt x="0" y="614"/>
                </a:lnTo>
                <a:lnTo>
                  <a:pt x="492" y="0"/>
                </a:lnTo>
                <a:lnTo>
                  <a:pt x="492" y="277"/>
                </a:lnTo>
                <a:lnTo>
                  <a:pt x="519" y="278"/>
                </a:lnTo>
                <a:lnTo>
                  <a:pt x="558" y="279"/>
                </a:lnTo>
                <a:lnTo>
                  <a:pt x="598" y="282"/>
                </a:lnTo>
                <a:lnTo>
                  <a:pt x="636" y="286"/>
                </a:lnTo>
                <a:lnTo>
                  <a:pt x="668" y="2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门窗分类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按开启方式分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内开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cc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内平开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cc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内开内倒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943600" y="1295280"/>
            <a:ext cx="1706400" cy="2514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343400" y="2438280"/>
            <a:ext cx="1654200" cy="2133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3520" y="4038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以你们的生活经验这种窗型，放在什么位置比较适合，如何与其他窗型搭配使用？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400800" y="3962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838080" y="1295280"/>
            <a:ext cx="5029200" cy="285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门窗分类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按开启方式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外开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cc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外开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cc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外翻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038480" y="1752480"/>
            <a:ext cx="4191120" cy="3143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28600" y="47242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以你们的生活经验这种窗型，放在什么位置比较适合，如何与其他窗型搭配使用？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238880" y="4343400"/>
            <a:ext cx="1020960" cy="1600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838080" y="1295280"/>
            <a:ext cx="5029200" cy="285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08-08-20T07:19:09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