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ADF-CA6E-4340-9E45-343240B3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F97-B3B1-4159-99E1-0F1AFAA0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BC4-DFE2-4840-BA47-043EEFA6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9F1-3A7D-41D2-8DE7-8AF9A43B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C90E-A7B1-4835-B162-A8BEDBFA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7E24-112A-4731-BDE7-F2ED5CD0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CCA7-C226-4180-BE22-FA5DB24A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7743-1BF7-4AB0-B3AC-40369EE4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2935-2289-4A8D-8ACC-D94247F3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1BF7-1DD4-47BF-9A6D-6127E7D9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D399-511D-4D28-8CAF-18E1375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E9E-1737-46A6-A75B-9249178C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9E06-5036-41F9-ADB6-B0FD19B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558C-14B4-4650-8FC6-1625B108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6AC3-B8F6-495F-8D6C-E211311A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C0F4-AADE-493B-8F07-9382CD52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0EFF-5449-4BC1-93DF-31ED7F5B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B25-C669-42CB-8B11-81BEDBE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C4E-ED78-4439-ACC7-286A00FD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8E0-C768-40B7-8B4E-EF8486D0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5D2-3EBF-488E-AD88-8C189219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446-3881-42BA-9568-09A7ADD7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E63-7CB3-4AD7-9323-E3E8954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D27-750A-434E-908B-41E47CC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3ADB-CB9D-4628-A87F-6B34254656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B0ED-C5FF-46B0-BA62-D1D988AB0F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03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omic Sans MS"/>
              </a:rPr>
              <a:t>登陆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933880" cy="1133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24382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23880" y="3581280"/>
            <a:ext cx="6000840" cy="590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16858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580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设置单位基本信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5715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mic Sans MS"/>
              </a:rPr>
              <a:t>双击发票图标进入，点击“单位信息设置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2481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580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设置单位基本信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4117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905120" y="525780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257800"/>
            <a:ext cx="6477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输入微机管理编码（为企业地税税务登记证副本右上的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位微机管理编码）保存后不可修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密码提示问题：设置成与密码相关的问题，是为了帮助想起密码，密码忘记将不能找回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基本信息设置完毕，点击“保存”，输入密码重新进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580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主界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分为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371600"/>
            <a:ext cx="6705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387080"/>
            <a:ext cx="601992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发票开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发票查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发票作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领用存报表生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查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常用信息设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打印设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数据库备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9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口令设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帮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发票开具前先设置常用信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开票单位信息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领购信息录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当前使用发票设置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图片设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以上常用的只有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124080"/>
            <a:ext cx="7483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点击“发票领购信息录入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输入电子认证密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次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位）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显示电子认证内容”按钮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核对管理编码、发票代码、数量、发票号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核对无误点击“导入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退出”按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点击“当前使用发票设置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单击“已导入的电子认证密码记录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添加到当前等开具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启用”（发票信息就导入完毕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4437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开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开具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通用格式发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“付款人名称”、“经营项目”、“单位”（可不录）、“数量”、“单价”、“金额”自动生成，核对无误，点击“保存”（未打印，点击下一张，此张发票将无法打印，只能作废），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打印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773680"/>
            <a:ext cx="647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Comic Sans MS"/>
              </a:rPr>
              <a:t>注：先查看电脑日期，核对发票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作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通用格式发票作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要作废的发票代码和发票号码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查询”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核对是要作废的发票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作废”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确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作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查询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开具查询（根据日期查询发票开具情况）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区间日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查询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查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0240" y="322596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查询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领用存报表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根据日期查询未打印出来领用存报表）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区间日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查询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购买发票用所需操作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领用存报表生成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领用存报表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查询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保存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打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领用存报表生成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明细上报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生成数据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保存（自己能找到的路径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明细表上传到哈尔滨地方税务局网站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网上办税服务大厅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地税发票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发票数据采集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输入用户名（管理编码前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位），输入密码（用户名后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位）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发票票上报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浏览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上传（显示上传成功）就完成上传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上报查询一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购买发票用所需资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发票领购簿、领用存报表、发票明细表、企业地税营业执照复印件、发票存根联和作废发票要三联（装订成册，标明发票号码起止号断、公司名称，开具发票的起止日期、标明发票份数）（所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纸加盖公章）去哈尔宾地税局（中宣街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号）购买发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1685880" cy="552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553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041480"/>
            <a:ext cx="67816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015920"/>
            <a:ext cx="6782040" cy="4645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1154160"/>
            <a:ext cx="7391520" cy="4503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248160" cy="4908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162920" cy="432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162920" y="5562720"/>
            <a:ext cx="7142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1:38:32Z</dcterms:created>
  <dc:creator/>
  <dc:description/>
  <dc:language>en-US</dc:language>
  <cp:lastModifiedBy>USER</cp:lastModifiedBy>
  <dcterms:modified xsi:type="dcterms:W3CDTF">2014-03-31T01:40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  <property fmtid="{D5CDD505-2E9C-101B-9397-08002B2CF9AE}" pid="3" name="Version">
    <vt:r8>1</vt:r8>
  </property>
</Properties>
</file>