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B678-C5BE-4085-82AF-5F9461F46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9F77-4756-4A83-B72B-A24082B2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70B3-5F5B-4418-B514-F31E1CFE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63EC-6C21-4D3A-988A-A76BDDDED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AAFF-E940-4AEE-9A59-82B9A2F8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66B0-8558-49D9-ABF4-0D5DE676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C18B-AB40-4C0B-AB55-9B354A6D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40C2-8C10-424C-B789-CDF86070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86CA-3A4D-40D0-97EB-356349F6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4DAD-CACD-488A-AD76-FAF23E1D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77FB-B3B7-4C18-A94C-EA04E5F9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6E1B-56B2-4369-9C38-03ED9404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6C16-0C2F-4856-8517-33F62CC942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reamkidland.com/sfhk/2005-12/moon/000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reamkidland.com/sfhk/2005-12/moon/001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reamkidland.com/sfhk/2005-12/moon/002.htm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reamkidland.com/sfhk/2005-12/moon/003.htm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reamkidland.com/sfhk/2005-12/moon/004.htm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41480" y="0"/>
            <a:ext cx="6023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2760" y="0"/>
            <a:ext cx="533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6440" y="685800"/>
            <a:ext cx="4932360" cy="5616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821120" y="696960"/>
            <a:ext cx="4932360" cy="5616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024280" y="3352680"/>
            <a:ext cx="3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亮哭了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680" y="609480"/>
            <a:ext cx="4943520" cy="5627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809960" y="609480"/>
            <a:ext cx="4943520" cy="5627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10680" y="4876920"/>
            <a:ext cx="223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她哭得那样响，让过路的云也停止了飘荡，问道：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“哦，月亮，你在哭什么呀？”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“我在大海里看不到自己的脸了。”月亮抽泣着。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“啊，就为这个呀，”云说。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“你只是太苍白了。你怎么不试着变成金黄色呢。那时你就会在海里看见自己的脸了。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680" y="620640"/>
            <a:ext cx="4943520" cy="5627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781520" y="620640"/>
            <a:ext cx="4943520" cy="5627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67000" y="4724280"/>
            <a:ext cx="67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于是，月亮就改变了颜色，从银白变成金黄。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然后，她飘过天空，朝下看。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可她还是没有在海中看到自己的脸。月亮又哭了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2000" y="609480"/>
            <a:ext cx="4943520" cy="5627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809960" y="609480"/>
            <a:ext cx="4943520" cy="5627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0920" y="4800600"/>
            <a:ext cx="2323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她哭得那样响，让过路的雨也不再往下落了，问道：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“哦，月亮，你在哭什么呀？”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“我在大海里看不到自己的脸了。”月亮抽泣着。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“啊，就为这个呀。”雨说。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“你只是太小啦。你怎么不试着变得大一点、圆一点呢。那时你就会在海里看见自己的脸了。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4875480" cy="5551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800600" y="762120"/>
            <a:ext cx="4875120" cy="5551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7120" y="4910040"/>
            <a:ext cx="67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于是，月亮等了许多天，直到她变得又大又圆。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然后，她飘过天空，朝下看。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可她还是没有在海中看到自己的脸。月亮又哭了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4080" y="685800"/>
            <a:ext cx="4875120" cy="5551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878360" y="685800"/>
            <a:ext cx="487512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4875120" cy="5551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876920" y="762120"/>
            <a:ext cx="4875120" cy="5551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16160" y="5105520"/>
            <a:ext cx="67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于是，月亮换上她最皎洁的衣裳。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然后，她飘过天空，朝下看。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可她还是没有在海中看到自己的脸。月亮又哭了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C SYSTEM</cp:lastModifiedBy>
  <dcterms:modified xsi:type="dcterms:W3CDTF">2006-12-31T08:58:5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