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29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31.wmf" ContentType="image/x-wmf"/>
  <Override PartName="/ppt/media/image19.jpeg" ContentType="image/jpeg"/>
  <Override PartName="/ppt/media/image32.wmf" ContentType="image/x-wmf"/>
  <Override PartName="/ppt/media/image35.png" ContentType="image/png"/>
  <Override PartName="/ppt/media/image5.png" ContentType="image/png"/>
  <Override PartName="/ppt/media/image13.wmf" ContentType="image/x-wmf"/>
  <Override PartName="/ppt/media/image10.jpeg" ContentType="image/jpeg"/>
  <Override PartName="/ppt/media/image33.wmf" ContentType="image/x-wmf"/>
  <Override PartName="/ppt/media/image36.wmf" ContentType="image/x-wmf"/>
  <Override PartName="/ppt/media/image16.png" ContentType="image/png"/>
  <Override PartName="/ppt/media/image37.wmf" ContentType="image/x-wmf"/>
  <Override PartName="/ppt/media/image38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8.png" ContentType="image/png"/>
  <Override PartName="/ppt/media/image28.gif" ContentType="image/gi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2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3CCE-A7AC-4461-A52E-791FD509E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85D5-1AE7-4F2D-976C-D476AAE2F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4BD7-F16C-49BE-9E75-075005D7D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528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79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64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528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79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3D14-6313-4DD9-9441-EE7DA6CC9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7800" y="-1004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C352-8B07-42C3-8135-454376B7A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528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79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5064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528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379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850C-AFA8-4295-9126-CE9DDE567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B40F-866D-4E7B-9D06-6C550B346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2178-5AA6-492B-89B7-E13F4EC6A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7800" y="-1004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368D-CAA8-4339-85E5-35BF02E48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11F1-70DF-49A3-9F28-664C7CAC1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B116-B6FA-48C9-AE34-ADB49117B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931D-C2B0-428D-949C-3CDBA74F7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1728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07920"/>
            <a:ext cx="9906120" cy="144720"/>
          </a:xfrm>
          <a:prstGeom prst="rect">
            <a:avLst/>
          </a:prstGeom>
          <a:solidFill>
            <a:srgbClr val="349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52640"/>
            <a:ext cx="9917280" cy="72720"/>
          </a:xfrm>
          <a:prstGeom prst="rect">
            <a:avLst/>
          </a:prstGeom>
          <a:solidFill>
            <a:srgbClr val="a4c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160" y="1125360"/>
            <a:ext cx="991548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803800" y="6472080"/>
            <a:ext cx="1063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600" spc="-1" strike="noStrike">
                <a:solidFill>
                  <a:srgbClr val="ffffff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96B4-AF05-4A32-BBC6-17859E7726DB}" type="slidenum">
              <a:rPr b="1" lang="ko-KR" sz="1600" spc="-1" strike="noStrike">
                <a:solidFill>
                  <a:srgbClr val="ffffff"/>
                </a:solidFill>
                <a:latin typeface="Gulim"/>
                <a:ea typeface="Guli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691200"/>
            <a:ext cx="990612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907560"/>
            <a:ext cx="990612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-18720" y="1052280"/>
            <a:ext cx="990612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0" y="6381000"/>
            <a:ext cx="991728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620200" y="44280"/>
            <a:ext cx="826920" cy="7718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6491160"/>
            <a:ext cx="9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降低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osts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件引起的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OA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系统故障发生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ulim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-1833480" y="2273400"/>
            <a:ext cx="4473360" cy="48276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5"/>
          <a:stretch/>
        </p:blipFill>
        <p:spPr>
          <a:xfrm>
            <a:off x="3244680" y="765000"/>
            <a:ext cx="6661440" cy="637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1160" y="-4680"/>
            <a:ext cx="992844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933720"/>
            <a:ext cx="9906120" cy="752760"/>
          </a:xfrm>
          <a:prstGeom prst="rect">
            <a:avLst/>
          </a:prstGeom>
          <a:solidFill>
            <a:srgbClr val="349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653000"/>
            <a:ext cx="9917280" cy="712800"/>
          </a:xfrm>
          <a:prstGeom prst="rect">
            <a:avLst/>
          </a:prstGeom>
          <a:solidFill>
            <a:srgbClr val="a4c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64000"/>
            <a:ext cx="9917280" cy="513000"/>
          </a:xfrm>
          <a:prstGeom prst="rect">
            <a:avLst/>
          </a:prstGeom>
          <a:solidFill>
            <a:srgbClr val="d3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77000"/>
            <a:ext cx="9917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920" y="2421000"/>
            <a:ext cx="9906120" cy="647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21000"/>
            <a:ext cx="9917280" cy="64764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0" y="5228280"/>
            <a:ext cx="990612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0" y="2852280"/>
            <a:ext cx="990612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0" y="2275560"/>
            <a:ext cx="990612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436640"/>
            <a:ext cx="990612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0" y="5733000"/>
            <a:ext cx="990612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0" y="3499200"/>
            <a:ext cx="990612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0800000">
            <a:off x="-360" y="3067560"/>
            <a:ext cx="990612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-7560" y="3870000"/>
            <a:ext cx="990612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0" y="2420640"/>
            <a:ext cx="990612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000" y="3068640"/>
            <a:ext cx="858600" cy="792000"/>
          </a:xfrm>
          <a:prstGeom prst="roundRect">
            <a:avLst>
              <a:gd name="adj" fmla="val 1322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3680" y="3068640"/>
            <a:ext cx="858960" cy="792000"/>
          </a:xfrm>
          <a:prstGeom prst="roundRect">
            <a:avLst>
              <a:gd name="adj" fmla="val 1322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05720" y="3068640"/>
            <a:ext cx="857160" cy="792000"/>
          </a:xfrm>
          <a:prstGeom prst="roundRect">
            <a:avLst>
              <a:gd name="adj" fmla="val 13227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20200" y="3068640"/>
            <a:ext cx="857160" cy="792000"/>
          </a:xfrm>
          <a:prstGeom prst="roundRect">
            <a:avLst>
              <a:gd name="adj" fmla="val 13227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67a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067a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3.wmf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image" Target="../media/image10.jpeg"/><Relationship Id="rId30" Type="http://schemas.openxmlformats.org/officeDocument/2006/relationships/image" Target="../media/image10.jpeg"/><Relationship Id="rId31" Type="http://schemas.openxmlformats.org/officeDocument/2006/relationships/image" Target="../media/image10.jpeg"/><Relationship Id="rId32" Type="http://schemas.openxmlformats.org/officeDocument/2006/relationships/image" Target="../media/image10.jpeg"/><Relationship Id="rId33" Type="http://schemas.openxmlformats.org/officeDocument/2006/relationships/image" Target="../media/image10.jpeg"/><Relationship Id="rId34" Type="http://schemas.openxmlformats.org/officeDocument/2006/relationships/image" Target="../media/image10.jpeg"/><Relationship Id="rId35" Type="http://schemas.openxmlformats.org/officeDocument/2006/relationships/image" Target="../media/image10.jpeg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2060640"/>
            <a:ext cx="8267760" cy="1512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Arial Black"/>
                <a:ea typeface="隶书"/>
              </a:rPr>
              <a:t>单击此处添加主标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37360" y="333360"/>
            <a:ext cx="192564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四、目标确定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400" y="134136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新宋体"/>
              <a:buChar char="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ulim"/>
              </a:rPr>
              <a:t>根据以上调查情况和统计结果，我们</a:t>
            </a:r>
            <a:r>
              <a:rPr b="1" lang="zh-CN" sz="2000" spc="-1" strike="noStrike">
                <a:solidFill>
                  <a:srgbClr val="000000"/>
                </a:solidFill>
                <a:latin typeface="Gulim"/>
              </a:rPr>
              <a:t>QC</a:t>
            </a:r>
            <a:r>
              <a:rPr b="1" lang="zh-CN" sz="2000" spc="-1" strike="noStrike">
                <a:solidFill>
                  <a:srgbClr val="000000"/>
                </a:solidFill>
                <a:latin typeface="Gulim"/>
              </a:rPr>
              <a:t>小组确定了本次活动目标：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使此类故障在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系统月平均维护量中的比例，由原来的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56%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降至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10%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以下。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96960" y="2492280"/>
          <a:ext cx="72565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2492280"/>
                    <a:ext cx="7256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4F2A-E7F9-46D8-8EEC-38C5472B957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五、原因分析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50640" y="1341360"/>
            <a:ext cx="8659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我们检查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件不能进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系统的计算机时发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件已还原成系统默认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果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系统不能正确解析到金华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服务器地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故会出现下图所示的错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能进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系统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30280" y="3933720"/>
            <a:ext cx="3714840" cy="124776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669000" y="3789360"/>
            <a:ext cx="202428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D5B6-B88F-4A20-B4A2-AB42DD297BCA}" type="slidenum">
              <a:t>11</a:t>
            </a:fld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9000" y="3581280"/>
            <a:ext cx="7794720" cy="457200"/>
          </a:xfrm>
          <a:prstGeom prst="rightArrow">
            <a:avLst>
              <a:gd name="adj1" fmla="val 38889"/>
              <a:gd name="adj2" fmla="val 86349"/>
            </a:avLst>
          </a:prstGeom>
          <a:gradFill rotWithShape="0">
            <a:gsLst>
              <a:gs pos="0">
                <a:srgbClr val="ff3300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4960" y="1967040"/>
            <a:ext cx="907920" cy="380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26160" y="1967040"/>
            <a:ext cx="1411200" cy="38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95320" y="5208480"/>
            <a:ext cx="158112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软件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25720" y="234792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02080" y="234792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04880" y="3886200"/>
            <a:ext cx="66060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741920" y="3886200"/>
            <a:ext cx="66024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440532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89600" y="487692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3480" y="3284640"/>
            <a:ext cx="156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07000" y="451008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中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000" y="42861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软件冲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280" y="4648320"/>
            <a:ext cx="14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76760" y="2438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病毒木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576400" y="2819520"/>
            <a:ext cx="156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90640" y="405288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参数设置不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56120" y="29178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不纯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32416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0960" y="2438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误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96160" y="1758960"/>
            <a:ext cx="676440" cy="22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客户端连接服务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94280" y="5157720"/>
            <a:ext cx="1403280" cy="41760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五、原因分析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64C5-1D49-4860-B940-91CB6FA8635F}" type="slidenum">
              <a:t>12</a:t>
            </a:fld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六、确认要因</a:t>
            </a:r>
            <a:endParaRPr b="1" lang="en-US" sz="36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15" name=""/>
          <p:cNvSpPr/>
          <p:nvPr/>
        </p:nvSpPr>
        <p:spPr>
          <a:xfrm>
            <a:off x="2216160" y="1341360"/>
            <a:ext cx="10573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谨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1000" y="3357720"/>
            <a:ext cx="1214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病毒感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73680" y="2349360"/>
            <a:ext cx="12128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过一段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间又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57560" y="2349360"/>
            <a:ext cx="10573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重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1000" y="2349360"/>
            <a:ext cx="12142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操作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4520" y="1341360"/>
            <a:ext cx="12142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误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57560" y="3357720"/>
            <a:ext cx="10573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查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73680" y="3357720"/>
            <a:ext cx="12128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无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920" y="5373720"/>
            <a:ext cx="113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软件冲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22640" y="5373720"/>
            <a:ext cx="10555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安装软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73680" y="5373720"/>
            <a:ext cx="16365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上网助手会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动修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3556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7560" y="35560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32280" y="1341360"/>
            <a:ext cx="12128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也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25495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70400" y="25495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0040" y="15397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86160" y="1486080"/>
            <a:ext cx="433440" cy="448920"/>
          </a:xfrm>
          <a:custGeom>
            <a:avLst/>
            <a:gdLst>
              <a:gd name="textAreaLeft" fmla="*/ 0 w 433440"/>
              <a:gd name="textAreaRight" fmla="*/ 433800 w 43344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5572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27560" y="55720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02280" y="3357720"/>
            <a:ext cx="11368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78400" y="3556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02280" y="2349360"/>
            <a:ext cx="11368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21240" y="25495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61240" y="1341360"/>
            <a:ext cx="11365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7000" y="1486080"/>
            <a:ext cx="433440" cy="448920"/>
          </a:xfrm>
          <a:custGeom>
            <a:avLst/>
            <a:gdLst>
              <a:gd name="textAreaLeft" fmla="*/ 0 w 433440"/>
              <a:gd name="textAreaRight" fmla="*/ 433800 w 43344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56520" y="5373720"/>
            <a:ext cx="117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上网助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造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34080" y="5572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1000" y="4365720"/>
            <a:ext cx="117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24080" y="4365720"/>
            <a:ext cx="10908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38760" y="4365720"/>
            <a:ext cx="12477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正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4564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92640" y="45100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67360" y="4365720"/>
            <a:ext cx="11718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3480" y="4510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8560" y="3357720"/>
            <a:ext cx="11365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92880" y="357336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2880" y="256536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51840" y="14842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92880" y="450864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83480" y="551664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18560" y="2349360"/>
            <a:ext cx="11365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77160" y="1341360"/>
            <a:ext cx="11365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18560" y="4365720"/>
            <a:ext cx="117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07360" y="5373720"/>
            <a:ext cx="117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2C00-3879-4F18-B4B8-14C70A924469}" type="slidenum">
              <a:t>13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35120" y="1197000"/>
            <a:ext cx="6162840" cy="487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六、确认要因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506680" y="1197000"/>
            <a:ext cx="6218280" cy="49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362320" y="1557360"/>
            <a:ext cx="6483240" cy="3057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2360520" y="1557360"/>
            <a:ext cx="6840720" cy="36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72880" y="2781360"/>
            <a:ext cx="1368720" cy="1727280"/>
          </a:xfrm>
          <a:custGeom>
            <a:avLst/>
            <a:gdLst>
              <a:gd name="textAreaLeft" fmla="*/ 66600 w 1368720"/>
              <a:gd name="textAreaRight" fmla="*/ 1302120 w 1368720"/>
              <a:gd name="textAreaTop" fmla="*/ 66600 h 1727280"/>
              <a:gd name="textAreaBottom" fmla="*/ 1660680 h 1727280"/>
            </a:gdLst>
            <a:ahLst/>
            <a:rect l="textAreaLeft" t="textAreaTop" r="textAreaRight" b="textAreaBottom"/>
            <a:pathLst>
              <a:path w="21600" h="27257">
                <a:moveTo>
                  <a:pt x="3600" y="0"/>
                </a:moveTo>
                <a:arcTo wR="3600" hR="3600" stAng="16200000" swAng="-5400000"/>
                <a:lnTo>
                  <a:pt x="0" y="23657"/>
                </a:lnTo>
                <a:arcTo wR="3600" hR="3600" stAng="10800000" swAng="-5400000"/>
                <a:lnTo>
                  <a:pt x="18000" y="27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上网助手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软件修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截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3980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9591-DCD9-4231-BA02-83739AE27A10}" type="slidenum">
              <a:t>14</a:t>
            </a:fld>
          </a:p>
        </p:txBody>
      </p:sp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7" name=""/>
          <p:cNvCxnSpPr/>
          <p:nvPr/>
        </p:nvCxnSpPr>
        <p:spPr>
          <a:xfrm flipH="1" rot="16200000">
            <a:off x="5073480" y="1231560"/>
            <a:ext cx="2160" cy="6984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4952880" y="42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七、实施对策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70" name=""/>
          <p:cNvSpPr/>
          <p:nvPr/>
        </p:nvSpPr>
        <p:spPr>
          <a:xfrm>
            <a:off x="507960" y="1411200"/>
            <a:ext cx="226080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上网助手造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被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59000" y="1411200"/>
            <a:ext cx="187344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卸载上网助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83480" y="1409760"/>
            <a:ext cx="1638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恢复正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68760" y="18432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32440" y="18432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97160" y="3357720"/>
            <a:ext cx="16369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出现新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51240" y="4724280"/>
            <a:ext cx="163692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78160" y="4724280"/>
            <a:ext cx="163836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E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得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保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1000" y="4724280"/>
            <a:ext cx="179532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恶意代码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21240" y="1409760"/>
            <a:ext cx="1871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新覆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92880" y="184320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22880" y="4724280"/>
            <a:ext cx="163692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软件捆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94520" y="4724280"/>
            <a:ext cx="163836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强制安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952880" y="2276640"/>
            <a:ext cx="3510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3E9E-D679-4CC7-9578-297B19BC39C8}" type="slidenum">
              <a:t>15</a:t>
            </a:fld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八、重新确认要因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85" name=""/>
          <p:cNvSpPr/>
          <p:nvPr/>
        </p:nvSpPr>
        <p:spPr>
          <a:xfrm>
            <a:off x="5500800" y="1339920"/>
            <a:ext cx="19494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查找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说明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02440" y="2635200"/>
            <a:ext cx="27288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9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修改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参数绕过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45120" y="3933720"/>
            <a:ext cx="296568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9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设置网络参数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2000/Win XP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12880" y="3932280"/>
            <a:ext cx="2573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2000/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网络参数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1440" y="5300640"/>
            <a:ext cx="26528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找到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2000/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网络参数修改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95520" y="5300640"/>
            <a:ext cx="31179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DNS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域后缀”中输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h.zpepc.com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80400" y="5300640"/>
            <a:ext cx="26542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ulim"/>
                <a:ea typeface="黑体"/>
              </a:rPr>
              <a:t>解决问题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主要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ulim"/>
                <a:ea typeface="黑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根本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59000" y="1341360"/>
            <a:ext cx="148140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咨询厂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1240" y="1341360"/>
            <a:ext cx="148140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c981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咨询其他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2440" y="2635200"/>
            <a:ext cx="14810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c981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无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2880" y="2635200"/>
            <a:ext cx="14814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覆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2880" y="2205000"/>
            <a:ext cx="70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82880" y="2205000"/>
            <a:ext cx="70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69000" y="2205000"/>
            <a:ext cx="70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2796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186160" y="4365720"/>
            <a:ext cx="85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363680" y="4365720"/>
            <a:ext cx="12492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5720" y="573408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3480" y="573408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6453-976E-468E-B4A0-74221EDBB8B6}" type="slidenum">
              <a:t>16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九、实施对策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61680" y="191628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我们对所有安装有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的计算机，进行网络参数修改，即都增加了一行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jh.zpepc.com.cn”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后缀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22880" y="3429000"/>
            <a:ext cx="2789280" cy="26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65FB-E269-498C-8840-086BEA48EFD7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九、实施对策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X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添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jh.zpepc.com.cn”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后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具体方法为：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桌面上鼠标右击“网上邻居”图标—属性—本地连接—属性—选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协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TCP/IP)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属性—高级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选“附加这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缀（按顺序）—添加—在“域后缀”中输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h.zpepc.com.cn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857240" y="4726080"/>
            <a:ext cx="11210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6176520" y="4869000"/>
            <a:ext cx="2381760" cy="1293840"/>
            <a:chOff x="6176520" y="4869000"/>
            <a:chExt cx="2381760" cy="1293840"/>
          </a:xfrm>
        </p:grpSpPr>
        <p:sp>
          <p:nvSpPr>
            <p:cNvPr id="311" name="Puzzle3"/>
            <p:cNvSpPr/>
            <p:nvPr/>
          </p:nvSpPr>
          <p:spPr>
            <a:xfrm flipH="1">
              <a:off x="6342120" y="4869000"/>
              <a:ext cx="542880" cy="6850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uzzle2"/>
            <p:cNvSpPr/>
            <p:nvPr/>
          </p:nvSpPr>
          <p:spPr>
            <a:xfrm flipH="1">
              <a:off x="6176160" y="5368680"/>
              <a:ext cx="866520" cy="624600"/>
            </a:xfrm>
            <a:prstGeom prst="pie">
              <a:avLst/>
            </a:prstGeom>
            <a:solidFill>
              <a:srgbClr val="7067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Puzzle4"/>
            <p:cNvSpPr/>
            <p:nvPr/>
          </p:nvSpPr>
          <p:spPr>
            <a:xfrm flipH="1">
              <a:off x="6856200" y="5360400"/>
              <a:ext cx="522720" cy="798120"/>
            </a:xfrm>
            <a:prstGeom prst="pie">
              <a:avLst/>
            </a:prstGeom>
            <a:solidFill>
              <a:srgbClr val="8e8e9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Puzzle1"/>
            <p:cNvSpPr/>
            <p:nvPr/>
          </p:nvSpPr>
          <p:spPr>
            <a:xfrm flipH="1">
              <a:off x="6680520" y="5075280"/>
              <a:ext cx="877680" cy="476640"/>
            </a:xfrm>
            <a:prstGeom prst="pie">
              <a:avLst/>
            </a:prstGeom>
            <a:solidFill>
              <a:srgbClr val="47b0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Puzzle3"/>
            <p:cNvSpPr/>
            <p:nvPr/>
          </p:nvSpPr>
          <p:spPr>
            <a:xfrm flipH="1">
              <a:off x="7341840" y="4869000"/>
              <a:ext cx="542880" cy="6850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Puzzle2"/>
            <p:cNvSpPr/>
            <p:nvPr/>
          </p:nvSpPr>
          <p:spPr>
            <a:xfrm flipH="1">
              <a:off x="7175880" y="5368680"/>
              <a:ext cx="866520" cy="624600"/>
            </a:xfrm>
            <a:prstGeom prst="pie">
              <a:avLst/>
            </a:prstGeom>
            <a:solidFill>
              <a:srgbClr val="7067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Puzzle4"/>
            <p:cNvSpPr/>
            <p:nvPr/>
          </p:nvSpPr>
          <p:spPr>
            <a:xfrm flipH="1">
              <a:off x="7854840" y="5364720"/>
              <a:ext cx="523080" cy="798120"/>
            </a:xfrm>
            <a:prstGeom prst="pie">
              <a:avLst/>
            </a:prstGeom>
            <a:solidFill>
              <a:srgbClr val="8e8e9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Puzzle1"/>
            <p:cNvSpPr/>
            <p:nvPr/>
          </p:nvSpPr>
          <p:spPr>
            <a:xfrm flipH="1">
              <a:off x="7680600" y="5075280"/>
              <a:ext cx="877680" cy="476640"/>
            </a:xfrm>
            <a:prstGeom prst="pie">
              <a:avLst/>
            </a:prstGeom>
            <a:solidFill>
              <a:srgbClr val="47b0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1C9F-6CB8-4F39-9F61-D5626CCE4C5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十、检查效果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09840" y="1557360"/>
            <a:ext cx="428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XP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中进行测试，结果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件还原为系统默认值的情况下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仍然能正常使用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07960" y="1736640"/>
            <a:ext cx="4168800" cy="4572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430280" y="12366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为网络参数修改后的截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826320" y="4581360"/>
            <a:ext cx="2311200" cy="18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0B26-FFF5-4FF6-9C9E-58FE16E223EC}" type="slidenum">
              <a:t>19</a:t>
            </a:fld>
          </a:p>
        </p:txBody>
      </p:sp>
    </p:spTree>
  </p:cSld>
  <p:transition>
    <p:random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一、小组概况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07960" y="1413000"/>
          <a:ext cx="8915400" cy="4538520"/>
        </p:xfrm>
        <a:graphic>
          <a:graphicData uri="http://schemas.openxmlformats.org/drawingml/2006/table">
            <a:tbl>
              <a:tblPr/>
              <a:tblGrid>
                <a:gridCol w="934920"/>
                <a:gridCol w="517680"/>
                <a:gridCol w="1122480"/>
                <a:gridCol w="304560"/>
                <a:gridCol w="1089000"/>
                <a:gridCol w="1490760"/>
                <a:gridCol w="787320"/>
                <a:gridCol w="695520"/>
                <a:gridCol w="1973160"/>
              </a:tblGrid>
              <a:tr h="527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469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县供电局信息中心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QC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成立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服务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</a:tr>
              <a:tr h="92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册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培训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登记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PAQC-2006-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</a:tr>
              <a:tr h="947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课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Gulim"/>
                          <a:ea typeface="黑体"/>
                        </a:rPr>
                        <a:t>降低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osts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Gulim"/>
                          <a:ea typeface="黑体"/>
                        </a:rPr>
                        <a:t>文件引起的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OA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Gulim"/>
                          <a:ea typeface="黑体"/>
                        </a:rPr>
                        <a:t>系统故障发生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情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成员参加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------200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D7AD-56B8-4CE7-99CD-21594A78F2B6}" type="slidenum">
              <a:t>2</a:t>
            </a:fld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十、检查效果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84280" y="1628640"/>
            <a:ext cx="80359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在对局所有计算机网络参数进行修改后，至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月底，全局没有发现由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Hosts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文件引起的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OA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系统不能正常运行的事件。</a:t>
            </a:r>
            <a:endParaRPr b="1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278400" y="3916440"/>
            <a:ext cx="159876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F821-412D-4E9D-84BC-116C5E921D96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十、检查效果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2240" y="2374920"/>
          <a:ext cx="702144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2374920"/>
                    <a:ext cx="702144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186520" y="1628640"/>
            <a:ext cx="1196640" cy="9525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2846520" y="2852640"/>
            <a:ext cx="6654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67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4140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目标实现了！</a:t>
            </a:r>
            <a:endParaRPr b="1" lang="en-US" sz="9600" spc="1" strike="noStrike">
              <a:ln w="4140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BE3C-FF9C-425A-88C6-E87FE026D058}" type="slidenum">
              <a:t>21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91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，发生两起部分用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系统不能进入的事件，当时测试至省局网络通讯不通畅，而到金华局网络通讯正常。到省局网络通讯正常后，用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系统恢复正常使用。因此类故障属于范围外网络通讯故障，故不计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系统故障之内，和我们设定的目标没有冲突。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30D0-100D-461E-85A8-4E5CFEC534C8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857240" y="1989000"/>
            <a:ext cx="5472360" cy="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57960" y="2276640"/>
            <a:ext cx="0" cy="237636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 rot="5400000">
            <a:off x="7129800" y="2078640"/>
            <a:ext cx="288720" cy="252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6663960" y="4292640"/>
            <a:ext cx="1375200" cy="1887480"/>
            <a:chOff x="6663960" y="4292640"/>
            <a:chExt cx="1375200" cy="1887480"/>
          </a:xfrm>
        </p:grpSpPr>
        <p:graphicFrame>
          <p:nvGraphicFramePr>
            <p:cNvPr id="341" name=""/>
            <p:cNvGraphicFramePr/>
            <p:nvPr/>
          </p:nvGraphicFramePr>
          <p:xfrm>
            <a:off x="6821280" y="4292640"/>
            <a:ext cx="1057320" cy="1440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21280" y="4292640"/>
                      <a:ext cx="105732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3" name=""/>
            <p:cNvSpPr/>
            <p:nvPr/>
          </p:nvSpPr>
          <p:spPr>
            <a:xfrm>
              <a:off x="6663960" y="5811840"/>
              <a:ext cx="137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537240" y="1557360"/>
            <a:ext cx="2814840" cy="846000"/>
            <a:chOff x="6537240" y="1557360"/>
            <a:chExt cx="2814840" cy="846000"/>
          </a:xfrm>
        </p:grpSpPr>
        <p:sp>
          <p:nvSpPr>
            <p:cNvPr id="345" name=""/>
            <p:cNvSpPr/>
            <p:nvPr/>
          </p:nvSpPr>
          <p:spPr>
            <a:xfrm>
              <a:off x="8348400" y="1773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网络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6537240" y="1557360"/>
              <a:ext cx="1440000" cy="84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864360" y="1647720"/>
            <a:ext cx="1064520" cy="1495440"/>
            <a:chOff x="864360" y="1647720"/>
            <a:chExt cx="1064520" cy="1495440"/>
          </a:xfrm>
        </p:grpSpPr>
        <p:pic>
          <p:nvPicPr>
            <p:cNvPr id="348" name="" descr=""/>
            <p:cNvPicPr/>
            <p:nvPr/>
          </p:nvPicPr>
          <p:blipFill>
            <a:blip r:embed="rId7"/>
            <a:stretch/>
          </p:blipFill>
          <p:spPr>
            <a:xfrm>
              <a:off x="1096920" y="1647720"/>
              <a:ext cx="8319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64360" y="277488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客户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144440" y="4435560"/>
            <a:ext cx="2938680" cy="98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7fb"/>
              </a:gs>
              <a:gs pos="50000">
                <a:srgbClr val="ffffff"/>
              </a:gs>
              <a:gs pos="100000">
                <a:srgbClr val="a3c7fb"/>
              </a:gs>
            </a:gsLst>
            <a:lin ang="5400000"/>
          </a:gradFill>
          <a:ln w="3816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通过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方式连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57C7-7718-4873-A3CD-9EA6C96AEF88}" type="slidenum">
              <a:t>23</a:t>
            </a:fld>
          </a:p>
        </p:txBody>
      </p:sp>
    </p:spTree>
  </p:cSld>
  <p:transition>
    <p:random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986E-006 -9.82659E-007 L 0.58847 -9.82659E-007 E">
                                      <p:cBhvr>
                                        <p:cTn id="79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3443E-006 -0.0148 L 3.03443E-006 0.34613 E">
                                      <p:cBhvr>
                                        <p:cTn id="801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flipH="1">
            <a:off x="4952520" y="2133720"/>
            <a:ext cx="2087640" cy="136656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57240" y="1989000"/>
            <a:ext cx="5472360" cy="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57960" y="2276640"/>
            <a:ext cx="0" cy="237636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 rot="5400000">
            <a:off x="7129800" y="2078640"/>
            <a:ext cx="288720" cy="2523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 rot="16200000">
            <a:off x="7130160" y="4526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 rot="10800000">
            <a:off x="6896160" y="184428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 rot="10800000">
            <a:off x="6824160" y="1844280"/>
            <a:ext cx="289080" cy="252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 rot="8400000">
            <a:off x="7112880" y="1844280"/>
            <a:ext cx="289080" cy="25236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3882600" y="2781360"/>
            <a:ext cx="1375200" cy="1887480"/>
            <a:chOff x="3882600" y="2781360"/>
            <a:chExt cx="1375200" cy="1887480"/>
          </a:xfrm>
        </p:grpSpPr>
        <p:graphicFrame>
          <p:nvGraphicFramePr>
            <p:cNvPr id="363" name=""/>
            <p:cNvGraphicFramePr/>
            <p:nvPr/>
          </p:nvGraphicFramePr>
          <p:xfrm>
            <a:off x="4039920" y="2781360"/>
            <a:ext cx="1057320" cy="144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039920" y="2781360"/>
                      <a:ext cx="105732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" name=""/>
            <p:cNvSpPr/>
            <p:nvPr/>
          </p:nvSpPr>
          <p:spPr>
            <a:xfrm>
              <a:off x="3882600" y="4300560"/>
              <a:ext cx="137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537240" y="1484280"/>
            <a:ext cx="2814840" cy="846000"/>
            <a:chOff x="6537240" y="1484280"/>
            <a:chExt cx="2814840" cy="846000"/>
          </a:xfrm>
        </p:grpSpPr>
        <p:sp>
          <p:nvSpPr>
            <p:cNvPr id="367" name=""/>
            <p:cNvSpPr/>
            <p:nvPr/>
          </p:nvSpPr>
          <p:spPr>
            <a:xfrm>
              <a:off x="8348400" y="1700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网络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0"/>
            <a:stretch/>
          </p:blipFill>
          <p:spPr>
            <a:xfrm>
              <a:off x="6537240" y="1484280"/>
              <a:ext cx="1440000" cy="84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6227280" y="4365720"/>
            <a:ext cx="2473920" cy="2025720"/>
            <a:chOff x="6227280" y="4365720"/>
            <a:chExt cx="2473920" cy="2025720"/>
          </a:xfrm>
        </p:grpSpPr>
        <p:pic>
          <p:nvPicPr>
            <p:cNvPr id="370" name="" descr=""/>
            <p:cNvPicPr/>
            <p:nvPr/>
          </p:nvPicPr>
          <p:blipFill>
            <a:blip r:embed="rId11"/>
            <a:stretch/>
          </p:blipFill>
          <p:spPr>
            <a:xfrm>
              <a:off x="6448320" y="4365720"/>
              <a:ext cx="1973520" cy="15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227280" y="6023160"/>
              <a:ext cx="247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省局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omino DNS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865800" y="1700280"/>
            <a:ext cx="1064160" cy="1495440"/>
            <a:chOff x="865800" y="1700280"/>
            <a:chExt cx="1064160" cy="1495440"/>
          </a:xfrm>
        </p:grpSpPr>
        <p:pic>
          <p:nvPicPr>
            <p:cNvPr id="373" name="" descr=""/>
            <p:cNvPicPr/>
            <p:nvPr/>
          </p:nvPicPr>
          <p:blipFill>
            <a:blip r:embed="rId12"/>
            <a:stretch/>
          </p:blipFill>
          <p:spPr>
            <a:xfrm>
              <a:off x="1098360" y="1700280"/>
              <a:ext cx="8316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865800" y="282744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客户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92160" y="5011560"/>
            <a:ext cx="2938320" cy="54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7fb"/>
              </a:gs>
              <a:gs pos="50000">
                <a:srgbClr val="ffffff"/>
              </a:gs>
              <a:gs pos="100000">
                <a:srgbClr val="a3c7fb"/>
              </a:gs>
            </a:gsLst>
            <a:lin ang="5400000"/>
          </a:gradFill>
          <a:ln w="3816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通过域名解析方式连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79C0-0C8D-4A09-9DFC-25F33679B71E}" type="slidenum">
              <a:t>24</a:t>
            </a:fld>
          </a:p>
        </p:txBody>
      </p:sp>
    </p:spTree>
  </p:cSld>
  <p:transition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986E-006 -9.82659E-007 L 0.58847 -9.82659E-007 E">
                                      <p:cBhvr>
                                        <p:cTn id="807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3443E-006 -0.0148 L 3.03443E-006 0.34613 E">
                                      <p:cBhvr>
                                        <p:cTn id="81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98 E">
                                      <p:cBhvr>
                                        <p:cTn id="815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6557E-007 4.04624E-006 L -0.54059 4.04624E-006 E">
                                      <p:cBhvr>
                                        <p:cTn id="8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986E-006 -9.82659E-007 L 0.58847 -9.82659E-007 E">
                                      <p:cBhvr>
                                        <p:cTn id="82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1318 L -0.27607 0.26497 E">
                                      <p:cBhvr>
                                        <p:cTn id="827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虽然金华局至省局网络通讯异常的情况发生机率相当低，但为了保证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运行的可靠性，我们还不能摒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件覆盖原先相当繁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WinX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我们要打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C:\windows\system32\drivers\et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覆盖文件。从打开我的电脑开始算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需要执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项操作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我们又对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覆盖方式进行了改良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27C0-11A0-4915-9394-7D71D0936A33}" type="slidenum">
              <a:t>25</a:t>
            </a:fld>
          </a:p>
        </p:txBody>
      </p:sp>
    </p:spTree>
  </p:cSld>
  <p:transition>
    <p:random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81200" y="1811160"/>
            <a:ext cx="1508040" cy="681120"/>
          </a:xfrm>
          <a:gradFill rotWithShape="0">
            <a:gsLst>
              <a:gs pos="0">
                <a:srgbClr val="fefefe"/>
              </a:gs>
              <a:gs pos="100000">
                <a:srgbClr val="bcd6fc"/>
              </a:gs>
            </a:gsLst>
            <a:lin ang="5400000"/>
          </a:gra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自解压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3040" y="5256360"/>
            <a:ext cx="2571840" cy="609480"/>
          </a:xfrm>
          <a:gradFill rotWithShape="0">
            <a:gsLst>
              <a:gs pos="0">
                <a:srgbClr val="fefcf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只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步就能完成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的覆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024520" y="1628640"/>
            <a:ext cx="3600360" cy="2664000"/>
          </a:xfrm>
          <a:prstGeom prst="rect">
            <a:avLst/>
          </a:prstGeom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920880" y="2671920"/>
            <a:ext cx="723600" cy="6858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D82D-66AC-4F46-8B1B-5D233C4992FA}" type="slidenum">
              <a:t>26</a:t>
            </a:fld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7960" y="1699920"/>
            <a:ext cx="8034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这样，我们以修改网络参数为主，以简单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覆盖方法为辅，更高地提高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运行的可靠性，降低或杜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引起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故障发生率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967360" y="3780000"/>
            <a:ext cx="197172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7CF5-DFF6-4FF7-A5C1-E0D0E49FA7A0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二、</a:t>
            </a: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体会总结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0640" y="1915920"/>
            <a:ext cx="8915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通过此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Q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活动，我们体会到：随着计算机信息技术的发展，要求我们不能循规蹈矩，要不断的开拓创新、采用新思路、新方法，来解决问题，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才能更好地为大家服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066760" y="4149720"/>
            <a:ext cx="1924200" cy="1630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122880" y="3860640"/>
            <a:ext cx="316728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C677-9D65-483E-BBB9-B91D267F2383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99061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Gulim"/>
                <a:ea typeface="隶书"/>
              </a:rPr>
              <a:t>谢  谢</a:t>
            </a:r>
            <a:endParaRPr b="1" lang="en-US" sz="9600" spc="-1" strike="noStrike">
              <a:solidFill>
                <a:srgbClr val="000000"/>
              </a:solidFill>
              <a:latin typeface="Gulim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3300"/>
                </a:solidFill>
                <a:latin typeface="Gulim"/>
                <a:ea typeface="隶书"/>
              </a:rPr>
              <a:t>请各位领导、专家批评指正</a:t>
            </a:r>
            <a:endParaRPr b="1" lang="en-US" sz="5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1A86-7CEE-4057-94B5-1407D7A5B9C2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小组成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2760" y="1798560"/>
          <a:ext cx="8915400" cy="3502080"/>
        </p:xfrm>
        <a:graphic>
          <a:graphicData uri="http://schemas.openxmlformats.org/drawingml/2006/table">
            <a:tbl>
              <a:tblPr/>
              <a:tblGrid>
                <a:gridCol w="892080"/>
                <a:gridCol w="1427040"/>
                <a:gridCol w="879480"/>
                <a:gridCol w="903240"/>
                <a:gridCol w="1425600"/>
                <a:gridCol w="1784520"/>
                <a:gridCol w="1603440"/>
              </a:tblGrid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性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文化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职务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职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内分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主任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级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    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全面负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网络管理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实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级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资料收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级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实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    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A20F-A288-405F-8D3B-7177E2CD4956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819000" y="4365720"/>
            <a:ext cx="2921400" cy="934920"/>
            <a:chOff x="819000" y="4365720"/>
            <a:chExt cx="2921400" cy="934920"/>
          </a:xfrm>
        </p:grpSpPr>
        <p:grpSp>
          <p:nvGrpSpPr>
            <p:cNvPr id="116" name=""/>
            <p:cNvGrpSpPr/>
            <p:nvPr/>
          </p:nvGrpSpPr>
          <p:grpSpPr>
            <a:xfrm>
              <a:off x="934560" y="4365720"/>
              <a:ext cx="2805840" cy="381960"/>
              <a:chOff x="934560" y="4365720"/>
              <a:chExt cx="2805840" cy="381960"/>
            </a:xfrm>
          </p:grpSpPr>
          <p:sp>
            <p:nvSpPr>
              <p:cNvPr id="117" name=""/>
              <p:cNvSpPr/>
              <p:nvPr/>
            </p:nvSpPr>
            <p:spPr>
              <a:xfrm>
                <a:off x="2456640" y="4365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119" idx="2"/>
                <a:endCxn id="120" idx="2"/>
              </p:cNvCxnSpPr>
              <p:nvPr/>
            </p:nvCxnSpPr>
            <p:spPr>
              <a:xfrm flipH="1" rot="16200000">
                <a:off x="2336400" y="3034800"/>
                <a:ext cx="2520" cy="280620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1" name=""/>
            <p:cNvSpPr/>
            <p:nvPr/>
          </p:nvSpPr>
          <p:spPr>
            <a:xfrm flipH="1">
              <a:off x="819000" y="4673520"/>
              <a:ext cx="16380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二、选题理由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23" name=""/>
          <p:cNvSpPr/>
          <p:nvPr/>
        </p:nvSpPr>
        <p:spPr>
          <a:xfrm>
            <a:off x="193680" y="1484280"/>
            <a:ext cx="4135320" cy="649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引起的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系统故障频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0" y="5300640"/>
            <a:ext cx="5068800" cy="649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4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降低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引起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系统故障发生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1268280"/>
            <a:ext cx="4759200" cy="3816360"/>
            <a:chOff x="4952880" y="1268280"/>
            <a:chExt cx="4759200" cy="3816360"/>
          </a:xfrm>
        </p:grpSpPr>
        <p:grpSp>
          <p:nvGrpSpPr>
            <p:cNvPr id="126" name=""/>
            <p:cNvGrpSpPr/>
            <p:nvPr/>
          </p:nvGrpSpPr>
          <p:grpSpPr>
            <a:xfrm>
              <a:off x="4952880" y="1282680"/>
              <a:ext cx="4719240" cy="3660840"/>
              <a:chOff x="4952880" y="1282680"/>
              <a:chExt cx="4719240" cy="366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5329440" y="1282680"/>
                <a:ext cx="3501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buClr>
                    <a:srgbClr val="000000"/>
                  </a:buClr>
                  <a:buFont typeface="黑体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抽查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05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年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、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OA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类维护记录统计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8" name=""/>
              <p:cNvGraphicFramePr/>
              <p:nvPr/>
            </p:nvGraphicFramePr>
            <p:xfrm>
              <a:off x="4952880" y="1628640"/>
              <a:ext cx="4680000" cy="3168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52880" y="1628640"/>
                        <a:ext cx="468000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0" name=""/>
              <p:cNvSpPr/>
              <p:nvPr/>
            </p:nvSpPr>
            <p:spPr>
              <a:xfrm>
                <a:off x="5109120" y="4621320"/>
                <a:ext cx="45630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Hosts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文件引起的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OA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系统故障占到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OA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维护量的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53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952880" y="1268280"/>
              <a:ext cx="4759200" cy="381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06760" y="1700280"/>
            <a:ext cx="466920" cy="216000"/>
          </a:xfrm>
          <a:prstGeom prst="rightArrow">
            <a:avLst>
              <a:gd name="adj1" fmla="val 50000"/>
              <a:gd name="adj2" fmla="val 54042"/>
            </a:avLst>
          </a:prstGeom>
          <a:solidFill>
            <a:srgbClr val="4a90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07960" y="2852640"/>
            <a:ext cx="3661920" cy="1584360"/>
            <a:chOff x="507960" y="2852640"/>
            <a:chExt cx="3661920" cy="1584360"/>
          </a:xfrm>
        </p:grpSpPr>
        <p:sp>
          <p:nvSpPr>
            <p:cNvPr id="119" name=""/>
            <p:cNvSpPr/>
            <p:nvPr/>
          </p:nvSpPr>
          <p:spPr>
            <a:xfrm>
              <a:off x="507960" y="2852640"/>
              <a:ext cx="856080" cy="158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a90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运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9720" y="2852640"/>
              <a:ext cx="856080" cy="158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a90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护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骤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增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13800" y="2852640"/>
              <a:ext cx="856080" cy="158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a90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用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投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95320" y="2276640"/>
            <a:ext cx="2964960" cy="431640"/>
            <a:chOff x="895320" y="2276640"/>
            <a:chExt cx="2964960" cy="431640"/>
          </a:xfrm>
        </p:grpSpPr>
        <p:sp>
          <p:nvSpPr>
            <p:cNvPr id="136" name=""/>
            <p:cNvSpPr/>
            <p:nvPr/>
          </p:nvSpPr>
          <p:spPr>
            <a:xfrm>
              <a:off x="895320" y="2276640"/>
              <a:ext cx="234000" cy="431640"/>
            </a:xfrm>
            <a:prstGeom prst="downArrow">
              <a:avLst>
                <a:gd name="adj1" fmla="val 50000"/>
                <a:gd name="adj2" fmla="val 46115"/>
              </a:avLst>
            </a:prstGeom>
            <a:solidFill>
              <a:srgbClr val="4a9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00400" y="2276640"/>
              <a:ext cx="234000" cy="431640"/>
            </a:xfrm>
            <a:prstGeom prst="downArrow">
              <a:avLst>
                <a:gd name="adj1" fmla="val 50000"/>
                <a:gd name="adj2" fmla="val 46115"/>
              </a:avLst>
            </a:prstGeom>
            <a:solidFill>
              <a:srgbClr val="4a9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26280" y="2276640"/>
              <a:ext cx="234000" cy="431640"/>
            </a:xfrm>
            <a:prstGeom prst="downArrow">
              <a:avLst>
                <a:gd name="adj1" fmla="val 50000"/>
                <a:gd name="adj2" fmla="val 46115"/>
              </a:avLst>
            </a:prstGeom>
            <a:solidFill>
              <a:srgbClr val="4a9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457360" y="5300640"/>
            <a:ext cx="1403280" cy="649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4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组选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38760" y="5445000"/>
            <a:ext cx="701640" cy="289080"/>
          </a:xfrm>
          <a:prstGeom prst="rightArrow">
            <a:avLst>
              <a:gd name="adj1" fmla="val 50000"/>
              <a:gd name="adj2" fmla="val 6067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3680" y="5300640"/>
            <a:ext cx="1403280" cy="649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4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部门解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问题的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445000"/>
            <a:ext cx="701640" cy="289080"/>
          </a:xfrm>
          <a:prstGeom prst="rightArrow">
            <a:avLst>
              <a:gd name="adj1" fmla="val 50000"/>
              <a:gd name="adj2" fmla="val 6067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8520-4163-443F-A846-1317A6BADEBB}" type="slidenum">
              <a:t>4</a:t>
            </a:fld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5160" y="1773360"/>
            <a:ext cx="39387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200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全年计算机维护初步统计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中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系统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31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电力行业软件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267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操作系统类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21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它类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17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017960" y="1413000"/>
          <a:ext cx="561672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1413000"/>
                    <a:ext cx="561672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5680" y="5157720"/>
            <a:ext cx="9691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从上图我们看出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系统维护量占的比重相当高，占总维护量的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3214-5A94-4E38-86B2-B10D67C52738}" type="slidenum">
              <a:t>5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0760" y="1483920"/>
            <a:ext cx="80344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而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系统的维护量中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由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文件被改写所引起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系统故障占到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系统维护量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56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052640" y="2781360"/>
            <a:ext cx="8033760" cy="3289320"/>
            <a:chOff x="1052640" y="2781360"/>
            <a:chExt cx="8033760" cy="3289320"/>
          </a:xfrm>
        </p:grpSpPr>
        <p:graphicFrame>
          <p:nvGraphicFramePr>
            <p:cNvPr id="151" name=""/>
            <p:cNvGraphicFramePr/>
            <p:nvPr/>
          </p:nvGraphicFramePr>
          <p:xfrm>
            <a:off x="1274400" y="2781360"/>
            <a:ext cx="7588440" cy="309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74400" y="2781360"/>
                      <a:ext cx="7588440" cy="3099960"/>
                    </a:xfrm>
                    <a:prstGeom prst="rect">
                      <a:avLst/>
                    </a:prstGeom>
                    <a:ln w="28440">
                      <a:solidFill>
                        <a:srgbClr val="c0c0c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1052640" y="5702400"/>
              <a:ext cx="8033760" cy="368280"/>
            </a:xfrm>
            <a:prstGeom prst="rect">
              <a:avLst/>
            </a:prstGeom>
            <a:gradFill rotWithShape="0">
              <a:gsLst>
                <a:gs pos="0">
                  <a:srgbClr val="fefecf"/>
                </a:gs>
                <a:gs pos="100000">
                  <a:srgbClr val="ffffcc"/>
                </a:gs>
              </a:gsLst>
              <a:lin ang="54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制表时间：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年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月                                          制表人：黄晖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6DBD-088E-4BA9-9CFF-85BDC56AD177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55" name=""/>
          <p:cNvSpPr/>
          <p:nvPr/>
        </p:nvSpPr>
        <p:spPr>
          <a:xfrm>
            <a:off x="2855880" y="2867040"/>
            <a:ext cx="15685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90440" y="1492920"/>
            <a:ext cx="3840840" cy="2696760"/>
            <a:chOff x="2890440" y="1492920"/>
            <a:chExt cx="3840840" cy="2696760"/>
          </a:xfrm>
        </p:grpSpPr>
        <p:sp>
          <p:nvSpPr>
            <p:cNvPr id="157" name=""/>
            <p:cNvSpPr/>
            <p:nvPr/>
          </p:nvSpPr>
          <p:spPr>
            <a:xfrm rot="12600000">
              <a:off x="2936520" y="3236400"/>
              <a:ext cx="1560600" cy="603360"/>
            </a:xfrm>
            <a:prstGeom prst="triangle">
              <a:avLst>
                <a:gd name="adj" fmla="val 50000"/>
              </a:avLst>
            </a:prstGeom>
            <a:solidFill>
              <a:srgbClr val="70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425400" y="1492920"/>
              <a:ext cx="3305880" cy="2481840"/>
              <a:chOff x="3425400" y="1492920"/>
              <a:chExt cx="3305880" cy="2481840"/>
            </a:xfrm>
          </p:grpSpPr>
          <p:sp>
            <p:nvSpPr>
              <p:cNvPr id="159" name=""/>
              <p:cNvSpPr/>
              <p:nvPr/>
            </p:nvSpPr>
            <p:spPr>
              <a:xfrm rot="7200000">
                <a:off x="4735800" y="1701000"/>
                <a:ext cx="1365480" cy="224316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67af"/>
                  </a:gs>
                  <a:gs pos="100000">
                    <a:srgbClr val="332f5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7200000">
                <a:off x="3426840" y="2408040"/>
                <a:ext cx="1504800" cy="8730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7200000">
                <a:off x="4528440" y="145368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4174560" y="2327400"/>
            <a:ext cx="2931120" cy="3477240"/>
            <a:chOff x="4174560" y="2327400"/>
            <a:chExt cx="2931120" cy="3477240"/>
          </a:xfrm>
        </p:grpSpPr>
        <p:sp>
          <p:nvSpPr>
            <p:cNvPr id="163" name=""/>
            <p:cNvSpPr/>
            <p:nvPr/>
          </p:nvSpPr>
          <p:spPr>
            <a:xfrm rot="19800000">
              <a:off x="4902840" y="2676240"/>
              <a:ext cx="1558080" cy="603000"/>
            </a:xfrm>
            <a:prstGeom prst="triangle">
              <a:avLst>
                <a:gd name="adj" fmla="val 50000"/>
              </a:avLst>
            </a:prstGeom>
            <a:solidFill>
              <a:srgbClr val="c6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174560" y="2805120"/>
              <a:ext cx="2931120" cy="2999520"/>
              <a:chOff x="4174560" y="2805120"/>
              <a:chExt cx="2931120" cy="2999520"/>
            </a:xfrm>
          </p:grpSpPr>
          <p:sp>
            <p:nvSpPr>
              <p:cNvPr id="165" name=""/>
              <p:cNvSpPr/>
              <p:nvPr/>
            </p:nvSpPr>
            <p:spPr>
              <a:xfrm rot="14400000">
                <a:off x="4804560" y="3530880"/>
                <a:ext cx="1365120" cy="224316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8dff"/>
                  </a:gs>
                  <a:gs pos="100000">
                    <a:srgbClr val="5b4075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356440" y="2805120"/>
                <a:ext cx="1749240" cy="2335680"/>
                <a:chOff x="5356440" y="2805120"/>
                <a:chExt cx="1749240" cy="2335680"/>
              </a:xfrm>
            </p:grpSpPr>
            <p:sp>
              <p:nvSpPr>
                <p:cNvPr id="167" name=""/>
                <p:cNvSpPr/>
                <p:nvPr/>
              </p:nvSpPr>
              <p:spPr>
                <a:xfrm rot="14400000">
                  <a:off x="5356800" y="3238920"/>
                  <a:ext cx="1505160" cy="87084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c68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4400000">
                  <a:off x="6158880" y="3977280"/>
                  <a:ext cx="549360" cy="123408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c68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" name=""/>
          <p:cNvGrpSpPr/>
          <p:nvPr/>
        </p:nvGrpSpPr>
        <p:grpSpPr>
          <a:xfrm>
            <a:off x="2847960" y="4071960"/>
            <a:ext cx="2701080" cy="1395000"/>
            <a:chOff x="2847960" y="4071960"/>
            <a:chExt cx="2701080" cy="1395000"/>
          </a:xfrm>
        </p:grpSpPr>
        <p:sp>
          <p:nvSpPr>
            <p:cNvPr id="170" name=""/>
            <p:cNvSpPr/>
            <p:nvPr/>
          </p:nvSpPr>
          <p:spPr>
            <a:xfrm>
              <a:off x="2847960" y="4071960"/>
              <a:ext cx="62928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4510440" y="4428360"/>
              <a:ext cx="1384200" cy="69264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15320" y="4394160"/>
              <a:ext cx="172836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43040" y="479736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覆盖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文件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OA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系统正常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49600" y="134136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被改写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OA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系统不能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81840" y="472428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隔一段时间以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又出现………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1000" y="134136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我们在维护中经常会遇到这种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8525-0F78-47F7-9C05-A6E1CF74E0B9}" type="slidenum">
              <a:t>7</a:t>
            </a:fld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07960" y="1703520"/>
          <a:ext cx="865836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703520"/>
                    <a:ext cx="8658360" cy="3524040"/>
                  </a:xfrm>
                  <a:prstGeom prst="rect">
                    <a:avLst/>
                  </a:prstGeom>
                  <a:ln w="28440">
                    <a:solidFill>
                      <a:srgbClr val="c0c0c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507960" y="5445000"/>
            <a:ext cx="8656560" cy="368280"/>
          </a:xfrm>
          <a:prstGeom prst="rect">
            <a:avLst/>
          </a:prstGeom>
          <a:gradFill rotWithShape="0">
            <a:gsLst>
              <a:gs pos="0">
                <a:srgbClr val="fefecf"/>
              </a:gs>
              <a:gs pos="100000">
                <a:srgbClr val="ffffcc"/>
              </a:gs>
            </a:gsLst>
            <a:lin ang="54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制表时间：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2006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月                                          制表人：黄晖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738D-B0E6-4985-9B28-3D732158ADF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ulim"/>
                <a:ea typeface="隶书"/>
              </a:rPr>
              <a:t>结论：</a:t>
            </a:r>
            <a:endParaRPr b="1" lang="en-US" sz="4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</a:rPr>
              <a:t>只要解决其重复发作的问题，此类故障的发生率就能降低。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7396-3ADA-4316-8499-5C6D29DF6BD6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2:14:27Z</dcterms:created>
  <dc:creator>黄晖东</dc:creator>
  <dc:description>QC：降低因Hosts文件所引起OA系统故障的发生率</dc:description>
  <cp:keywords>QC OA Hosts</cp:keywords>
  <dc:language>en-US</dc:language>
  <cp:lastModifiedBy>微软用户</cp:lastModifiedBy>
  <dcterms:modified xsi:type="dcterms:W3CDTF">2009-06-30T13:29:06Z</dcterms:modified>
  <cp:revision>172</cp:revision>
  <dc:subject>降低因Hosts文件所引起OA系统故障的发生率</dc:subject>
  <dc:title>降低因Hosts文件所引起OA系统故障的发生率</dc:title>
</cp:coreProperties>
</file>