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9.jpeg" ContentType="image/jpeg"/>
  <Override PartName="/ppt/media/image21.jpeg" ContentType="image/jpeg"/>
  <Override PartName="/ppt/media/chimes.wav" ContentType="audio/x-wav"/>
  <Override PartName="/ppt/media/camera.wav" ContentType="audio/x-wav"/>
  <Override PartName="/ppt/media/bomb.wav" ContentType="audio/x-wav"/>
  <Override PartName="/ppt/media/image7.jpeg" ContentType="image/jpeg"/>
  <Override PartName="/ppt/media/image11.jpeg" ContentType="image/jpeg"/>
  <Override PartName="/ppt/media/image4.png" ContentType="image/png"/>
  <Override PartName="/ppt/media/image9.jpeg" ContentType="image/jpeg"/>
  <Override PartName="/ppt/media/coin.wav" ContentType="audio/x-wav"/>
  <Override PartName="/ppt/media/image8.jpeg" ContentType="image/jpeg"/>
  <Override PartName="/ppt/media/image10.jpeg" ContentType="image/jpeg"/>
  <Override PartName="/ppt/media/image5.png" ContentType="image/png"/>
  <Override PartName="/ppt/media/image24.jpeg" ContentType="image/jpeg"/>
  <Override PartName="/ppt/media/voltage.wav" ContentType="audio/x-wav"/>
  <Override PartName="/ppt/media/image3.jpeg" ContentType="image/jpeg"/>
  <Override PartName="/ppt/media/image25.jpeg" ContentType="image/jpeg"/>
  <Override PartName="/ppt/media/image26.jpeg" ContentType="image/jpeg"/>
  <Override PartName="/ppt/media/image6.jpeg" ContentType="image/jpeg"/>
  <Override PartName="/ppt/media/wind.wav" ContentType="audio/x-wav"/>
  <Override PartName="/ppt/media/image16.jpeg" ContentType="image/jpeg"/>
  <Override PartName="/ppt/media/image2.jpeg" ContentType="image/jpeg"/>
  <Override PartName="/ppt/media/push.wav" ContentType="audio/x-wav"/>
  <Override PartName="/ppt/media/image1.jpeg" ContentType="image/jpeg"/>
  <Override PartName="/ppt/media/image22.jpeg" ContentType="image/jpeg"/>
  <Override PartName="/ppt/media/image23.jpeg" ContentType="image/jpeg"/>
  <Override PartName="/ppt/media/image12.png" ContentType="image/png"/>
  <Override PartName="/ppt/media/image20.jpeg" ContentType="image/jpeg"/>
  <Override PartName="/ppt/media/image13.png" ContentType="image/png"/>
  <Override PartName="/ppt/media/image14.jpeg" ContentType="image/jpeg"/>
  <Override PartName="/ppt/media/image15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C926-679D-4B9D-B5ED-48962C4F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3C8D-F383-405C-B4C2-C90C517F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16BA-A545-41B3-B4A3-9FAAE086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2684-6D30-48BB-B5CB-CA8470CA7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5F6E-FF32-41B5-9003-0F43FE8A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56E7-7A11-4282-918B-BD181DE2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A932-6A10-4C88-930B-822AFF32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5097-025C-49C9-A177-8DF93D78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8D34-0BA1-4E09-86A2-B8409F92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C39D-0E26-4F6C-A353-CD9DFF89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46B5-0255-4891-AF13-80075011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35CC-FDE0-4192-B851-95E98793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C26D-9AF2-40E6-92AB-FB928D5A7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302,13,&#24187;&#28783;&#29255; 13" TargetMode="External"/><Relationship Id="rId2" Type="http://schemas.openxmlformats.org/officeDocument/2006/relationships/hyperlink" Target="293,17,&#24187;&#28783;&#29255; 17" TargetMode="External"/><Relationship Id="rId3" Type="http://schemas.openxmlformats.org/officeDocument/2006/relationships/hyperlink" Target="292,16,&#24187;&#28783;&#29255; 16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5.jpeg"/><Relationship Id="rId3" Type="http://schemas.openxmlformats.org/officeDocument/2006/relationships/hyperlink" Target="291,13,&#24187;&#28783;&#29255; 13" TargetMode="Externa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&#35753;&#25105;&#20204;&#20877;&#22238;&#21040;&#20174;&#21069;.flv" TargetMode="External"/><Relationship Id="rId3" Type="http://schemas.openxmlformats.org/officeDocument/2006/relationships/hyperlink" Target="267,3,&#24187;&#28783;&#29255; 3" TargetMode="External"/><Relationship Id="rId4" Type="http://schemas.openxmlformats.org/officeDocument/2006/relationships/hyperlink" Target="291,12,&#24187;&#28783;&#29255; 12" TargetMode="External"/><Relationship Id="rId5" Type="http://schemas.openxmlformats.org/officeDocument/2006/relationships/hyperlink" Target="292,15,&#24187;&#28783;&#29255; 15" TargetMode="External"/><Relationship Id="rId6" Type="http://schemas.openxmlformats.org/officeDocument/2006/relationships/hyperlink" Target="&#35753;&#25105;&#20204;&#20877;&#22238;&#21040;&#20174;&#21069;.flv" TargetMode="External"/><Relationship Id="rId7" Type="http://schemas.openxmlformats.org/officeDocument/2006/relationships/hyperlink" Target="298,21,&#24187;&#28783;&#29255; 21" TargetMode="External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&#35753;&#25105;&#20204;&#33633;&#36215;&#21452;&#26728;.mp3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75680" cy="6777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89640" y="404640"/>
            <a:ext cx="257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幼圆"/>
              </a:rPr>
              <a:t>点亮低碳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41560" y="1844640"/>
            <a:ext cx="330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华文琥珀"/>
                <a:ea typeface="华文琥珀"/>
              </a:rPr>
              <a:t>   </a:t>
            </a:r>
            <a:r>
              <a:rPr b="1" lang="zh-CN" sz="7200" spc="-1" strike="noStrike">
                <a:solidFill>
                  <a:srgbClr val="000000"/>
                </a:solidFill>
                <a:latin typeface="华文琥珀"/>
                <a:ea typeface="幼圆"/>
              </a:rPr>
              <a:t>照亮地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90560" y="515772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低碳大队队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张丽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9145440" cy="689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442520" y="105264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美丽的冰川即将消失不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39160" y="333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全球变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2" name="push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40" y="3240"/>
            <a:ext cx="9250200" cy="6854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364000" y="3139920"/>
            <a:ext cx="3581640" cy="3384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137600" y="3357720"/>
            <a:ext cx="261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环境的污染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导致气温升高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全球变暖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南极洲酷热难耐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07000" y="189000"/>
            <a:ext cx="2527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思考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企鹅在说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1840" y="242100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明天，我们去哪里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3" name="voltag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7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733400" y="0"/>
            <a:ext cx="389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谁来‘帮助’我们拯救“家园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624040" y="83664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琥珀"/>
              </a:rPr>
              <a:t>人类啊，请救救我吧！！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5473800" cy="5256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  <p:sndAc>
      <p:stSnd>
        <p:snd r:embed="rId3" name="wind.wav"/>
      </p:stSnd>
    </p:sndAc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861080" y="117360"/>
            <a:ext cx="4321080" cy="36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巴拉拉能量—我们是地球小卫士——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低炭小魔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我们身在一个叫“低炭大队”的组织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的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队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经非常的壮大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在我们组织正在招募队员，我们组织的目的就是为了我们人类共同的妈妈地球能够越来越健康，你们愿意加入我们的组织么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想成为“低炭小达人”吗？那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道我们的队员是怎么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2"/>
              </a:rPr>
              <a:t>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吗？哦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首先你们知道什么是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3"/>
              </a:rPr>
              <a:t>低碳生活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36360" y="3240"/>
            <a:ext cx="4824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861080" y="907920"/>
            <a:ext cx="4368600" cy="5473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-163440" y="1052640"/>
            <a:ext cx="4448160" cy="5182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88800" y="33336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家好，我们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14520" y="1218960"/>
            <a:ext cx="911520" cy="42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低碳少年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70880" y="1272240"/>
            <a:ext cx="789840" cy="49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是减碳喜羊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052080" y="1999800"/>
            <a:ext cx="87228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大家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4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65800" y="765000"/>
            <a:ext cx="3454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宋体"/>
                <a:ea typeface="宋体"/>
              </a:rPr>
              <a:t>低碳生活英文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  <a:ea typeface="宋体"/>
              </a:rPr>
              <a:t>low-carbon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宋体"/>
                <a:ea typeface="宋体"/>
              </a:rPr>
              <a:t>它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是指生活作息时所耗用的能量要尽力减少，  从而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  <a:ea typeface="宋体"/>
              </a:rPr>
              <a:t>减少二氧化碳的排放。低能量，低消耗，低开支的一种生活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6360" y="4680"/>
            <a:ext cx="532764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399">
                                      <p:cBhvr>
                                        <p:cTn id="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399">
                                      <p:cBhvr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79640" y="189000"/>
            <a:ext cx="50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给地球减炭，种植绿色希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909720"/>
            <a:ext cx="86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Arial"/>
              </a:rPr>
              <a:t>少喝瓶装水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带上漂亮的水壶上学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28120" y="1413000"/>
            <a:ext cx="78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ff00"/>
                </a:solidFill>
                <a:latin typeface="Arial"/>
              </a:rPr>
              <a:t>、做作业的时候，不要用圆珠笔或者中性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Arial"/>
              </a:rPr>
              <a:t>坚持用钢笔，也是一件环保的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10760" y="2349360"/>
            <a:ext cx="71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、学习的纸张双面用，生活的纸张要节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少用纸巾，重拾手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3880" y="335772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在家养成随手关灯，关闭电源的习惯，避免浪费用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03840" y="4005360"/>
            <a:ext cx="499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、电视不看就关掉。轻松的周末是不是一整天对着电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给家里制造一些声音呢？建议同学们用课外书充实你的周末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15680" y="501336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、同学们要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爱护自己的双眼，少玩电脑，每天最多一小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03120" y="5589720"/>
            <a:ext cx="5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、不坐电梯爬楼梯，省下大家的电，换自己的健康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4920" y="-1908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84760" y="189000"/>
            <a:ext cx="95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脏衣服用手洗，可以理直气壮地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衣服攒够一桶再洗不是因为懒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而是为了节约水电。废水二次再利用，用来冲厕做的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2520" y="134136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6699"/>
                </a:solidFill>
                <a:latin typeface="Arial"/>
              </a:rPr>
              <a:t>、随手关好水龙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38080" y="1773360"/>
            <a:ext cx="9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、过量肉食至少伤害三个对象：动物，你自己和地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同学们不妨在家里种几株植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71160" y="2565360"/>
            <a:ext cx="399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、出行要骑自行车，绿色环保最时尚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坐车爱坐公交车，减少碳排量我来做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04960" y="3357720"/>
            <a:ext cx="49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、购物使用绿色环保购物袋。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是的，一只一次性塑料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毛钱，但它造成的污染可能是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毛钱的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50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11960" y="4292640"/>
            <a:ext cx="14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13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、在外就餐，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不用一次性竹筷，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用永久性的筷子、饭盒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尽量避免一次性的惨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因为制造他们所使用的森林，树木，石油也是一次性的；</a:t>
            </a:r>
            <a:r>
              <a:rPr b="1" lang="zh-CN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79680" y="551808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14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、同学，朋友过生日。礼物自己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DIY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，经济、环保、有诚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60200" y="6021360"/>
            <a:ext cx="37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、 过年少买鞭炮放，大家一起来欣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907416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6360" y="44280"/>
            <a:ext cx="900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低碳生活，不仅是一种生活方式，还是一种生活态度。举手之劳做环保，小习惯改变大地球。让我们每一个人都参与进来，从力所能及的小事做起，拒绝浪费、抵制污染，做个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低碳小达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349000" y="1844640"/>
            <a:ext cx="64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让我们再回到从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34000" y="40464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彩云"/>
              </a:rPr>
              <a:t>低碳生活，绿色校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92400" y="2637000"/>
            <a:ext cx="64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地球妈妈在哭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91680" y="3573360"/>
            <a:ext cx="64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低碳大队在行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06600" y="4508640"/>
            <a:ext cx="64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低碳生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85840" y="2709720"/>
            <a:ext cx="64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孔莹姐姐有话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85840" y="1844640"/>
            <a:ext cx="64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低碳生活金点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8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162000" y="0"/>
            <a:ext cx="4567320" cy="6886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852720" y="117360"/>
            <a:ext cx="5186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倡议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爱的同学们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世界都已行动起来，节约能源，低碳生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我们的校园生活方式也可以低碳化。我们也可以为地球妈妈的健康和美丽出一份力。让我们从现在开始，争做校园低碳小达人，努力做到以下几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节约用水，关紧水龙头，饮用水喝多少倒多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节约用电，人走灯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爱护公共设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节约用纸，回收废旧簿本、纸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妥善保管学习用品，物尽其用，不随意更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尽量少用水笔芯，改用钢笔，减少白色污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2" name="coin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632680" y="189000"/>
            <a:ext cx="429552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我的</a:t>
            </a:r>
            <a:r>
              <a:rPr b="0" lang="zh-CN" sz="6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低碳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生活金点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240" y="1270080"/>
            <a:ext cx="9180360" cy="5589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8029440" y="57340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77680" y="44280"/>
            <a:ext cx="4326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拍一，我拍一，低碳生活要牢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拍二，我拍二，低碳是我好伙伴儿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拍三，我拍三，健康锻炼常爬山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拍四，我拍四，绿色出行最合适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拍五，我拍五，低碳生活最幸福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拍六，我拍六，少坐汽车多行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拍七，我拍七，节水节电节煤气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拍八，我拍八，少用纸张备手帕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拍九，我拍九，不抽香烟不喝酒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拍十，我拍十，低碳生活很现实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了明天我们大家一起来努力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083280" y="55897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488320" y="189000"/>
            <a:ext cx="429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99"/>
                </a:solidFill>
                <a:latin typeface="Arial"/>
              </a:rPr>
              <a:t>点亮低碳，照亮地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37bOOOPIC7a"/>
          <p:cNvPicPr/>
          <p:nvPr/>
        </p:nvPicPr>
        <p:blipFill>
          <a:blip r:embed="rId1"/>
          <a:srcRect l="8904" t="15982" r="0" b="0"/>
          <a:stretch/>
        </p:blipFill>
        <p:spPr>
          <a:xfrm>
            <a:off x="34920" y="1558800"/>
            <a:ext cx="9109080" cy="5367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452680" y="200016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谢谢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6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6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9121680" cy="6823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332000" y="5086440"/>
            <a:ext cx="5113080" cy="11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5000"/>
                    </a:srgbClr>
                  </a:outerShdw>
                </a:effectLst>
                <a:latin typeface="宋体"/>
              </a:rPr>
              <a:t>地球妈妈在哭泣</a:t>
            </a:r>
            <a:endParaRPr b="0" lang="en-US" sz="1800" spc="-1" strike="noStrike">
              <a:ln w="9360">
                <a:solidFill>
                  <a:srgbClr val="00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heel spokes="8"/>
    <p:sndAc>
      <p:stSnd>
        <p:snd r:embed="rId4" name="bomb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529680" y="3333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天空有一些阴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79680" y="112536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大地这样失去色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11920" y="580536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这是你喜欢的颜色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2" name="voltag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14400" y="3240"/>
            <a:ext cx="9158400" cy="6856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3400" y="69228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鱼儿不再欢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2" name="voltag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8160" y="-7920"/>
            <a:ext cx="9072360" cy="6894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33000" y="76500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这样的水，你想喝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2" name="voltag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30240" y="-20520"/>
            <a:ext cx="9174240" cy="6850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44720" y="404640"/>
            <a:ext cx="40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白色垃圾的污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64760" y="198900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夺走了我们五彩缤纷的世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2" name="voltag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018520" y="549360"/>
            <a:ext cx="353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空气中弥漫着尾气的排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2" name="voltag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124000" y="1440"/>
            <a:ext cx="705816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58520" y="3142080"/>
            <a:ext cx="729000" cy="6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们的呼吸无法再一次次感到舒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2" name="pu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09:52:50Z</dcterms:created>
  <dc:creator>123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