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66B8-983C-4B9C-BFA6-F45B76CA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78CC-36D2-4B12-A2B8-12783EAF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3EAF-5031-42CA-A972-1F8572B9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E3B-DB70-4FF8-A6B4-22CD6A08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FFA1-4F9A-4957-9721-8D5ECDB3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29B7-0109-4149-A79A-1B8CE470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0199-156F-48CA-9B72-7C0BFD14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5BC6-23B6-4C7D-886F-23CE5AAD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B64B-7735-415E-B8AA-1F193140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B2D7-AA7D-4C7D-9CC7-0D2DFD31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C1C7-25AD-486F-8908-383C684F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5D0-7422-4E29-9890-37F0F6F3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7536-8C28-4013-AC67-2A6D439E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0253-0604-4FA2-9854-CCD5AD40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11DB-F380-4E7E-96BC-D978AE49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8F6A-1C96-4EF0-92D3-3623F941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590E-6DE6-4E72-9354-49EB29A5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FE46-7D5F-446B-A2FF-86D42513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7DDE-C963-490C-BD86-EC6AB38A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FB2D-D955-4075-ABB7-3F488E2C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160-546F-480B-935E-AF09DE93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8EE-360C-498C-8482-4622730D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515F-E35A-487B-AFF4-C60439BE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07F-1973-4C03-A0E1-ADDD0BFF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4006-D8F1-456B-8974-16E68C4982F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BBDE-2E6C-4D44-8978-7F5E2D9611A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9.xm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7.xml"/><Relationship Id="rId2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" Target="slide33.xml"/><Relationship Id="rId7" Type="http://schemas.openxmlformats.org/officeDocument/2006/relationships/slide" Target="slide38.xml"/><Relationship Id="rId8" Type="http://schemas.openxmlformats.org/officeDocument/2006/relationships/slide" Target="slide39.xml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slide" Target="slide35.xm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初中数学定理公式大全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2" action="ppaction://hlinksldjump"/>
              </a:rPr>
              <a:t>定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3" action="ppaction://hlinksldjump"/>
              </a:rPr>
              <a:t>公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直角三角形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直角三角形中，如果一个锐角等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0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那么它所对的直角边等于斜边的一半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角三角形斜边上的中线等于斜边上的一半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勾股定理 直角三角形两直角边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平方和、等于斜边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平方，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^2+b^2=c^2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勾股定理的逆定理 如果三角形的三边长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关系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^2+b^2=c^2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那么这个三角形是直角三角形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多边形内、外角和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定理 四边形的内角和等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60°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四边形的外角和等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60°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边形内角和定理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边形的内角的和等于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n-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×180°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推论 任意多边的外角和等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60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平行四边形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四边形性质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四边形的对角相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四边形性质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四边形的对边相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推论 夹在两条平行线间的平行线段相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四边形性质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四边形的对角线互相平分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四边形判定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两组对角分别相等的四边形是平行四边形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四边形判定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两组对边分别相等的四边形是平行四边形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8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四边形判定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对角线互相平分的四边形是平行四边形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9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四边形判定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一组对边平行相等的四边形是平行四边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矩形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矩形性质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矩形的四个角都是直角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矩形性质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矩形的对角线相等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矩形判定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三个角是直角的四边形是矩形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矩形判定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对角线相等的平行四边形是矩形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菱形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菱形性质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菱形的四条边都相等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菱形性质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菱形的对角线互相垂直，并且每一条对角线平分一组对角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菱形面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对角线乘积的一半，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=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×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÷2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菱形判定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四边都相等的四边形是菱形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菱形判定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对角线互相垂直的平行四边形是菱形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正方形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正方形性质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正方形的四个角都是直角，四条边都相等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正方形性质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正方形的两条对角线相等，并且互相垂直平分，每条对角线平分一组对角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中心对称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关于中心对称的两个图形是全等的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关于中心对称的两个图形，对称点连线都经过对称中心，并且被对称中心平分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逆定理 如果两个图形的对应点连线都经过某一点，并且被这一点平分，那么这两个图形关于这一点对称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等腰梯形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7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等腰梯形性质定理 等腰梯形在同一底上的两个角相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7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等腰梯形的两条对角线相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7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等腰梯形判定定理 在同一底上的两个角相等的梯形是等腰梯形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7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对角线相等的梯形是等腰梯形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78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线等分线段定理 如果一组平行线在一条直线上截得的线段相等，那么在其他直线上截得的线段也相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79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经过梯形一腰的中点与底平行的直线，必平分另一腰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80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经过三角形一边的中点与另一边平行的直线，必平分第三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中位线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三角形中位线定理 三角形的中位线平行于第三边，并且等于它的一半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2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梯形中位线定理 梯形的中位线平行于两底，并且等于两底和的一半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L=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+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÷2 S=L×h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比例性质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3 (1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例的基本性质 如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:b=c:d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那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=b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=bc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那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:b=c:d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4 (2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合比性质 如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=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d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那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a±b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=(c±d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d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5 (3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等比性质 如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=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d=…=m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n(b+d+…+n≠0)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那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a+c+…+m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b+d+…+n)=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定理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2" action="ppaction://hlinksldjump"/>
              </a:rPr>
              <a:t>点，线，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3" action="ppaction://hlinksldjump"/>
              </a:rPr>
              <a:t>平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4" action="ppaction://hlinksldjump"/>
              </a:rPr>
              <a:t>三角形内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5" action="ppaction://hlinksldjump"/>
              </a:rPr>
              <a:t>全等三角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6" action="ppaction://hlinksldjump"/>
              </a:rPr>
              <a:t>角平分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7" action="ppaction://hlinksldjump"/>
              </a:rPr>
              <a:t>等腰三角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8" action="ppaction://hlinksldjump"/>
              </a:rPr>
              <a:t>对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9" action="ppaction://hlinksldjump"/>
              </a:rPr>
              <a:t>直角三角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0" action="ppaction://hlinksldjump"/>
              </a:rPr>
              <a:t>多边形内、外角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1" action="ppaction://hlinksldjump"/>
              </a:rPr>
              <a:t>平行四边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2" action="ppaction://hlinksldjump"/>
              </a:rPr>
              <a:t>矩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3" action="ppaction://hlinksldjump"/>
              </a:rPr>
              <a:t>菱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4" action="ppaction://hlinksldjump"/>
              </a:rPr>
              <a:t>正方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5" action="ppaction://hlinksldjump"/>
              </a:rPr>
              <a:t>中心对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6" action="ppaction://hlinksldjump"/>
              </a:rPr>
              <a:t>等腰梯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7" action="ppaction://hlinksldjump"/>
              </a:rPr>
              <a:t>中位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8" action="ppaction://hlinksldjump"/>
              </a:rPr>
              <a:t>相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9" action="ppaction://hlinksldjump"/>
              </a:rPr>
              <a:t>三角函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20" action="ppaction://hlinksldjump"/>
              </a:rPr>
              <a:t>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21" action="ppaction://hlinksldjump"/>
              </a:rPr>
              <a:t>轨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相似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86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线分线段成比例定理 三条平行线截两条直线，所得的对应线段成比例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87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推论 平行于三角形一边的直线截其他两边（或两边的延长线），所得的对应线段成比例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88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定理 如果一条直线截三角形的两边（或两边的延长线所得的对应线段成比例，那么这条直线平行于三角的第三边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89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于三角形的一边，并且和其他两边相交的直线，所截得的三角形的三边与原三角形三边对应成比例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90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定理 平行于三角形一边的直线和其他两边（或两边的延长线）相交，所构成的三角形与原三角形相似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9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相似三角形判定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两角对应相等，两三角形相似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ASA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相似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9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直角三角形被斜边上的高分成的两个直角三角形和原三角形相似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93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判定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两边对应成比例且夹角相等，两三角形相似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AS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94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判定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三边对应成比例，两三角形相似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SS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95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定理 如果一个直角三角形的斜边和一条直角边与另一个直角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角形的斜边和一条直角边对应成比例，那么这两个直角三角形相似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96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性质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相似三角形对应高的比，对应中线的比与对应角平分线的比都等于相似比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97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性质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相似三角形周长的比等于相似比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98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性质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相似三角形面积的比等于相似比的平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三角函数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9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任意锐角的正弦值等于它的余角的余弦值，任意锐角的余弦值等于它的余角的正弦值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任意锐角的正切值等于它的余角的余切值，任意锐角的余切值等于它的余角的正切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圆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0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圆是定点的距离等于定长的点的集合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圆的内部可以看作是圆心的距离小于半径的点的集合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0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圆的外部可以看作是圆心的距离大于半径的点的集合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0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圆或等圆的半径相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0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到定点的距离等于定长的点的轨迹，是以定点为圆心，定长为半径的圆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0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到两条平行线距离相等的点的轨迹，是和这两条平行线平行且距离相等的一条直线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0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定理 不在同一直线上的三点确定一个圆。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08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垂径定理 垂直于弦的直径平分这条弦并且平分弦所对的两条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圆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09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 ①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平分弦（不是直径）的直径垂直于弦，并且平分弦所对的两条弧 ②弦的垂直平分线经过圆心，并且平分弦所对的两条弧 ③平分弦所对的一条弧的直径，垂直平分弦，并且平分弦所对的另一条弧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10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圆的两条平行弦所夹的弧相等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1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圆是以圆心为对称中心的中心对称图形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1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定理 在同圆或等圆中，相等的圆心角所对的弧相等，所对的弦相等，所对的弦的弦心距相等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1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推论 在同圆或等圆中，如果两个圆心角、两条弧、两条弦或两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弦的弦心距中有一组量相等那么它们所对应的其余各组量都相等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14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定理 一条弧所对的圆周角等于它所对的圆心角的一半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15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同弧或等弧所对的圆周角相等；同圆或等圆中，相等的圆周角所对的弧也相等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16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半圆（或直径）所对的圆周角是直角；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90°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的圆周角所对的弦是直径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17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如果三角形一边上的中线等于这边的一半，那么这个三角形是直角三角形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18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定理 圆的内接四边形的对角互补，并且任何一个外角都等于它的内对角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圆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19①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直线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和⊙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相交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r ②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直线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和⊙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相切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d=r ③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直线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和⊙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相离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＞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r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切线的判定定理 经过半径的外端并且垂直于这条半径的直线是圆的切线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2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切线的性质定理 圆的切线垂直于经过切点的半径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2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经过圆心且垂直于切线的直线必经过切点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2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经过切点且垂直于切线的直线必经过圆心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24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切线长定理 从圆外一点引圆的两条切线，它们的切线长相等，圆心和这一点的连线平分两条切线的夹角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25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圆的外切四边形的两组对边的和相等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26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弦切角定理 弦切角等于它所夹的弧对的圆周角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27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推论 如果两个弦切角所夹的弧相等，那么这两个弦切角也相等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28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相交弦定理 圆内的两条相交弦，被交点分成的两条线段长的积 相等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圆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29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推论 如果弦与直径垂直相交，那么弦的一半是它分直径所成的 两条线段的比例中项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30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切割线定理 从圆外一点引圆的切线和割线，切线长是这点到割 线与圆交点的两条线段长的比例中项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3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推论 从圆外一点引圆的两条割线，这一点到每条割线与圆的交点的两条线段长的积相等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3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如果两个圆相切，那么切点一定在连心线上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33①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两圆外离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＞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R+r ②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两圆外切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d=R+r ③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两圆相交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R-r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R+r(R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＞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r) ④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两圆内切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d=R-r(R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＞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r) ⑤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两圆内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R-r(R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＞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r)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34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定理 相交两圆的连心线垂直平分两圆的公共弦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35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定理 把圆分成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n(n≥3):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⑴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依次连结各分点所得的多边形是这个圆的内接正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边形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⑵经过各分点作圆的切线，以相邻切线的交点为顶点的多边形是这个圆的外切正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边形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36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定理 任何正多边形都有一个外接圆和一个内切圆，这两个圆是同心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轨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3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和已知线段两个端点的距离相等的点的轨迹，是着条线段的垂直平分线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3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到已知角的两边距离相等的点的轨迹，是这个角的平分线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3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到两条平行线距离相等的点的轨迹，是和这两条平行线平行且距离相等的一条直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公式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2" action="ppaction://hlinksldjump"/>
              </a:rPr>
              <a:t>圆与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3" action="ppaction://hlinksldjump"/>
              </a:rPr>
              <a:t>因式分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4" action="ppaction://hlinksldjump"/>
              </a:rPr>
              <a:t>三角不等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5" action="ppaction://hlinksldjump"/>
              </a:rPr>
              <a:t>一元二次方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6" action="ppaction://hlinksldjump"/>
              </a:rPr>
              <a:t>三角函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7" action="ppaction://hlinksldjump"/>
              </a:rPr>
              <a:t>等差数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8" action="ppaction://hlinksldjump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圆与弧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39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正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边形的每个内角都等于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-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×180°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4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定理 正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边形的半径和边心距把正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边形分成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个全等的直角三角形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4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正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边形的面积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n=pnr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 p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表示正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边形的周长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4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正三角形面积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a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 a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表示边长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4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果在一个顶点周围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个正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边形的角，由于这些角的和应为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60°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，因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k×(n-2)180°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=360°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化为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-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k-2)=4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4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弧长计算公式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L=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80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4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扇形面积公式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扇形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=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R^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60=LR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4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公切线长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= d-(R-r)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外公切线长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= d-(R+r)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点，线，角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过两点有且只有一条直线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两点之间线段最短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同角或等角的补角相等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同角或等角的余角相等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过一点有且只有一条直线和已知直线垂直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线外一点与直线上各点连接的所有线段中，垂线段最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因式分解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全平方公式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a+b)^2=a^2+2ab+b^2    (a-b)^2=a^2-2ab+b^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平方差公式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a+b)(a-b)=a^2-b^2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乘法与因式分解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^ 2-b^ 2=(a+b)(a-b)      a^ 3+b^ 3=(a+b)(a^ 2-ab+b^ 2)                   a^ 3-b^ 3=(a-b)(a2+ab+b2)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三角不等式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|a+b|≤|a|+|b|                                                |a-b|≤|a|+|b|                                                     |a|≤b&lt;=&gt;-b≤a≤b                                      |a-b|≥|a|-|b| -|a|≤a≤|a|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一元二次方程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解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-b+√(b2-4ac)/2a -b-√(b2-4ac)/2a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与系数的关系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X1+X2=-b/a X1*X2=c/a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：韦达定理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判别式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2-4ac=0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：方程有两个相等的实根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2-4ac&gt;0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：方程有两个不等的实根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2-4ac&lt;0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：方程没有实根，有共轭复数根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三角函数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2" action="ppaction://hlinksldjump"/>
              </a:rPr>
              <a:t>两角和公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3" action="ppaction://hlinksldjump"/>
              </a:rPr>
              <a:t>倍角公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半角公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和差化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两角和公式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in(A+B)=sinAcosB+cosAsinB                sin(A-B)=sinAcosB-sinBcosA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os(A+B)=cosAcosB-sinAsinB             cos(A-B)=cosAcosB+sinAsinB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tan(A+B)=(tanA+tanB)/(1-tanAtanB)            tan(A-B)=(tanA-tanB)/(1+tanAtanB)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tg(A+B)=(ctgActgB-1)/(ctgB+ctgA)      ctg(A-B)=(ctgActgB+1)/(ctgB-ctg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倍角公式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2A=2tanA/(1-tan2A) ctg2A=(ctg2A-1)/2ctg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2a=cos2a-sin2a=2cos2a-1=1-2sin2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半角公式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(A/2)=√((1-cosA)/2) sin(A/2)=-√((1-cosA)/2)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(A/2)=√((1+cosA)/2) cos(A/2)=-√((1+cosA)/2)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(A/2)=√((1-cosA)/((1+cosA)) tan(A/2)=-√((1-cosA)/((1+cosA))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g(A/2)=√((1+cosA)/((1-cosA)) ctg(A/2)=-√((1+cosA)/((1-cosA)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和差化积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sinAcosB=sin(A+B)+sin(A-B) 2cosAsinB=sin(A+B)-sin(A-B)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cosAcosB=cos(A+B)-sin(A-B) 2sinAsinB=cos(A+B)-cos(A-B)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inA+sinB=2sin((A+B)/2)cos((A-B)/2 cosA+cosB=2cos((A+B)/2)sin((A-B)/2)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tanA+tanB=sin(A+B)/cosAcosB tanA-tanB=sin(A-B)/cosAcosB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tgA+ctgBsin(A+B)/sinAsinB -ctgA+ctgBsin(A+B)/sinAsinB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等差数列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某些数列前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项和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+2+3+4+5+6+7+8+9+…+n=n(n+1)/2 1+3+5+7+9+11+13+15+…+(2n-1)=n2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+4+6+8+10+12+14+…+(2n)=n(n+1) 12+22+32+42+52+62+72+82+…+n2=n(n+1)(2n+1)/6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3+23+33+43+53+63+…n3=n2(n+1)2/4        1*2+2*3+3*4+4*5+5*6+6*7+…+n(n+1)=n(n+1)(n+2)/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其他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正弦定理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a/sinA=b/sinB=c/sinC=2R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注： 其中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表示三角形的外接圆半径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余弦定理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2=a2+c2-2accosB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注：角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是边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和边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的夹角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圆的标准方程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x-a)2+(y-b)2=r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注：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a,b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是圆心坐标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圆的一般方程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x2+y2+Dx+Ey+F=0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注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D2+E2-4F&gt;0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抛物线标准方程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y2=2px y2=-2px x2=2py x2=-2py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直棱柱侧面积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=c*h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斜棱柱侧面积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=c'*h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正棱锥侧面积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=1/2c*h'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正棱台侧面积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=1/2(c+c')h'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圆台侧面积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=1/2(c+c')l=pi(R+r)l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球的表面积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=4pi*r2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圆柱侧面积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=c*h=2pi*h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圆锥侧面积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=1/2*c*l=pi*r*l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弧长公式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l=a*r a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是圆心角的弧度数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r &gt;0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扇形面积公式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=1/2*l*r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锥体体积公式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V=1/3*S*H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圆锥体体积公式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V=1/3*pi*r2h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斜棱柱体积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V=S'L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注：其中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,S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是直截面面积，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是侧棱长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柱体体积公式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V=s*h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圆柱体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V=pi*r2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平行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平行公理 经过直线外一点，有且只有一条直线与这条直线平行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果两条直线都和第三条直线平行，这两条直线也互相平行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同位角相等，两直线平行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内错角相等，两直线平行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同旁内角互补，两直线平行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两直线平行，同位角相等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两直线平行，内错角相等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4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两直线平行，同旁内角互补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0880" y="304920"/>
            <a:ext cx="8458200" cy="62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三角形内角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定理 三角形两边的和大于第三边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6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推论 三角形两边的差小于第三边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7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三角形内角和定理 三角形三个内角的和等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80°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8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角三角形的两个锐角互余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9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三角形的一个外角等于和它不相邻的两个内角的和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三角形的一个外角大于任何一个和它不相邻的内角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全等三角形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1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全等三角形的对应边、对应角相等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边角边公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SAS)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有两边和它们的夹角对应相等的两个三角形全等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3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角边角公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 ASA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有两角和它们的夹边对应相等的两个三角形全等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4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AAS)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有两角和其中一角的对边对应相等的两个三角形全等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5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边边边公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SSS)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有三边对应相等的两个三角形全等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6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斜边、直角边公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HL)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有斜边和一条直角边对应相等的两个直角三角形全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角平分线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7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角的平分线上的点到这个角的两边的距离相等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8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到一个角的两边的距离相同的点，在这个角的平分线上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9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角的平分线是到角的两边距离相等的所有点的集合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等腰三角形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0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等腰三角形的性质定理 等腰三角形的两个底角相等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即等边对等角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等腰三角形顶角的平分线平分底边并且垂直于底边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等腰三角形的顶角平分线、底边上的中线和底边上的高互相重合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3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等边三角形的各角都相等，并且每一个角都等于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60°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4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等腰三角形的判定定理 如果一个三角形有两个角相等，那么这两个角所对的边也相等（等角对等边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5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三个角都相等的三角形是等边三角形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6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推论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有一个角等于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60°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的等腰三角形是等边三角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对称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关于某条直线对称的两个图形是全等形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8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定理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果两个图形关于某直线对称，那么对称轴是对应点连线的垂直平分线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9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两个图形关于某直线对称，如果它们的对应线段或延长线相交，那么交点在对称轴上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逆定理 如果两个图形的对应点连线被同一条直线垂直平分，那么这两个图形关于这条直线对称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定理 线段垂直平分线上的点和这条线段两个端点的距离相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逆定理 和一条线段两个端点距离相等的点，在这条线段的垂直平分线上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线段的垂直平分线可看作和线段两端点距离相等的所有点的集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5-10T12:50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