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CA6C-2C35-4BB4-900E-2462B9814A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驷马难追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句话说出了口，就是套上四匹马拉的车也难追上。指话说出口，就不能再收回，一定要算数。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出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论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颜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“夫子之说君子也，驷不及舌。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邓析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转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“一言而非，驷马不能追；一言而急，驷马不能及。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AD4-B090-40D8-8473-0DCD27D8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374-B295-44EC-8C1F-E440495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661-5C5F-497F-ADC5-72F8920E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B89-1D98-4F55-BB0D-CE26A6D2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F6976-7DA7-422A-A90A-946A72C6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D7795-1D1E-4ED1-9AAE-68EDA40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809D-1531-4FF7-B3F6-29E699D5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3732E-2745-4E04-B737-A56BF2C3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EC37F-77C9-45EC-A787-C0196C2D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1E699-A114-4DE7-8546-6531C6B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CE9A4-FB6E-4B90-812F-F8F7E99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A24-4DB8-4AB6-8DDC-1C7395AA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FB59E-0BF7-4574-8618-EC0FDD4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E7EB6-0671-44FF-AAEF-828BD38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00068-85DF-49CD-B831-6E5C12A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C67A5-CF8E-4785-ADE9-D7C627ED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5AFF5-B92B-4165-B6F8-29ADF419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E25D-461E-41E7-8D9E-515ABECB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EA8B-6CF0-441E-8C4C-3001A462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75D5B-3C9D-4B1A-A362-88A955C0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440E-151F-4640-8ECE-1FFD2294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D071-4278-42FB-9A23-784DC758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4F2-2AE0-43EF-A0CB-C129CD8F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CD21-5A03-4C0D-B561-793F7130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7F6C-110A-4D6A-B18A-330EFF89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4760-656E-48D0-A745-E3051BD9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E162-A672-42A6-A785-70188D8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DDC5-17BD-4A8A-8AAA-27096C60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CD59-186D-44EF-A2BE-CBFA03BF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A1DC-F5B3-4D5C-AD5E-788FF5A7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83EF5-9E6C-40E3-8D01-65293696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7E46-3A4D-4161-8F96-610BDD6A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A299-B60E-4BF0-8206-1F9EA0CF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236-68E4-4371-8671-B1D30F76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A0122-417C-4075-88B3-1C3CDC5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9B85-A3D7-4EA6-A6AC-BDACA96E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81DB-D7EF-4756-B5CC-F85C94ED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A3CE-84A5-44D5-A5B7-7DF7698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DBCB-44F7-436B-818E-BC596D0B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2868E-8017-4B24-AAAD-2FC6870D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0EDF-3ADD-4DF9-9230-78E6275D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477C-9592-48A9-B19C-58980C45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63BA-7DA0-4C00-806D-69ADBC8C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2C8-A542-41F2-8A98-05F3286E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852-12FE-40B9-AE63-5F4FE458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C96-868A-4C0F-8E9E-272C81B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A40-F210-4E17-B872-49EFE519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FC0-82CD-4547-8AD5-F41DE92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6C6-4310-421D-AAEB-1F60CD5491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44E9-1CFB-4B9F-B8B5-303ED4D9CD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79200" y="-92880"/>
            <a:ext cx="2764800" cy="6949440"/>
            <a:chOff x="-79200" y="-92880"/>
            <a:chExt cx="2764800" cy="6949440"/>
          </a:xfrm>
        </p:grpSpPr>
        <p:sp>
          <p:nvSpPr>
            <p:cNvPr id="83" name="未知"/>
            <p:cNvSpPr/>
            <p:nvPr/>
          </p:nvSpPr>
          <p:spPr>
            <a:xfrm>
              <a:off x="0" y="5178600"/>
              <a:ext cx="74700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74880" y="3922200"/>
              <a:ext cx="887400" cy="720000"/>
              <a:chOff x="74880" y="3922200"/>
              <a:chExt cx="887400" cy="720000"/>
            </a:xfrm>
          </p:grpSpPr>
          <p:sp>
            <p:nvSpPr>
              <p:cNvPr id="85" name="未知"/>
              <p:cNvSpPr/>
              <p:nvPr/>
            </p:nvSpPr>
            <p:spPr>
              <a:xfrm flipH="1" rot="14965200">
                <a:off x="123840" y="3943440"/>
                <a:ext cx="228240" cy="263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 flipH="1" rot="14965200">
                <a:off x="283320" y="4311360"/>
                <a:ext cx="389160" cy="219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flipH="1" rot="14965200">
                <a:off x="635760" y="415548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未知"/>
            <p:cNvSpPr/>
            <p:nvPr/>
          </p:nvSpPr>
          <p:spPr>
            <a:xfrm>
              <a:off x="150120" y="2755800"/>
              <a:ext cx="112392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120" y="2601720"/>
              <a:ext cx="2679480" cy="3116520"/>
              <a:chOff x="6120" y="2601720"/>
              <a:chExt cx="2679480" cy="3116520"/>
            </a:xfrm>
          </p:grpSpPr>
          <p:sp>
            <p:nvSpPr>
              <p:cNvPr id="90" name="未知"/>
              <p:cNvSpPr/>
              <p:nvPr/>
            </p:nvSpPr>
            <p:spPr>
              <a:xfrm flipH="1" rot="789600">
                <a:off x="393120" y="2698920"/>
                <a:ext cx="9727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 flipH="1" rot="789600">
                <a:off x="111240" y="2842560"/>
                <a:ext cx="8136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 flipH="1" rot="789600">
                <a:off x="364320" y="3052800"/>
                <a:ext cx="28872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 flipH="1" rot="789600">
                <a:off x="888120" y="3792600"/>
                <a:ext cx="26388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 flipH="1" rot="789600">
                <a:off x="813600" y="385488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6800" y="4056480"/>
                <a:ext cx="1828800" cy="1661760"/>
                <a:chOff x="856800" y="4056480"/>
                <a:chExt cx="1828800" cy="1661760"/>
              </a:xfrm>
            </p:grpSpPr>
            <p:sp>
              <p:nvSpPr>
                <p:cNvPr id="96" name="未知"/>
                <p:cNvSpPr/>
                <p:nvPr/>
              </p:nvSpPr>
              <p:spPr>
                <a:xfrm flipH="1" rot="7102800">
                  <a:off x="1265040" y="3946680"/>
                  <a:ext cx="473760" cy="1211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未知"/>
                <p:cNvSpPr/>
                <p:nvPr/>
              </p:nvSpPr>
              <p:spPr>
                <a:xfrm flipH="1" rot="7102800">
                  <a:off x="2328480" y="4973040"/>
                  <a:ext cx="109800" cy="4971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未知"/>
                <p:cNvSpPr/>
                <p:nvPr/>
              </p:nvSpPr>
              <p:spPr>
                <a:xfrm flipH="1" rot="7102800">
                  <a:off x="2502360" y="5569560"/>
                  <a:ext cx="198360" cy="831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73760" y="6173640"/>
              <a:ext cx="788400" cy="634680"/>
              <a:chOff x="473760" y="6173640"/>
              <a:chExt cx="788400" cy="634680"/>
            </a:xfrm>
          </p:grpSpPr>
          <p:sp>
            <p:nvSpPr>
              <p:cNvPr id="100" name="未知"/>
              <p:cNvSpPr/>
              <p:nvPr/>
            </p:nvSpPr>
            <p:spPr>
              <a:xfrm rot="6248400">
                <a:off x="1017000" y="6174360"/>
                <a:ext cx="197640" cy="251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 rot="6248400">
                <a:off x="765360" y="6513840"/>
                <a:ext cx="33732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 rot="6248400">
                <a:off x="39240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24360" y="1775880"/>
              <a:ext cx="782640" cy="693360"/>
              <a:chOff x="324360" y="1775880"/>
              <a:chExt cx="782640" cy="693360"/>
            </a:xfrm>
          </p:grpSpPr>
          <p:sp>
            <p:nvSpPr>
              <p:cNvPr id="104" name="未知"/>
              <p:cNvSpPr/>
              <p:nvPr/>
            </p:nvSpPr>
            <p:spPr>
              <a:xfrm rot="5002800">
                <a:off x="843840" y="1747440"/>
                <a:ext cx="207360" cy="297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5002800">
                <a:off x="698040" y="2154600"/>
                <a:ext cx="35460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5002800">
                <a:off x="22320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7800" y="0"/>
              <a:ext cx="544680" cy="581400"/>
              <a:chOff x="1297800" y="0"/>
              <a:chExt cx="544680" cy="581400"/>
            </a:xfrm>
          </p:grpSpPr>
          <p:sp>
            <p:nvSpPr>
              <p:cNvPr id="108" name="未知"/>
              <p:cNvSpPr/>
              <p:nvPr/>
            </p:nvSpPr>
            <p:spPr>
              <a:xfrm>
                <a:off x="129780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1546560" y="103320"/>
                <a:ext cx="29592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1487160" y="489240"/>
                <a:ext cx="3081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未知"/>
            <p:cNvSpPr/>
            <p:nvPr/>
          </p:nvSpPr>
          <p:spPr>
            <a:xfrm>
              <a:off x="145440" y="149400"/>
              <a:ext cx="110628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 rot="828600">
              <a:off x="390240" y="5403600"/>
              <a:ext cx="20880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 rot="828600">
              <a:off x="4287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25200" y="6524640"/>
              <a:ext cx="18648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560" y="6299280"/>
              <a:ext cx="20556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56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560" y="5141880"/>
              <a:ext cx="7866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 rot="1584000">
              <a:off x="39240" y="650520"/>
              <a:ext cx="5443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rot="1584000">
              <a:off x="390600" y="1199880"/>
              <a:ext cx="26424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 rot="1584000">
              <a:off x="916200" y="453600"/>
              <a:ext cx="23256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 rot="1584000">
              <a:off x="38124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 rot="1584000">
              <a:off x="93348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560" y="1406520"/>
              <a:ext cx="5698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 rot="1584000">
              <a:off x="96480" y="133200"/>
              <a:ext cx="12726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1670-E842-46E9-8C27-4CC3467E1C3C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68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24520" y="1023480"/>
              <a:ext cx="1017360" cy="1261800"/>
              <a:chOff x="4124520" y="1023480"/>
              <a:chExt cx="1017360" cy="1261800"/>
            </a:xfrm>
          </p:grpSpPr>
          <p:sp>
            <p:nvSpPr>
              <p:cNvPr id="182" name="未知"/>
              <p:cNvSpPr/>
              <p:nvPr/>
            </p:nvSpPr>
            <p:spPr>
              <a:xfrm rot="3220200">
                <a:off x="4540680" y="106164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 rot="3220200">
                <a:off x="4624200" y="1594080"/>
                <a:ext cx="48960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 rot="3220200">
                <a:off x="4084920" y="1951560"/>
                <a:ext cx="51012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28960" y="282960"/>
              <a:ext cx="889200" cy="832320"/>
              <a:chOff x="5628960" y="282960"/>
              <a:chExt cx="889200" cy="832320"/>
            </a:xfrm>
          </p:grpSpPr>
          <p:sp>
            <p:nvSpPr>
              <p:cNvPr id="186" name="未知"/>
              <p:cNvSpPr/>
              <p:nvPr/>
            </p:nvSpPr>
            <p:spPr>
              <a:xfrm rot="14908200">
                <a:off x="5740200" y="78480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14908200">
                <a:off x="5690160" y="46404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14908200">
                <a:off x="6229080" y="382680"/>
                <a:ext cx="31896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90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44520" y="417960"/>
              <a:ext cx="1692000" cy="1147680"/>
              <a:chOff x="344520" y="417960"/>
              <a:chExt cx="1692000" cy="1147680"/>
            </a:xfrm>
          </p:grpSpPr>
          <p:sp>
            <p:nvSpPr>
              <p:cNvPr id="194" name="未知"/>
              <p:cNvSpPr/>
              <p:nvPr/>
            </p:nvSpPr>
            <p:spPr>
              <a:xfrm flipH="1" rot="4107000">
                <a:off x="1545480" y="103644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 flipH="1" rot="4107000">
                <a:off x="990720" y="56160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 flipH="1" rot="4107000">
                <a:off x="247320" y="107676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98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90F7-89AA-4913-9F6D-4A224505F963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49%20&#26366;&#23376;&#26432;&#29482;_&#39640;&#28165;.mp4" TargetMode="External"/><Relationship Id="rId2" Type="http://schemas.openxmlformats.org/officeDocument/2006/relationships/hyperlink" Target="file:///49%20&#26366;&#23376;&#26432;&#29482;_&#39640;&#28165;.mp4" TargetMode="External"/><Relationship Id="rId3" Type="http://schemas.openxmlformats.org/officeDocument/2006/relationships/hyperlink" Target="file:///49%20&#26366;&#23376;&#26432;&#29482;_&#39640;&#28165;.mp4" TargetMode="External"/><Relationship Id="rId4" Type="http://schemas.openxmlformats.org/officeDocument/2006/relationships/hyperlink" Target="file:///49%20&#26366;&#23376;&#26432;&#29482;_&#39640;&#28165;.mp4" TargetMode="External"/><Relationship Id="rId5" Type="http://schemas.openxmlformats.org/officeDocument/2006/relationships/hyperlink" Target="file:///49%20&#26366;&#23376;&#26432;&#29482;_&#39640;&#28165;.mp4" TargetMode="External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23567;&#21697;.MP4" TargetMode="External"/><Relationship Id="rId3" Type="http://schemas.openxmlformats.org/officeDocument/2006/relationships/hyperlink" Target="file:///&#23567;&#21697;.MP4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file:///../../cf/Desktop/1&#20522;&#65306;&#35802;&#20449;/&#19969;&#26195;&#32418;%20-%20&#35802;&#20449;&#20013;&#22269;.mp3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3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4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5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6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7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8" Type="http://schemas.openxmlformats.org/officeDocument/2006/relationships/hyperlink" Target="file:///&#28201;&#24030;&#20048;&#28165;&#35686;&#26041;&#30772;&#33719;&#26032;&#22411;&#22320;&#27807;&#27833;&#20840;&#22269;&#22823;&#26696;%20120409%20&#26032;&#38395;&#28145;&#19968;&#24230;_&#26631;&#28165;.flv" TargetMode="External"/><Relationship Id="rId9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765000"/>
            <a:ext cx="77785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幼圆"/>
                <a:ea typeface="幼圆"/>
              </a:rPr>
              <a:t>《曾子杀彘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6699"/>
                </a:solidFill>
                <a:latin typeface="幼圆"/>
                <a:ea typeface="幼圆"/>
              </a:rPr>
              <a:t>曾子之妻之市，其子随之而泣。其母曰：“女还，顾反为女杀彘。”妻适市来，曾子欲捕彘杀之。妻止之曰：“特与婴儿戏耳。”曾子曰：“婴儿非与戏也。婴儿非有智也，待父母而学者也，听父母之教。今子欺之，是教子欺也。母欺子，子而不信其母，非所以成教也。”遂烹彘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1"/>
              </a:rPr>
              <a:t>49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2"/>
              </a:rPr>
              <a:t>曾子杀猪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3"/>
              </a:rPr>
              <a:t>_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4"/>
              </a:rPr>
              <a:t>高清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幼圆"/>
                <a:ea typeface="幼圆"/>
                <a:hlinkClick r:id="rId5"/>
              </a:rPr>
              <a:t>.mp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4240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42400" y="3200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79360" y="189000"/>
            <a:ext cx="1916280" cy="216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2" name=""/>
          <p:cNvSpPr/>
          <p:nvPr/>
        </p:nvSpPr>
        <p:spPr>
          <a:xfrm>
            <a:off x="2411280" y="964800"/>
            <a:ext cx="6518520" cy="581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王健是老师最信任的一班之长，一天，老师找王健了解陈林的情况，因为陈林最近行为反常，上课神情恍惚，成绩直线下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0920" y="5013360"/>
            <a:ext cx="8569080" cy="1440000"/>
            <a:chOff x="250920" y="5013360"/>
            <a:chExt cx="8569080" cy="1440000"/>
          </a:xfrm>
        </p:grpSpPr>
        <p:sp>
          <p:nvSpPr>
            <p:cNvPr id="294" name=""/>
            <p:cNvSpPr/>
            <p:nvPr/>
          </p:nvSpPr>
          <p:spPr>
            <a:xfrm>
              <a:off x="250920" y="5013360"/>
              <a:ext cx="8569080" cy="14400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3640" y="5054400"/>
              <a:ext cx="8424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王健应该告诉老师实情吗？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他这样做可能会有什么后果呢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?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2360" y="24256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陈林是王健的好朋友，王健知道陈林最近迷恋上了网络游戏，并向陈林保证不把此事告诉任何人。面对老师的询问，王健很为难，作为班长，他有责任向老师如实反映情况，作为同窗好友，他又有义务保护同学的隐私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荷花"/>
          <p:cNvPicPr/>
          <p:nvPr/>
        </p:nvPicPr>
        <p:blipFill>
          <a:blip r:embed="rId1"/>
          <a:stretch/>
        </p:blipFill>
        <p:spPr>
          <a:xfrm>
            <a:off x="-461880" y="-309600"/>
            <a:ext cx="9734400" cy="7297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3708360" y="4941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74840" y="1225440"/>
            <a:ext cx="80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520" y="73080"/>
            <a:ext cx="51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“诚信”的准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60" y="112392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尊重客观事实，用事实说话；但有特殊情况时要灵活、妥当、正确地处理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60" y="2421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要站在多数人的利益一边考虑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360" y="328464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要用发展的眼光看待问题（长远发展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60" y="44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在情与法的冲突中要站在法的一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20600" y="530208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诚信的核心是“善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18747" t="0" r="2030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1080" y="11736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三、测“诚信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213372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为学生，面对考试，你诚实了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rcRect l="18747" t="0" r="2030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979640" y="2133720"/>
            <a:ext cx="583236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欣赏小品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弊风波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2"/>
              </a:rPr>
              <a:t>小品</a:t>
            </a:r>
            <a:r>
              <a:rPr b="0" lang="en-US" sz="48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3"/>
              </a:rPr>
              <a:t>.MP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0"/>
          <p:cNvSpPr/>
          <p:nvPr/>
        </p:nvSpPr>
        <p:spPr>
          <a:xfrm>
            <a:off x="1258920" y="13824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作弊的危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Group 3"/>
          <p:cNvGrpSpPr/>
          <p:nvPr/>
        </p:nvGrpSpPr>
        <p:grpSpPr>
          <a:xfrm>
            <a:off x="0" y="1341360"/>
            <a:ext cx="3816000" cy="1080720"/>
            <a:chOff x="0" y="1341360"/>
            <a:chExt cx="3816000" cy="1080720"/>
          </a:xfrm>
        </p:grpSpPr>
        <p:sp>
          <p:nvSpPr>
            <p:cNvPr id="313" name="AutoShape 12"/>
            <p:cNvSpPr/>
            <p:nvPr/>
          </p:nvSpPr>
          <p:spPr>
            <a:xfrm>
              <a:off x="0" y="1507680"/>
              <a:ext cx="3816000" cy="914400"/>
            </a:xfrm>
            <a:prstGeom prst="downArrowCallout">
              <a:avLst>
                <a:gd name="adj1" fmla="val 104263"/>
                <a:gd name="adj2" fmla="val 52127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edfad2"/>
                </a:gs>
                <a:gs pos="100000">
                  <a:srgbClr val="ebf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 rot="10800000">
              <a:off x="10440" y="1341000"/>
              <a:ext cx="3805200" cy="166320"/>
            </a:xfrm>
            <a:prstGeom prst="pie">
              <a:avLst/>
            </a:prstGeom>
            <a:gradFill rotWithShape="0">
              <a:gsLst>
                <a:gs pos="0">
                  <a:srgbClr val="edfad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WordArt 23"/>
          <p:cNvSpPr txBox="1"/>
          <p:nvPr/>
        </p:nvSpPr>
        <p:spPr>
          <a:xfrm>
            <a:off x="250920" y="1614600"/>
            <a:ext cx="331308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引起考生的焦虑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16" name="Group 13"/>
          <p:cNvGrpSpPr/>
          <p:nvPr/>
        </p:nvGrpSpPr>
        <p:grpSpPr>
          <a:xfrm>
            <a:off x="611280" y="2133360"/>
            <a:ext cx="7992000" cy="4248000"/>
            <a:chOff x="611280" y="2133360"/>
            <a:chExt cx="7992000" cy="4248000"/>
          </a:xfrm>
        </p:grpSpPr>
        <p:sp>
          <p:nvSpPr>
            <p:cNvPr id="317" name="Rectangle 25"/>
            <p:cNvSpPr/>
            <p:nvPr/>
          </p:nvSpPr>
          <p:spPr>
            <a:xfrm rot="10800000">
              <a:off x="611280" y="2557080"/>
              <a:ext cx="7992000" cy="3823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AutoShape 26"/>
            <p:cNvSpPr/>
            <p:nvPr/>
          </p:nvSpPr>
          <p:spPr>
            <a:xfrm rot="10800000">
              <a:off x="611280" y="2133000"/>
              <a:ext cx="7992000" cy="4237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Text Box 27"/>
          <p:cNvSpPr/>
          <p:nvPr/>
        </p:nvSpPr>
        <p:spPr>
          <a:xfrm>
            <a:off x="755640" y="28447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作弊是一种欺骗行为，作弊过程要躲过监考老师，这就必然引起考生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紧张不安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使得本来没有考试焦虑的考生可能因为这种特殊的情景与心理状态，而产生不必要的考试焦虑，影响考试作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6135840" y="29973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0"/>
          <p:cNvSpPr/>
          <p:nvPr/>
        </p:nvSpPr>
        <p:spPr>
          <a:xfrm>
            <a:off x="1187280" y="13824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作弊的危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3080" y="1123920"/>
            <a:ext cx="4211280" cy="1080720"/>
            <a:chOff x="73080" y="1123920"/>
            <a:chExt cx="4211280" cy="1080720"/>
          </a:xfrm>
        </p:grpSpPr>
        <p:sp>
          <p:nvSpPr>
            <p:cNvPr id="323" name="AutoShape 12"/>
            <p:cNvSpPr/>
            <p:nvPr/>
          </p:nvSpPr>
          <p:spPr>
            <a:xfrm>
              <a:off x="73080" y="1290240"/>
              <a:ext cx="4211280" cy="914400"/>
            </a:xfrm>
            <a:prstGeom prst="downArrowCallout">
              <a:avLst>
                <a:gd name="adj1" fmla="val 115063"/>
                <a:gd name="adj2" fmla="val 57526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edfad2"/>
                </a:gs>
                <a:gs pos="100000">
                  <a:srgbClr val="ebf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AutoShape 13"/>
            <p:cNvSpPr/>
            <p:nvPr/>
          </p:nvSpPr>
          <p:spPr>
            <a:xfrm rot="10800000">
              <a:off x="84240" y="1123560"/>
              <a:ext cx="4199400" cy="166320"/>
            </a:xfrm>
            <a:prstGeom prst="pie">
              <a:avLst/>
            </a:prstGeom>
            <a:gradFill rotWithShape="0">
              <a:gsLst>
                <a:gs pos="0">
                  <a:srgbClr val="edfad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7"/>
          <p:cNvGrpSpPr/>
          <p:nvPr/>
        </p:nvGrpSpPr>
        <p:grpSpPr>
          <a:xfrm>
            <a:off x="395280" y="1989000"/>
            <a:ext cx="8496720" cy="4679280"/>
            <a:chOff x="395280" y="1989000"/>
            <a:chExt cx="8496720" cy="4679280"/>
          </a:xfrm>
        </p:grpSpPr>
        <p:sp>
          <p:nvSpPr>
            <p:cNvPr id="326" name="Rectangle 25"/>
            <p:cNvSpPr/>
            <p:nvPr/>
          </p:nvSpPr>
          <p:spPr>
            <a:xfrm rot="10800000">
              <a:off x="395280" y="2455200"/>
              <a:ext cx="8496720" cy="4212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AutoShape 26"/>
            <p:cNvSpPr/>
            <p:nvPr/>
          </p:nvSpPr>
          <p:spPr>
            <a:xfrm rot="10800000">
              <a:off x="395280" y="1988640"/>
              <a:ext cx="8496720" cy="4665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 Box 37"/>
          <p:cNvSpPr/>
          <p:nvPr/>
        </p:nvSpPr>
        <p:spPr>
          <a:xfrm>
            <a:off x="6135840" y="29973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WordArt 28"/>
          <p:cNvSpPr txBox="1"/>
          <p:nvPr/>
        </p:nvSpPr>
        <p:spPr>
          <a:xfrm>
            <a:off x="179280" y="1400040"/>
            <a:ext cx="374328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未来发展的影响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539640" y="234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作弊可能使考生在某一次考试中获得高分，但这并不等于他真正掌握了知识，而在以后的学习工作中，考试分数并非衡量一个人知识水平高低的标准。所以，从表面看来，作弊是考生欺骗老师，但从本质上看，作弊则是一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欺欺人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</a:rPr>
              <a:t>的行为，它并不能使考生得到任何实际的利益，既不会有利于考生的学习，更不会有利于他今后的工作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0"/>
          <p:cNvSpPr/>
          <p:nvPr/>
        </p:nvSpPr>
        <p:spPr>
          <a:xfrm>
            <a:off x="1187280" y="28260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作弊的危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Group 3"/>
          <p:cNvGrpSpPr/>
          <p:nvPr/>
        </p:nvGrpSpPr>
        <p:grpSpPr>
          <a:xfrm>
            <a:off x="0" y="1195560"/>
            <a:ext cx="4211280" cy="1080720"/>
            <a:chOff x="0" y="1195560"/>
            <a:chExt cx="4211280" cy="1080720"/>
          </a:xfrm>
        </p:grpSpPr>
        <p:sp>
          <p:nvSpPr>
            <p:cNvPr id="333" name="AutoShape 12"/>
            <p:cNvSpPr/>
            <p:nvPr/>
          </p:nvSpPr>
          <p:spPr>
            <a:xfrm>
              <a:off x="0" y="1361880"/>
              <a:ext cx="4211280" cy="914400"/>
            </a:xfrm>
            <a:prstGeom prst="downArrowCallout">
              <a:avLst>
                <a:gd name="adj1" fmla="val 115063"/>
                <a:gd name="adj2" fmla="val 57526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edfad2"/>
                </a:gs>
                <a:gs pos="100000">
                  <a:srgbClr val="ebf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3"/>
            <p:cNvSpPr/>
            <p:nvPr/>
          </p:nvSpPr>
          <p:spPr>
            <a:xfrm rot="10800000">
              <a:off x="11160" y="1195200"/>
              <a:ext cx="4199400" cy="166320"/>
            </a:xfrm>
            <a:prstGeom prst="pie">
              <a:avLst/>
            </a:prstGeom>
            <a:gradFill rotWithShape="0">
              <a:gsLst>
                <a:gs pos="0">
                  <a:srgbClr val="edfad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6"/>
          <p:cNvGrpSpPr/>
          <p:nvPr/>
        </p:nvGrpSpPr>
        <p:grpSpPr>
          <a:xfrm>
            <a:off x="395280" y="1989000"/>
            <a:ext cx="8496720" cy="4679280"/>
            <a:chOff x="395280" y="1989000"/>
            <a:chExt cx="8496720" cy="4679280"/>
          </a:xfrm>
        </p:grpSpPr>
        <p:sp>
          <p:nvSpPr>
            <p:cNvPr id="336" name="Rectangle 25"/>
            <p:cNvSpPr/>
            <p:nvPr/>
          </p:nvSpPr>
          <p:spPr>
            <a:xfrm rot="10800000">
              <a:off x="395280" y="2455200"/>
              <a:ext cx="8496720" cy="4212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26"/>
            <p:cNvSpPr/>
            <p:nvPr/>
          </p:nvSpPr>
          <p:spPr>
            <a:xfrm rot="10800000">
              <a:off x="395280" y="1988640"/>
              <a:ext cx="8496720" cy="4665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Text Box 37"/>
          <p:cNvSpPr/>
          <p:nvPr/>
        </p:nvSpPr>
        <p:spPr>
          <a:xfrm>
            <a:off x="6135840" y="29973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WordArt 29"/>
          <p:cNvSpPr txBox="1"/>
          <p:nvPr/>
        </p:nvSpPr>
        <p:spPr>
          <a:xfrm>
            <a:off x="539640" y="1413000"/>
            <a:ext cx="32562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利于心理健康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0" name="Text Box 38"/>
          <p:cNvSpPr/>
          <p:nvPr/>
        </p:nvSpPr>
        <p:spPr>
          <a:xfrm>
            <a:off x="539640" y="2492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在作弊过程中，难免不被发现，一旦被发现，考生就会感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羞愧与失望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各种沮丧心情都可能产生。有时还会在考后持续许久，从而影响考生的心理健康。假如作弊被发现后，下面还有别的考试，这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羞愧感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就会影响下一个科目的成绩，更不利于考生心理上的恢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0"/>
          <p:cNvSpPr/>
          <p:nvPr/>
        </p:nvSpPr>
        <p:spPr>
          <a:xfrm>
            <a:off x="1187280" y="28260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作弊的危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395280" y="1989000"/>
            <a:ext cx="8496720" cy="4679280"/>
            <a:chOff x="395280" y="1989000"/>
            <a:chExt cx="8496720" cy="4679280"/>
          </a:xfrm>
        </p:grpSpPr>
        <p:sp>
          <p:nvSpPr>
            <p:cNvPr id="343" name="Rectangle 25"/>
            <p:cNvSpPr/>
            <p:nvPr/>
          </p:nvSpPr>
          <p:spPr>
            <a:xfrm rot="10800000">
              <a:off x="395280" y="2455200"/>
              <a:ext cx="8496720" cy="4212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 rot="10800000">
              <a:off x="395280" y="1988640"/>
              <a:ext cx="8496720" cy="4665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Text Box 37"/>
          <p:cNvSpPr/>
          <p:nvPr/>
        </p:nvSpPr>
        <p:spPr>
          <a:xfrm>
            <a:off x="6135840" y="29973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8"/>
          <p:cNvSpPr/>
          <p:nvPr/>
        </p:nvSpPr>
        <p:spPr>
          <a:xfrm>
            <a:off x="395280" y="2637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由于你的作弊行为，一部分同学必定会对你存在一定的看法，从而毁坏你在他们心目中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象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信任危机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由此产生；同时，也有一部分同学对你产生“羡慕忌妒恨”的思想，他们也可能学着提高自己的“成绩”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风班风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由此遭到破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48428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毁坏个人形象，破坏学风班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271880" y="69228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四、宣“诚信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03280" y="249228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、搜集有关“诚信”的名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842000" y="1989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60360" y="1197000"/>
            <a:ext cx="66247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宣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言必行，行必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知之为知之，不知为不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诚信换取诚信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诚信收获成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诚信开启知识之窗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诚信鼓起上进之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诚信，我光荣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诚信，我自尊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诚信，我成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C:\Users\cf\Desktop\1倪：诚信\丁晓红 - 诚信中国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393372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8436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916360" y="476280"/>
            <a:ext cx="46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弘扬民族精神 做诚实守信学生</a:t>
            </a:r>
            <a:endParaRPr b="0" i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260280"/>
            <a:ext cx="323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2360" y="18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、我宣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0" t="36781" r="0" b="473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940040" y="1249200"/>
            <a:ext cx="68086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隶书"/>
              </a:rPr>
              <a:t>诚信做人、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隶书"/>
              </a:rPr>
              <a:t>诚实考试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96720" y="1268280"/>
            <a:ext cx="84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生命不会从谎言中开出灿烂的鲜花。诚信犹如火焰，给人希望，给人温暖；诚信犹如明镜，给人准则，给人借鉴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同学们，让诚信的火种永驻你们心中。相信，诚信会让你们的生命更加辉煌灿烂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68360" y="40464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花就是花 果就是果                      甜就说甜 涩就说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拉钩算数 说了就做                      诚信品德 美好你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说话算话 我一诺千金               你一言九鼎 我一言为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君子一言 驷马难追                  我张口不悔 一锤定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为本 土能生金                      天下的人和诚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我合作共赢                              诚信人人 人人诚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的中国心想事成前程似锦    你童叟无欺 我一视同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表里如一 我诚实守信              你精诚所至 金石为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我以诚相待 以心换心                  诚信为本 土能生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天下的人和诚信                          你我合作共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人人 人人诚信                     诚信的中国心想事成前程似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为本 土能生金                      天下的人和诚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你我合作共赢                              诚信人人 人人诚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的中国心想事成前程似锦    前程似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179280" y="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6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16000" y="1484280"/>
            <a:ext cx="6335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92200" y="411120"/>
            <a:ext cx="714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1400" y="40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文鼎习字体"/>
              </a:rPr>
              <a:t>班会目的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3480" y="1484280"/>
            <a:ext cx="4688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明确“诚信”的含义，了解“诚信”的地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重视“诚信”的作用，做文明诚信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重视学习，诚实考试，做自律自爱、文明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范的中学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87280" y="4797360"/>
            <a:ext cx="713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为人之本、交往之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5807160"/>
            <a:ext cx="9144000" cy="1050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92360" y="177336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诚”，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黑体"/>
              </a:rPr>
              <a:t>就是诚实无欺、诚实做人、诚实做事，实事求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2360" y="3068640"/>
            <a:ext cx="63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信”，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  <a:ea typeface="黑体"/>
              </a:rPr>
              <a:t>即有信用、讲信誉、守信义、不虚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371600" cy="43052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79280" y="117360"/>
            <a:ext cx="46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一、明“诚信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240" y="947880"/>
            <a:ext cx="60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诚信”的含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81080" y="1123920"/>
            <a:ext cx="878508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金秋，怀着无比自豪与兴奋之情的天之骄子从各地云聚燕园。一位扛着行李的新生，看见一位穿旧式中山装的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守门人模样的老头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就请他帮助看一会儿行李，自己则轻装去办理报到的手续。老头没说什么，答应了，老老实实地在那儿守着，一呆就是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一个多小时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北京天气还很热，旁边有人说：“您回去吧，我替他看着。”可老人说：“还是我等他吧，换了人他该找不着了。”那位学生回来后，老头什么也没说就走了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后的开学典礼上，这位学子吃惊地认出了台上的副校长、大名鼎鼎的季羡林教授就是那天帮自己看行李的老头！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112392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黑体"/>
              </a:rPr>
              <a:t>、《北大副校长季羡林先生为学生守书包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6840" y="26028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黑体"/>
              </a:rPr>
              <a:t>二、话“诚信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771640" y="270828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我们身边有哪些不诚信的行为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2360" y="189000"/>
            <a:ext cx="304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、反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3320" cy="2997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84720" y="2997360"/>
            <a:ext cx="4859280" cy="3860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-33480" y="2997360"/>
            <a:ext cx="4314960" cy="3786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2997360"/>
          </a:xfrm>
          <a:prstGeom prst="rect">
            <a:avLst/>
          </a:prstGeom>
          <a:ln w="19080">
            <a:solidFill>
              <a:srgbClr val="000000"/>
            </a:solidFill>
            <a:bevel/>
          </a:ln>
        </p:spPr>
      </p:pic>
      <p:sp>
        <p:nvSpPr>
          <p:cNvPr id="282" name=""/>
          <p:cNvSpPr/>
          <p:nvPr/>
        </p:nvSpPr>
        <p:spPr>
          <a:xfrm>
            <a:off x="4849200" y="5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假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18747" t="0" r="2030" b="0"/>
          <a:stretch/>
        </p:blipFill>
        <p:spPr>
          <a:xfrm>
            <a:off x="0" y="0"/>
            <a:ext cx="9180360" cy="6892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92520" y="2637000"/>
            <a:ext cx="44524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2"/>
              </a:rPr>
              <a:t>温州乐清警方破获新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3"/>
              </a:rPr>
              <a:t>地沟油全国大案 </a:t>
            </a:r>
            <a:r>
              <a:rPr b="0" lang="en-US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4"/>
              </a:rPr>
              <a:t>12040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5"/>
              </a:rPr>
              <a:t>新闻深一度</a:t>
            </a:r>
            <a:r>
              <a:rPr b="0" lang="en-US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6"/>
              </a:rPr>
              <a:t>_</a:t>
            </a:r>
            <a:r>
              <a:rPr b="0" lang="zh-CN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7"/>
              </a:rPr>
              <a:t>标清</a:t>
            </a:r>
            <a:r>
              <a:rPr b="0" lang="en-US" sz="4000" spc="-1" strike="noStrike" u="sng">
                <a:solidFill>
                  <a:srgbClr val="cc99ff"/>
                </a:solidFill>
                <a:uFillTx/>
                <a:latin typeface="Arial"/>
                <a:ea typeface="黑体"/>
                <a:hlinkClick r:id="rId8"/>
              </a:rPr>
              <a:t>.fl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231800" y="4797360"/>
            <a:ext cx="80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00"/>
                </a:solidFill>
                <a:latin typeface="Arial"/>
              </a:rPr>
              <a:t>世界将充满虚伪和欺骗、不公和悲惨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701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557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假如你的同学、邻居、父母、医生、警察、司机……都不讲诚信，后果会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02:15:15Z</dcterms:created>
  <dc:creator>赵大路</dc:creator>
  <dc:description>诚信</dc:description>
  <cp:keywords>诚信  班会</cp:keywords>
  <dc:language>en-US</dc:language>
  <cp:lastModifiedBy>xjszjs02</cp:lastModifiedBy>
  <dcterms:modified xsi:type="dcterms:W3CDTF">2014-12-08T02:19:40Z</dcterms:modified>
  <cp:revision>140</cp:revision>
  <dc:subject>免费学科网www.xueke123.com完全免费</dc:subject>
  <dc:title>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