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hammer.wav" ContentType="audio/x-wav"/>
  <Override PartName="/ppt/media/image7.jpeg" ContentType="image/jpeg"/>
  <Override PartName="/ppt/media/image5.jpeg" ContentType="image/jpeg"/>
  <Override PartName="/ppt/media/image4.jpeg" ContentType="image/jpeg"/>
  <Override PartName="/ppt/media/image6.jpeg" ContentType="image/jpeg"/>
  <Override PartName="/ppt/media/chimes.wav" ContentType="audio/x-wav"/>
  <Override PartName="/ppt/media/image16.png" ContentType="image/png"/>
  <Override PartName="/ppt/media/image21.jpeg" ContentType="image/jpeg"/>
  <Override PartName="/ppt/media/camera.wav" ContentType="audio/x-wav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coin.wav" ContentType="audio/x-wav"/>
  <Override PartName="/ppt/media/image1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20C5-489D-49A6-BFEF-21F764A5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9B91-1C29-4D92-AE15-D99E3BD6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FDD4-E832-4B25-B483-7D9052AA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126F-DEBA-466B-88C3-957920F61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708D-0BB7-4752-A0FF-2799E5884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F481-9C55-4C24-A8B5-37DC97D3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57A1-2F44-488E-864B-43AE32C6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4052-2B7D-4B10-892C-14EB9F8A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2622-92C2-453A-8C0E-E47ECF9D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609D-1F04-41DB-BE8D-6B9798EF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D335-634D-4E09-8E8D-C193FE0C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7CFD-CEA9-4D83-9707-A777FCED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82BD-49EB-4566-88E0-98D6714F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B9DC-4A98-4633-8661-476993A4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7802-1F47-4573-8FF3-70D34ACC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ACB8-AC75-41A3-953B-2C541B841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38D4-5ACB-469B-96C9-1E3C4925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82E82-3658-48C6-8B32-F7745C3D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ADCBD-6E5E-48D2-8005-FB27BB88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D0A90-7BC4-4CE4-886E-3C9446A5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2578D-6E7C-481F-884A-3E945293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1AE64-04D3-4DF2-9123-20FCAEE6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19EC-FEF9-4D1D-A27C-936E074D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62C30-C3F2-41AE-BDFE-BE740286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9551E-7127-4799-9AE0-B972936B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1841C-FBCB-45DF-85B1-74B4B690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6B96E-6E29-429D-BDAE-A3E2805A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AD23B-6F84-4B14-9717-14F0E10D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29AE5-496F-43DD-BF58-2A948AF3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A1E24-4CDD-421C-9EC2-0B2B13894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8489-3773-4871-A7C2-5A5A9ED3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2A00-446A-4B70-BD9A-B41664EB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12B2-DE40-4040-B2B8-46CC0161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3410-B219-4819-B364-1DBEFA66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8177-D24B-4334-B166-DE054867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4877-D24A-4B78-AE71-3CD2BD3B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91A4-D772-41A8-8C8D-D9506454F3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CA93-3867-4E6E-8205-F43DD045D2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58C6-5356-42D5-9CAB-55E50766A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hammer.wav"/><Relationship Id="rId3" Type="http://schemas.openxmlformats.org/officeDocument/2006/relationships/audio" Target="../media/coin.wav"/><Relationship Id="rId4" Type="http://schemas.openxmlformats.org/officeDocument/2006/relationships/audio" Target="../media/coin.wav"/><Relationship Id="rId5" Type="http://schemas.openxmlformats.org/officeDocument/2006/relationships/audio" Target="../media/coin.wav"/><Relationship Id="rId6" Type="http://schemas.openxmlformats.org/officeDocument/2006/relationships/audio" Target="../media/coin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baike.baidu.com/view/2682.htm" TargetMode="External"/><Relationship Id="rId2" Type="http://schemas.openxmlformats.org/officeDocument/2006/relationships/hyperlink" Target="http://baike.baidu.com/view/1076.htm" TargetMode="External"/><Relationship Id="rId3" Type="http://schemas.openxmlformats.org/officeDocument/2006/relationships/hyperlink" Target="http://baike.baidu.com/view/31596.htm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2932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3780000" y="191628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长  相  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5076720" y="350028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清   纳兰性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242480" y="1295280"/>
            <a:ext cx="127764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长相思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42640" y="855360"/>
            <a:ext cx="78984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一程  水一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09280" y="457200"/>
            <a:ext cx="1399320" cy="68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身向榆关那畔行 夜深千帐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94880" y="823680"/>
            <a:ext cx="789840" cy="21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一更  雪一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70640" y="-677160"/>
            <a:ext cx="789840" cy="87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聒碎乡心梦不成 故园无此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537040" y="2541240"/>
            <a:ext cx="60696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词牌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7000" y="1084680"/>
            <a:ext cx="911880" cy="41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一路走过的风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既感慨又峰回路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008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2590920"/>
            <a:ext cx="0" cy="1295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3840" y="1566360"/>
            <a:ext cx="546120" cy="33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俗语   如那厮  那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38098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91120" y="5410080"/>
            <a:ext cx="0" cy="12193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08200" y="4088520"/>
            <a:ext cx="546120" cy="29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皇帝远征的浩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91120" y="1676520"/>
            <a:ext cx="0" cy="7617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36800" y="134892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山海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52680" y="0"/>
            <a:ext cx="2286000" cy="609480"/>
          </a:xfrm>
          <a:prstGeom prst="rightArrow">
            <a:avLst>
              <a:gd name="adj1" fmla="val 50000"/>
              <a:gd name="adj2" fmla="val 937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1320" y="1125720"/>
            <a:ext cx="911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风雪之夜      思乡之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感慨万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1523880"/>
            <a:ext cx="0" cy="7621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4419720"/>
            <a:ext cx="0" cy="22096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00" y="4222800"/>
            <a:ext cx="127764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家庭的温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衬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异地他乡的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2280" y="3276720"/>
            <a:ext cx="4572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程：道程，路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榆关：即山海关，古名榆关，明代改今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那畔：即山海关的另一边，指身处关外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帐：军营的帐篷，千帐言军营之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更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ē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旧时一夜分五更，每更大约两小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聒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嘈杂搅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故园：谓京师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此声：指风雪交加的声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p_large_49Ql_79c2000a5f3b2d12"/>
          <p:cNvPicPr/>
          <p:nvPr/>
        </p:nvPicPr>
        <p:blipFill>
          <a:blip r:embed="rId1"/>
          <a:stretch/>
        </p:blipFill>
        <p:spPr>
          <a:xfrm>
            <a:off x="0" y="0"/>
            <a:ext cx="8496360" cy="65991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翻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路上跋山涉水，向榆关那边行进。夜深宿营，只见无数行帐中都亮着灯火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挨过了一更又一更，风雪声吵得我乡心碎乱，乡梦难圆。家乡没有这种声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均为实写，不着一字修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一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重复出现，见出跋山涉水旅途的漫长，同时渐行渐远意味着离家乡也越来越远。空间的转换突出了行程中的动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一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重复出现，见出风雪肆虐。长夜不绝，关外风雪来势猛烈。时间的流动，展现出长夜漫漫无休无止的绵长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上阕写山水行程。说“身”，诉诸视觉，在空间上展开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路跋山涉水，鞍马劳顿，目的地只在榆关那边。清寒的时节，苍凉的去处，那万丈穹庐下安扎的营帐，望去好似繁星落地，璀璨异常。如此壮丽之景，只从词人“夜深千帐灯”几字中，我们便可体会无二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下阕承接“夜深千帐灯”，继续写“夜”，过渡自然。写出了深夜不寐时的思乡之情，说“心”，诉诸听觉，在时间上展开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词人身为侍卫之职，一生多鞍马劳役。急风飞雪的出塞路上，帐外长久的风雪声，勾起的是对“故园”无尽的思念，对家中的温暖的无尽的思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458640" y="549360"/>
            <a:ext cx="8507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的“身”在哪里？你们是从哪儿读出的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55640" y="1341360"/>
            <a:ext cx="7993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</a:rPr>
              <a:t>他经过了崇山峻岭，他经过了小河大川，他经过了山海关外，他经过了军营的帐篷，他还经过了许许多多的地方。一句话，作者身在征途上。</a:t>
            </a: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900000" y="443700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者的“心”又在哪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900000" y="53737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</a:rPr>
              <a:t>心系故园</a:t>
            </a:r>
            <a:r>
              <a:rPr b="1" lang="zh-CN" sz="3600" spc="-1" strike="noStrike">
                <a:solidFill>
                  <a:srgbClr val="00a8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鉴赏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华文新魏"/>
              </a:rPr>
              <a:t>写景叙事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作者通过描写他随君巡时的所见、所闻及所感，将叙事写景完美融合，表达出表达了词人对故乡的深深思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《长相思》是一首描写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华文新魏"/>
              </a:rPr>
              <a:t>边塞军旅途中思乡寄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的佳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字 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、“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华文新魏"/>
              </a:rPr>
              <a:t>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”字赏析：上下片的前两句均用“一”字，不但对仗工整，使文字呈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华文新魏"/>
              </a:rPr>
              <a:t>连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不绝之势，词风更加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华文新魏"/>
              </a:rPr>
              <a:t>缠绵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。 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、“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华文新魏"/>
              </a:rPr>
              <a:t>身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”字赏析：点明身处之地及方向，“身”与心相对，身向榆关，而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华文新魏"/>
              </a:rPr>
              <a:t>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却在关内，表明作者心系故园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新魏"/>
              </a:rPr>
              <a:t> 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>
            <a:lum bright="2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鉴赏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长相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以具体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新魏"/>
              </a:rPr>
              <a:t>时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推移过程，及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新魏"/>
              </a:rPr>
              <a:t>视听感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，既表现景象的宏阔观感，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新魏"/>
              </a:rPr>
              <a:t>对称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上一阕，山水相迭，一程接一程，主要是写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新魏"/>
              </a:rPr>
              <a:t>空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上的延续；下一阕，风雪交 加，一更接一更，主要是写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新魏"/>
              </a:rPr>
              <a:t>时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上的延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上一阕，强调“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新魏"/>
              </a:rPr>
              <a:t>身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行程之中身好累。“‘身’向榆关那畔行”，下一阕，强调“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新魏"/>
              </a:rPr>
              <a:t>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难眠之时心好苦 ，在思念故园，身心对仗，“身在曹营心在汉”，身向榆关心却在故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鉴赏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5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综合应用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行楷"/>
              </a:rPr>
              <a:t>视觉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华文行楷"/>
              </a:rPr>
              <a:t>.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行楷"/>
              </a:rPr>
              <a:t>听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等多种感官。上一阕，无论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华文行楷"/>
              </a:rPr>
              <a:t>山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还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华文行楷"/>
              </a:rPr>
              <a:t>灯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，都重在写所见，写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行楷"/>
              </a:rPr>
              <a:t>视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；下一阕，无论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华文行楷"/>
              </a:rPr>
              <a:t>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还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华文行楷"/>
              </a:rPr>
              <a:t>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，都重在写所闻，写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行楷"/>
              </a:rPr>
              <a:t>听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行楷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6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华文行楷"/>
              </a:rPr>
              <a:t>.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行楷"/>
              </a:rPr>
              <a:t>真切，缠绵而不颓废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“山一程，水一程”的身漂异乡，梦回家园的意境，信手拈来不限雕琢，最易引起天涯羁旅的共鸣，“夜深千帐灯”宏伟壮观，柔情之中露出男儿镇守边塞的慷慨报国之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311120" y="1417680"/>
            <a:ext cx="6069240" cy="1557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Arial"/>
                <a:ea typeface="华文新魏"/>
              </a:rPr>
              <a:t>长  相  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68360" y="3213000"/>
            <a:ext cx="340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纳兰性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鉴赏（四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6.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新魏"/>
              </a:rPr>
              <a:t>互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：即互文见义，是指在有意思相对或相关的文句里，前后两句词语互相呼应，互相交错，意义上互相渗透、互相补充，使文句更加整齐和谐、更加精炼的一种修辞手法。互文的一个显著特点是：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新魏"/>
              </a:rPr>
              <a:t>上文里含有下文将要出现的词，下文里含有上文已经出现的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如：“不以物喜，不以己悲” ，它的翻译如下：不因为外物的（好坏）而或喜或悲，不因为自己的（得失）而或喜或悲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板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  <a:ea typeface="华文行楷"/>
              </a:rPr>
              <a:t>山         水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            身            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视觉      空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  <a:ea typeface="华文行楷"/>
              </a:rPr>
              <a:t>风         雪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             心           故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听觉        时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2438280"/>
            <a:ext cx="0" cy="1676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2438280"/>
            <a:ext cx="0" cy="152424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828800" y="2362320"/>
            <a:ext cx="0" cy="21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44120" cy="7315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808200" y="770040"/>
            <a:ext cx="563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882000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拓展练习 </a:t>
            </a:r>
            <a:br>
              <a:rPr sz="24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长  相  思 </a:t>
            </a:r>
            <a:br>
              <a:rPr sz="4400"/>
            </a:b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      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李白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长相思，在长安。 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络纬秋啼金井阑， 微霜凄凄簟色寒。 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孤灯不明思欲绝， 卷帷望月空长叹。 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美人如花隔云端。 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上有青冥之高天， 下有渌水之波澜。 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天长路远魂飞苦， 梦魂不到关山难。 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长相思，摧心肝。 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李白此诗表达了怎样的思想感情？感情基调与纳兰词有何不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429000" y="6019920"/>
            <a:ext cx="480060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孤寂 苦闷  思念  苦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ransition>
    <p:cover dir="d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763640" y="3645000"/>
            <a:ext cx="6050160" cy="3213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58920" y="333360"/>
            <a:ext cx="878508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李白七言歌行往往豪迈奔放，但也有一些诗篇能在豪放飘逸的同时兼有含蓄的思致。像这首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长相思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，大约是他离开长安后于沉思中回忆过往情绪之作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. 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一段从篇首至“美人如花隔云端”，写诗中人“在长安”的相思苦情。第二段，紧承“美人如花隔云端”句，写一场梦游式的追求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此诗形式匀称，“美人如花隔云端”这个独立句把全诗分为篇幅均衡的两部分。全诗从“长相思”展开抒情，又于“长相思”一语收拢。在形式上颇具对称整饬之美，韵律感极强，大有助于抒情。诗中反复抒写的似乎只是男女相思，把这种相思苦情表现得淋漓尽致；但是，“美人如花隔云端”就不象实际生活的写照，而显有托兴意味。何况我国古典诗歌又具有以“美人”喻所追求的理想人物的传统，如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楚辞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》“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恐美人之迟暮”。而“长安”这个特定地点更暗示这里是一种政治的托寓，表明此诗的意旨在抒写诗人追求政治理想不能实现的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此诗的意旨在抒写诗人追求政治理想不能实现的苦闷。就此而言，此诗诗意又深含于形象之中，隐然不露，具备一种蕴藉的风度。</a:t>
            </a:r>
            <a:br>
              <a:rPr sz="2000"/>
            </a:br>
            <a:br>
              <a:rPr sz="20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35120" y="985680"/>
            <a:ext cx="66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476280"/>
            <a:ext cx="628488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</a:t>
            </a:r>
            <a:r>
              <a:rPr b="1" lang="zh-CN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长  相  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隶书"/>
              </a:rPr>
              <a:t>      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隶书"/>
              </a:rPr>
              <a:t>白居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汴水流，泗水流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流到瓜洲古渡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吴山点点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思悠悠，恨悠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恨到归时方始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月明人倚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356000" y="476280"/>
            <a:ext cx="40482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68360" y="620640"/>
            <a:ext cx="734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476360" y="17460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这是一首怀人念远的抒情小词。上阕从眼前所见流水写起，并且目送远波，想象这流水将流到瓜洲渡和长江汇合，再想到吴中（江南）的山也面带愁容，实则深切怀念远在江南的情人，希望情人能从吴地归来，过瓜洲古渡，溯流北上与自己相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975672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92200" y="1490760"/>
            <a:ext cx="16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700360" y="476280"/>
            <a:ext cx="5781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下阕直接抒写情怀，因所思之人没有回来，只得在这月明之夜，独倚高楼。  抒发悠悠不尽的“思”和“恨”。全词以月下脉脉的流水映衬，象征悠悠的离情别绪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深深的思念和由此产生的绵绵的怨恨，又频用叠字叠韵，再配上那柔和的民歌风味，因而能深深打动读者心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971640" y="836640"/>
            <a:ext cx="75801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这首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长相思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，写一位女子倚楼怀人。在朦胧的月色下，映入她眼帘的山容水态，都充满了哀愁。前三句用三个“流”字，写出水的蜿蜒曲折，也酿造成低徊缠绵的情韵。下面用两个“悠悠”，更增添了愁思的绵长。全词以“恨”写“爱”，用浅易流畅的语言，和谐的音律，表现人物的复杂感情。特别是那一派流泻的月光，更烘托出哀怨忧伤的气氛，增强了艺术感染力，显示出这首小词言简意富、词浅昧深的特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879480" y="1130400"/>
            <a:ext cx="743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4292640"/>
            <a:ext cx="345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长   相   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     </a:t>
            </a:r>
            <a:r>
              <a:rPr b="1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白 居 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思恨绵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怀人念远的抒情小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284720" y="620640"/>
            <a:ext cx="4319640" cy="56167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50920" y="765000"/>
            <a:ext cx="3908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长　　相　　思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　　　　　纳兰性德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　　身在征途　心系故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新魏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碎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　　爱故园　　　爱祖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新魏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3120" y="2930400"/>
            <a:ext cx="376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8360" y="256536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长       相       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李        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豪迈奔放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上下追求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政治理想实现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------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-31680" y="-23760"/>
            <a:ext cx="9213840" cy="68817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700360" y="112536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拓展延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773360"/>
            <a:ext cx="90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于思乡的诗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请君试问东流水，别意与之谁短长？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李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劝君更尽一杯酒，西出阳关无故人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王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幕征帆何处泊，天涯一望断人肠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孟浩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4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孤帆远影碧空尽，唯见长江天际流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李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5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海内存知已，天涯若比邻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王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6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举头望明月，低头思故乡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李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7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但愿人长久，千里共婵娟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苏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8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独在异乡为异客，每逢佳节倍思亲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王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443640" y="549360"/>
            <a:ext cx="2374920" cy="2884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50920" y="333360"/>
            <a:ext cx="68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王国维曰：明月照积雪、大江流日夜、澄江静如练、山气日夕佳、落日大旗中、中天悬明月、大漠孤烟直、长河落日圆，此等境界可谓千古奇观。求之于词，则纳兰容若塞上之作，如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黑体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长相思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黑体"/>
              </a:rPr>
              <a:t>》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夜深千帐灯”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差近之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4000" y="3141720"/>
            <a:ext cx="6659280" cy="3548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0" y="2276640"/>
            <a:ext cx="88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9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若为化得身千亿，散向峰头望故乡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柳宗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君问归期未有期，巴山夜雨涨秋池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李商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春风又绿江南岸，明月何时照我还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王安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知何处吹芦菅，一夜征人尽望乡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李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浮云游子意，落日故人情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李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悠悠兮离别，无因兮叙怀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徐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知人心不似树，何意人别似花离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萧子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见时难别亦难，东风无力百花残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李商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思相见知何日，此时此夜难为情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李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00360" y="112536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拓展延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ectangle 3" descr=""/>
          <p:cNvPicPr/>
          <p:nvPr/>
        </p:nvPicPr>
        <p:blipFill>
          <a:blip r:embed="rId1"/>
          <a:stretch/>
        </p:blipFill>
        <p:spPr>
          <a:xfrm>
            <a:off x="0" y="189000"/>
            <a:ext cx="9396360" cy="71438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4000" spc="-1" strike="noStrike">
              <a:solidFill>
                <a:srgbClr val="00a8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6360" y="1773360"/>
            <a:ext cx="590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99"/>
                </a:solidFill>
                <a:latin typeface="Verdana"/>
              </a:rPr>
              <a:t>一、教 学 目 标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Verdana"/>
              </a:rPr>
              <a:t>1.</a:t>
            </a:r>
            <a:r>
              <a:rPr b="0" i="1" lang="zh-CN" sz="2800" spc="-1" strike="noStrike">
                <a:solidFill>
                  <a:srgbClr val="000099"/>
                </a:solidFill>
                <a:latin typeface="Verdana"/>
              </a:rPr>
              <a:t>了解作者的身世经历及生活时代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Verdana"/>
              </a:rPr>
              <a:t>2.</a:t>
            </a:r>
            <a:r>
              <a:rPr b="0" i="1" lang="zh-CN" sz="2800" spc="-1" strike="noStrike">
                <a:solidFill>
                  <a:srgbClr val="000099"/>
                </a:solidFill>
                <a:latin typeface="Verdana"/>
              </a:rPr>
              <a:t>掌握词的内容，体会词的意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en-US" sz="2800" spc="-1" strike="noStrike">
                <a:solidFill>
                  <a:srgbClr val="000099"/>
                </a:solidFill>
                <a:latin typeface="Verdana"/>
              </a:rPr>
              <a:t>3.</a:t>
            </a:r>
            <a:r>
              <a:rPr b="0" i="1" lang="zh-CN" sz="2800" spc="-1" strike="noStrike">
                <a:solidFill>
                  <a:srgbClr val="000099"/>
                </a:solidFill>
                <a:latin typeface="Verdana"/>
              </a:rPr>
              <a:t>领会词中作者流露的思想感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09480" y="1600200"/>
            <a:ext cx="799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长相思，词牌名。内容多写男女或朋友久别思念之情，故名。双调三十六字，平韵。 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04920" y="243828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纳兰性德推崇南唐李煜，词风清丽自然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缠绵悱恻， 反映到这首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长相思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上，虽写旅途思乡，也写得悠长动情。 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者简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纳兰性德，字容若，号楞伽山人，是清初著名大词人，与朱彝尊、陈维崧并称“清词三大家”。 ，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康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二年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进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大学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明珠长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淡泊名利，善骑射，好读书，擅长于词。他的词全以一个“真”字取胜，写情真挚浓烈，写景逼真传神。 国学大师王国维称其为“满清第一填词真人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纳兰性德的主要成就在于词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侧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饮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集，后多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纳兰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风格清新隽秀，哀感顽艳，有南唐后主遗风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788000" y="0"/>
            <a:ext cx="4356000" cy="4149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0"/>
            <a:ext cx="4788000" cy="4108320"/>
          </a:xfrm>
          <a:prstGeom prst="rect">
            <a:avLst/>
          </a:prstGeom>
          <a:solidFill>
            <a:srgbClr val="ffff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中宋"/>
              </a:rPr>
              <a:t>纳兰容若，清初第一词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中宋"/>
              </a:rPr>
              <a:t>生于温柔富贵，却满篇哀感顽艳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中宋"/>
              </a:rPr>
              <a:t>身处花柳繁华，心却游离于喧闹之外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中宋"/>
              </a:rPr>
              <a:t>真正的八旗子弟，却喜结交落拓文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中宋"/>
              </a:rPr>
              <a:t>行走于仕途，一生却为情所累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中宋"/>
              </a:rPr>
              <a:t>风华正茂之时，却匆匆离世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华文中宋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中宋"/>
              </a:rPr>
              <a:t>一位几乎拥有世间一切的惆怅男子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中宋"/>
              </a:rPr>
              <a:t>一段三百年来倾倒无数后人的传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5448240"/>
            <a:ext cx="9144000" cy="825480"/>
          </a:xfrm>
          <a:prstGeom prst="rect">
            <a:avLst/>
          </a:prstGeom>
          <a:solidFill>
            <a:srgbClr val="ffff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  <a:ea typeface="华文中宋"/>
              </a:rPr>
              <a:t>　　成容若君度过了一季比诗歌更诗意的生命，所有人都被甩在了他橹声的后面，以标准的凡夫俗子的姿态张望并艳羡着他。但谁知道，天才的悲情却反而羡慕每一个凡夫俗子的幸福，尽管他信手的一阕词就波澜过你我的一个世界，可以催漫天的焰火盛开，可以催漫山的荼靡谢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  <a:ea typeface="华文中宋"/>
              </a:rPr>
              <a:t>——</a:t>
            </a:r>
            <a:r>
              <a:rPr b="1" lang="zh-CN" sz="2000" spc="-1" strike="noStrike">
                <a:solidFill>
                  <a:srgbClr val="008000"/>
                </a:solidFill>
                <a:latin typeface="Arial"/>
                <a:ea typeface="华文中宋"/>
              </a:rPr>
              <a:t>徐志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写作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相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纳兰性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随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康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皇帝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东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祭祖时路上写的。当时皇帝出行还要野营，仍保持满族传统。一个身居京城贵族之家的青年对这种天寒地冻风雪交加的野营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生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既不习惯，又觉新鲜，词中写出了他的真切感受，并表达了从军出征的人对故乡的思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相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则是清代的纳兰性德征旅途中而作的 他遇到了风雪，辗转难眠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Windows User</cp:lastModifiedBy>
  <dcterms:modified xsi:type="dcterms:W3CDTF">2013-12-09T08:44:27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  <property fmtid="{D5CDD505-2E9C-101B-9397-08002B2CF9AE}" pid="3" name="Version">
    <vt:r8>1</vt:r8>
  </property>
</Properties>
</file>