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7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  <p:sldId id="279" r:id="rId59"/>
    <p:sldId id="280" r:id="rId60"/>
    <p:sldId id="281" r:id="rId61"/>
    <p:sldId id="282" r:id="rId62"/>
    <p:sldId id="283" r:id="rId63"/>
    <p:sldId id="284" r:id="rId64"/>
    <p:sldId id="285" r:id="rId65"/>
    <p:sldId id="286" r:id="rId66"/>
    <p:sldId id="287" r:id="rId67"/>
    <p:sldId id="288" r:id="rId68"/>
    <p:sldId id="289" r:id="rId69"/>
    <p:sldId id="290" r:id="rId70"/>
    <p:sldId id="291" r:id="rId71"/>
    <p:sldId id="292" r:id="rId72"/>
    <p:sldId id="293" r:id="rId73"/>
    <p:sldId id="294" r:id="rId74"/>
    <p:sldId id="29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slide" Target="slides/slide24.xml"/><Relationship Id="rId60" Type="http://schemas.openxmlformats.org/officeDocument/2006/relationships/slide" Target="slides/slide25.xml"/><Relationship Id="rId61" Type="http://schemas.openxmlformats.org/officeDocument/2006/relationships/slide" Target="slides/slide26.xml"/><Relationship Id="rId62" Type="http://schemas.openxmlformats.org/officeDocument/2006/relationships/slide" Target="slides/slide27.xml"/><Relationship Id="rId63" Type="http://schemas.openxmlformats.org/officeDocument/2006/relationships/slide" Target="slides/slide28.xml"/><Relationship Id="rId64" Type="http://schemas.openxmlformats.org/officeDocument/2006/relationships/slide" Target="slides/slide29.xml"/><Relationship Id="rId65" Type="http://schemas.openxmlformats.org/officeDocument/2006/relationships/slide" Target="slides/slide30.xml"/><Relationship Id="rId66" Type="http://schemas.openxmlformats.org/officeDocument/2006/relationships/slide" Target="slides/slide31.xml"/><Relationship Id="rId67" Type="http://schemas.openxmlformats.org/officeDocument/2006/relationships/slide" Target="slides/slide32.xml"/><Relationship Id="rId68" Type="http://schemas.openxmlformats.org/officeDocument/2006/relationships/slide" Target="slides/slide33.xml"/><Relationship Id="rId69" Type="http://schemas.openxmlformats.org/officeDocument/2006/relationships/slide" Target="slides/slide34.xml"/><Relationship Id="rId70" Type="http://schemas.openxmlformats.org/officeDocument/2006/relationships/slide" Target="slides/slide35.xml"/><Relationship Id="rId71" Type="http://schemas.openxmlformats.org/officeDocument/2006/relationships/slide" Target="slides/slide36.xml"/><Relationship Id="rId72" Type="http://schemas.openxmlformats.org/officeDocument/2006/relationships/slide" Target="slides/slide37.xml"/><Relationship Id="rId73" Type="http://schemas.openxmlformats.org/officeDocument/2006/relationships/slide" Target="slides/slide38.xml"/><Relationship Id="rId74" Type="http://schemas.openxmlformats.org/officeDocument/2006/relationships/slide" Target="slides/slide39.xml"/><Relationship Id="rId75" Type="http://schemas.openxmlformats.org/officeDocument/2006/relationships/slide" Target="slides/slide4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D5F-5F51-4E01-982C-A490762C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44B-B303-4D2F-B6F1-B874BD3D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A14C5-BC3A-433A-B855-8E6A128C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9B394-AE92-4B8D-B322-3CF88AF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B4895-9947-4BC9-9EF9-3312039F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763A5-53EC-4745-8A97-0D2F743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49E40-30D5-4CF5-8BA4-6E85BEC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22D92-63E1-4C84-9859-AB70A439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84D78-E766-4BBA-9151-6CBAA5B2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D819D-BFF8-4BF6-997D-15C4975C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8AAED-CA13-4477-945E-5A44A66D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AEC25-F470-4B80-9C01-9E6207AC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241-7CA9-437B-AD49-62506B82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C272D-D287-4084-83B4-A140A2EB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3601F-37A8-4558-9FB5-4454ECAB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E7D11-31B6-4ACD-A10A-5FCE740B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207AF-B75B-475D-8A81-0E321B86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D7BE8-C701-4F38-AD30-1EFD903D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EC915-78C2-4E3D-823F-3F48CBCD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BDE2D-1C27-4C7A-9162-54AC9219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BB924-B60C-4132-9944-EB4BC72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287A9-E628-404A-97A4-1D5E41C1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3B2BC-3889-4B6B-8843-CA2097EC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056-3DFD-4335-8FA1-B1D00F8D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EF02B-F9D7-44DE-8F46-BFC56BA6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87098-252C-4D6B-B5FC-A733347E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F319E-B041-4D07-A891-464B4AEA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E2E71-A847-4167-ACB8-B4D1327A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A88CB-30B2-4800-BB51-5E41B526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091A8-4729-4E78-B03A-95D4950E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78115-EF92-4481-8205-DF790111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5AE66-FC6E-498A-BA27-5590DEB1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2F1BE-47D4-433D-802D-4EFBB239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644B6-BABD-4F17-9A36-6B20F7A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045D-940B-43A3-A734-EF5CFA2C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D7830-ACF4-4611-9FD3-B05250AA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9AB3B-35D3-41B2-A1FF-78969F51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9C0E7-E391-42BC-A12D-986A52FC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0F2A1-364E-407A-A2E7-592C80BC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90B35-E618-4647-B192-76AEDA10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5D752-3341-4CCA-B77E-443C6DE6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23A49-1013-4BFD-BD3C-0FCD02A8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17A6C-3D8E-4204-8FFC-0A89D47C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87087-0EBE-41CA-8A3E-DC47B391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FA82A-C73C-4150-9D90-536F2CFF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F9C7-A0F7-4EF4-823B-0745F345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7C018-0255-4A1D-A235-E543F54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CDDD8-4831-4856-92DF-2A5AFDC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48264-5CC6-4060-A214-A9CADEA3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DEA19-9E1C-4E2B-B058-EF0F5BC2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D644E-274F-40DD-9734-F0825B1D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234C7-907A-4933-9FFA-ECD162E8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60A4F-36D7-46F9-B9E9-75E0AF83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A6285-8D8A-4579-A9B3-AB6283EF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48E20-B29A-4F85-A610-4967A08C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8128C-1D8A-4049-8B8C-752601AF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8521-7753-4314-ABE1-BAF833A5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FDDCD-E944-452A-A734-13F5C4F5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2BE60-F6C1-4941-9253-F77FBE21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D60D2-DA36-4939-9B6B-6B3C229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959B7-FE6C-4FA4-B841-5361335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919AD-9BE7-4132-B393-6ACE1FEF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6623B-CB4B-4D4D-AF7F-97A25F95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FB7C1-D06C-403B-928E-515C7B6E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57448-A6F2-419C-B0CF-CC2FEE61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3BC87-F89D-4620-B062-4B350B10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0BE64-F4C1-491D-B5E1-5EB9CDFA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6F5-97EC-41EC-BF66-24FC4425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1141E-5B9C-4854-83E5-D9584ED3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18DA5-EADA-4FAA-916C-6C063571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E0EA0-5E87-4735-B985-2CFC1530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3B4A5-0066-4F2C-8E8B-0226E0AC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71848B-9131-40B7-9DA1-F060C102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659E8-52FB-4F10-9D5B-BD43500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EF0A45-E724-4C41-AF0A-D60B66B4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896D5-DF03-40D8-8FE5-3AA403FD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EB528-EE10-4004-A64A-2E12398A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88B1D-F863-4D10-9C74-D15EB788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8040-6BCA-456F-96BB-05F8459B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CA89C-8116-4382-9EB2-50548600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B9147-4522-463D-AB95-8DDC9A27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44B48-AD27-4889-9021-69AAD6AB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FADB9-6EEB-414F-8503-66C458CC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02119-5C78-47EF-BBBF-4D529977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3AE06-5B6E-460C-BDFE-8385008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E8CE90-348E-4CB5-9DFF-E496225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0FCDB-FDD6-41EF-8147-280F18C0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53526-3BC6-4178-B266-1A0C93EC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233CB-4C6E-424C-99BB-D4686266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D6D4-B089-4413-808F-E28634E4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3AA27-FAF5-4CB5-9643-DC952DEA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48DEE-AC63-4D8A-A551-64D9FE35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60F29-9F79-4ECA-AF22-090DFB3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81FF6-26A4-4B41-81CA-B49B99C3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801A6-BE2B-42E1-9932-68063AE4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D0DAF-903D-4279-9353-13D8E184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66217-6AF0-4CB3-8D8A-08EDE4CF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126DA-8683-4B68-9E89-D4AE08CD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28F57-E516-4546-9ACB-3AC114BE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48163-DCD1-48DB-89FD-94326CA2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DD2D-B874-47B2-A84E-039208BB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1B8CA-37EE-404D-8747-8888A3C9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F72B5-B8DF-4F31-B7F0-8EB1940F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31BF9-7E90-4252-BD30-02B09F26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0A0B3-30A9-4751-BEE3-19DF2119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C6187-6CB0-4C75-B191-9CE40C19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D9747-8D8F-4E5F-B186-EF4DD8E1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33C1D-F74A-40A3-A111-53870359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B2567-547E-457C-9B45-D5ADDAF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EACA6-254F-4E98-823A-6F211E2A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18CE9-F767-45E5-9477-C227BBC6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8FF-2A96-4167-8157-A8A1DB44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28F4-1713-48B1-AF61-51FBD322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F4978-913B-48E4-A92E-EEBD9406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15B7C-3EDA-4FB5-B31A-39F3061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99DCC-B707-49D9-B0B4-319CC6C3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15D559-ED60-4EC3-8761-476652E3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EF63A-BD8B-4B1F-AA4F-A9A0BDF9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0E539-D82D-47E7-9C23-86C455BF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4343D-BA22-4B44-857B-28531B5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D547F-5EBC-4227-A091-CA9B6E7A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B302C-CBA4-46D9-9635-44A61A91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E960E-E0ED-489A-880F-B902E6C2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1963-E97E-471B-B8FC-0658C07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1B698-9B53-43AA-BA8B-87982375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AA354-5C42-484A-9507-F6F8D2D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0763E-3A29-419F-8BC7-CCBB6B70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CC37B-90D3-4147-8FA1-4EAA182C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8C8DF-97A6-4525-BCD0-C1FDB126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6DCDD-0590-436C-9775-2A1D81CE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7E6F4-9263-4DA6-B3DF-1423FE30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EAB7C-71AB-45B0-A361-E2DB94F1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2974D-B7D5-466D-8C4C-984280DC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5EB4A-1EEB-4A5F-BF10-16DE5F2D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B9D9-AAE7-4D64-A0B5-F0790903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697E4D-925E-4D95-8345-D3B422C6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91706-D705-4F77-B27F-16058AB6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7978C2-495F-4B8C-A6C3-C9A113D4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49A38-A873-4EDD-B1D6-3022BD49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B4B0A-3436-4BAF-BA62-13D161A3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D4F81A-3FCE-47E4-BE3C-A72332C3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AE2BF-6BF7-4939-BCA9-8D4F3BDA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6528E6-09E4-49D2-9824-AAE4F391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292E2-35ED-4A98-A5DC-BBA5F6A0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D60B42-25B6-4BFF-ABD5-E6E1A62C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CF59-4D47-4B1E-B739-2A9A19FF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A461C-ECB7-4A80-9062-7B6971FC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1943C-BDE8-41E5-B6B2-1A26093D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2D6332-3E53-4FA7-92E7-43615F8E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A996D-F847-430E-ACF0-28C5672D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07654-24D9-41E7-9668-5ACD296C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99BF5E-EBEA-4CF5-A838-1898D71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95F21-F7F2-4C6F-9BE6-71D80E0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97D536-7BF9-41F7-8C88-9F175B01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82B51-9B0A-4305-BB4B-62DDD69B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77183B-FB3B-4232-8F79-3F756888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F399-AEAD-4BDF-AA65-6073DEAC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7C080D-0168-46EE-903D-595BE181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636E0-D490-44B1-B7F0-18EF206B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0F206A-605F-4ACC-A0AC-1EE77526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78092-8DBA-4FA7-9836-E199C107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8B8D9-741B-49C7-8A30-8E45E5BC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AD524-D3D6-41B6-AC68-D272D2F4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15AB0-A7BE-4448-8013-620D0C57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89DD0-43BE-4CBA-BD7B-6C99D36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631DB-D73A-4880-B6FE-F7DFC16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2E08C4-F594-4557-8A26-2BE6562F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5701-0991-4692-A97D-4C449F9D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2ABA96-9F4F-4D97-9F82-B1029989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67365F-7A9D-4124-956D-55F38006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B4E5D3-019A-47AE-B7C2-17BDA922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B908E-652A-44C6-B81C-3CC9C953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82500F-E702-47DC-9ADB-BB5FAC2E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38573E-579D-4FB5-BFB7-3F0D4588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095D30-9DAF-47AA-A7A5-13439680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206886-8579-4677-A38C-A983BF42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A82FC4-F4A5-41C3-B3FA-6491C855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7C686E-EF92-48A0-A177-9579E19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93DD-2A09-4592-AB23-8D877EB5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9324F7-3288-4A38-A120-09E3C94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F35E57-51D4-4CD9-9BF5-2B6C81D9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BC9458-909E-4515-9CA8-815E596E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B60B8D-CE0E-4C64-A092-CDA5327D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EF15EF-7B23-4973-82D0-30D4AD27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01E876-C23B-4D8E-AC8B-48A291BA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47ABD0-173D-4E3E-8799-39D01838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08E3BB-FC91-4A91-A61A-3DDAC7CB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D249C3-2339-4E50-83D0-94DABBAD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C76364-81B3-4D64-9F3B-1268696F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0855-6B69-4D4A-9FD3-D8A8C63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BD4A9D-A2E3-4592-9B9A-E6AC26E3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F06896-79C7-47D9-8F26-972FD6E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72BF2C-09C2-4E54-959F-98C4361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D55569-A855-4899-80DD-B510E7DC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416215-47E8-41EE-BC26-E548D29D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A0D160-E36E-4DFE-A71B-3B76BF7D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351A10-6ACC-47CB-85C4-86812D25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1F1ABC-7E8E-4B49-8FD8-D85FE358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383132-7DFF-430C-B388-DD417D90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312445-5212-4D72-A271-D0CB820C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33A7-8CAF-4554-80CF-E12CC96B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5FA250-2070-4D92-9965-2069B72E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DDEEB6-95F2-41F4-AB4D-607363D4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8E72F4-4E50-4A60-9B53-DCF7BAD2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19AAAD-376E-4A14-BDCA-B29A8591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3004B1-097A-459B-BF37-D5CB9DAD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DCC0EB-D8F0-4A1C-B328-4E57BD61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C2A9BC-08A1-41D6-BC2C-57F1D088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A2D14A-5099-4604-9AC9-CC0744FF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690B28-F4ED-4EC5-AE86-46689249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1BFF95-10DF-43AB-A31E-3BE66227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C47D-B3ED-4084-8F85-14BE47A1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56E0DD-9E35-4062-9C76-7BB4A7B0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D26189-4344-4813-9F1E-369820A5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54AF2B-46E5-4C89-86B7-972ECEBB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80BC8B-2A6C-45DD-91E2-A12931F0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5184F4-2C82-4F38-8733-7BCBAFE9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1AB62A-28F9-438A-8214-01813EB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3537C1-B306-4A82-80FF-30D224A5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65BA54-12B7-4587-84F1-85B458E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3D26F7-4000-40BD-BF1F-C6CCC625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01AA63-2823-4DC7-94FB-29451922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17B-7396-45B8-B386-11E51F2F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51A0-4A76-4B3C-B412-AA25CC42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08DF6F-27A0-448A-87F5-10BB10DD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219DF3-D3DB-4C1C-8726-4F651630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B69884-FADC-4B60-B6CD-AE1941A6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671A4E-7C0B-4039-8458-8B319BB7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5FCE44-4038-4F1E-8DDC-72126014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C88B5A-5BF8-42D6-8414-A88746EA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BF65EA-3C8E-49E6-8C4B-1DB8FB76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94B7A8-6D20-4B98-AD16-FC126A1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B3095C-0586-4573-AF50-8B5292B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EB52BF-F4D4-4880-802F-13617360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0FCD-C5D1-4344-8261-999BA09C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D065BE-3794-451A-84DB-78647D72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49F00B-EA25-42A7-959F-4034AD11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39B588-3D70-414E-A90A-DEBB47CE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668799-32E8-40EF-80D9-1EEE70F3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775AE2-8CFD-4C40-9C98-A0563BEA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9E3772-F5EB-47CA-9A3F-860C4CD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8B2B54-5CE2-4F33-B94A-A25E158C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0A65F0-A13A-4BEA-9F05-90E708F8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EEA4BD-8A95-4D84-8D01-341A6F22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F626EB-DA38-4AFA-B999-167D0AA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99F6-F452-4366-A717-4B1A96B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4FE392-4867-4D6A-A5AF-FAFB8F1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AEFC54-7A2D-48A9-BEA0-3EA47147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A7331A-DA52-4F20-BBB6-45CC3FFE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98A9BA-F5EB-4372-A28F-BE21D8BC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7718AD-A15F-4572-B824-A0A45416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3A03FB-D203-46A3-AC7C-661A33FD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082A55-51A3-48AE-86F0-BC821F9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1D0121-45BD-474C-82EA-CC56D4C7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909DD6-17CF-47D4-AD7F-90BD7B5D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68F7D3-251C-4DE0-BF74-226F389D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6B67-D3FD-4B91-A7F8-B14A733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18742E-4591-4419-A3DB-C55B3615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BD5CE2-C23F-4771-BD58-1622882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EF8281-253C-4D6E-90C9-36E32CDC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A5185A-89CB-4D6E-8E51-AA3E586B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1B337E-4524-4193-9915-14091BC1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D83CE9-ECE9-46A2-BF7C-86089426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A0AB0A-EB55-4EE9-A14C-96092FB9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0360FB-7544-4841-9310-6FDEFECF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851FA0-2D39-4604-B2C7-B2A8C8E6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B97B61-FD96-43A8-B82A-0D4531A4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0D78-2CE1-41E1-BD24-F921B7F8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E52C4A-802A-4932-A8F3-F07BE2BB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0F395C-9E80-4162-B2ED-130C12DD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B8151C-0B2B-46CE-9CF8-A5BED57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EC2F9D-63B4-4CA6-93BA-66CC9EF3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719334-79D9-4A24-88AA-7C82EBF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EF6FCC-ED46-4BFB-B445-B0BFD78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916A4B-E2BD-4ABD-9BF0-4406B3CE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70EAE2-8B7E-4579-A3D6-095303A4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9729D9-A0FB-4724-A9D5-8577E75C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BAA0D3-93CD-4888-8D55-279583E1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1BBA-62D8-4E2D-B442-73D7D94C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DA5018-6B80-4D88-8613-5E13C450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808F47-E2F7-4FC7-A5DF-AB79C645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685B27-A7EA-4C1A-8776-B58E9369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099C42-2C2B-4CBA-B99B-6AE5184B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315902-3387-4E91-888F-4B5786BD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C6E396-600C-42ED-93E7-9D5D5F78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A7BCD3-4C3B-40D4-85EC-E9E08DF7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235E8F-AAD9-4905-BB21-CF3454F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4B021E-4889-46CD-9A27-8779240B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9BEB84-4BC1-4731-BC1B-5E7A7891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CAA4-D2D2-4E68-8151-26AFDEFF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ECBF97-88D5-4240-A201-553B1E1A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CEF6FC-0C19-4760-A541-DD24D1FF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05C940-6B09-4E1C-A34C-BC7AA244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749E57-FC74-4AC4-A265-8193F15E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4D92C5-CDD5-4688-BB76-AF8C144E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AEE7FA-FD52-4F32-8BAF-394E868F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20504C-2237-4F24-858D-0A2F92F8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418CC4-3FD9-49A8-A69C-64603328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954C68-974E-473A-9B64-54155708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A44DD1-302F-4578-ABFF-5C1063D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E5A41-2FC5-4417-BDF5-CAFE4FCB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2BF95C-5B97-419C-9938-BCD1F0C3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329D76-C246-41DD-B13F-34B984AD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68486A-C418-4914-A8D4-30411A6B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46EC56-6420-428F-B03A-00D097B8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2E104B-E203-4D4C-9FF9-058AE1AA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F4975D-F779-422F-B9A5-AF0386F5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35D234-7388-440D-A76E-3578B64F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D6A551-2239-4371-978C-F2CEE8BE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F7856A-E28D-460D-A61E-EAA18513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3FF872-3FF5-4BFB-ADF6-1E12635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0D5F-04B1-4E60-A5FD-B94644EA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FE80EB-5728-4F18-A54B-3AE670D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5A4705-258E-4234-BE60-7EC7E7B4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C6CE7F-15B8-41B3-8320-1454AA0E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16CBD3-9168-4D00-9A14-658DC8CA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6894F8-5DE1-4B84-B9FD-CBBD5EE6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B71125-DD65-4C69-AC02-D11F7815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D7ED25-228A-48AE-8D08-094ABA84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F38775-0E92-4E22-8BB3-172C35AF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DA70FC-F899-4330-80A0-F8E61698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49DEB1-74DD-439A-85FA-0E9A96F4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1FD4-440A-442D-9902-A42D7276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10084E-E72A-4C64-8B18-561F51DC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1F9182-8972-4087-AB53-73D8425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5735A6-B59A-48F3-A4B2-711E0C3E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A7F0FD-5696-4287-B030-236EF3B8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BB4D7A-B6DA-4D83-9263-69D58BC1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B8716B-D0F8-4396-A56B-42FE162C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F19C8D-BD15-4C36-84AB-6AD5B9EE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1EC9E1-0E38-44FB-B549-291B8F7F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5B91AD-340A-42B4-8957-E2A15955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D81020-7A04-4B20-ABA6-3740DDDB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333-FA6B-452F-8343-C0A5685D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9A41-D0E6-49B9-8F56-E1D0AE4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EC18DB-9D51-4A8A-B3F8-DAC68B1A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3E2608-5DCA-4727-AD1C-9607D734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10679C-E34B-41DD-8D3F-95A46D4C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601188-CA07-476B-9F96-2FACB81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02750F-29EE-4ED3-9F73-BD821BEC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F97641-41E6-4408-8540-DB5B54C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BEB7A9-6ABE-45CB-9773-92DE6D6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7F51E7-D847-41CB-85DE-A5C56362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3B7EBD-12D2-4E84-8777-99EAF567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E780-EDCB-42F7-9505-8FA9EC65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0FD9-0162-4A4B-AA9F-236F851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2157-2DE8-45CB-967C-F1FD5A14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7FFB-0BC8-44DD-AA2F-14371360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EF3F3-DF54-4F7C-A70A-4A5A69DF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904F-A792-452F-9879-F7DAB1F6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031A1-4724-43FB-9457-575D3AD4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1298-474B-45A8-8736-E3784108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25AD6-7E6F-4C52-8763-59C8291C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DE6-8F8A-4CC2-9EA7-63424E3A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8B2EA-50CF-46BF-B5D8-619F711B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B5572-4A6E-4978-873F-E1B9124F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766A-F8CC-47DD-B8C0-004416B8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418E9-48F4-409E-81BA-4EF9FB4D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C104-708A-445A-AAA2-CE23AB0A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DE82A-660B-46D9-82E2-F553F594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A713-C79A-41F5-A773-E4D4791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F42C-E1A8-42C5-80AF-8D630C9E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D69E3-6998-458A-8CD7-5B4EFEBD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DBA3C-CD35-4D6F-8634-39205A2A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F30-81EE-4842-8120-A81E21FF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A8A87-0DC9-473E-A79B-0320B180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5329-26D5-4BD4-ADB6-135EF2B8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19CEB-59CA-475F-81BE-FD63EB55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0F0BE-C1E5-46A8-85F2-071E8B9F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E6449-CFDD-49D1-A77E-21FCE955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9A822-7DB8-402C-88B1-9FEE329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F8515-FD23-4AE4-B012-8232A6C8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D2FAD-D380-41E9-855F-C86FFC3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10860-DA19-4D9B-94F3-FA0F600A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B17B-0FE7-4D7C-936B-7DC7163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DB1-CCE2-4EB7-8BB2-EB36DD27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F195-8F36-4EF6-A4A4-6A5E4D04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73BB-B0D2-4A79-A218-46267DCA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B11CC-BB2B-4A36-9471-0E81F29D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7743E-8257-4B05-AF58-8E18F568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E7F83-C344-47BE-9565-8BAE2A8B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9C6B6-5C73-4A51-9DA8-4292D2AE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53CD3-FB60-4EE4-878B-147C0D47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769CC-EF7E-4493-A648-8A794544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BD5E4-67D2-4969-BAA1-7603A37E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5852-DE33-4172-A13B-1DACAAA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1D8-60EC-47DF-BF99-812B55FA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32DD9-FAC1-48E2-8FEB-428E82FA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17691-D8C3-48D8-8417-F76940D4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8F9F8-BAA1-4292-A1A5-E20270C2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6C52-CE31-4F19-8130-D3B4BFD1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D5AC-AD54-48D1-B118-88C78558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D2E84-84E7-4E6A-93E0-2EF9CC3C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A203F-E2B2-4290-9D13-0911E36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76977-8BBA-41E0-8C98-EC3057E4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4470-DF13-46E7-9028-2FC868DD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A402B-3FA1-4184-B085-CF801FDD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ABB-3803-485B-A9D4-5E11FFEF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7DEA5-43B3-4CB4-A6F7-2F53BCD7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3CA58-711F-4F51-8289-1C4370FE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45E01-C420-4C61-BAB6-09E1A262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379D2-0781-4BA0-B5A1-82C5F649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A15C2-7E16-487D-B1B3-00CA6F95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280FF-EC2A-4857-AC47-C31A3BC3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074E8-2F84-4D45-A221-29ED81F8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A3FC5-CA57-4276-95E5-53B09C6A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C02AC-7AB6-4691-9C57-160E0E47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19C5E-5A94-4FB9-B107-22CAD4E5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7F2-F351-4ACA-9C09-7A2C7C6227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6AE3-AD7A-46FF-9261-5E2095C6A3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262D-78E6-47D5-963C-D704CE5AE7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3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3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3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A574-FD45-454E-80DC-DAA79B1EB7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95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626C-224E-43C8-A05A-5E8102F060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540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6019-A326-4BD3-8459-03FB0209F2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584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96E6-7BEB-40CC-8491-8B4CBC692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0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EE11-2E2B-4B30-8EC8-587B74AD5C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ABF6-1E5A-4286-BD54-A1A9A3A9FD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5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6897-6A15-4E30-A7F3-0CE984A64A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5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5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DBD-A6D2-4A12-84A8-BD7C79CA14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13C9-7AAA-4021-9086-955564D99B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dt" idx="5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Num" idx="6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4375-32FB-4A6F-A0F9-D7154BF68D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841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6015-0A96-461A-AB03-59E119D229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92A3-B793-4679-A317-95E0E99B80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25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34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935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36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2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5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8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1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2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4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5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9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0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1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2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3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5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6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7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1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2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73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6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7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8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2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3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4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5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8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7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8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9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0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1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5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6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9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2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4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5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6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22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023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1025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5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036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042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043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8" name="PlaceHolder 1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C56-FF28-4C7B-A4B8-D33D410691A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090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091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1093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094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99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100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01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102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4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5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6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7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1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2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5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6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7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8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1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2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3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4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5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6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7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8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9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0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1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2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3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4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5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6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7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138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139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0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1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2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3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4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5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6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7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8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9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0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51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2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3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4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5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6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7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8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9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0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1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2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3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4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5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6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7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8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9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0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1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2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3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4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5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6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7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8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9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0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1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2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3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4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5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6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187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188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00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201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207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208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B76-39F8-4B05-AFB2-C23582333BA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5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25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5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6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8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0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31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FC8C-D583-4A7F-9AA2-0FF926B97C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6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6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7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9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1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41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5717-35CA-40CF-9E34-DD44336D94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3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64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4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D3AE-12BC-4019-A466-3DE46CE965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0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511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517" name="PlaceHolder 1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9867-AF56-46BA-AE4D-6675CB126E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E6B9-8C76-48CD-9E3A-2362D0EACF4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1A7E-D2A4-4104-8856-9A8D21C03F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ftr" idx="8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B77E-0FA5-43AB-B482-B7C7F11ACE4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3518-A2CA-4830-BEB1-37FE4B92CC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0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121-BEB8-4504-ADB9-9BE8BEB028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76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76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77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dt" idx="9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3001-9A2F-44C0-9E9E-290E2C30995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5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5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96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dt" idx="10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736F-99DC-4570-B356-D74612628E21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50AE-E784-45B9-95F9-705F451A4C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8682-174A-4B6D-98AF-C331D1A0B67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7678-7763-4699-8C9D-3457BD0F528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3DB0-8003-4CE7-9D8E-2952837BD3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53B7-3153-4A1E-BB00-650B68BB2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9E9B-BF59-4778-8A1C-FED0FD15A5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4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4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4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9ac"/>
                </a:solidFill>
                <a:latin typeface="幼圆"/>
                <a:ea typeface="幼圆"/>
              </a:rPr>
              <a:t>播种习惯 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·  </a:t>
            </a:r>
            <a:r>
              <a:rPr b="1" lang="zh-CN" sz="5400" spc="-1" strike="noStrike">
                <a:solidFill>
                  <a:srgbClr val="0039ac"/>
                </a:solidFill>
                <a:latin typeface="幼圆"/>
                <a:ea typeface="幼圆"/>
              </a:rPr>
              <a:t>收获人生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初二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班   第四周班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Franklin Gothic Medium"/>
                <a:ea typeface="隶书"/>
              </a:rPr>
              <a:t>6th  March  2006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7020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习惯真是太具强制力了，它使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“行”不由衷，“动”不由己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。故事中那个穷人的结局不正是他那“往海里扔石头的习惯性动作”作祟的结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习惯真是一种顽强而巨大的力量，它可以主宰人生。因此，人自幼就应该通过完美的教育，去建立一种好的习惯”，“教育便是一种早期的习惯”，培根和林肯不约而同地论述了教育与建立好习惯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因此，教育的过程，就应该是学生良好习惯的形成过程。对学生而言，成就学业也好，创造事业也罢，都必须养成一种好的习惯，使它服务于学业，服务于事业，服务于人生。否则，他们也可能会把人生道路上的“点铁成金石”扔进海里，自己却全然不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 txBox="1"/>
          <p:nvPr/>
        </p:nvSpPr>
        <p:spPr>
          <a:xfrm rot="5400000">
            <a:off x="6630120" y="1691640"/>
            <a:ext cx="3332160" cy="1047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习惯的力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68" name=""/>
          <p:cNvSpPr txBox="1"/>
          <p:nvPr/>
        </p:nvSpPr>
        <p:spPr>
          <a:xfrm rot="5400000">
            <a:off x="5679360" y="4193640"/>
            <a:ext cx="3456000" cy="34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—</a:t>
            </a: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古老的故事对我们说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2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eec94"/>
                </a:solidFill>
                <a:latin typeface="Times New Roman"/>
                <a:ea typeface="华文新魏"/>
              </a:rPr>
              <a:t>习惯的故事</a:t>
            </a:r>
            <a:r>
              <a:rPr b="0" i="1" lang="zh-CN" sz="6000" spc="-1" strike="noStrike">
                <a:solidFill>
                  <a:srgbClr val="feec94"/>
                </a:solidFill>
                <a:latin typeface="Times New Roman"/>
                <a:ea typeface="华文新魏"/>
              </a:rPr>
              <a:t>(2)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大象与木桩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00244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cc"/>
                </a:solidFill>
                <a:latin typeface="Times New Roman"/>
                <a:ea typeface="华文细黑"/>
              </a:rPr>
              <a:t>印第安纳州西南端的小镇，迎来了一支马戏团。人们成群结队地来观看马戏团撑帐篷。人们简直被大象不可思议的力量迷住了，大象竟然可以毫不费劲地抬起巨大的帐篷柱子，还可以撑起巨大的帆布！那天晚上，有一家人坐在巨大的帐篷底下观看演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332000" y="278136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行楷"/>
              </a:rPr>
              <a:t>小孩子注意到，大象被安静地栓在一根小小的木桩上。“爸爸，大象为什么不把那么小的木桩连根拔起，然后伺机逃跑呢？”孩子好奇地问爸爸。爸爸似乎也有点儿吃惊，随即便找训象员询问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611280" y="1989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训象员解释道，当大象还很小、力气也不大的时候，它便被一根粗锁链栓到了一根牢牢固定的铁柱子上。每天，小象都会拼命地试图挣脱锁链逃跑，但是，它的每次尝试均以失败而告终。最后，小象得出结论，无论自己如何努力，锁链都牢不可破，铁柱也会毫不动摇。于是，小象放弃了努力，从此不再尝试。日复一日，这一习惯逐步巩固，直到小象长成大象，它仍然习惯性地坚信自己永远不可能挪动那根栓住它的桩子，无论桩子是否真正结实和牢固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3369600" y="2997360"/>
            <a:ext cx="173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猜一猜</a:t>
            </a: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0" dur="20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6912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Tahoma"/>
                <a:ea typeface="隶书"/>
              </a:rPr>
              <a:t>人们也可能被“训练”！或者用心理学家的话来说，象大象那样“条件反射”地受到某种定性的思维、行动以及结果的禁锢。这时候，他们往往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隶书"/>
              </a:rPr>
              <a:t>不自觉地陷入了自己强加于自己的某种陷阱之中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597672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幼圆"/>
                <a:ea typeface="幼圆"/>
              </a:rPr>
              <a:t>说说自己 关于“好习惯” “坏习惯” 的故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6" name=""/>
          <p:cNvSpPr txBox="1"/>
          <p:nvPr/>
        </p:nvSpPr>
        <p:spPr>
          <a:xfrm rot="5400000">
            <a:off x="5495040" y="2218320"/>
            <a:ext cx="377172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交流空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 txBox="1"/>
          <p:nvPr/>
        </p:nvSpPr>
        <p:spPr>
          <a:xfrm>
            <a:off x="900000" y="112536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身边的榜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178" name=""/>
          <p:cNvSpPr/>
          <p:nvPr/>
        </p:nvSpPr>
        <p:spPr>
          <a:xfrm>
            <a:off x="1116000" y="3213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发现身边同学的好习惯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d7da9"/>
                </a:solidFill>
                <a:latin typeface="隶书"/>
                <a:ea typeface="隶书"/>
              </a:rPr>
              <a:t>好习惯结好果 坏习惯酿恶果</a:t>
            </a:r>
            <a:br>
              <a:rPr sz="4800"/>
            </a:br>
            <a:r>
              <a:rPr b="0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——我们可以养成的好习惯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永远信守承诺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开会和约会不迟到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从来不忘记回复电话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快速处理各种琐碎的行政事务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积极倾听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永远不要等到最后一刻才做计划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一经介绍，就永远记住对方的名字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与人交谈时，保持良好的眼神接触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保证每天的饮食健康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锻炼身体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多读书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控制情绪和脾气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给家人或朋友打电话或写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 txBox="1"/>
          <p:nvPr/>
        </p:nvSpPr>
        <p:spPr>
          <a:xfrm>
            <a:off x="1460520" y="1052640"/>
            <a:ext cx="59911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培养好习惯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构建新人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请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MICHELLE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总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(1)</a:t>
            </a:r>
            <a:r>
              <a:rPr b="1" lang="zh-CN" sz="5400" spc="-1" strike="noStrike">
                <a:solidFill>
                  <a:srgbClr val="ccccff"/>
                </a:solidFill>
                <a:latin typeface="Times New Roman"/>
                <a:ea typeface="华文新魏"/>
              </a:rPr>
              <a:t> </a:t>
            </a:r>
            <a:br>
              <a:rPr sz="5400"/>
            </a:b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每天做些苦差事——为自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6121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键在于每天去做一点自己心里并不愿意做的事情，这样，你便不会为那些真正需要你完成的义务而感到痛苦，这就是养成自觉习惯的黄金定律。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克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吐温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ark Twain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,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构建新人生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(1)</a:t>
            </a:r>
            <a:r>
              <a:rPr b="1" lang="zh-CN" sz="2500" spc="-1" strike="noStrike">
                <a:solidFill>
                  <a:srgbClr val="ff0066"/>
                </a:solidFill>
                <a:latin typeface="Times New Roman"/>
                <a:ea typeface="隶书"/>
              </a:rPr>
              <a:t> </a:t>
            </a:r>
            <a:br>
              <a:rPr sz="2500"/>
            </a:br>
            <a:r>
              <a:rPr b="1" lang="zh-CN" sz="25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                   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  <a:ea typeface="黑体"/>
              </a:rPr>
              <a:t>——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  <a:ea typeface="黑体"/>
              </a:rPr>
              <a:t>每天做些苦差事——为自己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705636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论你选择怎样的事情，它首先是一件你必须强迫自己完成的苦差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其次，这件苦差事也必须是你每天都可以完成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最后，这件苦差事当然还应该是一件有益处的事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选择怎样的苦差事本身并不重要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坚持才是问题的关键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每天坚持做点儿自己原本不太喜欢的事情，最终会让我们获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自律、毅力、以及信守承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(1)</a:t>
            </a:r>
            <a:br>
              <a:rPr sz="6000"/>
            </a:b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        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每天做些苦差事——为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2339640" y="2133360"/>
            <a:ext cx="583236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现在，请你花上几分钟的时间来想一想，你可能选择哪些苦差事吧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99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799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799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799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767ff"/>
                </a:solidFill>
                <a:latin typeface="Arial"/>
                <a:ea typeface="华文行楷"/>
              </a:rPr>
              <a:t>习惯无处不在</a:t>
            </a:r>
            <a:br>
              <a:rPr sz="5400"/>
            </a:br>
            <a:r>
              <a:rPr b="0" lang="zh-CN" sz="2400" spc="-1" strike="noStrike">
                <a:solidFill>
                  <a:srgbClr val="6767ff"/>
                </a:solidFill>
                <a:latin typeface="Arial"/>
                <a:ea typeface="华文行楷"/>
              </a:rPr>
              <a:t>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——不知不觉中就有习惯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有调查表明，人们日常活动的</a:t>
            </a: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90</a:t>
            </a: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％源自习惯和惯性。想想看，我们大多数的日常活动都只是习惯而已！我们几点钟起床，怎么洗澡，刷牙，穿衣，读报，吃早餐，驾车上班等等，一天之内上演着几百种习惯。然而，习惯还并不仅仅是日常惯例那么简单，它的影响十分深远。如果不加控制，习惯将影响我们生活的所有方面。小到啃指甲、挠头、握笔姿式以及双臂交叉等微不足道的事，大到一些关系到身体健康的事，比如，吃什么，吃多少，何时吃，运动项目是什么，锻炼时间长短，多久锻炼一次等等。甚至我们与朋友交往，与家人和同事如何相处都是基于我们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构建新人生 </a:t>
            </a: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(2)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世上只有两条路能通往成功的目标并成就伟大的事业，那就是：力量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坚韧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。力量并不属于大多数人，它是少数人的特权；然而，即便是最不起眼的小人物，也可以拥有吃苦耐劳的坚韧品质。坚韧从来不负众望，因为它沉默的力量将随着时间的推移一天天壮大，直到所向披靡无以抗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There are but two roads that lead to an important goal and to the doing of great things: strength and perseverance. Strength is the lot of but a few privileged man; but austere perseverance, harsh and continuous, may be employed by the smallest of us and rarely fails of its purpose, for its silent power grows irresistibly greater with tim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隶书"/>
              </a:rPr>
              <a:t>歌德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Johann von Goethe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9" dur="2000" fill="hold"/>
                                        <p:tgtEl>
                                          <p:spTgt spid="2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2700360" y="18864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5c"/>
                </a:solidFill>
                <a:latin typeface="Arial"/>
                <a:ea typeface="华文新魏"/>
              </a:rPr>
              <a:t>培养好习惯</a:t>
            </a:r>
            <a:r>
              <a:rPr b="0" lang="zh-CN" sz="3600" spc="-1" strike="noStrike">
                <a:solidFill>
                  <a:srgbClr val="e4005c"/>
                </a:solidFill>
                <a:latin typeface="Arial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e4005c"/>
                </a:solidFill>
                <a:latin typeface="Arial"/>
                <a:ea typeface="华文新魏"/>
              </a:rPr>
              <a:t>构建新人生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6842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步一步的走，漫漫长路有尽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针一针的缝，褴褛之衫变天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砖一瓦的垒，铜墙铁壁耸云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片一片的积，万丈雪层深似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ep and then another, and the longest walk is 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itch and then another, and the longest rent is m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brick upon another, and the tallest wall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flake and then another, and the deepest snow is lai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构建新人生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(3)</a:t>
            </a:r>
            <a:br>
              <a:rPr sz="5400"/>
            </a:b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 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幼圆"/>
              </a:rPr>
              <a:t>——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幼圆"/>
              </a:rPr>
              <a:t>永远不要低估你的潜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900000" y="3068280"/>
            <a:ext cx="7129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我们每个人都拥有丰富的但却有待开发的潜能。问题只是，我们常常无法意识到自己所拥有的潜能。</a:t>
            </a:r>
            <a:r>
              <a:rPr b="0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827" dur="20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91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天晚上，一个人在酒吧里喝醉了。从酒吧出来后，觉得头晕目眩的他并没有冒险去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车，而选择了走路回家。就在回家的路上，天空开始下起了暴雨，他于是决定抄近路穿过墓地。然而，不幸的是，由于黑暗和暴风雨的干扰，他没有注意到脚下刚刚挖好的墓穴，一头栽倒在墓穴里。他一次又一次地试图爬出墓穴，但是，雨水的冲刷让两侧的泥土变得泥泞而湿滑，更何况酒醉让他昏头昏脑！几经努力，他还是没能够爬出来。筋疲力尽的他，只好在角落里蜷缩成一团，昏昏沉沉地睡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无巧不成书。又有一个家伙，同样喝醉了酒，因为想抄近路而穿过墓地，也不幸落入其中。在耗尽了每一分企图爬出墓穴的力气之后，同样得出了当晚无法逃出墓穴的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就在这位老兄四处折腾的时候，睡着了的那位老兄终于醒了。隐藏在黑暗的墓穴角落中的他，用一种沉重而焦躁的声音说道：“你永远无法逃出这里。”猛然听到“空荡荡”的墓穴中发出的地狱般的声音，第二位老兄大受惊吓，他几乎没有迟疑，便纵身跳出了墓穴，一路飞奔地跑回了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60" dur="20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培养好习惯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构建新人生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(4)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825120" y="2542680"/>
            <a:ext cx="6986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方正舒体"/>
              </a:rPr>
              <a:t>大处着眼，小处着手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方正舒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方正舒体"/>
              </a:rPr>
              <a:t>百尺高台，起于垒土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方正舒体"/>
              </a:rPr>
              <a:t>当你从小处入手，并借助积累的力量，那么改掉习惯也将变得十分容易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你每天早晨的想法将决定你一整天的表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Your morning thoughts may determine your conduct for the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威廉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M 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派克（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William M. Peck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8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c5900"/>
                </a:solidFill>
                <a:latin typeface="Arial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dc5900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dc5900"/>
                </a:solidFill>
                <a:latin typeface="Arial"/>
                <a:ea typeface="华文新魏"/>
              </a:rPr>
              <a:t>构建新人生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细黑"/>
              </a:rPr>
              <a:t>手中牢牢紧握那根引导自己走完忙碌人生迷宫的线索的人，一定是那些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华文细黑"/>
              </a:rPr>
              <a:t>每天早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细黑"/>
              </a:rPr>
              <a:t>都会为一整天的事务做个计划并能按时完成计划的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He who every morning has a plan for the transactions of the day and follows that plan carries thread that will guide him through the labyrinth of the most busy life.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维克多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雨果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Victor Hugo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2741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日之计在于晨。每一天的开始，将为一天中余下的时间搭起一个大舞台。如果你有目的地在每一天的早晨设定好一天中自己希望的行为模式，那么，这意味着你向着自己希望的生活迈出了重要的一步。如何度过每一天的早晨，正是我们自我检验控制能力的试剂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4901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每天早晨醒来后是为一天做个计划，还是漫无目的地胡思乱想呢？假定我们已经为自己做了个计划，我们又是否能够坚持执行计划？我们是遵循一个有目的的、预先设定好的，并能够让我们更有效率、更有效果的行为模式呢，还是放任自己自由想象和自由休闲？或者，我们只是随意而匆忙地准备出门，目的不过是为了准时上学？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3454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华文新魏"/>
                <a:ea typeface="华文新魏"/>
              </a:rPr>
              <a:t>如何度过早晨，决定了我们日常行为规律是否能发挥它潜在的威力。它究竟是由好习惯构成，还是被坏习惯充斥，早晨的时光将彻底揭示问题的答案。如果我们希望自己不至于一生碌碌无为，并能够最大限度地发挥潜能，那么，养成有效利用早晨时光的良好习惯将至关重要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767ff"/>
                </a:solidFill>
                <a:latin typeface="Arial"/>
                <a:ea typeface="华文行楷"/>
              </a:rPr>
              <a:t>习惯无处不在</a:t>
            </a:r>
            <a:br>
              <a:rPr sz="5400"/>
            </a:br>
            <a:r>
              <a:rPr b="0" lang="zh-CN" sz="2400" spc="-1" strike="noStrike">
                <a:solidFill>
                  <a:srgbClr val="6767ff"/>
                </a:solidFill>
                <a:latin typeface="Arial"/>
                <a:ea typeface="华文行楷"/>
              </a:rPr>
              <a:t>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——不知不觉中就有习惯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仿宋_GB2312"/>
              </a:rPr>
              <a:t>毫无疑问，人就是一种习惯性的动物。</a:t>
            </a:r>
            <a:r>
              <a:rPr b="1" lang="zh-CN" sz="4000" spc="-1" strike="noStrike" u="sng">
                <a:solidFill>
                  <a:srgbClr val="000066"/>
                </a:solidFill>
                <a:uFillTx/>
                <a:latin typeface="Arial"/>
                <a:ea typeface="仿宋_GB2312"/>
              </a:rPr>
              <a:t>无论我们是否愿意，习惯总是无孔不入，渗透在我们生活的方方面面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仿宋_GB2312"/>
              </a:rPr>
              <a:t>。很少有人能够意识到，习惯的影响力竟如此之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ff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ccccff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ccccff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每天晚上总结一下自己一天里所做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um up at night what thou has done by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罗德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赫尔伯特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(Lord Herb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天中的第二个关键时刻出现在晚上。如何度过晚上的时光，也是决定你如何度过早晨时光的因素之一。在心中默默整理和评价一下自己一天中完成的事情，并规划好自己第二天应该做的事情，对于第二天早晨是否能够正确做好计划，以及是否能够拥有一个良好的开端至关重要。制定一天的计划，并坚持执行计划，将让你的工作变得效率更高成绩更大。如果，每一天你都无法完成自己希望完成的事情，那么，你应该反躬自问一下，症结或许就在于缺乏计划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,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构建新人生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(5)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2268360" y="2581200"/>
            <a:ext cx="598176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用习惯去克服习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One habit overcomes another.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托马斯</a:t>
            </a:r>
            <a:r>
              <a:rPr b="1" lang="en-US" sz="2800" spc="-1" strike="noStrike">
                <a:solidFill>
                  <a:srgbClr val="000000"/>
                </a:solidFill>
                <a:latin typeface="Dotum"/>
                <a:ea typeface="Dotum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坎佩斯（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Thomas Kempis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），《效法基督》的作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268360" y="2276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我们明确了希望养成的好习惯，以及希望改掉的坏习惯之后，应充分理解如何改变习惯，这很关键。人们通常说，习惯很难根除。其实，这种说法并不准确。习惯不可能根除，只能够被替换。换句话说，你只能够替换、而不是抹去一个坏习惯。替换，而非抹去，二者之间的区别很重要！因此，我们在着手改掉坏习惯之前，必须仔细地思考究竟应该选取哪些好习惯来替换它们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2050920" y="242100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如果你有目的地选取了好习惯去取代坏习惯，那么，改掉坏习惯将变得容易许多。以嚼烟草为例。我有一个朋友，就是用了磕瓜子这种简单的方式来取代嚼烟草。当他每次受到嚼烟草的诱惑时，便强迫自己嗑几颗瓜子。虽然他现在已经戒烟而且用不着嗑瓜子了，但他在戒烟的早期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很长时间里都需要借助瓜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250" autoRev="1" fill="hold"/>
                                        <p:tgtEl>
                                          <p:spTgt spid="2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38" dur="500"/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43" dur="500"/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48" dur="500"/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061" dur="20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构建新人生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(6)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  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</a:t>
            </a:r>
            <a:r>
              <a:rPr b="0" lang="zh-CN" sz="2400" spc="-1" strike="noStrike">
                <a:solidFill>
                  <a:srgbClr val="006666"/>
                </a:solidFill>
                <a:latin typeface="Arial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6666"/>
                </a:solidFill>
                <a:latin typeface="Arial"/>
                <a:ea typeface="黑体"/>
              </a:rPr>
              <a:t>事先制定计划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20072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在成功实现目标的人群中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事先制定   计划者高达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78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☆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在改变或培养好习惯的努力过程中，还有一个关键的要素，那便是他人的支持。亲人、朋友，或者同事，都可以成为支持、鼓励、激励你的人选，或成为友善的提醒者——他们完全有可能决定我们究竟是成功地改变生活的某个方面，还是继续糟糕的现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0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33cc"/>
                </a:solidFill>
                <a:latin typeface="Arial"/>
                <a:ea typeface="华文行楷"/>
              </a:rPr>
              <a:t>习惯无处不在</a:t>
            </a:r>
            <a:br>
              <a:rPr sz="6800"/>
            </a:b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              ——学习习惯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1618920" y="3505320"/>
            <a:ext cx="6838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华文新魏"/>
              </a:rPr>
              <a:t>学习成绩的好坏，往往取决于是否有良好的学习习惯，特别是思考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2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总是站在系统的高度把握知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很多同学在学习中习惯于跟着老师一节一节的走，一章一章的学，不太注意章节与学科整体系统之间的关系，只见树木，不见森林。随着时间推移，所学知识不断增加，就会感到内容繁杂、头绪不清，记忆负担加重。事实上，任何一门学科都有自身的知识结构系统，学习一门学科前首先应了解这一系统，从整体上把握知识，学习每一部分内容都要弄清其在整体系统中的位置，这样做往往使所学知识更容易把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0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追根溯源，寻求事物之间的内在联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学习最忌死记硬背，特别是理科学习，更重要的是弄清楚道理，所以不论学习什么内容，都要问为什么，这样学到的知识似有源上水，有木之本。即使你所提的问题超出了中学知识范围，甚至老师也回答不出来，但这并不要紧，要紧的是对什么事都要有求知欲，好奇心，这往往是培养我们学习兴趣的重要途径，更重要的是养成这种思考习惯，有利于思维品质的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0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1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学习好习惯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(3)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发散思维，养成联想的思维习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在学习中我们应经常注意新旧知识之间、学科之间、所学内容与生活实际等方面的联系，不要孤立的对待知识，养成多角度地去思考问题的习惯，有意识地去训练思维的流畅性、灵活性及独创性，长期下去，必然会促进智力素质的发展。知识的学习主要通过思维活动来实现的，学习的核心就是思维的核心，知识的掌握固然重要，但更重要的是通过知识的学习提高智力素质，智力素质提高了，知识的学习会变得容易。所以上面讲的学习的三个学习习惯实质上是三种思维习惯。学习的重点就是学会如何思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0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cc"/>
                </a:solidFill>
                <a:latin typeface="Arial"/>
                <a:ea typeface="华文彩云"/>
              </a:rPr>
              <a:t>讨论与学习</a:t>
            </a:r>
            <a:br>
              <a:rPr sz="7200"/>
            </a:b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——习惯意义非凡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684000" y="2997000"/>
            <a:ext cx="708804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列举几个自己希望改掉的坏习惯，以及期望养成的好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8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1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华文彩云"/>
              </a:rPr>
              <a:t>与大家共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 type="subTitle"/>
          </p:nvPr>
        </p:nvSpPr>
        <p:spPr>
          <a:xfrm>
            <a:off x="1186920" y="3284640"/>
            <a:ext cx="74883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即使是痛苦的，我们也要去养成好的习惯；因为如果不这样，坏的习惯会让我们更痛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8077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成功的秘密就隐藏在你的日常行为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You will never change your life until you change something you do daily. The secret of your success is found in your daily routin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      ——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约翰 </a:t>
            </a:r>
            <a:r>
              <a:rPr b="1" lang="en-US" sz="2400" spc="-1" strike="noStrike">
                <a:solidFill>
                  <a:srgbClr val="ff9999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马克斯韦尔（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John C. Maxwell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华文彩云"/>
              </a:rPr>
              <a:t>与大家共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132000" y="2997360"/>
            <a:ext cx="5113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勉强成习惯，习惯成自然。一开始是很勉强自己的，按照某一种步骤进行训练，这样习惯就自然了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4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4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d7da9"/>
                </a:solidFill>
                <a:latin typeface="Arial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007572"/>
                </a:solidFill>
                <a:latin typeface="Arial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77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如果你希望出类拔萃，也希望生活方式与众不同，那么，你必须明白一点——是你的习惯决定着你的未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If you want to distance yourself from the masses and enjoy a unique lifestyle, understand this——your habits will determine your future.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杰克</a:t>
            </a:r>
            <a:r>
              <a:rPr b="1" lang="en-US" sz="2800" spc="-1" strike="noStrike">
                <a:solidFill>
                  <a:srgbClr val="0033cc"/>
                </a:solidFill>
                <a:latin typeface="Gulim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坎菲尔德（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Jack Canfield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），全球畅销书《心灵鸡汤》的作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670248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没有什么比习惯的力量更强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Nothing is more powerful than habi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奥维德（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Ovid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，古罗马著名诗人，长篇叙事诗《变形记》的作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幼圆"/>
                <a:ea typeface="幼圆"/>
              </a:rPr>
              <a:t>行为决定习惯；习惯决定性格；性格决定命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　　——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G.D. Boar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6337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亚历山大帝国图书馆发生火灾的时候，馆里所藏图书被焚烧殆尽，但有一本不很贵重的书得以幸免。有一个能识几个字的穷人，花了几个铜板买下了这本书。书本身不是很有意思，但书里面却藏着一样非常有趣的东西：一张薄薄的羊皮纸，上面写着点铁成金石的秘密。所谓点铁成金石，是一块小圆石，能把任何普通的金属变成纯金。小纸片上写着：这块奇石可以在黑海边找到，但是奇石的外观跟海边成千上万的石头没什么两样。谜底在于：奇石摸起来是温的，而普通的石头摸起来是冰凉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 txBox="1"/>
          <p:nvPr/>
        </p:nvSpPr>
        <p:spPr>
          <a:xfrm rot="5400000">
            <a:off x="6211800" y="2365560"/>
            <a:ext cx="3857760" cy="799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习惯的力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59" name=""/>
          <p:cNvSpPr txBox="1"/>
          <p:nvPr/>
        </p:nvSpPr>
        <p:spPr>
          <a:xfrm rot="5400000">
            <a:off x="5273280" y="3911760"/>
            <a:ext cx="4343400" cy="35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—</a:t>
            </a: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从一个古老的故事谈起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60" name=""/>
          <p:cNvSpPr/>
          <p:nvPr/>
        </p:nvSpPr>
        <p:spPr>
          <a:xfrm>
            <a:off x="900000" y="2781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于是，这个穷人于是变卖了家当，带着简单的行囊，露宿于黑海岸边，开始寻找点铁成金石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8" dur="2000"/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7200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50021"/>
                </a:solidFill>
                <a:latin typeface="幼圆"/>
                <a:ea typeface="幼圆"/>
              </a:rPr>
              <a:t>他知道，如果他把捡起来的冰凉的石头随手就扔掉的话，那么他可能会重复地捡到已经摸过的石头，而无法辨认真正的奇石。为防止这种情形的发生，每当捡起一块冰凉的石头，他就往海里扔。一天过去了，他捡的石头中没有一块是书中所说的奇石。一个月，一年，两年，三年……他还是没有找到那块奇石。但是，他不气馁，继续捡石头，扔石头……没完没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幼圆"/>
                <a:ea typeface="幼圆"/>
              </a:rPr>
              <a:t>What happened at last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 txBox="1"/>
          <p:nvPr/>
        </p:nvSpPr>
        <p:spPr>
          <a:xfrm rot="5400000">
            <a:off x="6848640" y="2086560"/>
            <a:ext cx="2973600" cy="615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习惯的力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63" name=""/>
          <p:cNvSpPr txBox="1"/>
          <p:nvPr/>
        </p:nvSpPr>
        <p:spPr>
          <a:xfrm rot="5400000">
            <a:off x="6129360" y="4030560"/>
            <a:ext cx="3348000" cy="27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—</a:t>
            </a: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从一个古老的故事谈起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幼圆"/>
                <a:ea typeface="幼圆"/>
              </a:rPr>
              <a:t>有一天早上，他捡起一块石头，一摸，是温的！他仍然随手扔到了海里，因为他已经养成了往海里扔石头的习惯。这个扔石头的动作太具习惯性了，以至于当他梦寐以求、苦苦寻觅的奇石出现时，他仍然习惯性地扔到了海里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2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2:40:41Z</dcterms:created>
  <dc:creator>MC SYSTEM</dc:creator>
  <dc:description/>
  <dc:language>en-US</dc:language>
  <cp:lastModifiedBy>微软用户</cp:lastModifiedBy>
  <dcterms:modified xsi:type="dcterms:W3CDTF">2006-10-26T14:37:10Z</dcterms:modified>
  <cp:revision>37</cp:revision>
  <dc:subject/>
  <dc:title>播种习惯 ·  收获人生</dc:title>
</cp:coreProperties>
</file>