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F031-DDC4-4BBB-AE0F-EF384C687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616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03280" y="2428560"/>
            <a:ext cx="640080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03280" y="2700720"/>
            <a:ext cx="640080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E321B-B41C-4B06-8D81-705B1698E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616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03280" y="2428560"/>
            <a:ext cx="312336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3240" y="2428560"/>
            <a:ext cx="312336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03280" y="2700720"/>
            <a:ext cx="312336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3240" y="2700720"/>
            <a:ext cx="312336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E2C4-00F2-426A-A40E-29D099DEB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616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03280" y="2428560"/>
            <a:ext cx="206064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67240" y="2428560"/>
            <a:ext cx="206064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31560" y="2428560"/>
            <a:ext cx="206064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03280" y="2700720"/>
            <a:ext cx="206064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67240" y="2700720"/>
            <a:ext cx="206064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31560" y="2700720"/>
            <a:ext cx="206064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CBAB-CA2D-44BD-94CC-D035A3C70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2CD53-6E70-4F48-8D1C-896770C2D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16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2428560"/>
            <a:ext cx="64008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D8E90-2FB6-4609-A270-5A7D0B684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616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03280" y="2428560"/>
            <a:ext cx="640080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ABB4C-E431-4856-B8EA-DC7699663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616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03280" y="2428560"/>
            <a:ext cx="312336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3240" y="2428560"/>
            <a:ext cx="312336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391ED-D97E-43D7-8A65-A419709FD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616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AC2F1-8581-4BFB-8484-A6439E446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1616040"/>
            <a:ext cx="7772400" cy="29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23FFA-F30C-44C2-AEFA-BBA9A0D4D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616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03280" y="2428560"/>
            <a:ext cx="312336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3240" y="2428560"/>
            <a:ext cx="312336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403280" y="2700720"/>
            <a:ext cx="312336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E4994-42D0-4370-A47C-7F1A286DF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616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03280" y="2428560"/>
            <a:ext cx="64008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075B-EA5E-4E44-B529-7F9054941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616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03280" y="2428560"/>
            <a:ext cx="312336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3240" y="2428560"/>
            <a:ext cx="312336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3240" y="2700720"/>
            <a:ext cx="312336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621F0-297D-4E74-9EAD-72BF16DEC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616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03280" y="2428560"/>
            <a:ext cx="312336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3240" y="2428560"/>
            <a:ext cx="312336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403280" y="2700720"/>
            <a:ext cx="640080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4A0EE-56CB-4C0D-8359-D0150E660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616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03280" y="2428560"/>
            <a:ext cx="640080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403280" y="2700720"/>
            <a:ext cx="640080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47069-B61C-4FF7-90D1-E3BA78867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16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03280" y="2428560"/>
            <a:ext cx="312336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3240" y="2428560"/>
            <a:ext cx="312336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403280" y="2700720"/>
            <a:ext cx="312336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3240" y="2700720"/>
            <a:ext cx="312336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22F1D-BFBA-4C31-917F-EE1BFCBD5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16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03280" y="2428560"/>
            <a:ext cx="206064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67240" y="2428560"/>
            <a:ext cx="206064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731560" y="2428560"/>
            <a:ext cx="206064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403280" y="2700720"/>
            <a:ext cx="206064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67240" y="2700720"/>
            <a:ext cx="206064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731560" y="2700720"/>
            <a:ext cx="206064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7DD85-342F-4BAD-98A2-54D014D93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616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03280" y="2428560"/>
            <a:ext cx="640080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E36F-3F80-4954-A72A-68F0D2972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616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03280" y="2428560"/>
            <a:ext cx="312336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3240" y="2428560"/>
            <a:ext cx="312336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78C4-27D9-406F-8506-2EFD3C78A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616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9CFB-3BB8-45A7-A221-BB2A19D04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616040"/>
            <a:ext cx="7772400" cy="298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C454-6F32-4925-B656-2465C5085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616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03280" y="2428560"/>
            <a:ext cx="312336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3240" y="2428560"/>
            <a:ext cx="312336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03280" y="2700720"/>
            <a:ext cx="312336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C709-C68F-4E12-9898-001FFAD49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616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03280" y="2428560"/>
            <a:ext cx="312336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3240" y="2428560"/>
            <a:ext cx="312336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3240" y="2700720"/>
            <a:ext cx="312336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C537-0B3F-4C1B-9846-1F76881ED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616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03280" y="2428560"/>
            <a:ext cx="312336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3240" y="2428560"/>
            <a:ext cx="312336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03280" y="2700720"/>
            <a:ext cx="6400800" cy="2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536A-D79B-4051-BE54-20122EB9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2894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360" y="11980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3680A-2754-4F3B-A530-75CE7715D3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616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ABF48-7F52-4260-9EBE-E9F76488B0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98720"/>
            <a:ext cx="82296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  <a:ea typeface="隶书"/>
              </a:rPr>
              <a:t>黄土高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1980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5126040" cy="48243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556000" y="1197000"/>
            <a:ext cx="612144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2894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1980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387800"/>
            <a:ext cx="7772400" cy="109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3300"/>
                </a:solidFill>
                <a:latin typeface="Arial"/>
                <a:ea typeface="楷体_GB2312"/>
              </a:rPr>
              <a:t>安塞腰鼓</a:t>
            </a: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03280" y="2852280"/>
            <a:ext cx="6400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990099"/>
                </a:solidFill>
                <a:latin typeface="Arial"/>
                <a:ea typeface="楷体_GB2312"/>
              </a:rPr>
              <a:t>刘成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53000"/>
            <a:ext cx="822960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Arial"/>
                <a:ea typeface="隶书"/>
              </a:rPr>
              <a:t>字音检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1980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ts val="47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亢奋 ：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47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晦暗 ： </a:t>
            </a:r>
            <a:r>
              <a:rPr b="0" lang="zh-CN" sz="3200" spc="-1" strike="noStrike">
                <a:solidFill>
                  <a:srgbClr val="990099"/>
                </a:solidFill>
                <a:latin typeface="Arial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47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羁绊：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47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冗杂 ：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47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蓦然：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47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叹为观止：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ts val="47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戛然而止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1268280"/>
            <a:ext cx="25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99"/>
                </a:solidFill>
                <a:latin typeface="Arial"/>
                <a:ea typeface="楷体_GB2312"/>
              </a:rPr>
              <a:t>极度兴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8000" y="1989000"/>
            <a:ext cx="2740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99"/>
                </a:solidFill>
                <a:latin typeface="Arial"/>
                <a:ea typeface="楷体_GB2312"/>
              </a:rPr>
              <a:t>昏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63640" y="2637000"/>
            <a:ext cx="50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99"/>
                </a:solidFill>
                <a:latin typeface="Arial"/>
                <a:ea typeface="楷体_GB2312"/>
              </a:rPr>
              <a:t>缠住了不能脱身，束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347560" y="335772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99"/>
                </a:solidFill>
                <a:latin typeface="Arial"/>
                <a:ea typeface="楷体_GB2312"/>
              </a:rPr>
              <a:t>繁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92360" y="4005360"/>
            <a:ext cx="241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99"/>
                </a:solidFill>
                <a:latin typeface="Arial"/>
                <a:ea typeface="楷体_GB2312"/>
              </a:rPr>
              <a:t>突然，蓦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411280" y="4724280"/>
            <a:ext cx="51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99"/>
                </a:solidFill>
                <a:latin typeface="Arial"/>
                <a:ea typeface="楷体_GB2312"/>
              </a:rPr>
              <a:t>赞美看到的事物好到了极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411280" y="5445000"/>
            <a:ext cx="32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99"/>
                </a:solidFill>
                <a:latin typeface="Arial"/>
                <a:ea typeface="楷体_GB2312"/>
              </a:rPr>
              <a:t>声音突然中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614880"/>
            <a:ext cx="822960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Arial"/>
                <a:ea typeface="隶书"/>
              </a:rPr>
              <a:t>整体感知课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209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感情的朗读课文，思考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本文用的最多的修辞手法是什么？举例说明这样写的好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用一个词语概况你心中的安塞腰鼓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402840"/>
            <a:ext cx="822960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Arial"/>
                <a:ea typeface="隶书"/>
              </a:rPr>
              <a:t>分析品读课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633708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分析开头和结尾的妙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84360" y="2421000"/>
            <a:ext cx="784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分析课文描写安塞腰鼓的几个角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402840"/>
            <a:ext cx="822960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Arial"/>
                <a:ea typeface="隶书"/>
              </a:rPr>
              <a:t>质疑探究课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4000" y="1773360"/>
            <a:ext cx="741492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课文中作者是怎样歌颂西北汉子的？为什么这样歌颂西北汉子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55640" y="306864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课文中作者是怎样写黄土高原的？作者为什么对黄土高原情有独钟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468080"/>
            <a:ext cx="799164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Arial"/>
                <a:ea typeface="隶书"/>
              </a:rPr>
              <a:t>一方水土养一方人，</a:t>
            </a:r>
            <a:br>
              <a:rPr sz="5400"/>
            </a:br>
            <a:r>
              <a:rPr b="0" lang="zh-CN" sz="5400" spc="-1" strike="noStrike">
                <a:solidFill>
                  <a:srgbClr val="ff3300"/>
                </a:solidFill>
                <a:latin typeface="Arial"/>
                <a:ea typeface="隶书"/>
              </a:rPr>
              <a:t>不同的地域有不同的文化。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7T15:44:56Z</dcterms:created>
  <dc:creator/>
  <dc:description/>
  <dc:language>en-US</dc:language>
  <cp:lastModifiedBy/>
  <dcterms:modified xsi:type="dcterms:W3CDTF">2015-04-03T09:09:45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4</vt:lpwstr>
  </property>
</Properties>
</file>