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DE7-8332-4E26-9080-380A30B8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141-1E00-41F0-BC0F-4A323B9E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ABC-D5DB-4FB5-B9CF-469E1E88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E28-21CF-4F79-93C5-CAC4719A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9F7-FE02-4B06-AB17-C5D394E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9D4-5559-46A2-93FF-214154BA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ABA-E5C8-40AC-9DB1-088A1C92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75F-C721-4B8B-9934-A9A177A0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C04C-411B-4B80-BC6A-B87A80B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C35-3269-45D0-9055-7EBF657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F75-BE80-4C5A-8449-ACCA4D0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051-1EA0-4192-AAEC-7971558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E718-BFF8-4AB8-9235-13B86C4A0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49(1)"/>
          <p:cNvPicPr/>
          <p:nvPr/>
        </p:nvPicPr>
        <p:blipFill>
          <a:blip r:embed="rId1"/>
          <a:srcRect l="0" t="4688" r="413" b="93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819520" y="685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 大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欧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k21-004"/>
          <p:cNvPicPr/>
          <p:nvPr/>
        </p:nvPicPr>
        <p:blipFill>
          <a:blip r:embed="rId2"/>
          <a:stretch/>
        </p:blipFill>
        <p:spPr>
          <a:xfrm>
            <a:off x="1219320" y="2514600"/>
            <a:ext cx="67053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3" descr=""/>
          <p:cNvPicPr/>
          <p:nvPr/>
        </p:nvPicPr>
        <p:blipFill>
          <a:blip r:embed="rId3"/>
          <a:stretch/>
        </p:blipFill>
        <p:spPr>
          <a:xfrm>
            <a:off x="1432080" y="1359000"/>
            <a:ext cx="5999040" cy="1427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6160" y="587844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坡下载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uzz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一次测验，我们按照课堂笔记回答的每一道题，都被画上了红叉叉，我们都得了零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老师讲课的信息都是错误的，我们做的课堂笔记也是错误的信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课堂上传看的猫猬兽的头盖骨也只是普通的猫的颅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希望我们多去发现问题，大胆提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科学课对于我们来说就成了一种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冒险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90000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一次测验，我们按照课堂笔记回答的每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道题，都被画上了红叉叉，我们都得了零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怀特先生是想从这件事中教导我们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图片1"/>
          <p:cNvPicPr/>
          <p:nvPr/>
        </p:nvPicPr>
        <p:blipFill>
          <a:blip r:embed="rId1"/>
          <a:stretch/>
        </p:blipFill>
        <p:spPr>
          <a:xfrm>
            <a:off x="3132000" y="981000"/>
            <a:ext cx="2592360" cy="9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3520" y="1219320"/>
            <a:ext cx="83055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怀特森老师有个性，教学方法独特，常常有出人意料的举动，除了给我们带来惊讶，带来不可思议之外，对学生会有什么好处呢？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35053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使我们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逐渐增长了见识，也逐渐懂得如何去接近真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使我们明白了一个道理，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不要迷信书本，也不要迷信权威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图片1"/>
          <p:cNvPicPr/>
          <p:nvPr/>
        </p:nvPicPr>
        <p:blipFill>
          <a:blip r:embed="rId1"/>
          <a:stretch/>
        </p:blipFill>
        <p:spPr>
          <a:xfrm>
            <a:off x="3581280" y="228600"/>
            <a:ext cx="2592360" cy="95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3" descr=""/>
          <p:cNvPicPr/>
          <p:nvPr/>
        </p:nvPicPr>
        <p:blipFill>
          <a:blip r:embed="rId2"/>
          <a:stretch/>
        </p:blipFill>
        <p:spPr>
          <a:xfrm>
            <a:off x="2541600" y="895320"/>
            <a:ext cx="2732040" cy="744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755640" y="249228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三、为什么作者说怀特森老师是他最好的老师？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怀特森老师教育我们懂得了哪些道理？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1-09-008-04"/>
          <p:cNvPicPr/>
          <p:nvPr/>
        </p:nvPicPr>
        <p:blipFill>
          <a:blip r:embed="rId3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03640" y="1628280"/>
            <a:ext cx="547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、教学方法独特，常常有出人意料的举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、对“我”的影响很大，教育“我”不要迷信书本、迷信权威；培养“我”独立思考、独立判断的能力和科学的怀疑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320364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600200" y="2057400"/>
            <a:ext cx="485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分析重点句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1-09-008-04"/>
          <p:cNvPicPr/>
          <p:nvPr/>
        </p:nvPicPr>
        <p:blipFill>
          <a:blip r:embed="rId2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990720" y="4572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他说，每一个人都应该具有独立思考和独立判断事物真伪的能力，同时也应该具有怀疑的能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14400" y="3276720"/>
            <a:ext cx="74674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是怀特森老师通过这一堂关于“猫猬兽”的课，想要告诉学生的一个道理。一个人不能人云亦云，不能轻信老师和专家的说法，要敢于怀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90720" y="609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、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从此，科学课对于我们来说就成了一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冒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2514600"/>
            <a:ext cx="76201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黑体"/>
              </a:rPr>
              <a:t>这里的“冒险”是指科学课上富有挑战性的紧张刺激的学习过程，学生要时刻动脑对事物进行独立的思考、独立的判断，要有怀疑，也要有实证，学习成了一个真实的复杂的认识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335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然而，正是在一个个饶有趣味又充满刺激的过程中，我们逐渐增长了见识，也逐渐懂得了如何去接近真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09480" y="2266920"/>
            <a:ext cx="80773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黑体"/>
              </a:rPr>
              <a:t>这一个个“饶有趣味又充满刺激的过程”是怀特森老师创造和营造的，也就是在科学课上不断质疑，不断思考，不断论证的过程。在这样的学习中，我们不仅学到了知识，增长了见识，更重要的是“懂得了如何去接近真理”，那就是要善于独立思考，独立判断，要有怀疑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83059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11" name="Text Box 3"/>
          <p:cNvSpPr/>
          <p:nvPr/>
        </p:nvSpPr>
        <p:spPr>
          <a:xfrm>
            <a:off x="304920" y="609480"/>
            <a:ext cx="8458200" cy="76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怀特森先生让我还有我的同学明白了一个重要的道理：不要迷信书本，也不要迷信权威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3048120"/>
            <a:ext cx="8534520" cy="1312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书本、权威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代表的是已有的、被大多数人认可和接受的知识。句子中的两个“不要迷信”强调的是一种怀疑的精神，强调要通过独立的思考去获取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83059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533520" y="1523880"/>
            <a:ext cx="73911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颅骨  编造   真伪   破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教训    驳倒   论证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权威    糊弄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出人意料     目瞪口呆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饶有趣味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侃侃而谈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304920"/>
            <a:ext cx="854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用说，我们全都气炸了。这算什么测验？怀特森算哪门子老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听后吓坏了，说：“他怎么能够这样来糊弄你们呢？”我立刻看着那位朋友的眼睛，并告诉他：“不，你的看法错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你从这两段话中看到了什么？为什么有这样的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66680" y="1143000"/>
            <a:ext cx="705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假如你现在真的成为了怀特森先生的学生，你想对怀特森先生说些什么？请你用笔写下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105_uPRau6FR220k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611280" y="2133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文写怀特森先生的故事，赞扬了怀特森先生有个性，教学方法独特，培养学生独立思考、独立判断的能力和怀疑精神。表达作者对怀特森先生的感激和赞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3419640" y="69228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中心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684360" y="1989000"/>
            <a:ext cx="77040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不能迷信书本，不能迷信权威，要善于观察，敢于质疑，养成独立思考和独立判断事物的能力，敢于向权威挑战 。 科学需要怀疑， 需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冒险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，需要挑战 ，只有这样我们才会拥有善于发现，探求真知的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346200" y="9079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读完这篇文章，你有什么感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684360" y="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457200" y="9144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科学需要怀疑，需要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冒险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，需要挑战，我们每一个人都应该具有独立思考、独立判断能力和科学怀疑的精神。只有这样我们才会拥有善于发现、探求真知的能力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今中外，善于发现问题并研究问题的人往往不迷信书本、不迷信权威，你知道哪些事例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4360" y="765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归整体，加深对科学精神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26920" y="306864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年级学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家和小牧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敢于给戴嵩指出错误的小牧童；四年级学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铁球同时着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敢于挑战权威的伽利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692360" y="522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结合本单元前三篇课文，谈一谈你对科学精神又有了哪些认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900000" y="54936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4360" y="620640"/>
            <a:ext cx="79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句子，说说下列句中引号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此，科学课对于我们来说就成了一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冒险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了驳倒他的一个貌似正确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论点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们常常会在课后花好几个小时甚至几天的时间去思考和论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9640" y="141300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84360" y="177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里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冒险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是冒生命的危险，而是指要认真思考老师的问题，不然就会陷入老师的圈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5640" y="371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论点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加引号指老师的论点看上去是正确的，其实是错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8436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为什么科学课会成为一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冒险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84360" y="54450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相信迷信，也不要迷信权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觉得这话正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116000" y="333360"/>
            <a:ext cx="7561440" cy="3745080"/>
            <a:chOff x="1116000" y="333360"/>
            <a:chExt cx="7561440" cy="3745080"/>
          </a:xfrm>
        </p:grpSpPr>
        <p:sp>
          <p:nvSpPr>
            <p:cNvPr id="136" name="AutoShape 3"/>
            <p:cNvSpPr/>
            <p:nvPr/>
          </p:nvSpPr>
          <p:spPr>
            <a:xfrm>
              <a:off x="1116000" y="333360"/>
              <a:ext cx="7561440" cy="37450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1908000" y="692280"/>
              <a:ext cx="6121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因为科学课中，怀特森老师常常有出人意料的举动，经常会出一些貌似正确的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论点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”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让我们判断思考，这就需要我们时刻动脑对事物进行独立的思考、独立的判断，稍不注意就会陷入老师的圈套。所以说科学课成为一种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冒险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”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5" descr="图片19"/>
          <p:cNvPicPr/>
          <p:nvPr/>
        </p:nvPicPr>
        <p:blipFill>
          <a:blip r:embed="rId1"/>
          <a:stretch/>
        </p:blipFill>
        <p:spPr>
          <a:xfrm>
            <a:off x="324000" y="4076640"/>
            <a:ext cx="1320480" cy="2259000"/>
          </a:xfrm>
          <a:prstGeom prst="rect">
            <a:avLst/>
          </a:prstGeom>
          <a:ln w="0">
            <a:noFill/>
          </a:ln>
        </p:spPr>
      </p:pic>
      <p:sp>
        <p:nvSpPr>
          <p:cNvPr id="139" name="Oval 6"/>
          <p:cNvSpPr/>
          <p:nvPr/>
        </p:nvSpPr>
        <p:spPr>
          <a:xfrm>
            <a:off x="6659640" y="5805360"/>
            <a:ext cx="1224000" cy="505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116000" y="1484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难道你们根据错误的信息得出的错误答案，还应该得分不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476360" y="321300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问句；改为陈述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你们根据错误的信息得出的错误答案，不应该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971640" y="620640"/>
            <a:ext cx="2800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句子大变身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755640" y="333360"/>
            <a:ext cx="37479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迁移延伸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26920" y="278136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说说你喜欢的老师，为什么喜欢他（她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00000" y="4292640"/>
            <a:ext cx="62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你即将离开母校，你用方式感恩你的老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788280" y="455760"/>
            <a:ext cx="1643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词语的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出人意料：超出人们的意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侃侃而谈：理直气壮、从容不迫地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瞪口呆：形容因吃惊或害怕而发愣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破绽：比喻说话做事时露出的漏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饶有趣味：饶，丰富，多；指很有趣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873000"/>
            <a:ext cx="914400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学生们向苏格拉底请教：怎样才能坚持真理？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笑容可掬的苏格拉底让大家坐下来，随后取出一个苹果。他用手指捏着，慢慢地从每个同学的座位旁边走过，一边走一边说：“请同学们集中精力，注意嗅一嗅空气中的气味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然后，他回到讲台上，把苹果举起来左右晃了晃，问：“哪位同学闻到了苹果的气味儿？”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有一位同学举手回答：“我闻到了，是香味！”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苏格拉底再次走下讲台，举着苹果，慢慢地从每一个学生的座位旁边走过，边走边叮嘱：“请同学务必集中精力，仔细嗅一嗅空气中的气味。”　</a:t>
            </a:r>
            <a:br>
              <a:rPr sz="2000"/>
            </a:b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稍停，苏格拉底第三次从讲台走到学生们中间，让每一个学生再嗅一嗅苹果的气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经过三次“嗅一嗅”之后，除一个学生外，其他学生都举起了手，都说闻到了苹果的香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那位没举手的学生环顾周围看了看，觉得一定是自己错了，于是也随波逐流地赶紧举起了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　　苏格拉底脸上的笑容不见了。他举起苹果缓缓地说：“非常遗憾，这是一枚假苹果，什么味儿也没有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935880" y="304920"/>
            <a:ext cx="1003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嗅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228600" y="76320"/>
            <a:ext cx="2743200" cy="533160"/>
          </a:xfrm>
          <a:prstGeom prst="cloudCallout">
            <a:avLst>
              <a:gd name="adj1" fmla="val 73671"/>
              <a:gd name="adj2" fmla="val 4106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拓展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486400" y="380160"/>
            <a:ext cx="289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后交流自己的体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335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152280"/>
            <a:ext cx="9144000" cy="369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蜂并不是靠翅膀振动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蜂发声靠的是翅膀振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被列入我国小学教材的生物“常识”，被一位名叫聂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小学生用实验推翻。聂利为此撰写的论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蜜蜂并不是靠振动翅膀发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荣获全国青少年科技创新大赛银奖和高士其科普专项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聂利的发现过程并不复杂：她先是偶然发现翅膀不震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被剪下的双翅）的蜜蜂仍然嗡嗡叫个不停，然后用放大镜观察了一个多月，终于找到了蜜蜂的发声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04920" y="153684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科学需要怀疑，需要“冒险”，需要挑战，我们每一个人都应该具有独立思考、独立判断能力和科学怀疑的精神。只有这样我们才会拥有善于发现、探求真知的能力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个事例告诉我们什么道理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科学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发展独立思考和独立判断的一般能力，应当始终放在首位，而不应当把获得专业知识放在首位。如果一个人掌握了他的学科的基础理论，并且学会了独立地思考和工作，他必定会找到他自己的道路，而且比起那种主要以获得细节知识为其培训内容的人来，他一定会更好地适应进步和变化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爱因斯坦 （美国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真理可能在少数人一边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柏拉图（希腊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054920" cy="58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隶书"/>
                <a:ea typeface="华文隶书"/>
              </a:rPr>
              <a:t>读书而不思考，等于吃饭而不消化。</a:t>
            </a:r>
            <a:r>
              <a:rPr b="1" lang="zh-CN" sz="4800" spc="-1" strike="noStrike">
                <a:solidFill>
                  <a:srgbClr val="cc00cc"/>
                </a:solidFill>
                <a:latin typeface="华文隶书"/>
                <a:ea typeface="华文隶书"/>
              </a:rPr>
              <a:t>            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                                                   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——</a:t>
            </a:r>
            <a:r>
              <a:rPr b="1" lang="zh-CN" sz="4800" spc="-1" strike="noStrike">
                <a:solidFill>
                  <a:srgbClr val="0000ff"/>
                </a:solidFill>
                <a:latin typeface="华文隶书"/>
                <a:ea typeface="华文隶书"/>
              </a:rPr>
              <a:t>波尔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63ck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MCj02389810000[1]"/>
          <p:cNvPicPr/>
          <p:nvPr/>
        </p:nvPicPr>
        <p:blipFill>
          <a:blip r:embed="rId2"/>
          <a:stretch/>
        </p:blipFill>
        <p:spPr>
          <a:xfrm>
            <a:off x="7086600" y="5410080"/>
            <a:ext cx="1798560" cy="1254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447920" y="304920"/>
            <a:ext cx="7162560" cy="764280"/>
          </a:xfrm>
          <a:prstGeom prst="rect">
            <a:avLst/>
          </a:prstGeom>
          <a:solidFill>
            <a:srgbClr val="f5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主要讲了一件什么事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049159866"/>
          <p:cNvPicPr/>
          <p:nvPr/>
        </p:nvPicPr>
        <p:blipFill>
          <a:blip r:embed="rId3"/>
          <a:stretch/>
        </p:blipFill>
        <p:spPr>
          <a:xfrm>
            <a:off x="228600" y="152280"/>
            <a:ext cx="1523880" cy="2438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09480" y="1523880"/>
            <a:ext cx="8534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课文讲述了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时   老师      的故事。他是一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的人，      独特，  他用        方法，让我还有我的同学明白了一个重要的道理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943600" y="21337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7772400" y="21337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914400" y="34290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419720" y="3581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1905120" y="419112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762120" y="571500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158520" y="154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六年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7835040" y="154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科学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2033640" y="2300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怀特森先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1352880" y="2841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很有个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4781880" y="2909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教学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2419560" y="367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出乎意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3414600" y="5084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不要迷信书本、也不要迷信权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49(1)"/>
          <p:cNvPicPr/>
          <p:nvPr/>
        </p:nvPicPr>
        <p:blipFill>
          <a:blip r:embed="rId1"/>
          <a:srcRect l="0" t="4688" r="413" b="93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33920" y="838080"/>
            <a:ext cx="253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划分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17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-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写了一堂科学课的经过，并写了此后的科学课成了一种冒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-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对怀特森先生的感激和赞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72" name="WordArt 3" descr=""/>
          <p:cNvPicPr/>
          <p:nvPr/>
        </p:nvPicPr>
        <p:blipFill>
          <a:blip r:embed="rId2"/>
          <a:stretch/>
        </p:blipFill>
        <p:spPr>
          <a:xfrm>
            <a:off x="2541600" y="895320"/>
            <a:ext cx="2732040" cy="744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1989000"/>
            <a:ext cx="8604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、找到概括怀特森老师性格特点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课文举什么事例说明怀特森老师的这种性格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三、为什么作者说怀特森老师是他最好的老师？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怀特森老师教育我们懂得了哪些道理？</a:t>
            </a: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1-09-008-04"/>
          <p:cNvPicPr/>
          <p:nvPr/>
        </p:nvPicPr>
        <p:blipFill>
          <a:blip r:embed="rId3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76" name="WordArt 3" descr=""/>
          <p:cNvPicPr/>
          <p:nvPr/>
        </p:nvPicPr>
        <p:blipFill>
          <a:blip r:embed="rId2"/>
          <a:stretch/>
        </p:blipFill>
        <p:spPr>
          <a:xfrm>
            <a:off x="2541600" y="895320"/>
            <a:ext cx="2732040" cy="744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838080" y="274320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找到概括怀特森老师性格特点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01-09-008-04"/>
          <p:cNvPicPr/>
          <p:nvPr/>
        </p:nvPicPr>
        <p:blipFill>
          <a:blip r:embed="rId3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79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是一个很有个性的人，教学方法独特，常常有出人意料的举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new_pa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WordArt 3" descr=""/>
          <p:cNvPicPr/>
          <p:nvPr/>
        </p:nvPicPr>
        <p:blipFill>
          <a:blip r:embed="rId2"/>
          <a:stretch/>
        </p:blipFill>
        <p:spPr>
          <a:xfrm>
            <a:off x="2541600" y="895320"/>
            <a:ext cx="2732040" cy="744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371600" y="2819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二、课文举什么事例说明怀特森老师的这种性格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01-09-008-04"/>
          <p:cNvPicPr/>
          <p:nvPr/>
        </p:nvPicPr>
        <p:blipFill>
          <a:blip r:embed="rId3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小学ppt课件免费下载站：www.kjzhan.com  交流群：216802435</dc:creator>
  <dc:description>小学ppt课件免费下载站：www.kjzhan.com  交流群：216802435</dc:description>
  <cp:keywords>小学ppt课件免费下载站：www.kjzhan.com  交流群：216802435</cp:keywords>
  <dc:language>en-US</dc:language>
  <cp:lastModifiedBy>admin</cp:lastModifiedBy>
  <dcterms:modified xsi:type="dcterms:W3CDTF">2015-02-02T08:36:37Z</dcterms:modified>
  <cp:revision>168</cp:revision>
  <dc:subject>小学ppt课件免费下载站：www.kjzhan.com  交流群：216802435</dc:subject>
  <dc:title>小学ppt课件免费下载站：www.kjzhan.com  交流群：21680243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