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49E9-4236-481C-A685-A5292752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C1AE-744A-48B5-842F-DB797C37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BBF9-C087-4E1B-A856-2A55A7F81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8A1A-2BF2-4660-BAC9-8F28A4218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FF8-6AD3-4B48-886C-BC642DB7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3040-3FEB-4BA2-BE18-B5201930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0F33-DAB1-4E34-9A64-51C2B8C4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680A-2FCC-4C3B-A3A6-7DC41D74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710-950E-455C-A5B7-AC61E3CC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40F-5549-4185-A986-D222361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3ED9-086B-4E6B-A8DE-A9A41902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9BBE-3801-4F1A-8DC8-8CAE850C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3D14-FC50-4612-942F-B2C138D8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baike.baidu.com/view/3490747.htm" TargetMode="External"/><Relationship Id="rId2" Type="http://schemas.openxmlformats.org/officeDocument/2006/relationships/hyperlink" Target="http://baike.baidu.com/view/21312.ht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72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口语交际</a:t>
            </a: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·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习作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4529160"/>
            <a:ext cx="35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东坡下载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ww.uzzf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8244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赛制具体说明：</a:t>
            </a:r>
            <a:br>
              <a:rPr sz="32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一） 立论阶段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正方双方的一辩选手来完成，要求立论的框架明确，语言通畅，逻辑清晰，能够正确的阐述己方的立场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（二） 驳立论阶段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个阶段的发言由双方的二辩来进行，旨在针对对方的立论环节的发言进行回驳和补充己方的立论的观点，也可以扩展本方的立论方向和巩固己方的立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7991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三） 质辩环节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个阶段是，由双方的三辩来完成这个环节，双方的三辩针对对方的观点和本方的立场设计三个问题，由一方的三辩起来提问对方的一辩，二辩，四辩各一个问题，要求被问方必须回答，不能闪躲，提问方的时间每个问题不可超过十五秒，回答方三个问题的回答累计时间是一分三十秒，双方的三辩交替提问，由正方开始，在质辩的环节中，要求双方的语言规范和仪态庄重，表述清晰。在质辩结束后，由双方的三辩针对对方的回答进行质辩小节，时间一分半，由正方开始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55280" y="259920"/>
            <a:ext cx="838836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四） 自由辩论阶段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正反双方的八位辩手都要参加，辩论双方交替发言。双方都拥有四分钟的累计发言时间，在一方时间用完后，另外一方可以继续发言，直至本方的时间用完。在这个环节中，要求辩论双方的队员团结合作和整体配合，自由辩论阶段由正方开始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（五） 结辩阶段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针对对方的观点和己方的立场出发，总结本方的观点，阐述最后的立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84000" y="25992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工业的文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468360" y="26028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例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1e30e924b899a9011809a73b1d950a7b0208f5fb"/>
          <p:cNvPicPr/>
          <p:nvPr/>
        </p:nvPicPr>
        <p:blipFill>
          <a:blip r:embed="rId1"/>
          <a:stretch/>
        </p:blipFill>
        <p:spPr>
          <a:xfrm>
            <a:off x="1042920" y="1484280"/>
            <a:ext cx="7345440" cy="3816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9"/>
          <p:cNvSpPr/>
          <p:nvPr/>
        </p:nvSpPr>
        <p:spPr>
          <a:xfrm>
            <a:off x="2268360" y="5445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大亚湾核电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324000" y="1268280"/>
            <a:ext cx="864072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大亚湾核电站是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Arial"/>
                <a:ea typeface="黑体"/>
                <a:hlinkClick r:id="rId1"/>
              </a:rPr>
              <a:t>中国改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开放的重要成果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亚湾核电站的建设和运行，成功实现了中国大陆大型商用核电站的起步，实现了中国核电建设跨越式发展、后发追赶国际先进水平的目标，为中国核电事业发展奠定了基础，为粤港两地的经济和社会发展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亚湾核电站自投产以来一直安全稳定运行，为香港和珠三角地区的经济社会发展和环境保护作出了贡献。由此可以看出，核电是一种安全、清洁、经济、可靠的</a:t>
            </a:r>
            <a:r>
              <a:rPr b="0" lang="zh-CN" sz="2800" spc="-1" strike="noStrike" u="sng">
                <a:solidFill>
                  <a:srgbClr val="ff5050"/>
                </a:solidFill>
                <a:uFillTx/>
                <a:latin typeface="黑体"/>
                <a:ea typeface="黑体"/>
                <a:hlinkClick r:id="rId2"/>
              </a:rPr>
              <a:t>能源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下一步我们要大力发展核电，以应对全球气候变化，不断促进资源节约型和环境友好型社会建设，促进经济社会可持续发展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916360" y="62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大亚湾核电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医疗的进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X光"/>
          <p:cNvPicPr/>
          <p:nvPr/>
        </p:nvPicPr>
        <p:blipFill>
          <a:blip r:embed="rId1"/>
          <a:stretch/>
        </p:blipFill>
        <p:spPr>
          <a:xfrm>
            <a:off x="755640" y="2205000"/>
            <a:ext cx="756144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195640" y="1989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3419640" y="1341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光射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4"/>
          <p:cNvSpPr/>
          <p:nvPr/>
        </p:nvSpPr>
        <p:spPr>
          <a:xfrm>
            <a:off x="2195640" y="1989000"/>
            <a:ext cx="100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619280" y="549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光射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39640" y="162864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由高速电子撞击物质的原子所产生的电磁波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射线用来帮助人们进行医学诊断和治疗；用于工业上的非破坏性材料的检查 。可以用作检查人体结构。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15920"/>
            <a:ext cx="5473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战争的威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原子弹爆炸"/>
          <p:cNvPicPr/>
          <p:nvPr/>
        </p:nvPicPr>
        <p:blipFill>
          <a:blip r:embed="rId1"/>
          <a:stretch/>
        </p:blipFill>
        <p:spPr>
          <a:xfrm>
            <a:off x="755640" y="1052640"/>
            <a:ext cx="7993080" cy="41767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971640" y="530388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原子弹爆炸可杀死很多生命。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颗普通的氢弹可以毁灭一座大型城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54007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命的危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臭氧空洞"/>
          <p:cNvPicPr/>
          <p:nvPr/>
        </p:nvPicPr>
        <p:blipFill>
          <a:blip r:embed="rId1"/>
          <a:stretch/>
        </p:blipFill>
        <p:spPr>
          <a:xfrm>
            <a:off x="1619280" y="981000"/>
            <a:ext cx="7056360" cy="5472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4"/>
          <p:cNvSpPr/>
          <p:nvPr/>
        </p:nvSpPr>
        <p:spPr>
          <a:xfrm>
            <a:off x="-148680" y="1125360"/>
            <a:ext cx="11552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臭氧层空洞威胁人类生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6"/>
          <p:cNvSpPr/>
          <p:nvPr/>
        </p:nvSpPr>
        <p:spPr>
          <a:xfrm>
            <a:off x="755640" y="32220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臭氧层是大气平流层中臭氧浓度最大处 ，是地球的一个保护层，太阳紫外线辐射大部被其吸收。臭氧层空洞是大气平流层中臭氧浓度大量减少的空域。臭氧层的臭氧浓度减少，使得太阳对地球表面的紫外辐射量增加，对生态环境产生破坏作用，影响人类和其他生物有机体的正常生存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11280" y="414972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类大量使用的氯氟烷烃化学物质 （如制冷剂、发泡剂、清洗剂 等）在大气对流层中不易分解 ，当其进入平流层后受到强烈烈紫外线照射 ，分解产生氯游离基 ，游离基同臭氧发生化学反应 ，使臭氧浓度减少 ，从而造成臭氧层的严重破坏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口语交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3716280"/>
            <a:ext cx="82296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科技发展：利大还是弊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1116000" y="1484280"/>
            <a:ext cx="439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内容：辩论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1116000" y="2637000"/>
            <a:ext cx="30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辩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692280"/>
            <a:ext cx="6408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结论：科技改变生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200720" cy="30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合理利用科技服务人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和谐社会、和谐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关爱弱小，爱护每个生命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科技的发展推动了社会和人类的进步，为人类的生活创造了一个又一个神话，在我们惊叹科技的伟大与神奇、享受科技为我们带来无限便利的同时，应该积极行动起来，从点滴做起，尽量减少科技的发展为人类带来的副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600" spc="-1" strike="noStrike">
                <a:solidFill>
                  <a:srgbClr val="000000"/>
                </a:solidFill>
                <a:latin typeface="Arial"/>
                <a:ea typeface="华文行楷"/>
              </a:rPr>
              <a:t>习作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成长是我们生命的永恒的主题，生活中的人、事、景、物汇成了我们丰富的生活轨迹，带给了我们快乐、醉人、难忘、忧伤等不同的生活体验，这些体验令我们的童年散发着迷人的气息，今天让我们将自己最感兴趣的东西流于笔端，共同分享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600" spc="-1" strike="noStrike">
                <a:solidFill>
                  <a:srgbClr val="000000"/>
                </a:solidFill>
                <a:latin typeface="Arial"/>
                <a:ea typeface="华文行楷"/>
              </a:rPr>
              <a:t>习作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62751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文体不限，自由作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332000" y="2060640"/>
            <a:ext cx="5832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写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实作文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想象作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人。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记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写景。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状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诗歌。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散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8920" y="404280"/>
            <a:ext cx="3035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选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读了作文提示，相信你的头脑中一定会浮现出生活中的一幕幕情景，请选择自己印象特别深刻的和同桌交流交流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你与同桌交流的同时是不是又想起另外的一些事情呢？赶紧拿起笔来选择你最感兴趣的内容写下来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我和书的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我看她的第一眼起，我的心中就有一种莫名的感觉：“她与我有缘。”以后的日子里，我便千方百计地接近她，试图了解她，时间不长，渐渐发觉，我已深深地爱上了她。也许是厌倦了苦燥无味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也许是为了逃避令人窒息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+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我一次又一次地约她出来，从她那泛着清香的扉页中，走向一个陌生而又新鲜的世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为“书中自有黄金屋”，不求“书中自有颜如玉”，不为功利，不为分数，不为文凭，不为学历，只为心中那份渴望，只为心中那片怡人的“绿地”。她的知识是那样的广阔无垠，她的话语是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50920" y="18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例文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738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样的富有哲理；她的目光是那样地温暖，好像能融化世界上所有冰冻的心田，她的双手是那样的温柔，好像能抚平人世间所有的伤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因失败而痛苦迷惘时，她总这样对我说：“真正的光明并不是永远没有黑暗的时间，只是永远不被黑暗所掩蔽罢了；真正的英雄并不是永远没有卑下的情操，只是不为卑下的情操所左右罢了；当你要战胜外来敌人时，首先得战胜你内在的敌人，你不必害怕沉沦堕落，只要你不断地自拔与更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因小小的成功而手舞足蹈时，她总这样对我说：“天外有天，人外有人，强中更有强中手，真正的强者，不但要经得起失败的考验，还要经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成功后糖衣炮弹的洗礼，当你沉浸在幸福的甜蜜里赏花赏月时，只怕别人已到了峰巅了。”当我因“微微的困惑”而不能自拔时，她总这样对我说：“人的一生中会遇到很多人，有的是流星，有的是恒星。流星是美的，可它终究是一颗流星，流星的意义在于瞬间即逝，流星的美也只源于刹那间。流星毕竟是流星，若追寻长久，只能等待属于自己的那颗恒星，死死地抓住这瞬间的美，痛苦只能是自己。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当我畏首畏尾踌躇不前时，她会送来这样的诗句：“自信人生二百年，会当水击三千里”；“长风破浪会有时，直挂云帆济沧海”；“我自横刀向天笑，去留肝胆两昆仑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啊！这就是她，不管是树荫之外喧嚣着浮躁的热浪，还是窗外肆虐着凛冽的寒风，只要和她在一起，她就会在热浪之中营造一片清凉，在严寒之中托出一份温暖。她就是书，这就是我和书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738360"/>
            <a:ext cx="8229600" cy="59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33cc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学习语文是享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孔子说：“知之者不如好知者，好知者不如乐知者。”这也就说明了学习一定要对所学的知识感兴趣，有兴趣去学习，是学好的根本，学习语文也一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只要有了学习语文的兴趣，才会发觉其中的乐趣，发现了学习的乐趣，才有助于我们去持之以恒地学习语文，没有持之以恒的精神，根本学不好语文。有的同学认为语文很无聊，要背记的东西太多，所以根本不想去学，成绩当然也就上不去，所以，兴趣对学习来说是很重要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次，学习语文是一个积累的过程，不可一蹴而就，只有长期的积累才能使语文学得更好。积累也就需要大量地阅读与背诵，当我们空闲的时候，读一读，好的书籍或文章不仅能丰富知识，还能陶冶你的性情。不过，不能只是读，还要思考，我们应准备一个记录与摘抄的本子，在阅读的过程中将遇到的好的句子抄下来，并不时地看看，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50920" y="189000"/>
            <a:ext cx="37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例文欣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73800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它们变为自己的东西，当遇到疑点，难点时，也要记下来，与旁人讨论，听取别人的看法。这样才会有所长进，水平才会提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而且，阅读量大，知识就会十分丰富，一个人的素质也会提高，眼界就会更广，况且，写作也需要素材，只有多看书，多留心身边的事，将书中所讲与现实生活相联系起来，写作时才会思如泉涌，写出的文章才是好的文章。古语云：“读书破万卷，下笔如有神。”也就是说只有多读书，才能写出好文章。大都知道这是什么意思，但做到前一句的人却不多，真正喜爱阅读的并能从中得到知识的人更是少之又少，所以，能写出好作文的人也不多。但我们要做这样的人，也就是说，我们要学会阅读，要喜欢去阅读，当我们看一本书或者一篇文章的时候，要去思考它的内涵，去思考它的写作方法，去思考作者的思路，再把其中好的方面运用到自己的写作中，取人之长以补己之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cccc"/>
                </a:solidFill>
                <a:latin typeface="Arial"/>
                <a:ea typeface="黑体"/>
              </a:rPr>
              <a:t>辩论分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1341000"/>
            <a:ext cx="7056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正方（女生）：科技发展利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反方（男生）：科技发展弊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826920" y="4149720"/>
            <a:ext cx="59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双方选出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位辩手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还有，要好问，要记住不懂就要问，特别是读课外的古文言文，古诗、词时，其中有些字、词、句我们不能完全理解的，这就需要去查工具书，如果工具书中查不到，或者查了之后仍然不太明白，就要及时去问老师，及时地弄明白，这样才能学好古诗文，切记千万不能不懂装懂，使自己的心中留下疑惑，因为日月积累，会使心中的疑惑越来越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语文就是一门艺术，它需要我们从读、说、写三方面去学习，去品味，去发扬，读就是要去获取知识，去欣赏。语文这门艺术，而说与写则是我们对语文的体现，是我们学习语文真正的目的。既然就样，我们就更应该利用空闲的时间去练习写作，多写才能提高，才能真正把文章写好，在与别人的交谈中，学会运用自己从阅读中获取的知识，这样，我们就能将语文与生活联系起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懂得了这些，再来学习语文时，便不会觉得枯燥无味了，反而会觉得是一种享受，当我们把学习当作是一种享受时，不学好也难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成长的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今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，是东海县实验小学五年级的一名学生，现在有一个幸福、温馨的家。但在我的成长过程中，有一段“苦涩”的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我是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那天顶着淅沥的小雨，来到了这个世界上。据说刚出生的我，不像别的孩子那样身体又红又丑，而我一生下来，一头乌黑的头发，大大的眼睛，胖乎乎的很漂亮，令人喜爱。爸爸、妈妈把我宝贝似的呵护着，无论谁带我，爸爸、妈妈总是千叮咛、万嘱咐，千万不可粗心大意。为了祝我有一个好的前程，爸爸、妈妈给我起了“浩远”这个名字，希望我以后目标远大、有所作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8920" y="404280"/>
            <a:ext cx="7993080" cy="602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说在我很小的时候，爸爸在下面的镇里教学，妈妈在玻璃厂上班又很忙，我只在他们身边呆了一年就被奶奶带回老家了。每到休息日，爸爸、妈妈总是带些好吃的来看我，一看到他们我就会扑到他们怀里，不肯离开半步，生怕什么时候他们又偷偷走掉。妈妈说，每次离开她都要想方设法把我哄睡，然后再回去。等我醒来看不到他们又总是哭着、闹着让奶奶背着我到处找妈妈。这样的“苦日子”我过了两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渐渐的，我长到该上幼儿园的年龄了，就被爸爸、妈妈接回来，本想这下好了，我可以跟爸爸、妈妈生活在一起了，可没曾想到他们俩还很忙，爸爸在外无暇顾及家，我就只有妈妈一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4920" y="188640"/>
            <a:ext cx="831708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照顾。那时妈妈一个人带我可辛苦了，还要上大小夜班。她下班时间不固定，有时她很晚才能去幼儿园接我。每当别的小朋友都被爸爸、妈妈或爷爷、奶奶接走，幼儿园里只剩下我一个人时，心里很不是滋味，只有眼巴巴地站在幼儿园大门口焦急地等妈妈。还有更糟糕的，就是如果妈妈上夜班时，我一个小孩子还要自己在家里睡觉。说真的我那时害怕极了，可没办法，每次都要妈妈等我睡着后再走，可妈妈走后不长时间，我会因害怕而醒来，爬起来满屋子查看，然后再回床上。那时我觉得我真太可怜了，爸、妈都不疼我了，现在想起来都很辛酸。可就是因为有那么多的独处机会，我的胆量也越来越大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00000" y="549360"/>
            <a:ext cx="7740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一天，妈妈突然对我说：“浩远，你爸爸调到县城工作了。”那时别提我有多高兴了，又蹦又跳的，心想这回我再也不会最后一个离开幼儿园了，再也不会一个人提心吊胆地在家睡觉了。也就是从那时起，我才真正地享受到天伦之乐，感受到家庭的温暖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时间过得真快，我开始上小学了，这段苦涩的经历一直伴随着我的成长。我也渐渐地懂得了父爱和母爱，我一定要好好学习，做个懂事的孩子，用自己的行动来报答他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549360"/>
            <a:ext cx="79563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空落落的蓝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已经离开了以前的同窗、以前的知己、以前的学校，来到一个新的、陌生的地方。我总是想念那些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他们陪我走过了六个春秋。我不辞而别，他们会怨恨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天，仍然很蓝，深深的、浓浓的、沉沉的蓝。就在这蓝天下，我碰到了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红月。她仍然是短短的头发，一身运动装，还是骑着那辆脚踏车，不同的是目光写满落寞，似乎被谁抽去了魂灵。我轻轻地唤着她的名字：“红月，红月！”她慢慢地停住，缓缓地转过头。呆呆地望着我，背后是一片广阔的、忧郁的蓝，衬着她那布满忧伤的眼睛。我看见竟有晶莹的东西在她眼角闪烁，像一颗孤独的星星。我怔了一下，继而试探着问：“你怎么了？”她嗫嚅道：“都走了。只剩下我一个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259920"/>
            <a:ext cx="8229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说什么？”我大声问她。“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没说什么！”然后慌忙骑车走了。我呆站在那里，看着她逐渐模糊的身影，心里酸酸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六神无主地走到河边，看着河里倒影着蓝蓝的天：没有云。没有阳光，没有嬉戏追逐的鸟雀，空落落的。“叮咚！”一滴映着无限惆怅的水珠滴落在河水里，听起来竟也是一支忧伤的曲子，抬头一看。红月站在身后，双眼红红的，她轻声说：“我的天空将永远只是蓝色，没有云，没有太阳，也没有鸟雀。”说完，慢慢地走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坐在河边，一滴水珠也滚落到水里，被淹没了，是我的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收拾起儿童的快乐纸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知从什么时候起，生疏了一串串爽朗甜蜜的童谣；也不知从什么时候起，蝉蜕了满满一身令人羡慕的幼稚、调皮，包括天真；同样不知从什么时候起，开始朦胧地对异性的目光那样地敏感得脸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尽管我们一直都做着长不大的梦，但岁月的老成还是过早地爬上了我们略显稚嫩的额头。儿时快乐的纸船，寂寞地搁浅了很久很久，不知不觉间已渐渐远去淡去；家长语重心长的叮咛，也在不知不觉间日益清晰凝重地搁浅在我们莫名的疲惫的心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们毕竟又大了一岁，那就该趁早收拾起童年的快乐和浪漫，努力做一个勤奋攻读的好学生，甚至不惜让鼻梁上的镜片越来越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6000" y="476280"/>
            <a:ext cx="73087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书学习，这似乎是唯一不可能卷土重来的游戏，所以我们要懂得格外珍惜青春年少的时光。人生路上，应是一道道旖旎的风景。但迈步上前，还得小心翼翼，尽量做到青春无悔，虽然有时还是会暴露许多破绽，甚至还会很搞笑。如果人生之路注定不可能做一道简便运算，那我们还是踏踏实实地走好脚下的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如果成长能够减轻父母的负担，换取社会的信任，赢得明天的认可，那么略显痛苦的成长又有何不可？毕竟付出与成功相依，痛苦与快乐并存，只是它们出现的顺序或时机不同罢了。今天的些许苦痛，只不过是明天丰盛的成功大宴的一张着实精美的餐券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88640"/>
            <a:ext cx="78850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我们今天跋涉着，在季节的变更中，我们将会迎接明天的辉煌。前方，注定有寂寞，那何必挖空心思去考虑绕道慢行？寂寞中也同样充满了甜蜜的诱惑，为了成功，我们坚守着寂寞。我们要像接受成功一样接受付出，要像接受快乐一样接受痛苦，这样才不至于辜负青春的誓言、成长的誓言。成长是一个漫长的过程，我们手里的这张旧船票，注定不能登上明天的客船。走过了昨天，就只能向往明天。努力着吧，朋友，从别人的脸上寻找自己的微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人世间有许多宝贵的东西，我们年轻的时候不懂得珍惜，当我们懂得珍惜的时候可能已不再年轻。那么，就让我们趁年轻的时候好好学习，好好珍惜，逐步懂得。小心收拾起儿童的快乐的纸船，去打造属于明天的真正能下水载物的钢铁航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　　 今天我们奋斗着、牺牲着，说不定明天的百花园里，朵朵令人惊慕的明艳的成功之花，就有属于你我的灿烂的那一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324000" y="404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悉心筹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395280" y="1484280"/>
            <a:ext cx="842472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一、辩论者对于自己所持的论点要进行反复推敲，保证论点的正确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二、要搜集和掌握足够数量的支持自己观点的具体事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三、要反复检验和推敲语言表达的效果是否清晰，有逻辑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10920" y="259920"/>
            <a:ext cx="7489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6 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分离之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回想当初，在父母的再三的劝说下，迈进了学校，品味现在，已经是一名即将步入中学的毕业生。当年的小不点已经摇身一变成为了一个亭亭玉立的少女了。在这分别之际，我感慨万分，开始留恋母校的生活，留恋朝夕相处的朋友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在母校的最后一个学期，我将珍藏每一份友谊，我将收藏朋友们发自内心的祝福，我保存着一张张的贺卡。在母校的时间，就像漏斗里的沙粒，永无止境落下来，像限时赛的秒表，开始了倒计时，又像射出去的箭，再也不会回来了。最后一次运动会，最后一次的春游，最后一次看电影，最后一次问候可爱的同学，最后一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请你记住：蓝天上的缕缕白云，那是我心头丝丝离别的愁绪，但我的胸怀与长空一样晴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028000" cy="60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想起以前，我们来自不同班级，同学之间难免会打架，现在想起来，觉得自己很傻冒。以前的我往往会因为那一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八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吵得不可开交，甚至还会为了一点小小的过错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火山爆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今不像当初。和气融融的玩耍，手拉手一起度过美好的一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老师更是我们的引导者。我是一棵苗，是你将我育成参天大树；我是一把火，是你引燃了我；我是一张琴，是你拨动那响亮的音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今天，我要在这里，把您给予给我的昨天，折叠成为记忆的小船，任其在思念的心湖。您教会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您教会了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感谢你，我的老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今日，为你采一片绿叶，放进这离别的小船，别后的秋天中最亮丽的一道风景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再见了，母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今天，我就要毕业了，想想自己就要离开母校了，离开自己的师长，离开自己的学友，心中不免有些不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　　毕竟在这里生活了六年了，六年的时光如潮水般散去，我站在校园的一角，最后一次欣赏我的母校，心里略感一丝忧伤，望着母校的一砖一瓦、一草一木，心中蓦地升起一种亲切感。回过头来，想想过去，啊！仿佛就是那弹指之间，以前的事如过电影般在我的脑海中闪过，我不敢奢求什么，只是希望我的母校能够教育出的人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想一想，六年来，多少感人的故事，老师的谆谆教导，同学的热心帮助，都让我对母校十分眷恋，母校中的一切都让我充满了依恋，我不愿离开这里，因为这里有着我太多的美好回忆。想到这里我不禁落泪了，眼泪像断了线的珠子从我脸颊流了下来，我透过那晶莹的泪珠环视周围，心里充满了依依不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 我就要离开母校了，就要离开这个充满了我美好回忆的学校了，有什么可以留下呢？我在校园的操场上捡起了一片落叶，夹在我的毕业证中，我就这样走了，我就这样一步三回头地走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835280" y="2565360"/>
            <a:ext cx="31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编作文集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46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79280" y="259920"/>
            <a:ext cx="85075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1042920" y="1484280"/>
            <a:ext cx="727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封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编者的话。（介绍作文选的内容，谈谈自己在作文中的感受和体会。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目录。（分类排序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名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979640" y="333360"/>
            <a:ext cx="295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文集内容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757440" y="-360"/>
            <a:ext cx="48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Arial"/>
              </a:rPr>
              <a:t>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5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认真搜集说明自己观点的具体事例和材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认真倾听对方的发言，根据其发言据理进行反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预测对方会从哪些方面提出相反的意见，己方该怎样反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注意围绕自己的观点举出恰当的事例，条理清楚地进行表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⑤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内团结协作，从不同的侧面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富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2005617193219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辩论基本程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00000" y="1988640"/>
            <a:ext cx="7056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开篇立论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攻（质）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3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自由辩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4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、总结陈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042560" y="1557000"/>
            <a:ext cx="7056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辩论赛流程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立论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一）正方一辩开篇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二）反方一辩开篇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驳立论阶段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三）反方二辩驳对方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四）正方二辩驳对方立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835280" y="33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程序详细解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826560" y="404280"/>
            <a:ext cx="770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辩论赛流程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质辩环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五）正方三辩提问反方一、二、四辩各一个问题，反方辩手分别应答。每次提问时间不得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，三个问题累计回答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六）反方三辩提问正方一、二、四辩各一个问题，正方辩手分别应答。每次提问时间不得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，三个问题累计回答时间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七）正方三辩质辩小结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八）反方三辩质辩小结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秒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58"/>
          <p:cNvPicPr/>
          <p:nvPr/>
        </p:nvPicPr>
        <p:blipFill>
          <a:blip r:embed="rId1"/>
          <a:stretch/>
        </p:blipFill>
        <p:spPr>
          <a:xfrm>
            <a:off x="0" y="3571920"/>
            <a:ext cx="9144000" cy="32860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26560" y="1341000"/>
            <a:ext cx="7921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、辩论赛流程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自由辩论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九）自由辩论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总结陈词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十）反方四辩总结陈词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十一）正方四辩总结陈词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钟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8T04:53:15Z</dcterms:created>
  <dc:creator>小学ppt课件免费下载站：www.kjzhan.com  交流群：216802435</dc:creator>
  <dc:description>小学ppt课件免费下载站：www.kjzhan.com  交流群：216802435</dc:description>
  <cp:keywords>小学ppt课件免费下载站：www.kjzhan.com  交流群：216802435</cp:keywords>
  <dc:language>en-US</dc:language>
  <cp:lastModifiedBy>admin</cp:lastModifiedBy>
  <dcterms:modified xsi:type="dcterms:W3CDTF">2015-02-02T08:55:30Z</dcterms:modified>
  <cp:revision>9</cp:revision>
  <dc:subject>小学ppt课件免费下载站：www.kjzhan.com  交流群：216802435</dc:subject>
  <dc:title>小学ppt课件免费下载站：www.kjzhan.com  交流群：216802435</dc:title>
</cp:coreProperties>
</file>