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FFF-B750-422E-9343-30D14746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31B-5E9E-4FDB-97D4-D546F9A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385-7307-4DDB-BF73-E3312F19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FC8-256A-4EF3-BBBB-F7880206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8B5-E097-4334-A041-194765B1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C6A-5D66-4C30-86A5-DEADB3A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DF4-5E07-4AC8-A6C9-FB1F538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434-B00B-4A41-8739-A0F1E2E3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2A2-1350-4663-85FC-07B2B59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B2C-328D-4327-80E9-F42860E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E56-3EE1-4C26-85EA-525696D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272-4A41-46EC-B6E2-CD26F22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863-61DE-481B-B2DA-E87E7FA1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060640"/>
            <a:ext cx="6985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理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613240" y="619200"/>
            <a:ext cx="361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口语交际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习作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要立长志，不要常立志”，我现在已为实现这个目标而开始奋斗了，并且也永远不会改变这个理想，我会一直把这个好“志”长立下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97080" y="765000"/>
            <a:ext cx="240984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赶明儿胜利了，咱们也能用上电灯，让孩子们都在那样亮的灯光底下学习，该多好啊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化学家诺贝尔为减轻工地上挖土工人的繁重劳动，决心发明炸药。废寝忘食，四年里做了几百次试验。最后一次试验时，他聚精会神地盯着燃延的导火线。一声巨响，在旁的人们惊叫：“诺贝尔完了！”诺贝尔却从浓烟中跳出来，面孔乌黑身上还带着血，兴奋地狂呼：“成功了！”那些杰出的人物正是被一种崇高的目标所鼓舞，才产生了惊人的毅力与忘我的精神。是理想的浪涛激励着他们去刻苦奋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爱迪生一生有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多项发明。这无数次试验的时间从哪里来？就是从常常连续工作两天三天的极度紧张中挤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鲁迅以“时间就是 生命”的格言律己，从事无产阶级文学艺术事业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，视时间如生命，笔耕不 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巴尔扎克用如痴如狂的拼劲，每天奋笔疾书十六七个小时，即使累得手臂疼痛，双眼流泪，也不肯浪费一刻时间。他一生留下为人民深深喜爱的巨著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人间喜剧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共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9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部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640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人生，不是一天两天，也不是一年两年，它需要一个人用一生的时间，需要几十年如一日的耐力、恒心与毅力。更多的时候把握人生的关键是要培养自己的习惯，坚持自己的原则。而“顽强的毅力可以征服世界上任何一座高峰”，恒心与毅力，在征服的过程中必不可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71640" y="189000"/>
            <a:ext cx="4537080" cy="52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让理想起飞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ic_299605"/>
          <p:cNvPicPr/>
          <p:nvPr/>
        </p:nvPicPr>
        <p:blipFill>
          <a:blip r:embed="rId2"/>
          <a:stretch/>
        </p:blipFill>
        <p:spPr>
          <a:xfrm>
            <a:off x="468360" y="0"/>
            <a:ext cx="7845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的理想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谈的理想，应当是自己希望实现的，又是对别人有益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想一想，试着列一个简单的提纲，再用自己喜欢的方式畅谈自己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提示：先说自己的理想是什么；再说自己为什么有这样的理想；还要说说准备怎样去实现自己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0920" y="0"/>
            <a:ext cx="605016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我的未来不是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我知道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认真的过每一分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心跟着希望在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认真的过每一分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心跟着希望在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你是不是像我整天忙着追求</a:t>
            </a: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1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66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理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题，完成习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想一想，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的理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要注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理想是事业之母。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如果能追随理想而生活，本着正直自由的精神，勇往直前的毅力，诚实而不自欺的思想而行，则定能臻于至善至美的境地。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思想是根基，理想是嫩绿的芽胚，在这上面生长出人类的思想、活动、行为、热情、激情的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苏霍姆林斯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生活中没有理想的人，是可怜的人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屠格涅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的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的人生理想是当一名警察，每天都在忙碌的生活中，特别是调查一些重案，因为那样可以锻炼我的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首先，当警察要努力学习，先考上北京警官大学，然后再努力学习，找到合适的工作，我知道这里面会吃很多苦，但我会努力奋斗，要有恒心，不畏艰难，坚持不懈，有毅力，有意志，相信大家都看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士兵突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我本来也想当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但我是女生，不太合适，我主要是向往里面对抗的刺激，但生命不是来玩，开玩笑的。而且，在这个片子中，本来许多人都经过严格的训练才进入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可最终有人因为种种原因才退出，但战场上也不只有“拼杀”，在竞争中也有友情，有懂得珍惜，学会珍惜身边每一个人，所以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但要训练上，毅力上，还要有心理上，身体上的承压，要学会在工作时关心一下自己，在想到自己的同时又不忘自己的职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想，自己应行动起来，朝自己的理想努力拼搏，虽然随着年龄的增长，自己的成熟，理想还会变，但我都始终不会忘记努力奋斗，实现自己的理想。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个人有了理想就好像是找到了人生努力的方向，就像迷途的扁舟发现了灯塔一样，便会为之而努力奋斗。我也一样，有了理想，才能促使自己在学习过程中更加努力，更上一层楼，才能为祖国的现代化建设添砖加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    当一名教师是一个神圣，辛苦的职业．它的任务是为祖国的未来培养人才．作用很大，很神圣，全国到处都需要教师．但这个职业同样也很辛苦．每天要讲课，有时学生不听话，还要管纪律，甚至会大发雷霆，遭受那些不听话的学生的白眼．即使受到再大的委屈，也还要坚强，因为国家需要他．每天晚上，当人们都进入梦想时，有一个屋子里依然有灯光，那是老师在批改作业，写教案．一夜一夜，教师们都是这样熬到很晚，第二天还要打起精神给学生讲课，这是何等的辛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正因为这样，我更想要做一名老师，为祖国培养人才，体会教师的辛苦，所以我立志要做一名教师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 从很小开始我就很想做一名教师．在家里还经常把自己当成老师，学习讲课．现在我觉得，当一名教师，要把知识掌握好，还要有自己的见解，这样才能把知识更好的传授给同学们．另外，还要把性格变的开朗些．最后，还要有耐心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师是我的理想，它会为我敲响警钟，提醒我不犯错误，更加向上，促使我努力学习，勇往直前，坚持不懈，顽强拼搏，为理想的实现而奋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个人心中都有一盏灯，它的名字叫理想；每个人都要走一段路，它的名字叫人生。有一句名言：人活着没有理想是可怕的。的确，没有理想，哪来得劲头？而我却有着许多的理想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我很小很小的时候，我就为自己建立了一个远大的理想，那就是，长大后，我必定要当一名教师。一方面是因为我妈妈是老师，我被老师的这种辛勤卖力的精力而深深地感染了；一方面是因为我觉得老师特别巨大。可以为祖国出一份力，还可以为祖国培养出更多热爱祖国，热爱人民，有科学文化，又有较高探索精力的人才。我每天站在三尺讲台上，向“小听众们”传授知识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的学生个个都是小才子。上课时，他们都坐得端端正正，我点名叫某某起来答复问题，他就站起来非常有礼貌的把问题完完整整的答复完毕了。下课后，我不会急匆忙忙的赶到办公室，坐在椅子上悠闲地喝水，而会放下手中地活，和孩子们到教学楼下面一起愉快地做游戏，让孩子们在紧张的学习过后也放松一下。每到周末，我都会带着我的学生到公园去玩，或是去军营参观，用我的独特方法让孩子们逐渐养成勤奋、热爱劳动的好习惯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总是生活在现实与虚幻中，人们正把虚幻努力变为现实。我受到挫折时，那理想会给我勇气，我永远相信：巨大的理想只有通过忘我的斗争和就义才干胜利地实现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相信，只要我心中有这个想法，并为着这个愿望去努力，就必定会实现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作大练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的活动如果没有理想的鼓舞，就会变得空虚而渺小。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车尔尼雪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理想，能给天下不幸者以欢乐！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人的理想越崇高，生活越纯洁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伏尼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路漫漫其修远兮，吾将上下而求索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屈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鹰击天风壮，鹏飞海浪春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Arial"/>
              </a:rPr>
              <a:t>理想是什么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4280"/>
            <a:ext cx="889308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理想是人生的奋斗目标，是人们对未来事物的一种美好想象和希望。理想是一种对未来的想象，但是，并不是任何想象都是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们通常把经过一番努力成功机率极大的想法称之为理想，把心中可有有无的想法称之为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俄国作家列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尔斯泰说：“理想是指路明灯。没有理想，就没有坚定的方向；而没有方向，就没有生活。”正值花样年华的我们，该怎样用理想做挂天征帆，驾长风破巨浪；以一柄木桨，引领生命之舟驶入金色港湾？今天我们一起来讨论一下有关理想的话题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83808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你的理想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谈的理想，应当是自己希望实现的，又是对别人有益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为什么有这样的理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准备怎样实现你的理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360" y="83664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理想背后的故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什么有这样的理想？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每一个理想背后，也应该有一定的原因或者一个小小的故事，或是为一件事而立，或因一本书或一句话的影响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335772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先生开始他的理想是想当一名医生，远赴日本求医。后来，在一次偶然之中，他发现医术只能救助中国人的身体，而不能医治国人麻木的心灵，于是，他决定弃医从文，用笔杆子唤醒中国人的灵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理想而努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实现理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7696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理想是用来追的，不是用来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巴金曾说过：“理想不抛弃苦心追求的人，只要不停止追求，就终有实现理想的那一天 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习作提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头：我的理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间部分：理想背后的故事——我为什么有这样的理想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原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准备怎样实现我的理想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途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原因和算途径可分点列出，这一部分可适当分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尾：期待着理想实现后的心情、感受。（首尾呼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84728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引用式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俗话说：“人无志而不立。”一个人假若没有远大的理想，是不可能有所作为的。从远古时代的盘古开天辟地到如今的知识爆炸、信息革命，多少年，多少代，多少仁人志士都有着崇高的理想。理想是我们奋斗前进、勇于创新的动力；理想是人生的指路灯；理想是战胜困难的力量源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修辞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人都有自己的理想，我也有自己的理想。这理想， 就像是目的地，等待着你前往；这理想，就像是一座高峰，等待着你去攀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比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理想是当一名作家，不像明星那样绚丽多彩，也不像科学家那么伟大，我只想当一株默默无闻的“小草”。别人都说这个理想离我太遥远，但是俗话说：“生活的理想就是为了理想的生活。”所以，她值得我为之努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60720" y="44280"/>
            <a:ext cx="223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开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1:04:33Z</dcterms:created>
  <dc:creator>YlmF</dc:creator>
  <dc:description/>
  <dc:language>en-US</dc:language>
  <cp:lastModifiedBy>admin</cp:lastModifiedBy>
  <dcterms:modified xsi:type="dcterms:W3CDTF">2015-02-02T05:15:00Z</dcterms:modified>
  <cp:revision>14</cp:revision>
  <dc:subject/>
  <dc:title>你在课外收集了哪些关于“理想”的名言？</dc:title>
</cp:coreProperties>
</file>