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camera.wav" ContentType="audio/x-wav"/>
  <Override PartName="/ppt/media/image11.png" ContentType="image/png"/>
  <Override PartName="/ppt/media/image8.gif" ContentType="image/gi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70D4-3318-4196-B579-006C94DE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D060-EF61-4912-BD69-83473901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5FF1F-AB42-4B6A-9445-5ECC8232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71514-78B2-40BF-8337-AD5C80AB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CCA1E-053B-4FE7-847E-16A6ACE6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BECBF-903A-459E-8A8C-5EC2F092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2EF58-E3D4-46CD-ADC6-293F7ADE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269BF-1EEB-49CC-9EC7-EF92E11F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7BE25-9900-4DCD-8B8E-831EA015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61EAD-5737-4999-B709-56562F07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28218-F753-41BA-984B-C8930C23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6FE08-3510-481A-A74C-CDB0AFB2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A17B-1FAD-4E72-93B1-29BB23D1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A78A4-379C-4F41-82A5-F99D89C5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B967E-3994-4DF2-A5C0-D8310741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D1A9B-0990-4225-94BB-57DD434C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D156F-24B7-4035-ADFF-A708C20B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419A8-BD50-465F-AC55-1F4974B0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B2E08-DA2B-44B2-B1DE-8AF6DCDC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CE262-2360-47EC-A163-24301CCD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B0249-62F8-4A23-8FBA-E87D6028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7F5EC-4B1B-4AA8-A83F-ECEA756F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BB157-E32C-4AF4-8BE6-F1213AAF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895C-7ED8-4235-9893-2BF349DD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A0853-9090-4602-B6DB-1C50F92B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C6AB7-A1DC-4692-903B-8DAC0D11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EEE75-2FAC-4756-8D3A-30FB9DD1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14A09-90E2-4BE5-8682-E43AF277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88FDF-DBAF-4ECF-93C8-419B1782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D2A05-AAD5-4145-9BD8-7B9960B8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57FFB-7B64-4587-BD2E-510D76BA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E07A7-28F1-4CF3-ADC6-0AD72B1B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FC748-F5B4-4A40-8D98-C78B3D6A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35513-2B1B-4C15-832E-ED679B8A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2AE0-0A6A-46DF-A460-8E25E4F0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69AA0-73B0-4572-B7D1-B83FDE05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9085D-FC9E-499E-B45D-4866DD51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FBF65-B289-4608-8DD5-9F167F60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348A7-205C-4C66-A37F-AB7CE7D0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E365F-2A76-4BB7-9D4D-0A5A0DEF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6BBAA-3786-48A7-B38B-287F3517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0A692-04F1-4FA3-A7B8-93EA6209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A942B-49EB-4D60-8867-8AAF9049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2DFD9-ACFB-4020-8719-C2D46DCA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43818-B771-4BAC-BAC5-D9D0C5F5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CFB4-8DA8-4386-B357-F956A809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617F8-B3D3-4DBF-A900-9A7890C6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F04B6-78C8-483A-92EB-EBC834D0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50AA3-DE67-45EC-AFEE-9BA033F8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00C51-DDD8-4F00-8686-96835697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25E9C-4BBE-4163-8EAA-22FB56E9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BBE7-D74A-4E09-A97B-41E76C87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D77B-78CD-4A51-8A72-3D196017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0F37-B673-4546-A7B9-0733C17C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A4BF-8222-4589-A405-68A51471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B884-3AE4-43D3-ADB4-0078E13C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7C67-24D7-4A18-B339-AE522493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72B5-8EB8-4AE8-A72D-3BE01302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4C98-500E-4B5E-8A87-B305358D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0F05-2B5C-40B5-A500-1633DB52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B800-D47D-4F54-9B2F-5A8CC369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6E9B-8D33-4766-A671-7A39D214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13943-499A-4273-B023-A2F1982D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3D7FC-9174-4C80-B805-3701FFA2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FF093-E9E7-4FC8-A782-72F000CC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11DC1-0548-4F47-9980-3BA9652F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FB502-14CE-44DE-AD62-72D4B0C1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0E6-CC17-4DEF-878C-1A07A934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2C036-EF67-4CEA-8148-F72D90D9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A64B-B4D6-431A-9886-6438195D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41E7D-A273-41FB-9CF3-3A7D925C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2CE17-80D0-4F0F-9CA7-8387CF4E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FC669-1211-40A9-82DB-F923012A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294F3-30D3-41BF-9F08-480AD3E7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84AD7-8594-4B1C-9126-B3FF5579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ECD24-E7DF-4107-8214-E834C86C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4923C-011E-443A-A06D-77066969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B3A53-2BA4-4693-ABDE-4D79CF6A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57F-0DA9-416B-81DC-E85F3C4E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231EC-B04F-4781-BA67-7504E8B4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AE287-8EB0-41F7-97B3-70B2DDAF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FB7B7-3C48-4990-BCA5-58FCE1B2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5B9DA-1068-4DB1-A10A-7C1E8484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03809-6862-4EB8-8991-50C0F4A8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FE77F-34D3-4D5C-A6A1-446AF2C2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A992B-0C59-459B-8949-86E2293B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789E0-21FA-424E-AF92-A124AD2C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8DE7B-3CF3-4685-84BB-FEEB0532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1C799-FEC2-4B81-A088-6859AADE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D06D-AB74-4238-AF05-B20B667E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FE745-F70E-46D1-BA3E-2EA9362C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5CC25-75A7-418A-B3FA-108E0073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82A3A-1EA4-4E94-801D-AAD0B9B5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3AA30-0440-43BE-BD57-21A59642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09E19-0FFA-488F-BA9F-BE028768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0D00E-437C-4BB2-840B-77D4C7E4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7E89D-A011-4353-BC48-3FC816AE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E6F31-248A-469E-8930-742659AB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C65EA-BBC0-4CF8-89BC-ED96792D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C06AE-E82F-4AED-A12F-D2D64543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656-48CC-4F73-94F3-3F5AF7CD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7E5A7-FE80-4EC4-8C69-7779507B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5B16A-3720-4FC9-8FB0-04DDE587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86ED6-2C72-492D-BF02-96EFAB5F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9214D-A42D-4B99-BA45-689D8F31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C060E-E575-4601-B637-1D1D1CC6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6C370-25C8-41DF-97FF-DC82C12B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105D3-8C59-4BDC-A185-AA3A7A58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9B293-D3EC-453D-9384-29A3F9AB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B4C26-37E4-4813-9F67-0129487F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44756-5624-44BE-9C1F-47BC151A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6145-E748-4A3D-A85F-65679806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457C2-70FB-487B-B230-FA7C4715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9819A-D447-445C-951F-EF528D11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7B078-2252-4CA4-A3A9-62B7C546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102CD-321E-4B53-B398-DCB92E10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67E5A-418C-4744-BE53-FC007EA1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1BA02-BC84-42E5-A238-4A08ABA1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8C4D3-04C1-485E-BE37-59324DE7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15B2B-A696-4499-B575-CDC64C27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3D83A-329F-4016-9316-8336EA83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CC346-B664-4035-AF5B-0E109595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24B-0724-4C55-A969-2AD6A1F9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73569-1387-4D47-8F23-8504AEEE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55121-17CB-4943-9911-0987C16E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FC15C-3CC1-44B9-AFB5-D5E93608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72F61-244F-4093-B006-64E033D1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31278-DE13-4B01-878D-C0BDCC6F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53D1B-C8C9-4B6A-AB07-9BB8BB42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72808-93D8-4B2C-8F05-64C25ADD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43FB8-1706-4032-BD76-45CDA6D0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F64C5-901B-4D0A-8D79-24301B03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FF846-D300-48C2-85C7-1382C91D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E334-CFB6-4EB1-81D8-02786C85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ABD6E-FD61-467A-8173-78E3320B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0EDF3-BE7F-46EA-A31C-560C3D5B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E5B91-1C5D-44B3-AF31-5A89899A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1D60B-4068-4874-A45F-7A2A197F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7C465-6BED-4B3F-8C70-670F15BC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878D0-B705-4100-9CF9-701EFD96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C970C-4150-4E1B-8614-0378D9F7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14B92-D802-4290-9D6F-FB982275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C844A-136F-414C-8F70-AA73EB9A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D3FC5-7D3F-4CBB-B464-47043870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99E0-A8B8-4E35-B6D4-E1A971E38B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4F92-4320-4590-B432-A11CA367A3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8CC8-4AF3-48A4-8F47-E67041475F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392E-B6FA-41B2-9F07-04E266AE94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EBFD-140F-497D-8443-A315762E8C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EE1E-B6B0-48E1-B36A-7D1526E3D7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F231-D2ED-4439-905D-DA7B41EFE07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15C9-FEDB-47B4-97EA-DBFD112C64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F6D3-7628-481D-982A-ED8372D66D4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C1E8-B113-4306-9349-A2F9D917FDC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C47C-D82C-4863-BDDD-39D99250043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BD4F-7BAE-4259-8928-0F2147DD228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RM_0457"/>
          <p:cNvPicPr/>
          <p:nvPr/>
        </p:nvPicPr>
        <p:blipFill>
          <a:blip r:embed="rId1"/>
          <a:stretch/>
        </p:blipFill>
        <p:spPr>
          <a:xfrm>
            <a:off x="1692360" y="1455840"/>
            <a:ext cx="5545080" cy="450540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3"/>
          <p:cNvSpPr/>
          <p:nvPr/>
        </p:nvSpPr>
        <p:spPr>
          <a:xfrm>
            <a:off x="2809440" y="333360"/>
            <a:ext cx="27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5*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手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2009880" y="2392200"/>
            <a:ext cx="5461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大拇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6"/>
          <p:cNvSpPr/>
          <p:nvPr/>
        </p:nvSpPr>
        <p:spPr>
          <a:xfrm>
            <a:off x="3782880" y="1816200"/>
            <a:ext cx="5461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食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7"/>
          <p:cNvSpPr/>
          <p:nvPr/>
        </p:nvSpPr>
        <p:spPr>
          <a:xfrm>
            <a:off x="5105520" y="1816200"/>
            <a:ext cx="5461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中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8"/>
          <p:cNvSpPr/>
          <p:nvPr/>
        </p:nvSpPr>
        <p:spPr>
          <a:xfrm>
            <a:off x="5146200" y="2968560"/>
            <a:ext cx="91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无名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1"/>
          <p:cNvSpPr/>
          <p:nvPr/>
        </p:nvSpPr>
        <p:spPr>
          <a:xfrm>
            <a:off x="6087960" y="3760920"/>
            <a:ext cx="546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小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468360" y="134136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</a:rPr>
              <a:t>他因为身体最长，取物时，往往最先碰到物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539640" y="333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99"/>
                </a:solidFill>
                <a:latin typeface="Times New Roman"/>
              </a:rPr>
              <a:t>舞蹈演员的手指不是常作兰花状吗？这两根手指正是这朵兰花中最优美的两瓣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539640" y="33336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99"/>
                </a:solidFill>
                <a:latin typeface="Times New Roman"/>
              </a:rPr>
              <a:t>舞蹈演员的手指不是常作兰花状吗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？</a:t>
            </a:r>
            <a:r>
              <a:rPr b="1" lang="zh-CN" sz="7200" spc="-1" strike="noStrike">
                <a:solidFill>
                  <a:srgbClr val="003399"/>
                </a:solidFill>
                <a:latin typeface="Times New Roman"/>
              </a:rPr>
              <a:t>这两根手指正是这朵兰花中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最</a:t>
            </a:r>
            <a:r>
              <a:rPr b="1" lang="zh-CN" sz="7200" spc="-1" strike="noStrike">
                <a:solidFill>
                  <a:srgbClr val="003399"/>
                </a:solidFill>
                <a:latin typeface="Times New Roman"/>
              </a:rPr>
              <a:t>优美的两瓣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68360" y="333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手指的全体，同人群体的全体一样，五根手指如果能团结一致，成为一个拳头，那就根根有用，根根有力量，不再有什么强弱、美丑之分了。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" descr="mr734v23624l"/>
          <p:cNvPicPr/>
          <p:nvPr/>
        </p:nvPicPr>
        <p:blipFill>
          <a:blip r:embed="rId2"/>
          <a:stretch/>
        </p:blipFill>
        <p:spPr>
          <a:xfrm>
            <a:off x="5435640" y="4581360"/>
            <a:ext cx="273672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8" descr="FR_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12"/>
          <p:cNvSpPr/>
          <p:nvPr/>
        </p:nvSpPr>
        <p:spPr>
          <a:xfrm>
            <a:off x="1527120" y="3500280"/>
            <a:ext cx="664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57"/>
          <p:cNvSpPr/>
          <p:nvPr/>
        </p:nvSpPr>
        <p:spPr>
          <a:xfrm>
            <a:off x="1692360" y="2637000"/>
            <a:ext cx="570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通过描写五根手指各自不同的特点，想告诉我们一个什么道理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FR_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3"/>
          <p:cNvSpPr/>
          <p:nvPr/>
        </p:nvSpPr>
        <p:spPr>
          <a:xfrm>
            <a:off x="1527120" y="3500280"/>
            <a:ext cx="664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826920" y="1700280"/>
            <a:ext cx="7129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</a:rPr>
              <a:t>团结就是力量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7" descr="20100515165601207"/>
          <p:cNvPicPr/>
          <p:nvPr/>
        </p:nvPicPr>
        <p:blipFill>
          <a:blip r:embed="rId2"/>
          <a:stretch/>
        </p:blipFill>
        <p:spPr>
          <a:xfrm>
            <a:off x="1042920" y="3141720"/>
            <a:ext cx="4392720" cy="33829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8" descr="mr734v23624l"/>
          <p:cNvPicPr/>
          <p:nvPr/>
        </p:nvPicPr>
        <p:blipFill>
          <a:blip r:embed="rId3"/>
          <a:stretch/>
        </p:blipFill>
        <p:spPr>
          <a:xfrm>
            <a:off x="5508720" y="3716280"/>
            <a:ext cx="2735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6" descr="mr734v23624l"/>
          <p:cNvPicPr/>
          <p:nvPr/>
        </p:nvPicPr>
        <p:blipFill>
          <a:blip r:embed="rId2"/>
          <a:stretch/>
        </p:blipFill>
        <p:spPr>
          <a:xfrm>
            <a:off x="468360" y="333360"/>
            <a:ext cx="2087640" cy="165564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7"/>
          <p:cNvSpPr/>
          <p:nvPr/>
        </p:nvSpPr>
        <p:spPr>
          <a:xfrm>
            <a:off x="2843280" y="692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说说有关团结的名言警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539640" y="2133720"/>
            <a:ext cx="8209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人心齐，泰山移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中国谚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一支独秀不是春，百花齐放春满园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雷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天时不如地利，地利不如人和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先秦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孟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团结就是力量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谚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单丝不成线，独木不成林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俗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五人团结一只虎，十人团结一条龙，百人团结像泰山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邓中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RX_004"/>
          <p:cNvPicPr/>
          <p:nvPr/>
        </p:nvPicPr>
        <p:blipFill>
          <a:blip r:embed="rId1"/>
          <a:stretch/>
        </p:blipFill>
        <p:spPr>
          <a:xfrm>
            <a:off x="8101080" y="228600"/>
            <a:ext cx="1042920" cy="18288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20100701_087a8ed2a4cb4c2bd6gfGF8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2" name="众人划桨开大船.mp3" descr=""/>
          <p:cNvPicPr/>
          <p:nvPr/>
        </p:nvPicPr>
        <p:blipFill>
          <a:blip r:embed="rId3"/>
          <a:stretch/>
        </p:blipFill>
        <p:spPr>
          <a:xfrm>
            <a:off x="795672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7"/>
          <p:cNvSpPr/>
          <p:nvPr/>
        </p:nvSpPr>
        <p:spPr>
          <a:xfrm>
            <a:off x="324000" y="69228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99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众人划桨开大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12923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539640" y="333360"/>
            <a:ext cx="8209080" cy="57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把手张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是一朵鲜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人的一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定为美挥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把手合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是一枚果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含辛茹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收藏天地精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39640" y="33336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歌谣一：食指拇指碰碰，做个小鸡叫叫，叽，叽，叽！食指中指并拢，做把剪刀玩玩，嚓，嚓，嚓！五个手指捏捏，做个榔头敲敲，咚，咚，咚！伸出拇指翘翘，夸你戴上红花，好，好，好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矩形 6"/>
          <p:cNvSpPr/>
          <p:nvPr/>
        </p:nvSpPr>
        <p:spPr>
          <a:xfrm>
            <a:off x="1692360" y="409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" descr="gifmb044"/>
          <p:cNvPicPr/>
          <p:nvPr/>
        </p:nvPicPr>
        <p:blipFill>
          <a:blip r:embed="rId1"/>
          <a:stretch/>
        </p:blipFill>
        <p:spPr>
          <a:xfrm>
            <a:off x="0" y="-24300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3"/>
          <p:cNvSpPr/>
          <p:nvPr/>
        </p:nvSpPr>
        <p:spPr>
          <a:xfrm>
            <a:off x="684360" y="476280"/>
            <a:ext cx="84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认真读读课文，读时要做到两点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（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画出生字词，联系上下文，借助工具书和生活积累理解词语，读通课文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想想课文主要讲的是什么，找出能够概括文章主要内容的句子读一读。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539640" y="33336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大拇哥，二拇弟，中山羊，四小弟，小妞妞，来看戏。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539640" y="333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歌谣二：一个手指显得太孤单，两个手指就能握笔杆，三个手指就能系纽扣，四个手指就能把碗端，五个手指如果都出来，团结的力量大无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RX_004"/>
          <p:cNvPicPr/>
          <p:nvPr/>
        </p:nvPicPr>
        <p:blipFill>
          <a:blip r:embed="rId2"/>
          <a:stretch/>
        </p:blipFill>
        <p:spPr>
          <a:xfrm>
            <a:off x="8101080" y="228600"/>
            <a:ext cx="1042920" cy="18288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8"/>
          <p:cNvSpPr/>
          <p:nvPr/>
        </p:nvSpPr>
        <p:spPr>
          <a:xfrm>
            <a:off x="539640" y="69228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小练笔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想想说说身边有哪些事物让你有所感触，有所启发，学习本课的表达方法，把事物的特点和自己的感悟写下来，与同学交流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"/>
          <p:cNvSpPr/>
          <p:nvPr/>
        </p:nvSpPr>
        <p:spPr>
          <a:xfrm>
            <a:off x="539640" y="404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539640" y="404640"/>
            <a:ext cx="828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</a:rPr>
              <a:t>搔痒 堂皇   渺小附庸    养尊处优窈窕  秽物  纽扣鼻涕   爱憎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8"/>
          <p:cNvSpPr/>
          <p:nvPr/>
        </p:nvSpPr>
        <p:spPr>
          <a:xfrm>
            <a:off x="324000" y="2060640"/>
            <a:ext cx="79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一只手上的五根手指，各有不同的姿态，各具不同的性格，各有所长，各有所短。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1403280" y="1052640"/>
          <a:ext cx="6553440" cy="3475080"/>
        </p:xfrm>
        <a:graphic>
          <a:graphicData uri="http://schemas.openxmlformats.org/drawingml/2006/table">
            <a:tbl>
              <a:tblPr/>
              <a:tblGrid>
                <a:gridCol w="1305000"/>
                <a:gridCol w="2687760"/>
                <a:gridCol w="2560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手指名称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优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缺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拇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食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名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4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468360" y="98100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例如拉胡琴，总由其他四指按弦，却由他相帮扶助琴身；水要喷出来，叫他死力抵住；血要流出来，叫他拼命按住；重东西翻倒去，叫他用劲扳住。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468360" y="981000"/>
            <a:ext cx="83534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例如拉胡琴，总由其他四指按弦，却由他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相帮扶助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琴身；水要喷出来，叫他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死力抵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；血要流出来，叫他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拼命按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；重东西翻倒去，叫他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用劲扳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468360" y="333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拿笔的时候，全靠它推动笔杆；遇到危险的事，都要由他去试探或冒险；秽物、毒物、烈物，他接触得最多；刀伤、烫伤、轧伤、咬伤，他消受的机会最多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468360" y="981000"/>
            <a:ext cx="835344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他永远不受外物冲撞，所以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曲线优美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，处处显示着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养尊处优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2-02T00:48:27Z</dcterms:modified>
  <cp:revision>51</cp:revision>
  <dc:subject>第一PPT模板网-WWW.1PPT.COM</dc:subject>
  <dc:title>第一PPT模板网-WWW.1PPT.COM</dc:title>
</cp:coreProperties>
</file>