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6E44-58C9-47F0-A2BA-41E52982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6531-650B-4655-9B58-3F6A951E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B0F16-BD43-4664-B6C3-2541B679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6F762-7BD7-40EE-9A2F-734B9535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C2794-BEF8-48EA-80C7-3ED948D2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5C528-324F-4964-B230-B23A73F6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113D6-C1C2-4EDA-81AC-867FA060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0BB32-77AC-4646-ABA9-60AF7B44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AE13E-3396-42B7-ADFA-B4D94874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BB45C-B02E-46E5-A00C-4A4C71A4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1A827-AA42-4F46-AD92-AA35427A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F0233-567C-4839-80B6-C446B135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7039-E2C0-42B9-8E4E-7CC64040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1BEE5-BF29-48A8-B7B8-5EFA15ED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D88F8-F829-4B7C-AD03-B8EC376A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C98BB-D48F-4453-B2D6-1D646EE1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3ABD1-A0FB-475E-8D1D-71962612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D7C5D-6B91-4290-BB78-381DA50B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C7B66-31CB-4C6D-A805-FF38788E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8D4E2-AC5D-4991-B4A0-64A11173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C85FA-3A0B-4B89-95BE-AA356DCE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0011C-A067-4BED-9369-706ED9DF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35785-440B-46D8-B630-CDBE651D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B228-F9F5-4453-B2D4-D44ED7CE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57708-45EF-43CB-A6CF-8A21926C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F0C7B-01FD-4E50-8EF5-3C0CDD53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A3211-8AA3-436C-AE60-DB084965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E1305-DA65-4EAE-BCA9-B5F872A5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6B608-F648-4E27-8835-C9D13BF0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0EF16-AE9D-4A2A-9991-9D5E248C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ADA4B-4F99-4F84-B90F-CFB089D1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8D566-0FD8-4FD9-80A0-56AF6ABD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E7EF4-0CEF-4E94-8F8C-DE5783B4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A4C94-5D59-4FDA-AAEB-AC74FC1D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B44E-11FF-439A-BE09-FBDC8008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3503C-23E6-416D-BF0B-CD3C68B7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B2170-848A-4399-9CAA-4B58CCCA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CE685-19FC-4E22-9636-EC4BF344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A873-2EEC-4BB2-BDC1-89CFFD34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BA40-203A-49CA-8B17-E5CDE37E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C26A-FF75-4DB8-89A4-FA1EA3CD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6F3C-5397-476A-934F-F16BB0A5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9C47-0F79-4577-A26E-4216D502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28C3-E150-4C1C-B3C6-EEB05B34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61A4-19A0-4168-A05A-2018E00D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08E0-58AC-4A43-8948-68BF524D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8FF1-D891-482C-8356-80EBF927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113A-43CF-44BC-9721-E1F179DB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FE33-AC4B-4353-9422-1F7CF76E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BEA9-F465-4F3F-AD42-7D355612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35283-FC25-4350-83FC-96F08DD9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B417D-526E-453C-A12A-1DFD683A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076FA-25B8-47FE-A2D4-2AF2E01E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82D95-1098-472A-943A-740D7391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1E2F0-E4ED-4E5E-B741-B3FBED49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7BCE-D89E-4962-85A2-5ED2E929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646CC-6AA1-40BB-99C6-D3CD0034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380FD-06D4-4AFE-89DD-C75E33A2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C0ED2-D1E7-4E16-801B-AE4604A4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C98E4-2398-441A-A691-6C7FDC20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8EBC2-3EE6-4950-8DEF-0D2715CA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AC9A1-DCA9-4E86-93B9-1652A906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D3674-9B1A-40B8-8F1D-925B7FE5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6B40A-3560-47D9-9DF6-CE429476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DDF07-EC14-4109-B2FA-7BD95916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702C1-A773-44CC-8F3E-3BC4478B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B19E-0EE7-48CC-9305-6E59B0DF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26C7A-7737-4F8A-A70F-3D14562A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F803E-1FFF-47CD-880E-C294E7CE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1CD5B-BEE3-49A2-AF6A-B5520936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1F706-E185-4F21-834A-D4E5CFBC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B3F49-0586-46F3-AD93-CDDB6026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AD510-0D9C-4FC3-8024-23D8320C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53E2D-39AE-4449-A328-5945BBBC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A189C-EDB8-4B3F-B2DB-EA985D862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37868-479D-4EAE-92B2-AC3F8656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79682-369B-48D5-8DE5-B163E308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1311-C3F9-4301-89F5-9607FFDC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81263-03E1-4377-8A99-C5FB7403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4CA71-7739-4631-AC05-14DB3663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0AA0F-38DB-49C6-B138-ABA41534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C3BD0-75B5-473D-A966-9C2E1C72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1B1A0-D1E3-4A3C-A213-F82C8CEE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98319-7CEC-498A-8700-CEC7AAF2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015D5-5218-4344-87C2-F11FCBF4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C2D2E-647F-4EF2-A864-F06CE377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8714F-D474-44CD-A29E-FB7A735A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66425-5B38-4662-BAFE-4EA4C44E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C2AD-0C87-49F7-80CA-00A19992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E2DF3-BA67-4003-8CB9-AA941263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0B528-DF7B-4D6A-8758-11CE074E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B6030-9F7E-496B-8ABB-5E292A12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BDF2C-8365-4263-AD6D-48727630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562CC-C6FE-42D7-8F63-C0ECD525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69A20-4F24-4BC1-8A54-D72E5393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FCC31-B313-442D-B0DC-DD203042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A9F4B-82EB-447E-A5AC-26E02B4E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BDC82-AD9E-419B-B57E-EC778DC8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2A470-0269-40F5-9C39-403EE19D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1FB9-CADA-4B38-B24A-B07C87EF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B50F5-37DB-4074-9A5A-14CB2D93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FEB5D-6F7A-4560-B1BC-5A610D2A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2C071-CFAE-46B9-8543-D8360DBE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52604-5D0B-424A-BC67-53D9F858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8BF47-0A97-43CB-ABEA-C29E1F39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81FC8-5AF8-4D07-AF30-0B414BB7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B453A-B48E-4B3B-AC64-11956352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8627A-B7C7-4098-9748-049A8062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5D193-1781-4217-93E9-CBD05EC5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8CA36-FA4F-4737-A9F8-0D7771A7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2280-B6DC-4983-9857-7341A4C8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61E16-EB80-4641-996D-2BD45743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C9D09-18F8-423C-BB44-EB322DFE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A2DBC-5845-492D-8832-43726F48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514A9-57F5-4C79-B755-6BB52CE3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2B687-BC00-4585-9440-E50B836C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98E20-6685-46AC-A851-BDA1F0FE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88887-C69B-4FF5-BAAC-A3E20592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1141A-2FA7-4084-BD90-367812DC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AEBE7-3968-48A5-9D57-9A703E09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AF2FD-4017-42AC-A8F3-A74A8726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8731-2586-4626-92D2-8FD4027E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2E3C2-47A9-46B3-8056-51AF4A87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143F1-3970-4D07-8780-AC1D97B5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95E91-D799-4116-A71A-8DB65F18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D19F2-F97A-4E52-B375-611DF7C1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4EFD6-F7EA-4FFD-83DF-57543A02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30D3D-D101-408E-A186-050C538D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80724-0702-476D-B0CD-B252D9B7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EA362-A786-41CA-9F92-17847F2F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CDDF4-15C3-483C-BF8D-B1BDC66C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0FEF0-9D2E-485A-9F2D-6F62F09F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绿色圃中小学教育网</a:t>
            </a: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http://www.lspjy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7C79-D65E-4903-95C4-970274FF9C74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绿色圃中小学教育网</a:t>
            </a: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http://www.lspjy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B4C0-689E-4AA6-ABE3-15B12D269076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绿色圃中小学教育网</a:t>
            </a: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http://www.lspjy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2AE0-8527-478B-9190-13B03A40C717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绿色圃中小学教育网</a:t>
            </a: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http://www.lspjy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DEF6-89E1-4FD7-82C6-79CFF0E0B4BD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绿色圃中小学教育网</a:t>
            </a: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http://www.lspjy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31ED-DDEA-49A5-BC3F-F036C793E715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绿色圃中小学教育网</a:t>
            </a: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http://www.lspjy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DCBC-41A2-45AB-B343-53236CBD53D4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绿色圃中小学教育网</a:t>
            </a: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http://www.lspjy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E429-75F7-4BEF-AA90-1F1FA5276B30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绿色圃中小学教育网</a:t>
            </a: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http://www.lspjy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ECE7-914C-41E9-B2DA-CA22924B2454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绿色圃中小学教育网</a:t>
            </a: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http://www.lspjy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7221-B7AE-4922-A48A-86893B17E949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绿色圃中小学教育网</a:t>
            </a: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http://www.lspjy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DE69-5EF0-4F6D-BB81-35B2C9CB6C50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绿色圃中小学教育网</a:t>
            </a: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http://www.lspjy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2705-64A9-45C4-95E1-1087E1EBAA00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WordArt 4"/>
          <p:cNvSpPr txBox="1"/>
          <p:nvPr/>
        </p:nvSpPr>
        <p:spPr>
          <a:xfrm>
            <a:off x="1476360" y="1989000"/>
            <a:ext cx="468000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口语交际  习作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7"/>
          <p:cNvSpPr/>
          <p:nvPr/>
        </p:nvSpPr>
        <p:spPr>
          <a:xfrm>
            <a:off x="250920" y="189000"/>
            <a:ext cx="86756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文欣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r>
              <a:rPr b="1" lang="zh-CN" sz="2400" spc="-1" strike="noStrike">
                <a:solidFill>
                  <a:srgbClr val="00d5d5"/>
                </a:solidFill>
                <a:latin typeface="Arial"/>
              </a:rPr>
              <a:t>难忘的第一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从我入学到现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经历过许多第一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第一次考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次获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次上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然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令我印象最深的是第一次煮饭。每当我想起这件事就合不拢嘴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哪是一个星期天，我爸爸、妈妈不在家，我想我从来没有帮妈妈做过家务活，这回可是一个好机会，就煮一锅饭吧，给爸妈露一手，让他们高兴高兴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说干就干，我先掏了一锅米。听妈妈说过，煮饭之前要先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米，我就学着妈妈的样子洗起米来。但每洗一次米，就有一些“小淘气”顺着水“逃走”，因此，洗完米，米就少了三分之一。我把洗好的米倒进了电饭锅，插上电源，自个儿去网上冲浪了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正在我冲得起劲时，不知从哪儿传来了“劈里啪啦”的声音。我循声找去，发现是从厨房间里传来的，我立马想到了那锅饭，揭开锅盖一看，啊，天哪，这是我煮的饭吗？颜色又黑又黄，尝了一下，“呸”硬的像一些小石子。这可怎么办呢？我急得像热锅上的蚂蚁。不知如何是好。正当我发愁时，爸妈回来了。妈妈问我：“行健你在干什么呀？”我吞吞吐吐地说：“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”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咦，什么味道啊？”妈妈警觉地问，边问边和爸爸一起来到了厨房，一看，全明白了，“哈哈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笑了起来，把本来就爱笑得妈妈笑得眼泪都出来了，爸爸也被笑得弯下了腰。后来我才知道，是因为我煮饭之前忘了给锅里加水，才会烧成这样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我想：无能做什么事只有仔细观察，虚心学习才会成功。这不？“煮”下面还有四点水呢！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4"/>
          <p:cNvSpPr/>
          <p:nvPr/>
        </p:nvSpPr>
        <p:spPr>
          <a:xfrm>
            <a:off x="395280" y="404640"/>
            <a:ext cx="763272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r>
              <a:rPr b="0" lang="zh-CN" sz="2400" spc="-1" strike="noStrike">
                <a:solidFill>
                  <a:srgbClr val="00d5d5"/>
                </a:solidFill>
                <a:latin typeface="Arial"/>
              </a:rPr>
              <a:t>难忘的第一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伴随着飞机的隆隆声，经过两个多小时的“飞翔”， 带着第一次旅行的喜悦，我疯了似的跑下飞机，来到了我心向往之的宁波奉化的溪口镇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但是，天公不做美，刚到自然景区，天就下起了淅沥哗啦的大雨，但这雨不能浇灭我快乐的心情，我们在雨中感受着这山雨带来的清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走了一段山路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我们看到了气势磅礴的徐凫岩大瀑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站在瀑布脚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享受着瀑布溅起的水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大瀑布落差大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多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犹如银河般盈盈而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我终于体会到了什么是“飞流直下三千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嶷是银河落九天。” 迈着轻捷的脚步，我们到了奇妙的“三隐潭”，它分为“上隐潭”，“中隐潭”，“下隐潭”，它们叠在一起，形成了阶梯状。先由一个小瀑布的水流到了上隐潭里，由上隐潭再流到中隐潭里，中隐潭再流到下隐潭里，水流连贯有续，源源不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 “真不知道外面的世界这么大，这真是一次令我难忘的旅行啊！”我不禁这样感叹到。这次旅行，让我感到不仅要“读万卷书，还要行万里路”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4"/>
          <p:cNvSpPr/>
          <p:nvPr/>
        </p:nvSpPr>
        <p:spPr>
          <a:xfrm>
            <a:off x="324000" y="585720"/>
            <a:ext cx="849600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d5d5"/>
                </a:solidFill>
                <a:latin typeface="Arial"/>
              </a:rPr>
              <a:t>　　　　　　难忘的第一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去年放暑假的时候，我暂时住在外公家，马上就要中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了，我和表姐还有表弟正从外面回来，肚子正饿的“咕咕”叫的时候，却发现所有的人竟然都睡着了。我外公家的人都有睡午觉的习惯，除了表姐和表弟，而我又不忍心把他们都醒。 于是在这个时候我突然想出了一个好主意：自己做饭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可是，又有一道难题放在我的面前了：做点什么好呢？我左思右想，嗯，就做个最简单的蛋吵饭吧！ 这时候，表姐又出去拿书，把任务推给了我。我还要煮她的。 表弟，饿极了，在一旁催我快一点，我也没办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首先，把所有的原料都准备好，就开工了！把火腿肠切成小丁，放在小盘子里；再把三个鸡蛋敲碎后，把蛋黄和蛋白放进一个小盘子里搅混；然后把青豆泡在小碗里：炒饭（幸好我老妈教过我几招，要不我今天就非吃“凉大米饭拌火腿肠”了）好了，言归正传。 这时候我已经把油放进锅里烧热了，发出“噼噼啪啪”的响声，我往锅里倒了小些油，把锅爆香，再把火腿肠和青豆放下去炒几分种，一阵香气往一旁的表弟飘去，再倒小些油下去，这一放可不得了，从锅中溅出的油星全部都落在了我的胳膊上，把剩饭倒下去之后，就炒起来炒了几分钟那些米饭已经热呼呼了，一粒粒都分开啦，这说明可以放鸡蛋啦，我把搅混了的鸡蛋倒进去炒，最后放了葱花进去。 心想这下可好了吧！于是就尝了一口。乖乖，不是吧，我还没加盐呢！于是又急忙把盐加了进去。 再把火关掉。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终于大功告成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 虽然很苦很累还受了伤，不过我终于吃到了自己做的第一顿饭，虽然不是很好吃，不过，我相信有了这次的经历，下次一定会做得更好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152280" y="152280"/>
            <a:ext cx="899172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难忘的第一次（片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走在小巷里，小巷里空无一人，白惨惨的月光从房顶上斜斜地照了过来，把我的影子拖得老长老长。“滴答滴答”的滴水声显得格外刺耳。不知怎么的，我的脚步越来越重，心怦怦地跳得厉害，“好像遇到坏人了”，“前面是不是有鬼呀”，一连串的想法使我汗毛立马竖了起来，不禁打了个寒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越想越怕，战战兢兢地走完了一半路，这时我似乎听到身后传来了一阵若有若无的脚步声，以前看过的恐怖片中青面獠牙的鬼怪在眼前浮现着。“妈呀！”我惊叫一声双手抱头飞也似的狂奔起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380880" y="304920"/>
            <a:ext cx="8763120" cy="36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看漫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假文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一个寒冬的早晨，在一个小小的公共汽车车站里挤满了男女老少。靠在栏杆上的一块牌子上明确的标着“母子上车处”。而站在这里的不是抱着孩子的母亲，竞然是几位男士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真正的母子被挤到一旁。瘦弱的母亲围着头巾，衣着单薄，抱着一个刚出生不久的婴儿，冻的缩成一团，眼睁睁的望着那些“排错队”的男同胞们，眼里流露出愤恨而又无能为力的神情。我想：那些男同胞们真的没有看到牌子上的字吗？难道真的不认识“母子上车处”这五个醒目耀眼的字吗？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你瞧，第一个男士，个子较高，他身穿一件大皮袄，脚穿一双锃亮的皮鞋，显得特别阔气。他的眼睛看着地面，好像知道这是“母子上车处”而不敢朝上看似的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第二个是个高个子男士，他身穿一件毛领皮衣，头上戴着帽子，向前看着，微闭着眼睛，好像在思索着什么，又好像在闭目养神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第三个是一位满头银发的老大爷，个子很矮，穿着一件羽绒服，一幅眼镜搭拉在鼻子上，快要滑落下来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第四位是高个子男子，他身穿高领大皮衣，戴着大大的口罩，好像要把脸全部遮住似的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看他们穿的多么华丽呀，但是表面的华丽怎么遮掩的了丑恶的内心呢？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看那半闭着的眼睛，看那快滑落的眼镜像不识字吗？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他们主要是想早点上车找个好座位，对那立着的牌子不屑一顾，竟背着良心做出如等缺德的事。而旁边的母子却迎着寒风颤抖着，母亲心凉了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我真想问问那些尊贵的先生们，你们难道就没有妻子和孩子吗？你们站在你们不应该站的地方，就心不跳，脸不红吗？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在我们当今的社会里，像这样的队伍越来越壮大，像这样的人也越来越多，屡见不鲜。他们都是为了个人利益作出一些违背良知的事，早已忘了自己还是炎黄子孙。我真想高喊：“请你们不要这样，要将心比心，要遵守社会公德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4"/>
          <p:cNvSpPr/>
          <p:nvPr/>
        </p:nvSpPr>
        <p:spPr>
          <a:xfrm>
            <a:off x="395280" y="2010960"/>
            <a:ext cx="8136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老师的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生总会有许多第一次，翻开我们成长的书本，一页又一页，记载着我们童年的点点滴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次迈出蹒跚的步伐、第一次背着书包上学校、第一次独自一人出远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同的第一次常带给我们不同的感受：有成功，有失败；有欢笑，有泪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无论怎样都是那样的令我们难以忘记。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5"/>
          <p:cNvSpPr/>
          <p:nvPr/>
        </p:nvSpPr>
        <p:spPr>
          <a:xfrm>
            <a:off x="395280" y="692280"/>
            <a:ext cx="8064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这些第一次给你有启发吗？你还有更难忘的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第一次动手做饭　　　　第一次竞选班干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第一次走夜路　　　　　第一次表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第一次得奖　　　　　　第一次做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第一次坐火车　　　　　第一次旅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4"/>
          <p:cNvSpPr/>
          <p:nvPr/>
        </p:nvSpPr>
        <p:spPr>
          <a:xfrm>
            <a:off x="468360" y="260280"/>
            <a:ext cx="712800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面请你选择印象最深刻的第一次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１、回忆事情的经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２、回想自己在这个过程中的真实感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３、从中得到的启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试着说一说。老师给大家提两点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要把事情的来龙去脉说清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在说的过程中融入自己的感受，讲清楚你从中得到的启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8"/>
          <p:cNvSpPr/>
          <p:nvPr/>
        </p:nvSpPr>
        <p:spPr>
          <a:xfrm>
            <a:off x="826920" y="1125360"/>
            <a:ext cx="71298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评价时要强调的有以下几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事件叙述的完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借鉴了课文的表达感悟的方法，结合生活实际直接表达自己的感受。将道理蕴含在文章之中（前后呼应、借物喻人的写作方法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  能从心理、动作、神态、语言等方面表现自己内心的感受，给人更真实的感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609480" y="380880"/>
            <a:ext cx="7620120" cy="87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习作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难忘的“第一次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609480" y="2133720"/>
            <a:ext cx="25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Arial"/>
              </a:rPr>
              <a:t>难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4191120" y="2133720"/>
            <a:ext cx="358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Arial"/>
              </a:rPr>
              <a:t>第一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7"/>
          <p:cNvSpPr/>
          <p:nvPr/>
        </p:nvSpPr>
        <p:spPr>
          <a:xfrm>
            <a:off x="642960" y="3429000"/>
            <a:ext cx="64292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作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根据自己的思路，按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顺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出故事的经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你的故事经过中添上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细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写出自己得到的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启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2" descr="5"/>
          <p:cNvPicPr/>
          <p:nvPr/>
        </p:nvPicPr>
        <p:blipFill>
          <a:blip r:embed="rId2"/>
          <a:stretch/>
        </p:blipFill>
        <p:spPr>
          <a:xfrm>
            <a:off x="826920" y="1413000"/>
            <a:ext cx="3495960" cy="406692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3"/>
          <p:cNvSpPr/>
          <p:nvPr/>
        </p:nvSpPr>
        <p:spPr>
          <a:xfrm>
            <a:off x="4932360" y="765000"/>
            <a:ext cx="3600360" cy="642600"/>
          </a:xfrm>
          <a:prstGeom prst="rect">
            <a:avLst/>
          </a:prstGeom>
          <a:noFill/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漫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是一种具有强烈讽刺性或批评性的图画。画家从生活现象中取材，通过夸张、比喻、象征等手法，来讽刺、批评或表扬某些人和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WordArt 4"/>
          <p:cNvSpPr txBox="1"/>
          <p:nvPr/>
        </p:nvSpPr>
        <p:spPr>
          <a:xfrm>
            <a:off x="324000" y="333360"/>
            <a:ext cx="1295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习作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WordArt 2"/>
          <p:cNvSpPr txBox="1"/>
          <p:nvPr/>
        </p:nvSpPr>
        <p:spPr>
          <a:xfrm>
            <a:off x="539640" y="692280"/>
            <a:ext cx="18288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画意解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2771640" y="692280"/>
            <a:ext cx="5832720" cy="192348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第一：仔细观察图画，把握画面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观察时，必须把握以下内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这是发生在什么地方的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从人物衣着看，这件事发生在什么季节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图画上有哪些人？他们之间有什么关系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四位男子怎么会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母子上车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等候上车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假文盲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什么含义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250920" y="3500280"/>
            <a:ext cx="8642160" cy="17398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第二：展开合理想象，丰富画面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①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从图画上人物的衣着看，这天的天气怎样？除了这，你还会想到什么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②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四位男子怎么会在“母子上车处”等候上车的？他们当时心里可能会想些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③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那位抱着孩子的中年妇女看到四位男子站在“母子上车处”，可能会对他们说些什么？四位男子又是如何回答她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④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周围的旅客看到四位男子站在“母子上车处”，可能会议论些什么？四位男子听到人们的议论会怎么想？怎么做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⑤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四位男子最后是在“母子上车处”上车的吗？他们或许是被车站的民警叔叔劝走的，或许是听到人们的议论不好意思走的，或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684360" y="1989000"/>
            <a:ext cx="7777080" cy="1937880"/>
          </a:xfrm>
          <a:prstGeom prst="rect">
            <a:avLst/>
          </a:prstGeom>
          <a:noFill/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三，要写出自己的真实看法和想法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漫画一般是用来讽刺、批评或者表扬某些人和事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假文盲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一幅讽刺漫画，针对四位男子站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母子上车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不文明行为，你有何感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不少旅客纷纷指责这种不良行为时，你有什么看法和想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0:05:45Z</dcterms:created>
  <dc:creator>绿色圃中小学教育网http://www.lspjy.com</dc:creator>
  <dc:description>绿色圃中小学教育网http://www.lspjy.com</dc:description>
  <cp:keywords>绿色圃中小学教育网http://www.lspjy.com</cp:keywords>
  <dc:language>en-US</dc:language>
  <cp:lastModifiedBy>admin</cp:lastModifiedBy>
  <dcterms:modified xsi:type="dcterms:W3CDTF">2015-02-02T00:59:46Z</dcterms:modified>
  <cp:revision>28</cp:revision>
  <dc:subject>绿色圃中小学教育网http://www.lspjy.com</dc:subject>
  <dc:title>绿色圃中小学教育网http://www.lspjy.com</dc:title>
</cp:coreProperties>
</file>