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F2E-C3BC-44DA-BDB1-C93E6F84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FF94-C04B-4B29-AD97-4784E1FD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39F-DC76-4F9E-80A3-A26878E4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67D-D96E-4F70-9193-0BF38298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A86B-BA10-47EE-9477-F0C1D5DE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49AF-66C4-4577-AF0B-19B7AD5F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6FA6-2BEA-41DE-B9E9-A4E3453B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AC20-CDE6-421C-A239-AC1A41F9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4216-3069-47BC-8190-CB060233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471C-5033-4129-8227-A53D18DA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AF86-A9B6-4C49-B4E0-B7D41436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064-3CB5-4B81-9A69-D759F2B3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A693-E4F3-4C08-83F6-A24DC2D9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C592-0917-4407-9CC3-2F33DABE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2584-EE7E-4739-A351-C158933B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A4B2-2CF7-4C11-8410-37930452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2D24-6FF7-42D9-BDB5-0CBD2288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77F40-4D8B-4205-81C8-D47F1271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BDF6C-14FA-4B8A-82B4-C3ACA9DE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C6599-3F6D-49A9-A37C-259B4F24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46A9F-2BDD-4963-9F62-686A38C6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BDF3A-D0C2-427E-B13B-D7D87685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257-A6FF-4925-9438-2FF7E35E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39F6D-47CD-4755-B6E4-9317ACEB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368A8-F742-4393-B482-2298C000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66B80-0263-431A-8468-2EFAB338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63D4C-5522-4D93-B600-CAEEB78C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24B811-28C4-426A-8F19-A4A47CE2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B06D3-0B7B-4BBD-86F5-BA542947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8BD0B6-FF87-49C4-A7C2-A7BA51C8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88803-0B20-4506-BED3-923F53EE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E431F-5B19-4EE4-8BA3-738F54D6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4FC97-4514-4833-8260-0F34038F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6D4-BB07-4742-A932-262E9EC1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C342F-9F5F-4C2B-A574-D4280878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C46EC-2369-4ED9-A43F-DBD000A8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C5711-A157-4565-B4E3-DE1D30A4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E4469-42DA-4AE5-89F8-768BB0AB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73D1C-7182-434F-9C5A-9BD061CD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50C25-0116-4066-AC8C-21E3870D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41FA1-1AFA-4ABF-8528-A6A8331A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286E2-BAF6-4690-97B1-9883FBA8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1D32E-6FF3-4A4C-9E55-BA108BC4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08A-8E32-471B-BB02-1D926E51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69A-27F8-46C3-9455-E33D8BC1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3E92-04D3-42B4-8A83-9D76A62B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1A3-A192-4800-B1F6-83BF3DF6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0293-F36E-4256-823F-6DB00286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3B31-A552-475F-AAD7-1ACA75468EAD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795F-EA3D-4EDB-B169-45B5F5D90D18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03AA-47EC-4882-B722-9F2CEBB969C8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0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8025-5B0F-4F24-B321-20074D7EA248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1447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e1f08"/>
                </a:solidFill>
                <a:latin typeface="Arial Black"/>
              </a:rPr>
              <a:t>回</a:t>
            </a:r>
            <a:br>
              <a:rPr sz="6600"/>
            </a:br>
            <a:r>
              <a:rPr b="1" lang="zh-CN" sz="6600" spc="-1" strike="noStrike">
                <a:solidFill>
                  <a:srgbClr val="fe1f08"/>
                </a:solidFill>
                <a:latin typeface="Arial Black"/>
              </a:rPr>
              <a:t>顾</a:t>
            </a:r>
            <a:br>
              <a:rPr sz="6600"/>
            </a:br>
            <a:r>
              <a:rPr b="1" i="1" lang="zh-CN" sz="4400" spc="-1" strike="noStrike">
                <a:solidFill>
                  <a:srgbClr val="fe1f08"/>
                </a:solidFill>
                <a:latin typeface="Arial Black"/>
              </a:rPr>
              <a:t>·</a:t>
            </a:r>
            <a:r>
              <a:rPr b="1" lang="zh-CN" sz="6600" spc="-1" strike="noStrike">
                <a:solidFill>
                  <a:srgbClr val="fe1f08"/>
                </a:solidFill>
                <a:latin typeface="Arial Black"/>
              </a:rPr>
              <a:t> </a:t>
            </a:r>
            <a:br>
              <a:rPr sz="6600"/>
            </a:br>
            <a:r>
              <a:rPr b="1" lang="zh-CN" sz="6600" spc="-1" strike="noStrike">
                <a:solidFill>
                  <a:srgbClr val="fe1f08"/>
                </a:solidFill>
                <a:latin typeface="Arial Black"/>
              </a:rPr>
              <a:t>拓</a:t>
            </a:r>
            <a:br>
              <a:rPr sz="6600"/>
            </a:br>
            <a:r>
              <a:rPr b="1" lang="zh-CN" sz="6600" spc="-1" strike="noStrike">
                <a:solidFill>
                  <a:srgbClr val="fe1f08"/>
                </a:solidFill>
                <a:latin typeface="Arial Black"/>
              </a:rPr>
              <a:t>展</a:t>
            </a:r>
            <a:br>
              <a:rPr sz="6600"/>
            </a:br>
            <a:r>
              <a:rPr b="1" lang="zh-CN" sz="6600" spc="-1" strike="noStrike">
                <a:solidFill>
                  <a:srgbClr val="fe1f08"/>
                </a:solidFill>
                <a:latin typeface="Arial Black"/>
              </a:rPr>
              <a:t>二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"/>
          <p:cNvSpPr/>
          <p:nvPr/>
        </p:nvSpPr>
        <p:spPr>
          <a:xfrm>
            <a:off x="228600" y="20908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28600" y="1447920"/>
            <a:ext cx="548640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总把新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桃换旧符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”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600" y="3200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译文：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每年春节人们总要拿新春联换掉旧春联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228600" y="15228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第四句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9" name=""/>
          <p:cNvSpPr/>
          <p:nvPr/>
        </p:nvSpPr>
        <p:spPr>
          <a:xfrm>
            <a:off x="3574800" y="25909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Black"/>
              </a:rPr>
              <a:t>桃换旧符：现指春联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" y="4648320"/>
            <a:ext cx="8077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这既是写当时的民间风俗，也寓含着除旧布新的意思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Black"/>
              </a:rPr>
              <a:t>这句与首句“爆竹声中一岁除”的意思呼应，形象地表现了万象更新的景象。</a:t>
            </a:r>
            <a:r>
              <a:rPr b="0" lang="zh-CN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925040" cy="19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本诗既是写景诗，也是抒情诗。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写了什么景？抒了什么情？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景：放爆竹、春风吹、喝屠苏酒、曈曈日、换桃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情：这是一首</a:t>
            </a:r>
            <a:r>
              <a:rPr b="0" lang="zh-CN" sz="2800" spc="-1" strike="noStrike">
                <a:solidFill>
                  <a:srgbClr val="ff3399"/>
                </a:solidFill>
                <a:latin typeface="Arial Black"/>
              </a:rPr>
              <a:t>写景抒情诗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，诗人</a:t>
            </a:r>
            <a:r>
              <a:rPr b="0" lang="zh-CN" sz="2800" spc="-1" strike="noStrike">
                <a:solidFill>
                  <a:srgbClr val="ff3399"/>
                </a:solidFill>
                <a:latin typeface="Arial Black"/>
              </a:rPr>
              <a:t>通过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描写人们过春节热闹欢乐的</a:t>
            </a:r>
            <a:r>
              <a:rPr b="0" lang="zh-CN" sz="2800" spc="-1" strike="noStrike">
                <a:solidFill>
                  <a:srgbClr val="ff3399"/>
                </a:solidFill>
                <a:latin typeface="Arial Black"/>
              </a:rPr>
              <a:t>气氛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，形象地</a:t>
            </a:r>
            <a:r>
              <a:rPr b="0" lang="zh-CN" sz="2800" spc="-1" strike="noStrike">
                <a:solidFill>
                  <a:srgbClr val="ff3399"/>
                </a:solidFill>
                <a:latin typeface="Arial Black"/>
              </a:rPr>
              <a:t>表现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了万象更新的</a:t>
            </a:r>
            <a:r>
              <a:rPr b="0" lang="zh-CN" sz="2800" spc="-1" strike="noStrike">
                <a:solidFill>
                  <a:srgbClr val="ff3399"/>
                </a:solidFill>
                <a:latin typeface="Arial Black"/>
              </a:rPr>
              <a:t>景象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，</a:t>
            </a:r>
            <a:r>
              <a:rPr b="0" lang="zh-CN" sz="2800" spc="-1" strike="noStrike">
                <a:solidFill>
                  <a:srgbClr val="ff3399"/>
                </a:solidFill>
                <a:latin typeface="Arial Black"/>
              </a:rPr>
              <a:t>寄托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了自己执政变法、除旧布新、强国富民的</a:t>
            </a:r>
            <a:r>
              <a:rPr b="0" lang="zh-CN" sz="2800" spc="-1" strike="noStrike">
                <a:solidFill>
                  <a:srgbClr val="ff3399"/>
                </a:solidFill>
                <a:latin typeface="Arial Black"/>
              </a:rPr>
              <a:t>抱负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和乐观自信的</a:t>
            </a:r>
            <a:r>
              <a:rPr b="0" lang="zh-CN" sz="2800" spc="-1" strike="noStrike">
                <a:solidFill>
                  <a:srgbClr val="ff3399"/>
                </a:solidFill>
                <a:latin typeface="Arial Black"/>
              </a:rPr>
              <a:t>情感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在这首诗中，景和情是紧密结合着的，作者远大的志向和忧国忧民的抱负并没有在诗中直接表露，而是蕴藏在对景物的描写中。这种抒情方式叫做</a:t>
            </a:r>
            <a:r>
              <a:rPr b="0" lang="zh-CN" sz="2800" spc="-1" strike="noStrike">
                <a:solidFill>
                  <a:srgbClr val="ff3399"/>
                </a:solidFill>
                <a:latin typeface="Arial Black"/>
              </a:rPr>
              <a:t>情景交融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4038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ff"/>
                </a:solidFill>
                <a:latin typeface="Arial Black"/>
              </a:rPr>
              <a:t>齐读本诗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 Black"/>
              </a:rPr>
              <a:t>请同学们想象过年的画面，带者辞旧迎新、欢度新年的喜庆氛，读出作者的乐观自信的情感。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天竺寺八月十五日夜桂子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【唐】皮日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99840" y="251460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玉颗珊珊下月轮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殿前拾得露华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至今不会天中事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应是嫦娥掷与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天竺寺</a:t>
            </a:r>
            <a:r>
              <a:rPr b="1" lang="zh-CN" sz="54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八月十五日夜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桂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14400" y="91440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解题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1" name=""/>
          <p:cNvSpPr/>
          <p:nvPr/>
        </p:nvSpPr>
        <p:spPr>
          <a:xfrm>
            <a:off x="3996000" y="3657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f707"/>
                </a:solidFill>
                <a:latin typeface="Arial Black"/>
              </a:rPr>
              <a:t>时间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329120" y="3581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f707"/>
                </a:solidFill>
                <a:latin typeface="Arial Black"/>
              </a:rPr>
              <a:t>地点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787440" y="3657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f707"/>
                </a:solidFill>
                <a:latin typeface="Arial Black"/>
              </a:rPr>
              <a:t>描写的事物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了解作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3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卒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0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以后。唐代文学家。字袭美，一字逸少。居鹿门山，自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鹿门子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又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间气布衣、醉吟先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襄阳竟陵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今属湖北天门市）人。 公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6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（唐懿宗咸通八年）登进士第。登第次年东游，为苏州刺史从事，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陆龟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识，并与之唱和，并称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皮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并属皮陆派。其后又入京为太常博士，出为毗陵副使。黄巢军下江浙，皮为黄巢所的。黄巢入长安称帝，皮任翰林学士。皮日休的死，说法不一。或说他因故为巢所杀，或说黄巢兵败后为唐王朝所杀，或说后至浙江依钱□，或说流寓宿州以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玉颗珊珊下月轮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3885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　译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零落的桂花瓣），如同一颗颗玉珠从月亮上面边撒落下来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28600" y="15228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第一句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殿前拾得</a:t>
            </a: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露华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新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译文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走到大殿前捡起它们，发现花瓣上边还有星星点点刚凝结起来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露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228600" y="15228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第二句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至今不</a:t>
            </a: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会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天中事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译文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现在，我还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知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上到底发生了什么事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228600" y="15228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第三句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2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应是嫦娥掷与人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译文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这些桂花和桂花上的雨露），应该是广寒宫里的嫦娥撒落下来送给我们的吧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28600" y="15228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第四句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1f08"/>
                </a:solidFill>
                <a:latin typeface="Arial Black"/>
                <a:ea typeface="黑体"/>
              </a:rPr>
              <a:t>教学目标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能够读懂诗歌，理解诗歌大意，并背诵诗歌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能够了解作者的相关资料，加强语文知识的积累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能够对诗歌进行简单的赏析，大致了解诗歌的基调与意境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赏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首诗描写桂花，写出了一副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夜赏月桂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诗并不如其它描写中秋诗作一般凄凉，凋零，或是惆怅、哀绵。联系诗作背景便可得知诗人前一年高中进士，此时正在东游之中，也正是诗人意气风发之时，全诗便理所当然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轻松自在，毫无忧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诗咏物现实，空灵含蕴，以一件事表达了中秋佳节赏月之情，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小见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诗中的一大部分是诗人的联想，并不现实，却也不让人觉得有空虚之意。巧妙的联想反而为“寂静”的诗作平添了几分“俏皮”，也可谓是恰到好处。同时还运用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想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手法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 </a:t>
            </a:r>
            <a:r>
              <a:rPr b="0" lang="zh-CN" sz="8000" spc="-1" strike="noStrike">
                <a:solidFill>
                  <a:srgbClr val="000000"/>
                </a:solidFill>
                <a:latin typeface="Arial Black"/>
                <a:ea typeface="黑体"/>
              </a:rPr>
              <a:t>元日</a:t>
            </a:r>
            <a:br>
              <a:rPr sz="8000"/>
            </a:b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【宋】王安石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 Black"/>
              </a:rPr>
              <a:t>爆竹声中一岁除，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 Black"/>
              </a:rPr>
              <a:t>春风送暖入屠苏。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 Black"/>
              </a:rPr>
              <a:t>千门万户曈曈日，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 Black"/>
              </a:rPr>
              <a:t>总把新桃换旧符。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9448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5400" spc="-1" strike="noStrike">
                <a:solidFill>
                  <a:srgbClr val="ffcc00"/>
                </a:solidFill>
                <a:latin typeface="宋体"/>
              </a:rPr>
              <a:t>1</a:t>
            </a:r>
            <a:r>
              <a:rPr b="0" lang="zh-CN" sz="54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0" lang="zh-CN" sz="5400" spc="-1" strike="noStrike">
                <a:solidFill>
                  <a:srgbClr val="ffcc00"/>
                </a:solidFill>
                <a:latin typeface="Arial Black"/>
              </a:rPr>
              <a:t>这里的“元”是什么意思？</a:t>
            </a:r>
            <a:r>
              <a:rPr b="0" lang="zh-CN" sz="54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19320" y="4571640"/>
            <a:ext cx="7619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</a:rPr>
              <a:t>元日：指农历正月初一）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"/>
          <p:cNvSpPr/>
          <p:nvPr/>
        </p:nvSpPr>
        <p:spPr>
          <a:xfrm>
            <a:off x="1617120" y="3962520"/>
            <a:ext cx="483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宋体"/>
              </a:rPr>
              <a:t>2</a:t>
            </a:r>
            <a:r>
              <a:rPr b="0" lang="zh-CN" sz="5400" spc="-1" strike="noStrike">
                <a:solidFill>
                  <a:srgbClr val="ffcc00"/>
                </a:solidFill>
                <a:latin typeface="宋体"/>
              </a:rPr>
              <a:t>、“</a:t>
            </a:r>
            <a:r>
              <a:rPr b="0" lang="zh-CN" sz="5400" spc="-1" strike="noStrike">
                <a:solidFill>
                  <a:srgbClr val="ffcc00"/>
                </a:solidFill>
                <a:latin typeface="Arial Black"/>
              </a:rPr>
              <a:t>元日”是什么意思？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05640" y="2895480"/>
            <a:ext cx="166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</a:rPr>
              <a:t>元：第一、起始。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85800" y="380880"/>
            <a:ext cx="2514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解题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Arial Black"/>
                <a:ea typeface="黑体"/>
              </a:rPr>
              <a:t>王安石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 Black"/>
              </a:rPr>
              <a:t>北宋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 Black"/>
              </a:rPr>
              <a:t>政治家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 Black"/>
              </a:rPr>
              <a:t>文学家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3894120" cy="48006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1143000" y="380880"/>
            <a:ext cx="2743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了解作者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唐宋八大家之一，字介甫，号半山。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20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岁以前，随父游历祖国的大江南北，了解到民生疾苦，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21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岁中进士，当过十多年的地方官。公元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1070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年被任命宰相。不顾大官僚地主的反对，推行新政，后受保守派的攻击，被迫辞职，新法随即废除，这就是历史上有名的“王安石变法”。《元日》这首诗就是他拜相推行新政时写的，</a:t>
            </a: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寄托着他执政变法、除旧布新、强国富民的抱负和乐观自信的情感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51055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爆竹声中一岁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除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-360" y="2895480"/>
            <a:ext cx="8839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译文：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在阵阵“噼里啪啦”的爆竹声中，人们送走旧的一年，迎来新的一年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28600" y="15228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第一句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3" name=""/>
          <p:cNvSpPr/>
          <p:nvPr/>
        </p:nvSpPr>
        <p:spPr>
          <a:xfrm>
            <a:off x="6291360" y="18288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除：去掉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5486400"/>
            <a:ext cx="89917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 Black"/>
              </a:rPr>
              <a:t>读好这一行：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 Black"/>
              </a:rPr>
              <a:t>让人感受到过年时那种热闹欢乐的气氛。</a:t>
            </a:r>
            <a:r>
              <a:rPr b="0" lang="zh-CN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50292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春风送暖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入</a:t>
            </a:r>
            <a:r>
              <a:rPr b="1" lang="zh-CN" sz="4400" spc="-1" strike="noStrike" u="sng">
                <a:solidFill>
                  <a:srgbClr val="ffcc00"/>
                </a:solidFill>
                <a:uFillTx/>
                <a:latin typeface="Arial Black"/>
              </a:rPr>
              <a:t>屠苏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”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0" y="419076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译文：春风把暖气吹入屠苏酒。翻译得更美一点：人们迎着和煦的春风，开怀畅饮屠苏酒。人们的心情是多么得高兴啊！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228600" y="15228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第二句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8" name=""/>
          <p:cNvSpPr/>
          <p:nvPr/>
        </p:nvSpPr>
        <p:spPr>
          <a:xfrm>
            <a:off x="6291360" y="16002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Arial Black"/>
              </a:rPr>
              <a:t>入：吹入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52280" y="2438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屠苏：每年除夕，家家用屠苏草泡酒，吊在井里，正月初一取出来，全家老小朝东喝屠苏酒，这样可以避瘟疫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6019920"/>
            <a:ext cx="55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 Black"/>
              </a:rPr>
              <a:t>读出人们喜悦的心情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千门万户</a:t>
            </a:r>
            <a:r>
              <a:rPr b="1" lang="zh-CN" sz="4400" spc="-1" strike="noStrike">
                <a:solidFill>
                  <a:srgbClr val="ffcc00"/>
                </a:solidFill>
                <a:latin typeface="Arial Black"/>
              </a:rPr>
              <a:t>曈曈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日”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44193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译文： 旭日的光辉普照着千家万户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28600" y="15228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第三句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4" name=""/>
          <p:cNvSpPr/>
          <p:nvPr/>
        </p:nvSpPr>
        <p:spPr>
          <a:xfrm>
            <a:off x="304920" y="2819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曈曈：太阳初升时光亮耀眼的样子。“曈”这个字和太阳有关，所以是“日”旁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066680" y="5638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 Black"/>
              </a:rPr>
              <a:t>读出：无限光明美好的前途。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2-02T03:06:40Z</dcterms:modified>
  <cp:revision>12</cp:revision>
  <dc:subject/>
  <dc:title>第二单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