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0FED-2736-40C9-B92A-D1CBF9F3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D569-03F4-4739-B6C5-9D0206A2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ACDC-CA2D-4427-BCF6-A50DC153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9DC4-7B85-490D-AB3F-0CDAE3EB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1967-48AF-46DC-AEEC-54636007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B38-1038-473D-9A3E-A71C7F8A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86BD-65A5-4E25-93C5-A60BDEF5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067B-2A2C-4075-A21A-FFD3D3DC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4A50-4907-4A9A-B87F-EBD7E319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71D4-B386-4D89-8C8B-1DF011F6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FC3D-4F8C-4C72-B0FC-A03DEB89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67B8-AC47-439C-8A75-C4B8C094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EB89-2788-4AE6-807C-CE2B950785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208" t="5890" r="9378" b="2480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84360" cy="1312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124000" y="1413000"/>
            <a:ext cx="331308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回顾拓展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314172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c00ff"/>
                </a:solidFill>
                <a:uFillTx/>
                <a:latin typeface="Arial"/>
              </a:rPr>
              <a:t>交流平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14972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3366ff"/>
                </a:solidFill>
                <a:uFillTx/>
                <a:latin typeface="Arial"/>
              </a:rPr>
              <a:t>日积月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15772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da8200"/>
                </a:solidFill>
                <a:uFillTx/>
                <a:latin typeface="Arial"/>
              </a:rPr>
              <a:t>成语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9640" y="98100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邯郸学步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这个成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讲的是战国时候，燕国的一个青年人到邯郸学当地人走路，结果学了几个月，不但没有学会邯郸的走法，还把自己原来的走法也忘了。原来是形容不要盲目学步，现在用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比喻一味模仿别人，不仅学不到本事，反而把原来的本事也丢掉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47640" y="404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邯郸学步”这个成语告诉我们什么道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013360"/>
            <a:ext cx="1440000" cy="503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13920" y="429264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260280"/>
            <a:ext cx="8353440" cy="16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回忆学习本组课文后有哪些收获，联系生活实际，领悟文章蕴涵的道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把握主要内容的基础上，体会作者表达感悟的不同方法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3213000"/>
            <a:ext cx="806436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抓住具体的语言描写、重点词句进行深入思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者为什么这样写？其思路是什么？自己有什么看法？这样来形成自己的观点和见解。最后交流自己的体会和感受是怎样获得的，是如何加深的。还可以交流本组课文在表达作者感悟方面有什么特点，在习作中怎样运用恰当的方法表达自己的感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58920" y="2781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11280" y="274680"/>
          <a:ext cx="7846920" cy="6451560"/>
        </p:xfrm>
        <a:graphic>
          <a:graphicData uri="http://schemas.openxmlformats.org/drawingml/2006/table">
            <a:tbl>
              <a:tblPr/>
              <a:tblGrid>
                <a:gridCol w="3887640"/>
                <a:gridCol w="3959280"/>
              </a:tblGrid>
              <a:tr h="83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表 达 方 法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66ff"/>
                          </a:solidFill>
                          <a:latin typeface="Times New Roman"/>
                        </a:rPr>
                        <a:t>例    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运用拟人、比喻、排比、设问的写法，化无形为有形，并且生动形象，富有感染力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借物喻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写一件事情、物件，从中产生感悟、受到启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4898880" y="1962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匆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3429000"/>
            <a:ext cx="266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桃花心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27600" y="51577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文言文两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54600" y="575316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顶碗少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59280" y="4221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手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451640" y="6165720"/>
            <a:ext cx="1440000" cy="503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47640" y="1341360"/>
            <a:ext cx="7417080" cy="39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．人非生而知之者，孰能无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2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．一鼓作气，再而衰，三而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甘瓜苦蒂，天下物无全美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种树者必培其根，种德者必养其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操千曲而后晓声，观千剑而后识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451640" y="6165720"/>
            <a:ext cx="1440000" cy="503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47640" y="1341360"/>
            <a:ext cx="7417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人非生而知之者，孰能无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一鼓作气，再而衰，三而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甘瓜苦蒂，天下物无全美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种树者必培其根，种德者必养其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操千曲而后晓声，观千剑而后识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59280" y="2565360"/>
            <a:ext cx="5543280" cy="2303640"/>
          </a:xfrm>
          <a:prstGeom prst="cloudCallout">
            <a:avLst>
              <a:gd name="adj1" fmla="val -32759"/>
              <a:gd name="adj2" fmla="val -7267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333360"/>
            <a:ext cx="43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64000" y="285264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人不是生下来就懂得道理的，谁能没有疑惑？说明了人人都有自己不懂的地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6372360" y="5589720"/>
            <a:ext cx="1439640" cy="503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47640" y="2133720"/>
            <a:ext cx="7417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人非生而知之者，孰能无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一鼓作气，再而衰，三而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甘瓜苦蒂，天下物无全美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种树者必培其根，种德者必养其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操千曲而后晓声，观千剑而后识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56000" y="0"/>
            <a:ext cx="6264000" cy="3068640"/>
          </a:xfrm>
          <a:prstGeom prst="cloudCallout">
            <a:avLst>
              <a:gd name="adj1" fmla="val -49240"/>
              <a:gd name="adj2" fmla="val 5082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9280" y="333360"/>
            <a:ext cx="5257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擂一通鼓，勇气振作起来了；擂两通鼓，勇气就衰弱了；擂三通鼓，勇气就完结了。现用来比喻趁劲头大的时候一下子把事情做完。说明做事情应一气呵成的道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6659640" y="6021360"/>
            <a:ext cx="1439640" cy="503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47640" y="1341360"/>
            <a:ext cx="7417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人非生而知之者，孰能无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一鼓作气，再而衰，三而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甘瓜苦蒂，天下物无全美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种树者必培其根，种德者必养其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操千曲而后晓声，观千剑而后识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43280" y="189000"/>
            <a:ext cx="5545080" cy="2735280"/>
          </a:xfrm>
          <a:prstGeom prst="cloudCallout">
            <a:avLst>
              <a:gd name="adj1" fmla="val -44162"/>
              <a:gd name="adj2" fmla="val 6683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2360" y="1341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9640" y="620640"/>
            <a:ext cx="4608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再甘甜的瓜，瓜蒂都是苦的，天下的事物没有十全十美的。说明任何事物没有十全十美的道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6659640" y="6021360"/>
            <a:ext cx="1439640" cy="503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47640" y="1341360"/>
            <a:ext cx="7417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人非生而知之者，孰能无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一鼓作气，再而衰，三而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甘瓜苦蒂，天下物无全美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种树者必培其根，种德者必养其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操千曲而后晓声，观千剑而后识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6659640" y="6021360"/>
            <a:ext cx="1439640" cy="503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981000"/>
            <a:ext cx="5832720" cy="2592360"/>
          </a:xfrm>
          <a:prstGeom prst="cloudCallout">
            <a:avLst>
              <a:gd name="adj1" fmla="val -44282"/>
              <a:gd name="adj2" fmla="val 6500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1341360"/>
            <a:ext cx="4824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树必须培育它的根，教人以德行则必须教养他的思想。说明了浇树浇根，育人育心的道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47640" y="1341360"/>
            <a:ext cx="741708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人非生而知之者，孰能无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一鼓作气，再而衰，三而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甘瓜苦蒂，天下物无全美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种树者必培其根，种德者必养其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操千曲而后晓声，观千剑而后识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6659640" y="6021360"/>
            <a:ext cx="1439640" cy="503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27280" y="1700280"/>
            <a:ext cx="6265800" cy="2592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8000" y="1916280"/>
            <a:ext cx="4969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练习了千支曲子后才能知晓音乐的美妙，观看了千支剑后才能识别兵器的好坏。说明了多实践才能出真知的道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07:52:51Z</dcterms:created>
  <dc:creator>绿色圃中小学教育网http://www.lspjy.com</dc:creator>
  <dc:description>绿色圃中小学教育网http://www.lspjy.com</dc:description>
  <cp:keywords>绿色圃中小学教育网http://www.lspjy.com</cp:keywords>
  <dc:language>en-US</dc:language>
  <cp:lastModifiedBy>admin</cp:lastModifiedBy>
  <dcterms:modified xsi:type="dcterms:W3CDTF">2015-02-02T01:30:55Z</dcterms:modified>
  <cp:revision>7</cp:revision>
  <dc:subject>绿色圃中小学教育网http://www.lspjy.com</dc:subject>
  <dc:title>绿色圃中小学教育网http://www.lspjy.com</dc:title>
</cp:coreProperties>
</file>