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png" ContentType="image/png"/>
  <Override PartName="/ppt/media/image18.jpeg" ContentType="image/jpeg"/>
  <Override PartName="/ppt/media/image17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3.jpeg" ContentType="image/jpeg"/>
  <Override PartName="/ppt/media/image24.jpeg" ContentType="image/jpeg"/>
  <Override PartName="/ppt/media/image23.jpeg" ContentType="image/jpeg"/>
  <Override PartName="/ppt/media/image2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  <p:sldId id="289" r:id="rId48"/>
    <p:sldId id="290" r:id="rId49"/>
    <p:sldId id="291" r:id="rId50"/>
    <p:sldId id="292" r:id="rId51"/>
    <p:sldId id="293" r:id="rId52"/>
    <p:sldId id="294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slide" Target="slides/slide34.xml"/><Relationship Id="rId49" Type="http://schemas.openxmlformats.org/officeDocument/2006/relationships/slide" Target="slides/slide35.xml"/><Relationship Id="rId50" Type="http://schemas.openxmlformats.org/officeDocument/2006/relationships/slide" Target="slides/slide36.xml"/><Relationship Id="rId51" Type="http://schemas.openxmlformats.org/officeDocument/2006/relationships/slide" Target="slides/slide37.xml"/><Relationship Id="rId52" Type="http://schemas.openxmlformats.org/officeDocument/2006/relationships/slide" Target="slides/slide38.xml"/><Relationship Id="rId53" Type="http://schemas.openxmlformats.org/officeDocument/2006/relationships/slide" Target="slides/slide39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1F3DB-2ADB-4F66-8A30-8FB025D98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3CB8E-DE0A-4243-9EEF-F682B2A07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6DB562-6B4B-4D92-97C4-8C8053755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52B68D-DD69-4E94-9964-F77C7591A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A54217-5EC0-4EED-ABE4-34798E810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6DF662-50CA-4814-B697-0DD3E9FBE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7CD946-8118-48AA-8FFD-D430FB85A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F23EA3-962D-40A6-90E4-14FA64A82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7BD803-3126-4327-80BB-5DA81E856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619D99-D5E0-4B6A-8D37-3B2AFAAD2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99089A-411F-4C57-8D8A-4E0FB8726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F67A97-4E53-4165-86DB-95C06C929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945DE-1374-4524-A108-DE378F1D6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1D6F0E-B40B-43F3-80F9-92F83A7AC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040706-71F8-4542-A733-C3ABF0CD8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68B1DC-3A1F-42F7-B760-CCB22B3C6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516870-F33B-432D-92F5-B58A01673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431F04-94AA-49A7-B18F-403B3C24A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75551E-1B0C-42DB-8AD7-00D1E444F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C00881-86BA-424D-BCFD-70BD7FF72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55C53D-57C6-4BFC-BE2A-193580390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502926-A42A-4FA7-A4E0-4020F910B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849F98-3BB3-4C79-A8CF-4B903C65F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1FB17-48A8-4C4E-A555-A4DA01733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EC5615-E906-4452-A5B9-010095289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942FBB-9357-4917-A208-0A24326C6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601921-40B0-4133-90E5-F29E772D7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77A59E-FAC5-40D0-AE6E-6FEE55BD8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55D734-7173-470F-9149-433823EEC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97D63C-A54C-49A7-B80F-9A20D0FF8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FFCAFE-C3BC-487C-8EF0-32BBBB749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4A8D07-A9E2-4725-95EB-2CC31B432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73BDDF-CDD3-4379-A3BC-4E0E85FFD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F307C0-0238-46AA-84CE-3BB2ABD8D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9AA17-0EB9-4A0A-B49D-E7FFEF12B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207F7F-A611-4345-A882-1D120659B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64D82C-3EE8-40E5-928B-20A16DFAF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23DB1C-DA4A-4230-BEF2-4A1B58CEF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8E18CA-F24E-43B8-A08D-F989E0EF7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3E21D3-51B2-428B-A7AC-E89683940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6D8283-B41B-47A9-80C0-B0424EF6A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7C35FC-2A0D-484B-B4C3-8B6DA0537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9F6B64-49C0-4EE5-A14B-C2BE0ADA5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DDDA05-3B83-4FC6-ACA5-2593558A0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C0A31C-9DEA-4AA8-8E84-35554F55D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21B3D-5933-4A40-B178-7FD6216D2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9CE612-34C5-43AB-A1AF-C393413EE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9115C1-D1AF-424C-BF26-1BBFD174B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379FC8-317A-472B-B001-9BFCF1A77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77038E-A193-4FD7-AF90-2DD552BE0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FE0357-6341-4CCE-9C59-FBC504272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4DECB42-B058-4D91-9DBF-CE56CF4C1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4835FC3-B82B-46FF-8B0D-566EDD362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422B2C9-D8EB-4DE3-BCD8-B2CFB802E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D850813-672C-4E5B-9EE4-C4208F037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81CAD5A-7A91-4ECF-8853-C2925BC2C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652A9-D67C-4ADD-99BE-E27B36EA7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9D71FDA-DB23-422B-A7A3-C8D502CA3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7967194-3E29-41E4-B503-A085DA072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459441F-E097-4DD0-8C5A-08494F451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4B65ACA-20C5-4DF1-A705-9651E6CCA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9E7596D-3C65-447E-B652-4D0D18179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DA00D1D-5115-4203-A4F9-14E73A202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EB000CD-489A-4FD8-8367-2F5F1E584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C34B2-8982-4323-B588-44B2B08B7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DDE37-0074-4E68-AC36-B76E0166F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929C6-776E-4547-BA20-C22B2930D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AC0DB-8809-4C45-BED0-AAB0D328D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95782-6BEA-4614-96D1-958E334EC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B81D5-2D41-403F-A98E-5FF995FC5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45A84-DB67-469A-8F04-AF22FA634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8E5E9-957B-4CF7-8A6D-0405D4CCA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DA935-470C-49A8-97BF-9193B732C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77908-7CB9-4814-88AD-2D4B63229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F45833-D7FA-4C5A-9CEB-197163571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F6A265-24F1-4FE6-81FB-12B7E10B1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7E17FA-B154-4790-AB89-69A24B2B0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C8F4B0-52F6-4B9C-9300-89EC1665D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69C056-75D7-44C8-8322-1F449922D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1C120-1F69-4D0A-B4AF-92B2643EA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1198BD-4955-4C6F-81DF-0CA53901C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B7D5F0-F98B-47FF-9689-23FEB812B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A5AE21-CE0B-4748-B069-8265FB8B0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81FE3F-D033-45CE-A015-DF30DC3E6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939CAE-481F-4285-B293-C15176858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3CCFEF-D762-47FB-9EC2-3B2BEDC55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A6EF95-A83C-409C-BE8E-A5C4431FC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4CC26D-CB8F-41DD-94CB-57AB5207A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8555CB-F2FF-465E-8D5C-2D29097F3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FFD381-CB97-4F71-B382-9727B0BBC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C7F02-860B-4A54-AE23-EA9C715BA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CFFC47-384D-4121-9C8C-65933601D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B80DB8-993D-4837-82C3-128BEFE6C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9197C8-3BCD-4F5A-BCE9-89702102D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A63790-3810-401D-AE8C-81EB5FA28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6E66CE-E369-4A02-802C-B913780A4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57A60E-7EC2-4194-BC54-4B3B6F70F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AB4445-EF5F-4D14-B977-01A21CF97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EDEAD6-D855-4A56-8AED-DC472F91B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80C6E7-B827-47B4-8F44-71EDE5151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8BB315-89D6-4A05-8FFB-69A2B370A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AB82A-FDF8-4108-89D8-2A931E773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FC2EC3-27BD-4B60-A944-8C8D7383D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204D13-972B-4DE2-9949-A2544AEAD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7829A8-82A5-4DD7-A563-DAC508075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4202F5-1575-4BCB-8DBE-C84B28031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BFE12F-2527-4D56-BDD3-01FE515CC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530F76-A321-42B9-BB96-11F72B54A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B15F7B-D9C0-4DA5-810C-4CD37827E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FE5166-254A-4DCA-BF2A-DD00780B7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665146-ADCB-4689-911D-FA12CDEC9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A5FFFD-05AE-4ACA-9BD0-85F24F2B1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93104-8AD3-43B5-813A-3341EB3D7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9332CD-6CBF-4145-B6B4-7AF74EDA0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A713CA-C573-4CAF-8775-9488A8053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FEA9BD-8933-4C5C-8906-20EC0DF39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004944-E820-43DB-89AE-96113FCAA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A6F368-CDA6-44EE-AE66-06AE95334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E10F49-2348-423C-BB04-C66BDFDD2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719C59-2993-486F-8DC1-0A067F3CF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38F994-E925-43C7-B3F0-645197C40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C6D78E-B0BA-4FB0-87E1-0AFF8C225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19F7F6-2F4D-49DF-8EB6-A0D148D49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0761E-E634-44E7-A0B9-924795CBC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15A652-80CC-4ABA-9ED1-95A2E0F80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142AB2-FD43-4924-9A60-68BA729AD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831ED6-CBFB-4D41-A8A6-33C1E117F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46A15E-3A18-4EFB-AE70-15FDBC3AB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8E251F-A216-4023-A032-22EC03691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EC095B-97CE-4347-BCE3-F9DB7F960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721AA3-B294-4F7B-AE99-AAD2045FF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09E2ED-D3FB-4D4D-9081-D284A0EC3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A0518C-060C-431C-B6FD-A59F9A270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30D387-F212-420E-BA58-5B28EE8C0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733AF-EF5E-496A-B5EF-CB5037E09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AA2666-4BC9-49A5-BA15-A3B7E76C4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47EB21-0C3F-4A68-B3F8-11BCE715E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52A85D-78D4-4ACB-B808-547862F6F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6C1D95-B208-4674-9760-7D34DF903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831EC2-3CE8-4B13-92FD-A23FC03A9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5E8B71-BC06-40CA-89D4-A7E69019B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C4611C-0E5B-4AE9-A54F-687E70092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2D0F7A-1796-49D8-BA26-76D68E9C0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74826C-D9E5-403B-9244-533FE04C5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F8ED2D-87F5-4263-8468-92A66D547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8B7EE-F5DE-4125-B896-28411B4DE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AF3914-A8C3-4B17-AEF8-FE9A2CA7B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994D24-A508-46DD-A1B0-015982E01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B1323B-1311-44DF-B28A-817C97E8D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FC9DAB-5DE5-4C1E-8786-6FE84750E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99D4D8-95AA-4D57-93DC-9C4BAF87B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2633C3-A144-4475-BCBD-32F5CC467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C43964-CD19-431B-B35D-488885C1F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514FF6-A6AA-4006-AA6F-C4BFB5B93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663DDE-B734-453D-B35E-B40DDC7DB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5A79AE-2B84-45F7-940B-C553C790B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2A25C-DB2D-451E-AD30-78C8ADBCEB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B50CB-47BE-4ABD-9BAD-DE9306F933AF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EED48-34BF-4E2A-8C22-D302249B8806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A2BF1-381A-4D39-AC32-A0BF27C9E964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17EC3-EEA3-43F4-8D75-137CBA36F859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1C1E1-FA77-4440-83E7-96C5E33EF9D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B57FE-8239-4392-8811-1519012F65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E6048-DB7A-4941-B6C3-902617DF4304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21B54-54F3-4493-9EBE-F16CD6225472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CE6FA-D01B-4393-8430-341518C035A1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D23FD-94E9-489B-9C71-52B8964D16FE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88E2B-E17F-4A18-A423-68F1B4B987FF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DD52C-7B97-41F2-BEF3-D17715472F02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Text Box 4"/>
          <p:cNvSpPr/>
          <p:nvPr/>
        </p:nvSpPr>
        <p:spPr>
          <a:xfrm>
            <a:off x="179280" y="1557360"/>
            <a:ext cx="8785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9600" spc="-1" strike="noStrike">
                <a:solidFill>
                  <a:srgbClr val="dc5900"/>
                </a:solidFill>
                <a:latin typeface="Arial"/>
                <a:ea typeface="隶书"/>
              </a:rPr>
              <a:t>各具特色的民居</a:t>
            </a:r>
            <a:endParaRPr b="0" lang="en-US" sz="9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34" name="矩形 5"/>
          <p:cNvSpPr/>
          <p:nvPr/>
        </p:nvSpPr>
        <p:spPr>
          <a:xfrm>
            <a:off x="2366280" y="5950080"/>
            <a:ext cx="3421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东坡下载：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www.uzzf.com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Text Box 4"/>
          <p:cNvSpPr/>
          <p:nvPr/>
        </p:nvSpPr>
        <p:spPr>
          <a:xfrm>
            <a:off x="879480" y="54936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方形围屋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556" name="Picture 5" descr="20080707_99712521e3dfb9bd4eb6gB9T5Id4PLVX"/>
          <p:cNvPicPr/>
          <p:nvPr/>
        </p:nvPicPr>
        <p:blipFill>
          <a:blip r:embed="rId1"/>
          <a:stretch/>
        </p:blipFill>
        <p:spPr>
          <a:xfrm>
            <a:off x="0" y="1236600"/>
            <a:ext cx="914400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6" dur="2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Text Box 4"/>
          <p:cNvSpPr/>
          <p:nvPr/>
        </p:nvSpPr>
        <p:spPr>
          <a:xfrm>
            <a:off x="1707480" y="620640"/>
            <a:ext cx="5403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       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它们大多为三至六层楼，一百至二百多间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房屋如橘瓣状排列，布局均匀，宏伟壮观。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58" name="Text Box 5"/>
          <p:cNvSpPr/>
          <p:nvPr/>
        </p:nvSpPr>
        <p:spPr>
          <a:xfrm>
            <a:off x="2044440" y="2924280"/>
            <a:ext cx="5392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  <a:ea typeface="幼圆"/>
              </a:rPr>
              <a:t>作者用列数字、打比方的方法，生动、形象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  <a:ea typeface="幼圆"/>
              </a:rPr>
              <a:t>地说明圆形围屋外观和整体布局特点。难怪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  <a:ea typeface="幼圆"/>
              </a:rPr>
              <a:t>外国友人远远望见圆形围屋，禁不住发出惊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  <a:ea typeface="幼圆"/>
              </a:rPr>
              <a:t>叹</a:t>
            </a:r>
            <a:r>
              <a:rPr b="1" lang="en-US" sz="3600" spc="-1" strike="noStrike">
                <a:solidFill>
                  <a:srgbClr val="007a77"/>
                </a:solidFill>
                <a:latin typeface="Arial"/>
                <a:ea typeface="幼圆"/>
              </a:rPr>
              <a:t>——“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  <a:ea typeface="幼圆"/>
              </a:rPr>
              <a:t>天上掉下的飞碟，地下冒出的蘑菇”。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5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5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1" dur="500"/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4" dur="500"/>
                                        <p:tgtEl>
                                          <p:spTgt spid="5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7" dur="500"/>
                                        <p:tgtEl>
                                          <p:spTgt spid="5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0" dur="500"/>
                                        <p:tgtEl>
                                          <p:spTgt spid="5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Text Box 4"/>
          <p:cNvSpPr/>
          <p:nvPr/>
        </p:nvSpPr>
        <p:spPr>
          <a:xfrm>
            <a:off x="2038320" y="836640"/>
            <a:ext cx="5057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土楼围成圆形的房屋均按八卦布局排列，卦与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卦之间设有防火墙，整齐划一。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60" name="Text Box 5"/>
          <p:cNvSpPr/>
          <p:nvPr/>
        </p:nvSpPr>
        <p:spPr>
          <a:xfrm>
            <a:off x="1983600" y="2708280"/>
            <a:ext cx="5392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幼圆"/>
                <a:ea typeface="幼圆"/>
              </a:rPr>
              <a:t>八卦是我国古代的一套富有象征意义的符号，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幼圆"/>
                <a:ea typeface="幼圆"/>
              </a:rPr>
              <a:t>是我国传统文化的代表之一。客家民居的圆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幼圆"/>
                <a:ea typeface="幼圆"/>
              </a:rPr>
              <a:t>形围屋，按八卦布局排列，体现了客家人的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幼圆"/>
                <a:ea typeface="幼圆"/>
              </a:rPr>
              <a:t>祖先崇尚圆形，期盼吉祥、幸福和安宁的民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幼圆"/>
                <a:ea typeface="幼圆"/>
              </a:rPr>
              <a:t>族心理和文化传统。 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3" dur="500"/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6" dur="500"/>
                                        <p:tgtEl>
                                          <p:spTgt spid="5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9" dur="500"/>
                                        <p:tgtEl>
                                          <p:spTgt spid="5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2" dur="500"/>
                                        <p:tgtEl>
                                          <p:spTgt spid="5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5" dur="500"/>
                                        <p:tgtEl>
                                          <p:spTgt spid="5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Text Box 4"/>
          <p:cNvSpPr/>
          <p:nvPr/>
        </p:nvSpPr>
        <p:spPr>
          <a:xfrm>
            <a:off x="808200" y="12747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62" name="Text Box 5"/>
          <p:cNvSpPr/>
          <p:nvPr/>
        </p:nvSpPr>
        <p:spPr>
          <a:xfrm>
            <a:off x="2161800" y="836640"/>
            <a:ext cx="4569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踏上傣家人居住的土地，你就走进了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绿色的世界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63" name="Text Box 6"/>
          <p:cNvSpPr/>
          <p:nvPr/>
        </p:nvSpPr>
        <p:spPr>
          <a:xfrm>
            <a:off x="1751040" y="2781360"/>
            <a:ext cx="383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傣家人居住地的的特点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64" name="Text Box 7"/>
          <p:cNvSpPr/>
          <p:nvPr/>
        </p:nvSpPr>
        <p:spPr>
          <a:xfrm>
            <a:off x="5014080" y="39146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9933"/>
                </a:solidFill>
                <a:latin typeface="Arial"/>
              </a:rPr>
              <a:t>充满绿色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2" dur="2000"/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7" dur="500"/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5" name="Picture 4" descr="2009061211371875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6" name="Picture 4" descr="2008122210430734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4"/>
          <p:cNvSpPr/>
          <p:nvPr/>
        </p:nvSpPr>
        <p:spPr>
          <a:xfrm>
            <a:off x="4074480" y="1413000"/>
            <a:ext cx="109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竹楼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是傣族传统的建筑形式。</a:t>
            </a: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8" name="Picture 4" descr="090310172671f8c5c0f4db7bb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Text Box 4"/>
          <p:cNvSpPr/>
          <p:nvPr/>
        </p:nvSpPr>
        <p:spPr>
          <a:xfrm>
            <a:off x="1844280" y="765000"/>
            <a:ext cx="5420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傣族人家至今依然保持着“多起竹楼，傍水而居”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习惯。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0" name="Text Box 5"/>
          <p:cNvSpPr/>
          <p:nvPr/>
        </p:nvSpPr>
        <p:spPr>
          <a:xfrm>
            <a:off x="2414160" y="238752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傍：靠近，临近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1" name="Text Box 6"/>
          <p:cNvSpPr/>
          <p:nvPr/>
        </p:nvSpPr>
        <p:spPr>
          <a:xfrm>
            <a:off x="2207880" y="3471840"/>
            <a:ext cx="5029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多起竹楼，傍水而居”可以理解成因为傍水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而居，所以以住竹楼为主。</a:t>
            </a: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9" dur="2000"/>
                                        <p:tgtEl>
                                          <p:spTgt spid="5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2" dur="2000"/>
                                        <p:tgtEl>
                                          <p:spTgt spid="5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2" name="Picture 4" descr="u=96920205,4285833043&amp;fm=0&amp;gp=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73" name="Picture 5" descr="92165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Text Box 4"/>
          <p:cNvSpPr/>
          <p:nvPr/>
        </p:nvSpPr>
        <p:spPr>
          <a:xfrm>
            <a:off x="1613880" y="549360"/>
            <a:ext cx="5528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a77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在闽西南和粤东北的崇山峻岭中，点缀着数以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千计的圆形围屋或土楼，这就是被誉为“世界民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居奇葩”的客家民居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36" name="Text Box 5"/>
          <p:cNvSpPr/>
          <p:nvPr/>
        </p:nvSpPr>
        <p:spPr>
          <a:xfrm>
            <a:off x="960480" y="234936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Arial"/>
                <a:ea typeface="幼圆"/>
              </a:rPr>
              <a:t>葩：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37" name="Text Box 7"/>
          <p:cNvSpPr/>
          <p:nvPr/>
        </p:nvSpPr>
        <p:spPr>
          <a:xfrm>
            <a:off x="2072520" y="234936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c5900"/>
                </a:solidFill>
                <a:latin typeface="Arial"/>
                <a:ea typeface="幼圆"/>
              </a:rPr>
              <a:t>花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38" name="Text Box 8"/>
          <p:cNvSpPr/>
          <p:nvPr/>
        </p:nvSpPr>
        <p:spPr>
          <a:xfrm>
            <a:off x="2012040" y="3141720"/>
            <a:ext cx="5392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运用打比方的说明方法，概括地说明了客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家圆形围屋在世界建筑史上的地位。与“世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界民居”比较，是一朵特殊的、罕见的花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点缀”一词用得很妙，说明客家居住地在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人烟稀少的边远山区，为下文介绍营垒式的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住宅埋下伏笔。</a:t>
            </a:r>
            <a:r>
              <a:rPr b="0" lang="zh-CN" sz="3600" spc="-1" strike="noStrike">
                <a:solidFill>
                  <a:srgbClr val="007a77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39" name="Text Box 10"/>
          <p:cNvSpPr/>
          <p:nvPr/>
        </p:nvSpPr>
        <p:spPr>
          <a:xfrm>
            <a:off x="5126040" y="2421000"/>
            <a:ext cx="109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  <a:ea typeface="幼圆"/>
              </a:rPr>
              <a:t>奇葩：</a:t>
            </a:r>
            <a:r>
              <a:rPr b="0" lang="zh-CN" sz="3200" spc="-1" strike="noStrike">
                <a:solidFill>
                  <a:srgbClr val="dc5900"/>
                </a:solidFill>
                <a:latin typeface="Arial"/>
                <a:ea typeface="幼圆"/>
              </a:rPr>
              <a:t>罕见的、特殊的花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" dur="500"/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" dur="2000"/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" dur="2000"/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" dur="2000"/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2000"/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" dur="2000"/>
                                        <p:tgtEl>
                                          <p:spTgt spid="5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" dur="2000"/>
                                        <p:tgtEl>
                                          <p:spTgt spid="5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4" name="Picture 4" descr="2009030415562345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Text Box 4"/>
          <p:cNvSpPr/>
          <p:nvPr/>
        </p:nvSpPr>
        <p:spPr>
          <a:xfrm>
            <a:off x="2046600" y="907920"/>
            <a:ext cx="444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为什么傣家人会有这样的习惯？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6" name="Text Box 5"/>
          <p:cNvSpPr/>
          <p:nvPr/>
        </p:nvSpPr>
        <p:spPr>
          <a:xfrm>
            <a:off x="2130120" y="2637000"/>
            <a:ext cx="5118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因为傣家人居住区地处亚热带，气温高，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雨水多，空气湿度大，竹楼有利于防酷热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和湿气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9" dur="2000"/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2" dur="2000"/>
                                        <p:tgtEl>
                                          <p:spTgt spid="5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5" dur="2000"/>
                                        <p:tgtEl>
                                          <p:spTgt spid="5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Text Box 4"/>
          <p:cNvSpPr/>
          <p:nvPr/>
        </p:nvSpPr>
        <p:spPr>
          <a:xfrm>
            <a:off x="1654200" y="692280"/>
            <a:ext cx="5283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篱内种植着各种花木果树，可谓“树满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寨，花满园”。</a:t>
            </a: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8" name="Text Box 5"/>
          <p:cNvSpPr/>
          <p:nvPr/>
        </p:nvSpPr>
        <p:spPr>
          <a:xfrm>
            <a:off x="1913760" y="2781360"/>
            <a:ext cx="5176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傣族竹楼原本就“藏在浓绿的竹林中”，傣家人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还喜欢在竹楼周围，家家户户的竹篱内栽种凤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尾竹、槟榔、芒果、香蕉，使村寨更充满诗情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画意，真正可以说是“树满寨，花满园”。</a:t>
            </a: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5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5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5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5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9" name="Picture 4" descr="20071030_145720_513"/>
          <p:cNvPicPr/>
          <p:nvPr/>
        </p:nvPicPr>
        <p:blipFill>
          <a:blip r:embed="rId1"/>
          <a:stretch/>
        </p:blipFill>
        <p:spPr>
          <a:xfrm>
            <a:off x="0" y="-1542960"/>
            <a:ext cx="9144000" cy="994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0" name="Picture 4" descr="200812811215716_2"/>
          <p:cNvPicPr/>
          <p:nvPr/>
        </p:nvPicPr>
        <p:blipFill>
          <a:blip r:embed="rId1"/>
          <a:stretch/>
        </p:blipFill>
        <p:spPr>
          <a:xfrm>
            <a:off x="-304920" y="0"/>
            <a:ext cx="9753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1" name="Picture 4" descr="20080905145352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2" name="Picture 4" descr="20092211321434263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3" name="Picture 4" descr="2009022313335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Text Box 4"/>
          <p:cNvSpPr/>
          <p:nvPr/>
        </p:nvSpPr>
        <p:spPr>
          <a:xfrm>
            <a:off x="2387880" y="1125360"/>
            <a:ext cx="374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傣家竹楼的建筑有什么特点？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5" name="Text Box 5"/>
          <p:cNvSpPr/>
          <p:nvPr/>
        </p:nvSpPr>
        <p:spPr>
          <a:xfrm>
            <a:off x="4330080" y="321300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结构比较简单，但十分宽敞，别致美观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2" dur="500"/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6" name="Picture 5" descr="2009092904092797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Text Box 4"/>
          <p:cNvSpPr/>
          <p:nvPr/>
        </p:nvSpPr>
        <p:spPr>
          <a:xfrm>
            <a:off x="3101400" y="1125360"/>
            <a:ext cx="291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a77"/>
                </a:solidFill>
                <a:latin typeface="Arial"/>
              </a:rPr>
              <a:t>        </a:t>
            </a: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在土中掺石灰，用糯米饭、鸡蛋清作黏合剂、以竹片、木条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作筋骨，夯筑起墙厚</a:t>
            </a:r>
            <a:r>
              <a:rPr b="1" lang="en-US" sz="2400" spc="-1" strike="noStrike">
                <a:solidFill>
                  <a:srgbClr val="007a77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米、高</a:t>
            </a:r>
            <a:r>
              <a:rPr b="1" lang="en-US" sz="2400" spc="-1" strike="noStrike">
                <a:solidFill>
                  <a:srgbClr val="007a77"/>
                </a:solidFill>
                <a:latin typeface="Arial"/>
              </a:rPr>
              <a:t>15</a:t>
            </a: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米以上的土楼。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41" name="Text Box 5"/>
          <p:cNvSpPr/>
          <p:nvPr/>
        </p:nvSpPr>
        <p:spPr>
          <a:xfrm>
            <a:off x="1002600" y="47628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客家民居：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42" name="Text Box 6"/>
          <p:cNvSpPr/>
          <p:nvPr/>
        </p:nvSpPr>
        <p:spPr>
          <a:xfrm>
            <a:off x="1486440" y="18907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方正姚体"/>
              </a:rPr>
              <a:t>用材奇特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43" name="Text Box 7"/>
          <p:cNvSpPr/>
          <p:nvPr/>
        </p:nvSpPr>
        <p:spPr>
          <a:xfrm>
            <a:off x="4000320" y="2637000"/>
            <a:ext cx="101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a77"/>
                </a:solidFill>
                <a:latin typeface="Arial"/>
              </a:rPr>
              <a:t>        </a:t>
            </a: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它们大多为三至六层楼，一百至二百多间房如橘瓣状排列，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布局均匀，宏伟壮观。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44" name="Text Box 8"/>
          <p:cNvSpPr/>
          <p:nvPr/>
        </p:nvSpPr>
        <p:spPr>
          <a:xfrm>
            <a:off x="3429720" y="35733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方正姚体"/>
              </a:rPr>
              <a:t>造型独特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45" name="Text Box 9"/>
          <p:cNvSpPr/>
          <p:nvPr/>
        </p:nvSpPr>
        <p:spPr>
          <a:xfrm>
            <a:off x="1863360" y="4437000"/>
            <a:ext cx="5648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a77"/>
                </a:solidFill>
                <a:latin typeface="Arial"/>
              </a:rPr>
              <a:t>        </a:t>
            </a: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大部分土楼有两三百年甚至五六百年的历史，经受无数次地震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撼动、风雨侵蚀以及炮火攻击而安然无恙，显示了传统文化的魅力。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46" name="Text Box 10"/>
          <p:cNvSpPr/>
          <p:nvPr/>
        </p:nvSpPr>
        <p:spPr>
          <a:xfrm>
            <a:off x="5374440" y="53737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方正姚体"/>
              </a:rPr>
              <a:t>十分坚固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47" name="Text Box 11"/>
          <p:cNvSpPr/>
          <p:nvPr/>
        </p:nvSpPr>
        <p:spPr>
          <a:xfrm>
            <a:off x="3059280" y="404640"/>
            <a:ext cx="3673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幼圆"/>
              </a:rPr>
              <a:t>营垒式住宅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9" dur="2000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0" dur="500"/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" dur="500"/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Text Box 4"/>
          <p:cNvSpPr/>
          <p:nvPr/>
        </p:nvSpPr>
        <p:spPr>
          <a:xfrm>
            <a:off x="4147200" y="907920"/>
            <a:ext cx="108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傣族还有个风俗：一家盖房，全村帮忙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8" name="Text Box 5"/>
          <p:cNvSpPr/>
          <p:nvPr/>
        </p:nvSpPr>
        <p:spPr>
          <a:xfrm>
            <a:off x="2245320" y="2997360"/>
            <a:ext cx="4813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从这句话中我们可以看出傣家人团结互助，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和睦相处的良好民风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Text Box 4"/>
          <p:cNvSpPr/>
          <p:nvPr/>
        </p:nvSpPr>
        <p:spPr>
          <a:xfrm>
            <a:off x="1912680" y="476280"/>
            <a:ext cx="5118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我们对客家民居和傣家竹楼的特点有了整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体的了解。那么这两篇短文在表达方法上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有什么相同或者不同的地方呢？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90" name="Text Box 5"/>
          <p:cNvSpPr/>
          <p:nvPr/>
        </p:nvSpPr>
        <p:spPr>
          <a:xfrm>
            <a:off x="4136760" y="2852640"/>
            <a:ext cx="38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两篇短文都讲了民居的形成原因，但原因是不同的。</a:t>
            </a: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91" name="Text Box 6"/>
          <p:cNvSpPr/>
          <p:nvPr/>
        </p:nvSpPr>
        <p:spPr>
          <a:xfrm>
            <a:off x="1014120" y="22384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不同点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92" name="Text Box 7"/>
          <p:cNvSpPr/>
          <p:nvPr/>
        </p:nvSpPr>
        <p:spPr>
          <a:xfrm>
            <a:off x="2604960" y="3500280"/>
            <a:ext cx="38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两篇文章的开头也截然不同。</a:t>
            </a: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93" name="Text Box 8"/>
          <p:cNvSpPr/>
          <p:nvPr/>
        </p:nvSpPr>
        <p:spPr>
          <a:xfrm>
            <a:off x="1054080" y="40766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相同点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：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94" name="Text Box 9"/>
          <p:cNvSpPr/>
          <p:nvPr/>
        </p:nvSpPr>
        <p:spPr>
          <a:xfrm>
            <a:off x="950760" y="50911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95" name="Text Box 11"/>
          <p:cNvSpPr/>
          <p:nvPr/>
        </p:nvSpPr>
        <p:spPr>
          <a:xfrm>
            <a:off x="2158920" y="4869000"/>
            <a:ext cx="481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两篇短文都运用了很多说明方法，比如，列数字，打比方</a:t>
            </a: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96" name="Text Box 12"/>
          <p:cNvSpPr/>
          <p:nvPr/>
        </p:nvSpPr>
        <p:spPr>
          <a:xfrm>
            <a:off x="4209480" y="544500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两篇短文也都通过民居，反映了中华传统文化的魅力。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1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6" dur="20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1" dur="20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6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Text Box 4"/>
          <p:cNvSpPr/>
          <p:nvPr/>
        </p:nvSpPr>
        <p:spPr>
          <a:xfrm>
            <a:off x="1595520" y="1197000"/>
            <a:ext cx="223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7a77"/>
                </a:solidFill>
                <a:latin typeface="Arial"/>
              </a:rPr>
              <a:t>民居欣赏：</a:t>
            </a:r>
            <a:endParaRPr b="0" lang="en-US" sz="5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8" name="Picture 5" descr="200762611311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9" name="Text Box 4"/>
          <p:cNvSpPr/>
          <p:nvPr/>
        </p:nvSpPr>
        <p:spPr>
          <a:xfrm>
            <a:off x="4141440" y="33336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土家族吊脚楼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0" name="Picture 5" descr="20090327105835(1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1" name="Text Box 4"/>
          <p:cNvSpPr/>
          <p:nvPr/>
        </p:nvSpPr>
        <p:spPr>
          <a:xfrm>
            <a:off x="1051200" y="371520"/>
            <a:ext cx="255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蒙古族的蒙古包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5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2" name="Picture 6" descr="20081252294430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3" name="Text Box 4"/>
          <p:cNvSpPr/>
          <p:nvPr/>
        </p:nvSpPr>
        <p:spPr>
          <a:xfrm>
            <a:off x="590400" y="29988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延安窑洞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Text Box 4"/>
          <p:cNvSpPr/>
          <p:nvPr/>
        </p:nvSpPr>
        <p:spPr>
          <a:xfrm>
            <a:off x="662760" y="47628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北京四合院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605" name="Picture 5" descr="4011916"/>
          <p:cNvPicPr/>
          <p:nvPr/>
        </p:nvPicPr>
        <p:blipFill>
          <a:blip r:embed="rId1"/>
          <a:stretch/>
        </p:blipFill>
        <p:spPr>
          <a:xfrm>
            <a:off x="0" y="-243000"/>
            <a:ext cx="9144000" cy="710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6" name="Picture 5" descr="20084914514453061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7" name="Text Box 4"/>
          <p:cNvSpPr/>
          <p:nvPr/>
        </p:nvSpPr>
        <p:spPr>
          <a:xfrm>
            <a:off x="621360" y="3333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皖南民居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8" name="Picture 4" descr="20084914515651425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9" name="Picture 5" descr="23175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0" name="Text Box 4"/>
          <p:cNvSpPr/>
          <p:nvPr/>
        </p:nvSpPr>
        <p:spPr>
          <a:xfrm>
            <a:off x="580680" y="40464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西藏碉房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矩形 5"/>
          <p:cNvSpPr/>
          <p:nvPr/>
        </p:nvSpPr>
        <p:spPr>
          <a:xfrm>
            <a:off x="1547640" y="75888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549" name="Picture 4" descr="0015f26306540bfd9ce41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0" name="Picture 4" descr="24e3232c714e4c1ea53ff3b619d70a1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5" dur="20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1" name="Picture 4" descr="2006991373572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Picture 4" descr="20077238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8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3" name="Picture 4" descr="room_153415"/>
          <p:cNvPicPr/>
          <p:nvPr/>
        </p:nvPicPr>
        <p:blipFill>
          <a:blip r:embed="rId1"/>
          <a:stretch/>
        </p:blipFill>
        <p:spPr>
          <a:xfrm>
            <a:off x="0" y="6480"/>
            <a:ext cx="9144000" cy="685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4" name="Picture 7" descr="2008070713562546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5T10:48:18Z</dcterms:created>
  <dc:creator>第一PPT模板网-WWW.1PPT.COM</dc:creator>
  <dc:description>第一PPT模板网-WWW.1PPT.COM
</dc:description>
  <cp:keywords>第一PPT模板网-WWW.1PPT.COM</cp:keywords>
  <dc:language>en-US</dc:language>
  <cp:lastModifiedBy>admin</cp:lastModifiedBy>
  <dcterms:modified xsi:type="dcterms:W3CDTF">2015-02-02T02:18:21Z</dcterms:modified>
  <cp:revision>14</cp:revision>
  <dc:subject>第一PPT模板网-WWW.1PPT.COM</dc:subject>
  <dc:title>第一PPT模板网-WWW.1PPT.COM</dc:title>
</cp:coreProperties>
</file>