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400-5230-45D1-AC83-2C88824B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7C4-D4B7-407B-8BFB-3838E180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998A1-5DE2-46E7-89A4-A9A7966E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39014-3B60-4C43-A8F5-B034A244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77F26-77C6-4C6D-8692-6651CB7F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072DE-71B0-4936-88B3-B8E06141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77CC3-661E-4CFA-98BC-425F968C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444C2-4008-4A7F-8F4A-0913DDD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EF8D5-2E2E-4C17-97C1-6AB6E33A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7A252-62EF-4B29-9447-15D743AD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AA338-38FF-409B-AD1D-02E119CA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868A7-E49F-4262-9619-3A2CD487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C98-43C8-44A2-874E-45FBB0BF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EC5EA-D1E7-4916-B47C-7BAAC93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01C3C-20B0-4020-BC43-398F15B8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F24BD-92EF-4201-9ACC-8D1D4597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12F92-B2AE-4F08-969C-E4B0F8F3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C4696-865D-4845-84AC-98E0B8F4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9679E-9E11-4E22-AD36-4F813073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411C3-E588-49A5-8F91-867F9A7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007A2-AAB3-41B7-BD7A-336CF225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1FE71-CFDF-498D-89AE-B0D2F151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67C6C-5AB6-4B1E-8E40-E963C7CD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5AB-2129-42A9-9DD7-5600EB99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B71AE-BFD8-4456-B5D7-5284B6CA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44C14-5FB6-4C8E-8AA9-72594E1C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AB5E5-06A5-4383-AA47-5A6CB26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B40EB-8CBC-4EB3-A5D4-EBEB6CDF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2B4B1-1A44-4EB6-A42E-AD5B5C7B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57CCE-0528-4BE6-AC7F-CDCEB772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33198-2C1A-403D-A24E-EF1AE6BC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E24F4-A5F9-4FE2-BB07-ED950BF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A9EF0-A300-400F-8835-3AF2FBB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8972A-1F81-4FDB-843C-31F7343B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9BE2-DD45-44B3-9359-78F45CBD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DB6F0-26DA-424E-B659-19024F9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3690B-EB24-4C0D-B673-B05F4B6C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488B0-025F-4577-801E-5E3A9184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3DB1A-62D0-4D59-8DC2-0CE4CC21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42C7A-A0CE-4657-AA34-4C9EC591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001E4-5618-4284-9E09-13A2CD7D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162CF-0146-444B-845F-A62304B2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AF2E5-8E2B-45B8-8AF8-90E60DDD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695C7-19D8-49F2-9452-20D146B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A1EB1-EE14-40A8-80DE-36955EB0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6CE6-F7E9-44F9-BC00-135A0D90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89D64-8E40-4BD8-BA36-4D8B2417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68DE9-1D72-4025-ABFA-0847ABB0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1A1F1-AB7D-414B-A0CA-872D798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4CABE-E3FF-4B30-829B-932D289C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E943F-5629-44A8-A7DD-29B07579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EB68-4C18-4B2C-85E8-CED20814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5FA1-E8C3-4763-BF37-0EABF5DA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F76-4855-4892-AEE1-A020BBF8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D1E3-965B-419B-B0E8-3EDCC0E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683F-4E80-480E-A839-ABC6A7C1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79F-5E1C-416F-A742-42875D2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9840-AA0F-4C2C-B83C-E87F788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0C0A-EECC-4F3B-8C09-AF8E61F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4C9A-6B32-417F-B4A2-E648E0DA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2FDB-B348-4512-8665-2A397C17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C904-99D5-4C0A-BA42-AED964FF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03B3-9B89-43D6-9DB2-3279EC9F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CE3FA-6A0D-4E68-9FA0-CF3A7839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CB17-F565-4E1C-AAF2-B8CC2817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6D65-214C-4FDF-B14B-12054DAF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9E2B-2358-4B9F-AD5F-C1DA6B70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1D0-5A5D-4E99-A4FE-CF4E99C2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A296-4BB4-489C-9072-C1BF66C4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853C-0C19-4B01-9AF4-0167E36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CED6-B758-450B-AA06-61F96F6F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8976-CEDE-4D03-AF51-4EEC0A0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88A8-8E10-42FD-BCFD-DD9B2293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2773-34F7-487E-A4DF-4A8D0C55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40B9-8B3D-4528-86AA-B12691EE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1CD0-8166-4044-8ECF-924DB405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59D8-3BEF-41E0-AAE1-34AEE1FE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1E0F-A4DE-456B-AF66-5901EC59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1F8-653A-464A-9DE7-1A9E61C3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0418-22BD-4F70-8FC5-E539242E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0AA11-9717-4014-B2A4-F295B34D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B9141-2F5E-4977-A67B-C70CA4EF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15476-71EE-4D8B-8814-F228DAD4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F52F-80B8-4CBE-916C-F2717947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AADC-70E0-4BB7-A4A3-35E7E47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70A2-58CD-4117-8F0F-EACD9049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9FDC-771B-4E6C-81F3-9DA250DE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9B0B-D9D4-419E-88DC-543EB3FE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88409-5ACF-4AAF-B5F1-390BEE3E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E5F-AD66-4486-A59B-1551A08F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D3889-6EA6-4A66-B854-96B172CE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2F3DF-BC75-4BEA-B166-F55CCE88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15C23-A0CB-4438-BE04-8D1D2A08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57E8-5AF4-4DE1-B27F-7B28FBDB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ACE35-D1F3-4302-B646-AE7A7A4D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D4758-B603-4C9E-A01F-6E3BEC24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83D02-D10B-4A55-8CEA-C1F378BF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DE7F0-FEC8-4145-A17D-55740429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CE0DA-C58B-4FE7-BBA4-89AC5B41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67304-52E2-4D60-A67C-D9029FA8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95F-535C-4361-8CB3-28657541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6F15-F249-41A7-8684-8BAF6B2F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B94A6-2D92-444D-B44B-E4886DB3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1D418-C598-47C2-A489-813C9691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51A3A-04B7-4BEF-B90F-601B5572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D89A0-7DE7-4701-9638-A0B57351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75D76-FDC2-4DA5-818A-986FF552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BFB3-8123-4012-95C4-D93AC464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A0166-5C55-4154-9798-86E848D7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3884-4002-4A35-AF5D-B5960C8E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CE48-D175-410C-ACC7-E19AE094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4B9-6B56-4D95-AB21-A0F98E50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D4745-F846-4C67-B657-DF41101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12854-5743-4EAC-9D94-E9DBB765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6BC0F-9BB4-4D06-ABEC-6AAE5885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18756-894E-4CA1-91BF-1C921FC2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69065-FB98-46E6-9821-193EF0FB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028C0-4C1D-46BE-9D22-7F7645C7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CD8B2-73FE-4A8F-8004-7306C3A7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2BBE6-E94B-4A6E-BF9A-73AB5AC0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623B-7BDD-4547-A2F1-A84231E0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0F9C9-486B-4AE5-8AA8-019459D1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AAB-0757-408C-9849-2E2EA4CD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2FC85-A274-4116-A072-C767B867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5133E-BE62-46AF-A3DE-E1FBEB26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79432-FB52-4FDB-8F68-FF6282EC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6F38-FA63-4D02-9AA2-B66FF9F9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3CC68-23FA-4241-983A-AB867A99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CBA0B-8806-421C-99DE-F8E9E490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5EAB0-99C6-476B-9A48-95FBDBC3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D6C82-7161-4610-9DDD-7880A73B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52C2F-B090-41BF-B4E3-F1A715BA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93B2-E5D0-4B57-BADE-090E0DF3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F31-21A2-4C51-B8A6-3EDC77B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97713-8D38-4EAC-92E3-7FEC3766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CD30A-4DB2-4727-A34F-0CE573D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7EFB6-5281-4AC8-BA77-56AA05C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57222-38C5-4A73-8790-B15AB33F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F6F3C-7B99-46CA-B4E9-535AD17E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40F88-3E1F-4C17-97FB-9413776B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3084F-D53D-4585-8DAE-9994750A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FC74B-FA8C-42A6-B1EB-0A55C658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BA5E2-2F01-47C4-ABEE-184BE29A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220F2-EB6C-4072-8204-62834619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9C08-10E6-4575-91C0-217CE6643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B0BC-494F-4BB9-A11C-B205990FF4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AB14-613B-4E72-9D8B-D514F9FBFA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DCBC-6420-444D-BADB-26FD91B4AE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4377-DDF1-489F-9EA9-86E493F57E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C83B-55C1-4E44-9DCD-2E352C5642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E885-0D9A-4426-8D32-8EFC68182F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BA83-47B2-4F3C-A4D3-439F9EAAF4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F4E0-D50C-46CB-A053-58B62A5436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CA9A-5C81-45D4-A7A7-DBD1AA8D98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D7C8-0B9A-4E76-B105-3FD6B5DC1F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CD19-BA3F-4C05-AE6D-6723E28AD2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6" descr="20080216112319s6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4353840" y="260280"/>
            <a:ext cx="3685320" cy="60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66"/>
                </a:solidFill>
                <a:latin typeface="Arial"/>
                <a:ea typeface="黑体"/>
              </a:rPr>
              <a:t>顶碗少年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7"/>
          <p:cNvSpPr/>
          <p:nvPr/>
        </p:nvSpPr>
        <p:spPr>
          <a:xfrm>
            <a:off x="369360" y="6300720"/>
            <a:ext cx="34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东坡下载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uzz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>
            <a:hlinkClick r:id="rId1" action="ppaction://hlinksldjump"/>
          </p:cNvPr>
          <p:cNvSpPr/>
          <p:nvPr/>
        </p:nvSpPr>
        <p:spPr>
          <a:xfrm>
            <a:off x="1132560" y="7095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幽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>
            <a:hlinkClick r:id="rId2" action="ppaction://hlinksldjump"/>
          </p:cNvPr>
          <p:cNvSpPr/>
          <p:nvPr/>
        </p:nvSpPr>
        <p:spPr>
          <a:xfrm>
            <a:off x="684360" y="184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惊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>
            <a:hlinkClick r:id="rId3" action="ppaction://hlinksldjump"/>
          </p:cNvPr>
          <p:cNvSpPr/>
          <p:nvPr/>
        </p:nvSpPr>
        <p:spPr>
          <a:xfrm>
            <a:off x="3811680" y="533520"/>
            <a:ext cx="53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不知所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>
            <a:hlinkClick r:id="rId4" action="ppaction://hlinksldjump"/>
          </p:cNvPr>
          <p:cNvSpPr/>
          <p:nvPr/>
        </p:nvSpPr>
        <p:spPr>
          <a:xfrm>
            <a:off x="3884760" y="1844640"/>
            <a:ext cx="52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座无虚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>
            <a:hlinkClick r:id="rId5" action="ppaction://hlinksldjump"/>
          </p:cNvPr>
          <p:cNvSpPr/>
          <p:nvPr/>
        </p:nvSpPr>
        <p:spPr>
          <a:xfrm>
            <a:off x="682560" y="34290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附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>
            <a:hlinkClick r:id="rId6" action="ppaction://hlinksldjump"/>
          </p:cNvPr>
          <p:cNvSpPr/>
          <p:nvPr/>
        </p:nvSpPr>
        <p:spPr>
          <a:xfrm>
            <a:off x="3635280" y="342900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不失风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">
            <a:hlinkClick r:id="rId7" action="ppaction://hlinksldjump"/>
          </p:cNvPr>
          <p:cNvSpPr/>
          <p:nvPr/>
        </p:nvSpPr>
        <p:spPr>
          <a:xfrm>
            <a:off x="755640" y="4581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陶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3851280" y="45813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惊心动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>
            <a:hlinkClick r:id="rId1"/>
          </p:cNvPr>
          <p:cNvSpPr/>
          <p:nvPr/>
        </p:nvSpPr>
        <p:spPr>
          <a:xfrm>
            <a:off x="470160" y="43560"/>
            <a:ext cx="175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幽雅：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70160" y="980280"/>
            <a:ext cx="175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惊羡 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2195640" y="-2556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yōu  y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6870600" y="460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优美高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2050920" y="981000"/>
            <a:ext cx="38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jīnɡ  xià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580000" y="98280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十分羡慕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8172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0" y="1844640"/>
            <a:ext cx="29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附和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2050920" y="191772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fù h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4067280" y="1917720"/>
            <a:ext cx="50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形容言语、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1849320" y="3789360"/>
            <a:ext cx="56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少年第二次表演失败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3"/>
          <p:cNvSpPr/>
          <p:nvPr/>
        </p:nvSpPr>
        <p:spPr>
          <a:xfrm>
            <a:off x="2111040" y="285264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作追随别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5281560" y="28526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文中用来形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0" y="4724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些观众跟着别人起哄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6"/>
          <p:cNvSpPr/>
          <p:nvPr/>
        </p:nvSpPr>
        <p:spPr>
          <a:xfrm>
            <a:off x="963360" y="566244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表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810720" y="980280"/>
            <a:ext cx="365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不 知  所  措：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2120" y="189000"/>
            <a:ext cx="44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ù zhī suǒ cu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6811560" y="1052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措：安置，处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-15840" y="1844640"/>
            <a:ext cx="915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不知道怎么办才好。形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处境为难或心神慌乱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766764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0" y="4003560"/>
            <a:ext cx="53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不失风度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032360" y="4003560"/>
            <a:ext cx="55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不丧失美好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0" y="5014800"/>
            <a:ext cx="57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举止姿态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295200" y="1956600"/>
            <a:ext cx="485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座 无 虚 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47760" y="121284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uò wú  xū   x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5186520" y="1916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座位没有空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608040" y="29988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151080" y="29257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形容观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听众或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1236600" y="40068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席的人很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8028000" y="623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52360" y="650880"/>
            <a:ext cx="44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惊心动魄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020760" y="170172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很深，震动很大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273720" y="62532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形容使人感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1841760" y="271152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顶碗少年的表演使作者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1947960" y="371952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到很大震动，留下深刻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252360" y="4727520"/>
            <a:ext cx="19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6548400" y="170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文中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9"/>
          <p:cNvSpPr/>
          <p:nvPr/>
        </p:nvSpPr>
        <p:spPr>
          <a:xfrm>
            <a:off x="8388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0" y="476280"/>
            <a:ext cx="47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陶醉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3348000" y="693720"/>
            <a:ext cx="57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形容很很意沉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-73080" y="1989000"/>
            <a:ext cx="997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某种境界或思想活动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-108000" y="3284640"/>
            <a:ext cx="9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文中形容观众沉浸在优美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-108000" y="4581360"/>
            <a:ext cx="81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杂技表演之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7"/>
          <p:cNvSpPr/>
          <p:nvPr/>
        </p:nvSpPr>
        <p:spPr>
          <a:xfrm>
            <a:off x="824400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10813"/>
                </a:moveTo>
                <a:lnTo>
                  <a:pt x="17806" y="3807"/>
                </a:lnTo>
                <a:lnTo>
                  <a:pt x="17806" y="1782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324000" y="765000"/>
            <a:ext cx="8208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yōu  yǎ    cí wǎn    jīng xià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qiàn  jiù          fēng  d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572120" y="3356640"/>
            <a:ext cx="618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yīng jùn      dǎo luàn      jiān  ji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yáo hàn       tuí sàng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395280" y="1197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）  （            ）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258920" y="2708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）              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539640" y="3933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）    （              ）    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203640" y="5516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）      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1332000" y="122076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优   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3492360" y="1197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瓷  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5651640" y="119700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惊     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1908000" y="2708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歉     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724360" y="2708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风    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826920" y="39337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    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3276720" y="3933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捣     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6659640" y="3933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肩    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3851280" y="551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摇  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6588000" y="5516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颓    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684360" y="1557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迷   惘          渺   茫        拼  搏       惊  心  动   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468360" y="8398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 wǎng  miǎo máng    pīn bó   jīng xīn dòng p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    (               ) (             ) (    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95280" y="299736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ò wú xū  xí       bù  zhī suǒ  cuò         qǐ 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  )      (                         )       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539640" y="3645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座  无 虚 席         不  知   所   措            启 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Z8ZDUEVC77_205_50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3"/>
          <p:cNvSpPr/>
          <p:nvPr/>
        </p:nvSpPr>
        <p:spPr>
          <a:xfrm>
            <a:off x="0" y="2911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描写了一场扣人心弦的杂技表演。演杂技的顶碗少年第一次表演失败了，但他不失风度地向观众鞠了一躬，一切重新开始；第二次，碗又掉下来了，少年又镇定下来，手捧着新碗，又深深向观众鞠了一躬；第三次，终于把碗稳住了，全场响起了暴风雨般的掌声。多少年后，作者每每想起，总会产生一阵微微的激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987640" y="333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Arial"/>
              </a:rPr>
              <a:t>文章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2"/>
          <p:cNvSpPr txBox="1"/>
          <p:nvPr/>
        </p:nvSpPr>
        <p:spPr>
          <a:xfrm>
            <a:off x="684360" y="404640"/>
            <a:ext cx="280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关于作者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602" name="Picture 3" descr="u=3058281357,3052948441&amp;fm=0&amp;gp=42"/>
          <p:cNvPicPr/>
          <p:nvPr/>
        </p:nvPicPr>
        <p:blipFill>
          <a:blip r:embed="rId1"/>
          <a:stretch/>
        </p:blipFill>
        <p:spPr>
          <a:xfrm>
            <a:off x="5003640" y="189000"/>
            <a:ext cx="3972240" cy="580536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539640" y="1844640"/>
            <a:ext cx="691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赵丽宏散文家、诗人。上海市崇明县人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出生于上海市。著有散文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在人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玛雅之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、报告文学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六十余种著作。作品曾数十次在海内外获奖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晷之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首届“冰心散文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散文叙写清新明丽，重视创造诗的意境和情调，是一位有创造个性的散文作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6"/>
          <p:cNvSpPr/>
          <p:nvPr/>
        </p:nvSpPr>
        <p:spPr>
          <a:xfrm>
            <a:off x="826920" y="162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W020070704551743759070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8"/>
          <p:cNvSpPr/>
          <p:nvPr/>
        </p:nvSpPr>
        <p:spPr>
          <a:xfrm>
            <a:off x="6084720" y="2583000"/>
            <a:ext cx="23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      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有些偶然遇到的小事情，竟会难以忘怀，并且时时萦绕于心。因为，你也许能从中不断地得到启示，悟出一些人生的哲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这是二十多年前的事情了。有一次，我在上海大世界的露天剧场里看杂技表演</a:t>
            </a:r>
            <a:r>
              <a:rPr b="1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.</a:t>
            </a:r>
            <a:r>
              <a:rPr b="0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380880" y="990720"/>
            <a:ext cx="80773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读课文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找一找那一句话是作者对这一次表演的总体评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4199040" y="3505320"/>
            <a:ext cx="12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333399"/>
                </a:solidFill>
                <a:uFillTx/>
                <a:latin typeface="隶书"/>
                <a:ea typeface="隶书"/>
              </a:rPr>
              <a:t>这真是场一惊心动魄的拼搏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隶书"/>
                <a:ea typeface="隶书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2720880" y="2209680"/>
            <a:ext cx="355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这真是一场</a:t>
            </a:r>
            <a:r>
              <a:rPr b="0" lang="zh-CN" sz="4400" spc="-1" strike="noStrike" u="sng">
                <a:solidFill>
                  <a:srgbClr val="990000"/>
                </a:solidFill>
                <a:uFillTx/>
                <a:latin typeface="隶书"/>
                <a:ea typeface="隶书"/>
              </a:rPr>
              <a:t>惊心动魄</a:t>
            </a: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的</a:t>
            </a:r>
            <a:r>
              <a:rPr b="0" lang="zh-CN" sz="4400" spc="-1" strike="noStrike" u="sng">
                <a:solidFill>
                  <a:srgbClr val="990000"/>
                </a:solidFill>
                <a:uFillTx/>
                <a:latin typeface="隶书"/>
                <a:ea typeface="隶书"/>
              </a:rPr>
              <a:t>拼搏</a:t>
            </a:r>
            <a:r>
              <a:rPr b="0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3"/>
          <p:cNvSpPr/>
          <p:nvPr/>
        </p:nvSpPr>
        <p:spPr>
          <a:xfrm>
            <a:off x="685800" y="3733920"/>
            <a:ext cx="3124080" cy="1523880"/>
          </a:xfrm>
          <a:prstGeom prst="cloudCallout">
            <a:avLst>
              <a:gd name="adj1" fmla="val 73120"/>
              <a:gd name="adj2" fmla="val -98856"/>
            </a:avLst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形容使人感受很深，震动很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"/>
          <p:cNvSpPr/>
          <p:nvPr/>
        </p:nvSpPr>
        <p:spPr>
          <a:xfrm>
            <a:off x="2590920" y="457200"/>
            <a:ext cx="2590560" cy="1447920"/>
          </a:xfrm>
          <a:prstGeom prst="cloudCallout">
            <a:avLst>
              <a:gd name="adj1" fmla="val 125430"/>
              <a:gd name="adj2" fmla="val 87828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使出全部力量搏斗或争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644560" y="1600200"/>
            <a:ext cx="355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这真是一场</a:t>
            </a:r>
            <a:r>
              <a:rPr b="0" lang="zh-CN" sz="4400" spc="-1" strike="noStrike" u="sng">
                <a:solidFill>
                  <a:srgbClr val="990000"/>
                </a:solidFill>
                <a:uFillTx/>
                <a:latin typeface="隶书"/>
                <a:ea typeface="隶书"/>
              </a:rPr>
              <a:t>惊心动魄的拼搏</a:t>
            </a:r>
            <a:r>
              <a:rPr b="0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838080" y="32004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在少年的三次表演中，找出能体现“惊心动魄的拼搏”的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23800" y="7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第一次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1757880" y="9144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顶碗过程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2043720" y="3352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少年神态动作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529280" y="53341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观众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289080" y="1389240"/>
            <a:ext cx="80168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站在别人晃动着的身体上，很难再保持平衡，他头顶上的碗，摇晃得厉害起来。在一个大幅度转身的刹那间，那一大摞碗突然从头上掉了下来！</a:t>
            </a:r>
            <a:r>
              <a:rPr b="1" lang="zh-CN" sz="24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304920" y="3841920"/>
            <a:ext cx="800100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台上却没有慌乱。顶碗少年歉疚地微笑着，不失风度地向观众鞠了一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3223080" y="6095880"/>
            <a:ext cx="330120" cy="4597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这意想不到的失误使所有的观众都惊呆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457200" y="2003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第一次表演的失败了。如果你是那会少年，你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865080" y="76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第二次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757880" y="9144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顶碗过程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2062800" y="28954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少年神态动作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1510200" y="4876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观众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289080" y="1389240"/>
            <a:ext cx="80168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那一摞碗却仿佛故意捣乱，突然跳起摇摆舞来。少年急忙摆动脑袋保持平衡，可是来不及了。碗，又掉了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304920" y="3429000"/>
            <a:ext cx="792468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台上，顶碗少年呆呆地站着，脸上全是汗珠，他有些不知所措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380880" y="5410080"/>
            <a:ext cx="7925040" cy="8254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观众们屏住气，目不转睛地盯着他头上的碗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观众中有人在大声地喊：“行了，不要再来了，演下一个节目吧！”好多人附和着喊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457200" y="2003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第二次表演又失败了。有些观众失望了甚至轰少年下场。假如你是那位少年，你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865080" y="76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第三次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1757880" y="1066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顶碗过程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1452960" y="3352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观众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289080" y="1905120"/>
            <a:ext cx="80168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当那摞碗又剧烈地晃动起来时，少年轻轻抖了一下脑袋。终于把碗稳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304920" y="4114800"/>
            <a:ext cx="7924680" cy="8254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场子时静得没有一丝声息。有一些女观众，索性用手掌捂住了眼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全场想起了暴风雨般的掌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304920" y="13716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顶碗少年最终获得了成功的原因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380880" y="3276720"/>
            <a:ext cx="8382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隶书"/>
              </a:rPr>
              <a:t>少年具有不怕失败的精神和老者的鼓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图片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Oval 3"/>
          <p:cNvSpPr/>
          <p:nvPr/>
        </p:nvSpPr>
        <p:spPr>
          <a:xfrm>
            <a:off x="539640" y="260280"/>
            <a:ext cx="3200400" cy="1752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395280" y="2349360"/>
            <a:ext cx="5398920" cy="147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的生活、学习中有没有遇到过困难、失败，你是怎样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习本文后有何启示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6" descr="23e511f25650d249342acc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7"/>
          <p:cNvSpPr/>
          <p:nvPr/>
        </p:nvSpPr>
        <p:spPr>
          <a:xfrm>
            <a:off x="324000" y="797400"/>
            <a:ext cx="39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仿宋_GB2312"/>
              </a:rPr>
              <a:t>节目很精彩，场内座无虚席。坐在前几排的，全是来自异国的旅游者。优美的东方杂技，使他们入迷了。他们和中国观众一起，为每一个节目喝彩鼓掌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Z8ZDUEVC77_205_50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539640" y="33336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总结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684360" y="1413000"/>
            <a:ext cx="7273800" cy="132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在我们的生活中，时时刻刻都会遇到失败的考验，但是，只有不怕失败敢于拼搏的人，才是胜利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山穷水尽的绝境里，如果我们再搏一下，也许就能看到柳暗花明；在冰天雪地的严寒中，再搏一下，可能会迎来温暖的春风；在无边无际的大海上，再搏一下，或许就会到达大海的彼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241200" y="1125360"/>
            <a:ext cx="845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你在现实生活中有没有碰到过和顶碗少年相似的经历？你是如何应对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WordArt 3"/>
          <p:cNvSpPr txBox="1"/>
          <p:nvPr/>
        </p:nvSpPr>
        <p:spPr>
          <a:xfrm>
            <a:off x="2556000" y="1773360"/>
            <a:ext cx="44654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7"/>
          <p:cNvSpPr/>
          <p:nvPr/>
        </p:nvSpPr>
        <p:spPr>
          <a:xfrm>
            <a:off x="5148360" y="299448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　    一位英俊的少年出场了。在轻松优雅的乐曲声里，只见他头上顶着高高的一叠金边红花白瓷碗，柔软而自然地舒展着肢体，做出各种各样令人惊羡的动作，忽而卧倒，忽而跃起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……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碗，在他的头顶摇摇晃晃，却总是掉不下来。最后，是一组难度较大的动作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———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他骑在另一位演员身上，两个人一会儿站起，一会儿躺下，一会儿用各种姿态转动着身躯。站在别人晃动着的身体上，很难再保持平衡，他头顶上的碗，摇晃得厉害起来。在一个大幅度转身的刹那间，那一大摞碗突然从他头上掉了下来！这意想不到的失误，让所有的观众都惊呆了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7"/>
          <p:cNvSpPr/>
          <p:nvPr/>
        </p:nvSpPr>
        <p:spPr>
          <a:xfrm>
            <a:off x="4932360" y="284976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台上并没有慌乱。顶碗的少年歉疚地微笑着，不失风度地向观众鞠了一躬。一位姑娘走出来，扫起了地上的碎瓷片，又捧出一大摞碗，还是金边红花白瓷碗，整整十只，一只不少。于是，音乐又响起来，碗又高高地顶在了少年头上。少年沉着地重复着刚才的动作，依然是那么轻松优美，紧张不安的观众终于又陶醉在他的表演之中。到最后关头了，又是两个人叠在一起，又是一个接一个艰难的转身，碗，又在他头顶厉害地摇晃起来。观众们屏住气，目不转睛地盯着他头上的碗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……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眼看身体已经转过来了，几个性急的外国观众忍不住拍响了巴掌。那一摞碗却仿佛故意捣蛋，突然跳起摇摆舞来。少年急忙晃动脑袋保持平衡，可是来不及了。碗，又掉了下来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5148360" y="298656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   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场子里一片喧哗。台上，顶碗少年呆呆地站着，脸上全是汗珠，他有些不知所措了。还是那一位姑娘，走出来扫去了地上的碎瓷片。观众中有人在大声地喊：“行了，不要再来了，演下一个节目吧！”好多人附和着喊起来。一位矮小结实的白发老人从后台走到灯光下，他的手里，依然是一叠金边红花白瓷碗！他走到少年面前，脸上微笑着，并无责怪的神色。他把手中的碗交给少年，然后抚摩着少年的肩，轻轻摇了摇，嘴里低声说了一句什么。少年镇静下来，手捧着新碗，又深深地向观众们鞠了一躬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6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7"/>
          <p:cNvSpPr/>
          <p:nvPr/>
        </p:nvSpPr>
        <p:spPr>
          <a:xfrm>
            <a:off x="5508720" y="2143440"/>
            <a:ext cx="273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   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音乐第三次奏响了！场子里静得没有一丝声息。一些女观众，索性捂住了眼睛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…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　　这真是一场惊心动魄的拼搏！当那叠碗又剧烈地晃动起来时，少年轻轻抖了一下脑袋，终于把碗稳住了。全场响起了暴风雨般的响声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6"/>
          <p:cNvSpPr/>
          <p:nvPr/>
        </p:nvSpPr>
        <p:spPr>
          <a:xfrm>
            <a:off x="5292720" y="318204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在以后的岁月里，不知怎的，我常常会想起这位顶碗少年，想起他那一次的演出；而且每每想起，总会有一阵微微的激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ordArt 2"/>
          <p:cNvSpPr txBox="1"/>
          <p:nvPr/>
        </p:nvSpPr>
        <p:spPr>
          <a:xfrm>
            <a:off x="395280" y="0"/>
            <a:ext cx="29512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检查预习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50920" y="1413000"/>
            <a:ext cx="86407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肩   胛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摇  撼                颓  丧               歉   疚                惊   羡               迷   惘                    萦  绕                 鞠   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3240000" y="404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词语积累（注音并释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619280" y="1484280"/>
            <a:ext cx="129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ān ji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500720" y="141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áo 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7451640" y="1484280"/>
            <a:ext cx="144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uí s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619280" y="2060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qiàn ji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4461480" y="1987560"/>
            <a:ext cx="150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īng x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7451640" y="1989000"/>
            <a:ext cx="16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í   w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1619280" y="2492280"/>
            <a:ext cx="187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íng  r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457200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ū  g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0" y="3068640"/>
            <a:ext cx="374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惊心动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座无虚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知所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1763640" y="472428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不知怎么办才好。形容惊慌或受窘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1763640" y="3141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形容使人感受很深，震动很大。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1835280" y="3933720"/>
            <a:ext cx="576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座位没有空着的。形容出席的人很多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3492360" y="558972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用简洁的语言概括故事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4:24:23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9T09:50:34Z</dcterms:modified>
  <cp:revision>23</cp:revision>
  <dc:subject>第一PPT模板网-WWW.1PPT.COM</dc:subject>
  <dc:title>第一PPT模板网-WWW.1PPT.COM</dc:title>
</cp:coreProperties>
</file>