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B58FB-0F06-4EC3-A002-02D757BF1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89B64-ECF2-462B-A783-17232AFD2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D5E250-9834-4BC0-AD02-DB15A8D97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594F9F-93B1-4FAE-9FA6-BDDD1EBDF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3199BB-06A4-424A-A9ED-0C82C6CC8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9708D2-2E62-4E26-8B6E-DD21CC73D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AC75BB-BDE1-4AA8-A4AD-7EF29CF35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001948-32FC-46B9-B866-D56CF031A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64577F-5DE6-4BC5-ADEF-1A8D9987C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EC9A4B-EE25-41A8-B698-59569E52E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B24FAC-B989-4291-B7F9-7FF5EB057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C1FEA1-C3A1-4D8B-B623-04D5328A9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B7F1A-6D18-42AD-BE0E-40481B289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FE438A-9BC8-464A-987D-F46D85D21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24983C-34D3-42EA-957B-24A22ABEC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189DC4-AAD0-43F3-9446-2B3F8BBA2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36B365-EB64-4058-A5E6-CF0E463EB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FABA95-5C34-4289-AA6B-25E032D37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3C6D25-4F5E-4FA5-A0E9-360EDFCFD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FCA534-F759-4926-8CAC-7FA3DF814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E2E47B-AF0B-4578-8E52-4F4F6059A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F9C790-F082-44BE-8988-1EEEBBE39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59F989-D5A6-42D9-871B-14E51E9FE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2481C-A8CF-4E94-B220-362003CBE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52EA86-C23D-4AE3-8BC9-039076345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959482-2060-432F-93B6-C9AE8052B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DB439A-4778-4E10-92B9-712B2D7AD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0DA651-879C-467B-884F-E8873D5F6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77D34D-CC8D-42BE-8237-514979323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4BDDB0-3FFA-437A-ACEF-92DBDFD5F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8FA0BC-AA5D-4E7F-A70D-6CC296D3C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6716E4-908D-48DE-899A-9F2FEB551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EBC9E5-5363-446B-9E8D-8E6FED3CD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2A659E-3B12-40D8-AE49-3CE96B644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CC90B-D581-4F63-AA23-056486FB5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569894-B562-47A1-804F-1CEDB6ED4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A701DC-9040-4B1A-9CA0-0DB14D651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F147F5-44F0-49BF-A216-C3037B1A5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EC5B57-C6CC-4F5F-AA32-ABD57C29A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B51E6C-7CB8-4ED8-B924-638E07096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F154E3-C952-4458-9FE4-CD6E95637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6ADC90-372A-4359-9835-6CA3F32B0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011D85-9B9C-44F7-941C-EE0B3B24B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735F80-9A1F-4F00-AA2A-5B1D228FF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9C4B03-5C54-4282-92F1-DA70D5F39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55C4C-4DAE-4611-9C4A-DDF99C209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63C00D-A999-494B-AC2C-35A920CE5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B97A14-9A5C-4139-B32A-FAA37D837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B0FA98-C8E8-4563-BE33-1718FB518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064499-CFDB-4982-A7C9-FC1B6FDAD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5066FC-7674-44FF-9E7C-BB68E52E4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D46B2CB-4A26-4B23-9569-6B5798804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1DECFDB-B78D-4501-97E5-8DA89C388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6FE357D-8935-4731-8521-3D682DD73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83D5A3B-4C80-4D3C-A2DD-45CD3BB00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36205AB-944E-4AA2-98B3-D66E5A555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AF59F-D572-49F9-AC2B-7B43B9CA2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B53D00A-2860-4B5B-857D-9E81FBA7B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B20D02A-9007-45FD-BB35-FC84A72C3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4875957-8A0C-43AD-8639-ED325F416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00D8D24-91A7-46EB-8A84-93A54F9AB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EE31B91-1F56-4B8C-8512-85CDB6FD1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95CAA89-A7F2-4131-93E7-A7D4E95E4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1E21289-E3C8-41CB-9933-BBFEC2EDA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7865C-9997-4571-BA46-9603EF3F4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E0E5B-9F01-4D34-95A6-EAF64EFC4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18689-FCD8-4B3B-9223-235036624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AD3D7-C1FC-461E-BC0E-49D7FBA70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D1292-99F4-4982-8496-1B6DE8F32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93FB0-0909-486C-80C2-E1BE369EC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A0FE3-B559-4E68-B35D-7A48789B3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0B09C-9066-433B-97B1-CBC08CC68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78D62-3C51-455A-90CE-2AC167FF1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9F355-3DEF-48E8-AAA1-27A787FF0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28488F-84A9-4387-A25D-E37D938EC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566B66-9A8F-420A-8F5D-30E346F31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2A2C15-19D4-4E08-8DA2-E4DC5F348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009E31-21E7-48BA-BE90-DD8E4A5D7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A16DE2-AD15-4717-BE4F-1AC2D0951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97BEA-9E61-4AD7-AB9F-D5B5971B5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99F2CB-BA84-4987-A5B8-0E248EC13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0D2134-57CD-49AE-B9EA-39C7F36F6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4F936D-27EE-4C1D-8ACA-A726C4083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2C7725-7F52-4AC3-B945-E5F3A6527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C10A79-FFCE-491E-A942-711CE37F7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CB9C5F-351D-404D-ADE3-49B014518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D9E5EB-6025-483F-BAEE-DE0035407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BC9CAB-1147-4BF4-93ED-06DE43D21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98CBE5-84FF-4824-9632-D952D8181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60F3BD-68DB-425C-BF00-B61A08FF8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7CDC2-76D8-4B4F-89B6-DF640B6B0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87D86C-A3B6-4446-A9BE-24F362992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EEB7F3-3E0E-451D-B8F6-FD3311FAF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DD82A2-7541-432C-9E7E-370F3B98C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60C596-4C19-424E-B564-040D8B957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AC6C88-044F-49FD-9C20-778BEEB77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2476B4-A8C2-4165-944C-9F5C4F667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BFBEBB-05C8-4278-BA97-FA5AF254E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C6B78E-54A7-4EFF-B7E2-438943C15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F5A5A8-9EBA-4C7C-B7F0-75B6FC805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29561A-CC56-452D-931D-814309EBE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B86F0-3EDC-4311-BE91-03D574EDD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B43A74-EA67-4772-B1D7-8F116FD36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E43900-772E-40AA-A8DB-C93253194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E66B62-188B-4178-9C14-0037BEFE4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5071F2-AC72-4392-AEDB-65BDBE729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548F4B-42F0-4C88-BEE4-D81AA7BE5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99F4DE-72CA-4C5E-8564-8E1CED79C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7BA8BA-3176-4B08-9622-B7E401905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90D1CC-446F-4F29-BD33-B423002FB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F84B13-3455-4BCC-BD11-6C6C92561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40FB3E-D94F-4C97-A9D9-EE881E106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03D31-71C3-49A9-BB26-171ADC30F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710237-AE01-4EDD-8E8D-E9EE713D0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2D8289-5BEB-42A8-8AF6-B39B0B833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750F45-B2DD-435C-9AA2-8E382CBF5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EAD27E-8ABC-4BDF-A611-65585DD1E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8D7533-584F-492D-8012-09E373ECB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EC11C0-391B-49B2-BE15-8A91C828B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0E28D3-5629-4A12-908E-3433B4A3E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684156-8356-47A6-8776-84626EC22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9FE2CC-7628-48F7-8163-F70D32CF2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7F9286-5094-4FBC-9D4D-9DD2449E3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8D8D5-AD86-4AD6-B11E-3090B5842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1B5D38-025F-43A6-8202-7CFF4A087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0CAFAE-AF29-4F01-9127-E9C512FBD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F1EC20-A83C-43C0-8583-03BDECEAE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32408E-28CD-4A9F-8613-663C6DC23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4D0E45-4759-48B0-AA83-51930C842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7F776B-402C-44F9-885F-FCC95847F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59784F-63DF-4683-A09A-2AA0F4834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4D1C39-2EFE-4147-82B0-1C3928D3D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107FF7-B406-447D-A1B8-3E6D32AA3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1B4CB0-8DDF-4F62-B632-2A2A6F296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83CA6-4657-4132-AFA8-8921B35FB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2356EC-3127-4CCC-A78E-332648C21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7E02C6-FF83-4538-B30D-704DC67DA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A4FD6D-4658-40BF-A2D0-9DD673EC8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6CDDF1-B11D-4398-87CA-FD987B13C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DE7E29-3C02-40E2-903C-7E26588FA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256E01-7D20-438C-96B0-7C4CDFD22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ECBB1B-38EA-4470-99C7-E1DA579D8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058234-9E80-4958-ADA5-C4BAF8F22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92F27D-0F80-47BC-8416-6BF388E89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5B1FA1-62E4-4915-92D3-3741B4F99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01EF6-95E4-429C-878D-7AED4BFD0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E0B382-2C5A-4E4F-A1E3-3105ECFF6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147E02-FC97-4A5C-AFDC-203F46E4C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7A4D07-FC5A-484A-A22D-694431B10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30B385-3FBB-476D-8765-C2EA4D11F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CB25D6-3BAC-43A7-A39E-2A87EC9DA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08918C-CED7-4394-8D3B-EA3382EA2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F2025B-78ED-43C9-B11B-4A3A9DA28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7EEF9B-1D11-409D-9E8B-B3D137224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8E1CCC-FA6F-4B7C-8CFC-3DFEE450D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B1782F-2F03-4820-9E03-DB6D37BD1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6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6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6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D5137-9C14-41CB-8BE8-4AF017E59B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F288A-95AE-42B5-B546-8B3613A8F65A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C31A8-2509-4F4A-9DB2-1623567435B2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85741-5AD9-41E1-A142-E2A4880ABC88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B8858-9A7C-43D9-A862-054738BEE28E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2777F-33E6-484B-AADE-5DCD7339353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6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6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6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D25CF-18C2-4E1C-BA81-8707A1F74F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6334C-BADB-4C09-9E0D-826FA4144601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F7740-B1F2-48AF-A0CC-5E8CC1F379AD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E01EA-30D3-4184-93DB-27099B664ED8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743B0-0B8D-4A20-A669-743350D64031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4F78B-464A-492A-8C13-E778338E2220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945D0-1D0E-46E8-9AB4-1457BA87FC80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3" name="组合 1"/>
          <p:cNvGrpSpPr/>
          <p:nvPr/>
        </p:nvGrpSpPr>
        <p:grpSpPr>
          <a:xfrm>
            <a:off x="2590920" y="1523880"/>
            <a:ext cx="4592520" cy="2279880"/>
            <a:chOff x="2590920" y="1523880"/>
            <a:chExt cx="4592520" cy="2279880"/>
          </a:xfrm>
        </p:grpSpPr>
        <p:sp>
          <p:nvSpPr>
            <p:cNvPr id="534" name="矩形 3"/>
            <p:cNvSpPr/>
            <p:nvPr/>
          </p:nvSpPr>
          <p:spPr>
            <a:xfrm>
              <a:off x="3276720" y="2668320"/>
              <a:ext cx="785160" cy="2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" spc="-1" strike="noStrike">
                  <a:solidFill>
                    <a:srgbClr val="ffffff"/>
                  </a:solidFill>
                  <a:latin typeface="Calibri"/>
                </a:rPr>
                <a:t>PPT</a:t>
              </a:r>
              <a:r>
                <a:rPr b="0" lang="zh-CN" sz="100" spc="-1" strike="noStrike">
                  <a:solidFill>
                    <a:srgbClr val="ffffff"/>
                  </a:solidFill>
                  <a:latin typeface="Calibri"/>
                </a:rPr>
                <a:t>模板下载：</a:t>
              </a:r>
              <a:r>
                <a:rPr b="0" lang="en-US" sz="100" spc="-1" strike="noStrike">
                  <a:solidFill>
                    <a:srgbClr val="ffffff"/>
                  </a:solidFill>
                  <a:latin typeface="Calibri"/>
                </a:rPr>
                <a:t>www.1ppt.com/moban/     </a:t>
              </a:r>
              <a:r>
                <a:rPr b="0" lang="zh-CN" sz="100" spc="-1" strike="noStrike">
                  <a:solidFill>
                    <a:srgbClr val="ffffff"/>
                  </a:solidFill>
                  <a:latin typeface="Calibri"/>
                </a:rPr>
                <a:t>行业</a:t>
              </a:r>
              <a:r>
                <a:rPr b="0" lang="en-US" sz="100" spc="-1" strike="noStrike">
                  <a:solidFill>
                    <a:srgbClr val="ffffff"/>
                  </a:solidFill>
                  <a:latin typeface="Calibri"/>
                </a:rPr>
                <a:t>PPT</a:t>
              </a:r>
              <a:r>
                <a:rPr b="0" lang="zh-CN" sz="100" spc="-1" strike="noStrike">
                  <a:solidFill>
                    <a:srgbClr val="ffffff"/>
                  </a:solidFill>
                  <a:latin typeface="Calibri"/>
                </a:rPr>
                <a:t>模板：</a:t>
              </a:r>
              <a:r>
                <a:rPr b="0" lang="en-US" sz="100" spc="-1" strike="noStrike">
                  <a:solidFill>
                    <a:srgbClr val="ffffff"/>
                  </a:solidFill>
                  <a:latin typeface="Calibri"/>
                </a:rPr>
                <a:t>www.1ppt.com/hangye/ </a:t>
              </a: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" spc="-1" strike="noStrike">
                  <a:solidFill>
                    <a:srgbClr val="ffffff"/>
                  </a:solidFill>
                  <a:latin typeface="Calibri"/>
                </a:rPr>
                <a:t>节日</a:t>
              </a:r>
              <a:r>
                <a:rPr b="0" lang="en-US" sz="100" spc="-1" strike="noStrike">
                  <a:solidFill>
                    <a:srgbClr val="ffffff"/>
                  </a:solidFill>
                  <a:latin typeface="Calibri"/>
                </a:rPr>
                <a:t>PPT</a:t>
              </a:r>
              <a:r>
                <a:rPr b="0" lang="zh-CN" sz="100" spc="-1" strike="noStrike">
                  <a:solidFill>
                    <a:srgbClr val="ffffff"/>
                  </a:solidFill>
                  <a:latin typeface="Calibri"/>
                </a:rPr>
                <a:t>模板：</a:t>
              </a:r>
              <a:r>
                <a:rPr b="0" lang="en-US" sz="100" spc="-1" strike="noStrike">
                  <a:solidFill>
                    <a:srgbClr val="ffffff"/>
                  </a:solidFill>
                  <a:latin typeface="Calibri"/>
                </a:rPr>
                <a:t>www.1ppt.com/jieri/           PPT</a:t>
              </a:r>
              <a:r>
                <a:rPr b="0" lang="zh-CN" sz="100" spc="-1" strike="noStrike">
                  <a:solidFill>
                    <a:srgbClr val="ffffff"/>
                  </a:solidFill>
                  <a:latin typeface="Calibri"/>
                </a:rPr>
                <a:t>素材下载：</a:t>
              </a:r>
              <a:r>
                <a:rPr b="0" lang="en-US" sz="100" spc="-1" strike="noStrike">
                  <a:solidFill>
                    <a:srgbClr val="ffffff"/>
                  </a:solidFill>
                  <a:latin typeface="Calibri"/>
                </a:rPr>
                <a:t>www.1ppt.com/sucai/</a:t>
              </a: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" spc="-1" strike="noStrike">
                  <a:solidFill>
                    <a:srgbClr val="ffffff"/>
                  </a:solidFill>
                  <a:latin typeface="Calibri"/>
                </a:rPr>
                <a:t>PPT</a:t>
              </a:r>
              <a:r>
                <a:rPr b="0" lang="zh-CN" sz="100" spc="-1" strike="noStrike">
                  <a:solidFill>
                    <a:srgbClr val="ffffff"/>
                  </a:solidFill>
                  <a:latin typeface="Calibri"/>
                </a:rPr>
                <a:t>背景图片：</a:t>
              </a:r>
              <a:r>
                <a:rPr b="0" lang="en-US" sz="100" spc="-1" strike="noStrike">
                  <a:solidFill>
                    <a:srgbClr val="ffffff"/>
                  </a:solidFill>
                  <a:latin typeface="Calibri"/>
                </a:rPr>
                <a:t>www.1ppt.com/beijing/      PPT</a:t>
              </a:r>
              <a:r>
                <a:rPr b="0" lang="zh-CN" sz="100" spc="-1" strike="noStrike">
                  <a:solidFill>
                    <a:srgbClr val="ffffff"/>
                  </a:solidFill>
                  <a:latin typeface="Calibri"/>
                </a:rPr>
                <a:t>图表下载：</a:t>
              </a:r>
              <a:r>
                <a:rPr b="0" lang="en-US" sz="100" spc="-1" strike="noStrike">
                  <a:solidFill>
                    <a:srgbClr val="ffffff"/>
                  </a:solidFill>
                  <a:latin typeface="Calibri"/>
                </a:rPr>
                <a:t>www.1ppt.com/tubiao/      </a:t>
              </a: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" spc="-1" strike="noStrike">
                  <a:solidFill>
                    <a:srgbClr val="ffffff"/>
                  </a:solidFill>
                  <a:latin typeface="Calibri"/>
                </a:rPr>
                <a:t>优秀</a:t>
              </a:r>
              <a:r>
                <a:rPr b="0" lang="en-US" sz="100" spc="-1" strike="noStrike">
                  <a:solidFill>
                    <a:srgbClr val="ffffff"/>
                  </a:solidFill>
                  <a:latin typeface="Calibri"/>
                </a:rPr>
                <a:t>PPT</a:t>
              </a:r>
              <a:r>
                <a:rPr b="0" lang="zh-CN" sz="100" spc="-1" strike="noStrike">
                  <a:solidFill>
                    <a:srgbClr val="ffffff"/>
                  </a:solidFill>
                  <a:latin typeface="Calibri"/>
                </a:rPr>
                <a:t>下载：</a:t>
              </a:r>
              <a:r>
                <a:rPr b="0" lang="en-US" sz="100" spc="-1" strike="noStrike">
                  <a:solidFill>
                    <a:srgbClr val="ffffff"/>
                  </a:solidFill>
                  <a:latin typeface="Calibri"/>
                </a:rPr>
                <a:t>www.1ppt.com/xiazai/        PPT</a:t>
              </a:r>
              <a:r>
                <a:rPr b="0" lang="zh-CN" sz="100" spc="-1" strike="noStrike">
                  <a:solidFill>
                    <a:srgbClr val="ffffff"/>
                  </a:solidFill>
                  <a:latin typeface="Calibri"/>
                </a:rPr>
                <a:t>教程： </a:t>
              </a:r>
              <a:r>
                <a:rPr b="0" lang="en-US" sz="100" spc="-1" strike="noStrike">
                  <a:solidFill>
                    <a:srgbClr val="ffffff"/>
                  </a:solidFill>
                  <a:latin typeface="Calibri"/>
                </a:rPr>
                <a:t>www.1ppt.com/powerpoint/      </a:t>
              </a: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" spc="-1" strike="noStrike">
                  <a:solidFill>
                    <a:srgbClr val="ffffff"/>
                  </a:solidFill>
                  <a:latin typeface="Calibri"/>
                </a:rPr>
                <a:t>Word</a:t>
              </a:r>
              <a:r>
                <a:rPr b="0" lang="zh-CN" sz="100" spc="-1" strike="noStrike">
                  <a:solidFill>
                    <a:srgbClr val="ffffff"/>
                  </a:solidFill>
                  <a:latin typeface="Calibri"/>
                </a:rPr>
                <a:t>教程： </a:t>
              </a:r>
              <a:r>
                <a:rPr b="0" lang="en-US" sz="100" spc="-1" strike="noStrike">
                  <a:solidFill>
                    <a:srgbClr val="ffffff"/>
                  </a:solidFill>
                  <a:latin typeface="Calibri"/>
                </a:rPr>
                <a:t>www.1ppt.com/word/              Excel</a:t>
              </a:r>
              <a:r>
                <a:rPr b="0" lang="zh-CN" sz="100" spc="-1" strike="noStrike">
                  <a:solidFill>
                    <a:srgbClr val="ffffff"/>
                  </a:solidFill>
                  <a:latin typeface="Calibri"/>
                </a:rPr>
                <a:t>教程：</a:t>
              </a:r>
              <a:r>
                <a:rPr b="0" lang="en-US" sz="100" spc="-1" strike="noStrike">
                  <a:solidFill>
                    <a:srgbClr val="ffffff"/>
                  </a:solidFill>
                  <a:latin typeface="Calibri"/>
                </a:rPr>
                <a:t>www.1ppt.com/excel/  </a:t>
              </a: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" spc="-1" strike="noStrike">
                  <a:solidFill>
                    <a:srgbClr val="ffffff"/>
                  </a:solidFill>
                  <a:latin typeface="Calibri"/>
                </a:rPr>
                <a:t>资料下载：</a:t>
              </a:r>
              <a:r>
                <a:rPr b="0" lang="en-US" sz="100" spc="-1" strike="noStrike">
                  <a:solidFill>
                    <a:srgbClr val="ffffff"/>
                  </a:solidFill>
                  <a:latin typeface="Calibri"/>
                </a:rPr>
                <a:t>www.1ppt.com/ziliao/                PPT</a:t>
              </a:r>
              <a:r>
                <a:rPr b="0" lang="zh-CN" sz="100" spc="-1" strike="noStrike">
                  <a:solidFill>
                    <a:srgbClr val="ffffff"/>
                  </a:solidFill>
                  <a:latin typeface="Calibri"/>
                </a:rPr>
                <a:t>课件下载：</a:t>
              </a:r>
              <a:r>
                <a:rPr b="0" lang="en-US" sz="100" spc="-1" strike="noStrike">
                  <a:solidFill>
                    <a:srgbClr val="ffffff"/>
                  </a:solidFill>
                  <a:latin typeface="Calibri"/>
                </a:rPr>
                <a:t>www.1ppt.com/kejian/ </a:t>
              </a: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" spc="-1" strike="noStrike">
                  <a:solidFill>
                    <a:srgbClr val="ffffff"/>
                  </a:solidFill>
                  <a:latin typeface="Calibri"/>
                </a:rPr>
                <a:t>范文下载：</a:t>
              </a:r>
              <a:r>
                <a:rPr b="0" lang="en-US" sz="100" spc="-1" strike="noStrike">
                  <a:solidFill>
                    <a:srgbClr val="ffffff"/>
                  </a:solidFill>
                  <a:latin typeface="Calibri"/>
                </a:rPr>
                <a:t>www.1ppt.com/fanwen/             </a:t>
              </a:r>
              <a:r>
                <a:rPr b="0" lang="zh-CN" sz="100" spc="-1" strike="noStrike">
                  <a:solidFill>
                    <a:srgbClr val="ffffff"/>
                  </a:solidFill>
                  <a:latin typeface="Calibri"/>
                </a:rPr>
                <a:t>试卷下载：</a:t>
              </a:r>
              <a:r>
                <a:rPr b="0" lang="en-US" sz="100" spc="-1" strike="noStrike">
                  <a:solidFill>
                    <a:srgbClr val="ffffff"/>
                  </a:solidFill>
                  <a:latin typeface="Calibri"/>
                </a:rPr>
                <a:t>www.1ppt.com/shiti/  </a:t>
              </a: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" spc="-1" strike="noStrike">
                  <a:solidFill>
                    <a:srgbClr val="ffffff"/>
                  </a:solidFill>
                  <a:latin typeface="Calibri"/>
                </a:rPr>
                <a:t>教案下载：</a:t>
              </a:r>
              <a:r>
                <a:rPr b="0" lang="en-US" sz="100" spc="-1" strike="noStrike">
                  <a:solidFill>
                    <a:srgbClr val="ffffff"/>
                  </a:solidFill>
                  <a:latin typeface="Calibri"/>
                </a:rPr>
                <a:t>www.1ppt.com/jiaoan/  </a:t>
              </a: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5" name="Picture 3" descr="I:\免费\鲁果原创\素材天下网 sucaitianxia.com-yuanxiaojie4副本.png"/>
            <p:cNvPicPr/>
            <p:nvPr/>
          </p:nvPicPr>
          <p:blipFill>
            <a:blip r:embed="rId2"/>
            <a:stretch/>
          </p:blipFill>
          <p:spPr>
            <a:xfrm>
              <a:off x="2590920" y="1523880"/>
              <a:ext cx="4592520" cy="2279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锐得PPT论坛鲁果1986</dc:creator>
  <dc:description>http://bbs.ruideppt.com/forum.php</dc:description>
  <dc:language>en-US</dc:language>
  <cp:lastModifiedBy>admin</cp:lastModifiedBy>
  <dcterms:modified xsi:type="dcterms:W3CDTF">2015-03-02T06:57:31Z</dcterms:modified>
  <cp:revision>13</cp:revision>
  <dc:subject/>
  <dc:title>元宵节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