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104394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939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00" y="3672720"/>
            <a:ext cx="939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200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3664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8640" y="160056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75280" y="160056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2000" y="367272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8640" y="367272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875280" y="367272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22000" y="1600560"/>
            <a:ext cx="939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939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22000" y="272880"/>
            <a:ext cx="939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2000" y="1600560"/>
            <a:ext cx="939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664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000" y="3672720"/>
            <a:ext cx="939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939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00" y="3672720"/>
            <a:ext cx="939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33664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98640" y="160056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75280" y="160056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2000" y="367272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98640" y="367272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875280" y="3672720"/>
            <a:ext cx="3025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939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2000" y="272880"/>
            <a:ext cx="939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200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6640" y="367272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200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6640" y="1600560"/>
            <a:ext cx="458496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00" y="3672720"/>
            <a:ext cx="939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39280" cy="6838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96800" y="76320"/>
            <a:ext cx="1666800" cy="166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2000" y="1600560"/>
            <a:ext cx="939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6480" y="-3240"/>
            <a:ext cx="10453680" cy="6848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272880"/>
            <a:ext cx="939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22000" y="1600560"/>
            <a:ext cx="939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19.png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image" Target="../media/image19.png"/><Relationship Id="rId11" Type="http://schemas.openxmlformats.org/officeDocument/2006/relationships/image" Target="../media/image4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4.png"/><Relationship Id="rId7" Type="http://schemas.openxmlformats.org/officeDocument/2006/relationships/image" Target="../media/image2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9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307040" y="2506680"/>
            <a:ext cx="4863960" cy="52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>
                    <a:alpha val="90000"/>
                  </a:srgbClr>
                </a:solidFill>
                <a:latin typeface="方正大黑简体"/>
              </a:rPr>
              <a:t>POWERPOINT</a:t>
            </a:r>
            <a:r>
              <a:rPr b="0" lang="zh-CN" sz="1800" spc="1" strike="noStrike">
                <a:ln w="0">
                  <a:noFill/>
                </a:ln>
                <a:solidFill>
                  <a:srgbClr val="ffffff">
                    <a:alpha val="90000"/>
                  </a:srgbClr>
                </a:solidFill>
                <a:latin typeface="方正大黑简体"/>
              </a:rPr>
              <a:t>模板</a:t>
            </a:r>
            <a:endParaRPr b="0" lang="en-US" sz="1800" spc="1" strike="noStrike">
              <a:ln w="0">
                <a:noFill/>
              </a:ln>
              <a:solidFill>
                <a:srgbClr val="ffffff">
                  <a:alpha val="90000"/>
                </a:srgbClr>
              </a:solidFill>
              <a:latin typeface="方正大黑简体"/>
              <a:ea typeface="方正大黑简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95680" y="3116160"/>
            <a:ext cx="4410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公安</a:t>
            </a: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/</a:t>
            </a:r>
            <a:r>
              <a:rPr b="0" lang="zh-CN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警察</a:t>
            </a: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/</a:t>
            </a:r>
            <a:r>
              <a:rPr b="0" lang="zh-CN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军警</a:t>
            </a: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/</a:t>
            </a:r>
            <a:r>
              <a:rPr b="0" lang="zh-CN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训练</a:t>
            </a: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/</a:t>
            </a:r>
            <a:r>
              <a:rPr b="0" lang="zh-CN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会议</a:t>
            </a: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华康俪金黑W8"/>
              </a:rPr>
              <a:t>PPT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华康俪金黑W8"/>
              <a:ea typeface="华康俪金黑W8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5240" y="297000"/>
            <a:ext cx="2815920" cy="281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919160" y="2085840"/>
            <a:ext cx="6438960" cy="2735280"/>
          </a:xfrm>
          <a:prstGeom prst="ellipse">
            <a:avLst/>
          </a:prstGeom>
          <a:noFill/>
          <a:ln cap="rnd" w="1908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876240" y="2502000"/>
            <a:ext cx="2347920" cy="1450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094280" y="1595520"/>
            <a:ext cx="2089080" cy="1218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703760" y="1673280"/>
            <a:ext cx="9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98760" y="28447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618240" y="2660760"/>
            <a:ext cx="2871720" cy="1566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2876400" y="3890880"/>
            <a:ext cx="3654720" cy="1995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921120" y="4016520"/>
            <a:ext cx="13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97160" y="257184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450200" y="2809800"/>
            <a:ext cx="13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73840" y="4898880"/>
            <a:ext cx="3219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969240" y="2192400"/>
            <a:ext cx="2904840" cy="2862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133960" y="2584440"/>
            <a:ext cx="2868480" cy="2378160"/>
          </a:xfrm>
          <a:custGeom>
            <a:avLst/>
            <a:gdLst>
              <a:gd name="textAreaLeft" fmla="*/ 0 w 2868480"/>
              <a:gd name="textAreaRight" fmla="*/ 2868840 w 2868480"/>
              <a:gd name="textAreaTop" fmla="*/ 0 h 2378160"/>
              <a:gd name="textAreaBottom" fmla="*/ 2378520 h 237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81160" y="2585880"/>
            <a:ext cx="2970360" cy="237816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2378160"/>
              <a:gd name="textAreaBottom" fmla="*/ 2378520 h 237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未知"/>
          <p:cNvSpPr/>
          <p:nvPr/>
        </p:nvSpPr>
        <p:spPr>
          <a:xfrm>
            <a:off x="2759040" y="2308320"/>
            <a:ext cx="4680000" cy="47916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6760" y="2306520"/>
            <a:ext cx="2538360" cy="2675160"/>
          </a:xfrm>
          <a:custGeom>
            <a:avLst/>
            <a:gdLst>
              <a:gd name="textAreaLeft" fmla="*/ 0 w 2538360"/>
              <a:gd name="textAreaRight" fmla="*/ 2538720 w 2538360"/>
              <a:gd name="textAreaTop" fmla="*/ 0 h 2675160"/>
              <a:gd name="textAreaBottom" fmla="*/ 2675520 h 267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12400"/>
              </a:gs>
              <a:gs pos="100000">
                <a:srgbClr val="cc3300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86240" y="2351160"/>
            <a:ext cx="36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34240" y="3352680"/>
            <a:ext cx="1766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65200" y="1619280"/>
            <a:ext cx="6846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02040" y="3349800"/>
            <a:ext cx="1766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49600" y="34844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 rot="3360000">
            <a:off x="7949880" y="1549440"/>
            <a:ext cx="779400" cy="96660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204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82680" y="2746440"/>
            <a:ext cx="165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3360000">
            <a:off x="2297880" y="2145240"/>
            <a:ext cx="779400" cy="96840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204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25600" y="2511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3360000">
            <a:off x="3683520" y="3753360"/>
            <a:ext cx="779400" cy="968400"/>
          </a:xfrm>
          <a:prstGeom prst="rect">
            <a:avLst/>
          </a:prstGeom>
          <a:gradFill rotWithShape="0">
            <a:gsLst>
              <a:gs pos="0">
                <a:srgbClr val="ff6161"/>
              </a:gs>
              <a:gs pos="100000">
                <a:srgbClr val="752c2c"/>
              </a:gs>
            </a:gsLst>
            <a:lin ang="204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9800" y="41162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3360000">
            <a:off x="5682240" y="2778840"/>
            <a:ext cx="779400" cy="97164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204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07440" y="3144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976520" y="191628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16080" y="3014640"/>
            <a:ext cx="731880" cy="900000"/>
          </a:xfrm>
          <a:prstGeom prst="line">
            <a:avLst/>
          </a:prstGeom>
          <a:ln cap="rnd" w="57240">
            <a:solidFill>
              <a:srgbClr val="5cb1f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560840" y="3463560"/>
            <a:ext cx="1028880" cy="514440"/>
          </a:xfrm>
          <a:prstGeom prst="line">
            <a:avLst/>
          </a:prstGeom>
          <a:ln cap="rnd" w="57240">
            <a:solidFill>
              <a:srgbClr val="5cb1f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620040" y="2295000"/>
            <a:ext cx="1250640" cy="652680"/>
          </a:xfrm>
          <a:prstGeom prst="line">
            <a:avLst/>
          </a:prstGeom>
          <a:ln cap="rnd" w="57240">
            <a:solidFill>
              <a:srgbClr val="5cb1f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09840" y="1817640"/>
            <a:ext cx="39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88680" y="49309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96920" y="403236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64240" y="344160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未知"/>
          <p:cNvSpPr/>
          <p:nvPr/>
        </p:nvSpPr>
        <p:spPr>
          <a:xfrm>
            <a:off x="782640" y="2127240"/>
            <a:ext cx="8440560" cy="32637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08080" y="2475000"/>
            <a:ext cx="26208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6161"/>
              </a:gs>
              <a:gs pos="50000">
                <a:srgbClr val="fec5c5"/>
              </a:gs>
              <a:gs pos="100000">
                <a:srgbClr val="ff61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4880" y="2803680"/>
            <a:ext cx="30168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6161"/>
              </a:gs>
              <a:gs pos="50000">
                <a:srgbClr val="fec5c5"/>
              </a:gs>
              <a:gs pos="100000">
                <a:srgbClr val="ff61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68800" y="3119400"/>
            <a:ext cx="409680" cy="30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6161"/>
              </a:gs>
              <a:gs pos="50000">
                <a:srgbClr val="fec5c5"/>
              </a:gs>
              <a:gs pos="100000">
                <a:srgbClr val="ff61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73840" y="3774960"/>
            <a:ext cx="644400" cy="68112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6161"/>
              </a:gs>
              <a:gs pos="50000">
                <a:srgbClr val="fec5c5"/>
              </a:gs>
              <a:gs pos="100000">
                <a:srgbClr val="ff61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87840" y="3500280"/>
            <a:ext cx="508320" cy="42732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6161"/>
              </a:gs>
              <a:gs pos="50000">
                <a:srgbClr val="fec5c5"/>
              </a:gs>
              <a:gs pos="100000">
                <a:srgbClr val="ff61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74920" y="17478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19280" y="176220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83160" y="17668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52960" y="1758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75320" y="1757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7760" y="3040200"/>
            <a:ext cx="26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00080" y="3306600"/>
            <a:ext cx="27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77920" y="387180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62480" y="4435560"/>
            <a:ext cx="27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32400" y="5087880"/>
            <a:ext cx="27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391" idx="3"/>
            <a:endCxn id="401" idx="0"/>
          </p:cNvCxnSpPr>
          <p:nvPr/>
        </p:nvCxnSpPr>
        <p:spPr>
          <a:xfrm rot="5400000">
            <a:off x="1689120" y="2590200"/>
            <a:ext cx="426240" cy="475200"/>
          </a:xfrm>
          <a:prstGeom prst="bentConnector3">
            <a:avLst>
              <a:gd name="adj1" fmla="val 4995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07" name=""/>
          <p:cNvCxnSpPr>
            <a:stCxn id="392" idx="3"/>
            <a:endCxn id="402" idx="0"/>
          </p:cNvCxnSpPr>
          <p:nvPr/>
        </p:nvCxnSpPr>
        <p:spPr>
          <a:xfrm rot="5400000">
            <a:off x="2640960" y="2752560"/>
            <a:ext cx="313200" cy="79596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08" name=""/>
          <p:cNvCxnSpPr>
            <a:stCxn id="393" idx="3"/>
            <a:endCxn id="403" idx="0"/>
          </p:cNvCxnSpPr>
          <p:nvPr/>
        </p:nvCxnSpPr>
        <p:spPr>
          <a:xfrm rot="5400000">
            <a:off x="3702240" y="3200760"/>
            <a:ext cx="446760" cy="89604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09" name=""/>
          <p:cNvCxnSpPr>
            <a:stCxn id="395" idx="3"/>
            <a:endCxn id="404" idx="0"/>
          </p:cNvCxnSpPr>
          <p:nvPr/>
        </p:nvCxnSpPr>
        <p:spPr>
          <a:xfrm rot="5400000">
            <a:off x="5047560" y="3741480"/>
            <a:ext cx="508680" cy="880200"/>
          </a:xfrm>
          <a:prstGeom prst="bentConnector3">
            <a:avLst>
              <a:gd name="adj1" fmla="val 496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10" name=""/>
          <p:cNvCxnSpPr>
            <a:stCxn id="394" idx="3"/>
            <a:endCxn id="405" idx="0"/>
          </p:cNvCxnSpPr>
          <p:nvPr/>
        </p:nvCxnSpPr>
        <p:spPr>
          <a:xfrm rot="5400000">
            <a:off x="6247800" y="4140000"/>
            <a:ext cx="632520" cy="1264320"/>
          </a:xfrm>
          <a:prstGeom prst="bentConnector3">
            <a:avLst>
              <a:gd name="adj1" fmla="val 49715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873840" y="2171880"/>
            <a:ext cx="644400" cy="172548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33"/>
              </a:gs>
              <a:gs pos="50000">
                <a:srgbClr val="fed9b5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87840" y="2170080"/>
            <a:ext cx="508320" cy="14288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33"/>
              </a:gs>
              <a:gs pos="50000">
                <a:srgbClr val="fed9b5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68800" y="2166840"/>
            <a:ext cx="409680" cy="104616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33"/>
              </a:gs>
              <a:gs pos="50000">
                <a:srgbClr val="fed9b5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4880" y="2173320"/>
            <a:ext cx="301680" cy="6858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33"/>
              </a:gs>
              <a:gs pos="50000">
                <a:srgbClr val="fed9b5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08080" y="2174760"/>
            <a:ext cx="262080" cy="35748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9933"/>
              </a:gs>
              <a:gs pos="50000">
                <a:srgbClr val="fed9b5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 rot="5400000">
            <a:off x="1690560" y="3359160"/>
            <a:ext cx="1843200" cy="1960560"/>
          </a:xfrm>
          <a:custGeom>
            <a:avLst/>
            <a:gdLst>
              <a:gd name="textAreaLeft" fmla="*/ 107280 w 1843200"/>
              <a:gd name="textAreaRight" fmla="*/ 1735920 w 1843200"/>
              <a:gd name="textAreaTop" fmla="*/ 107280 h 1960560"/>
              <a:gd name="textAreaBottom" fmla="*/ 1853280 h 1960560"/>
            </a:gdLst>
            <a:ahLst/>
            <a:rect l="textAreaLeft" t="textAreaTop" r="textAreaRight" b="textAreaBottom"/>
            <a:pathLst>
              <a:path w="21600" h="22975">
                <a:moveTo>
                  <a:pt x="4297" y="0"/>
                </a:moveTo>
                <a:arcTo wR="4297" hR="4297" stAng="16200000" swAng="-5400000"/>
                <a:lnTo>
                  <a:pt x="0" y="18678"/>
                </a:lnTo>
                <a:arcTo wR="4297" hR="4297" stAng="10800000" swAng="-5400000"/>
                <a:lnTo>
                  <a:pt x="17303" y="22975"/>
                </a:lnTo>
                <a:arcTo wR="4297" hR="4297" stAng="5400000" swAng="-5400000"/>
                <a:lnTo>
                  <a:pt x="21600" y="4297"/>
                </a:lnTo>
                <a:arcTo wR="4297" hR="4297" stAng="0" swAng="-5400000"/>
                <a:close/>
              </a:path>
            </a:pathLst>
          </a:cu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未知"/>
          <p:cNvSpPr/>
          <p:nvPr/>
        </p:nvSpPr>
        <p:spPr>
          <a:xfrm>
            <a:off x="1646280" y="3419640"/>
            <a:ext cx="1941480" cy="40608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46480" y="349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35120" y="3990960"/>
            <a:ext cx="194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4344120" y="3358440"/>
            <a:ext cx="1843200" cy="1962000"/>
          </a:xfrm>
          <a:custGeom>
            <a:avLst/>
            <a:gdLst>
              <a:gd name="textAreaLeft" fmla="*/ 107280 w 1843200"/>
              <a:gd name="textAreaRight" fmla="*/ 1735920 w 1843200"/>
              <a:gd name="textAreaTop" fmla="*/ 107280 h 1962000"/>
              <a:gd name="textAreaBottom" fmla="*/ 1854720 h 1962000"/>
            </a:gdLst>
            <a:ahLst/>
            <a:rect l="textAreaLeft" t="textAreaTop" r="textAreaRight" b="textAreaBottom"/>
            <a:pathLst>
              <a:path w="21600" h="22992">
                <a:moveTo>
                  <a:pt x="4297" y="0"/>
                </a:moveTo>
                <a:arcTo wR="4297" hR="4297" stAng="16200000" swAng="-5400000"/>
                <a:lnTo>
                  <a:pt x="0" y="18695"/>
                </a:lnTo>
                <a:arcTo wR="4297" hR="4297" stAng="10800000" swAng="-5400000"/>
                <a:lnTo>
                  <a:pt x="17303" y="22992"/>
                </a:lnTo>
                <a:arcTo wR="4297" hR="4297" stAng="5400000" swAng="-5400000"/>
                <a:lnTo>
                  <a:pt x="21600" y="4297"/>
                </a:lnTo>
                <a:arcTo wR="4297" hR="4297" stAng="0" swAng="-5400000"/>
                <a:close/>
              </a:path>
            </a:pathLst>
          </a:cu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未知"/>
          <p:cNvSpPr/>
          <p:nvPr/>
        </p:nvSpPr>
        <p:spPr>
          <a:xfrm>
            <a:off x="4303800" y="3417840"/>
            <a:ext cx="1936800" cy="40500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00040" y="349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6961320" y="3358080"/>
            <a:ext cx="1843200" cy="1962360"/>
          </a:xfrm>
          <a:custGeom>
            <a:avLst/>
            <a:gdLst>
              <a:gd name="textAreaLeft" fmla="*/ 109440 w 1843200"/>
              <a:gd name="textAreaRight" fmla="*/ 1733760 w 1843200"/>
              <a:gd name="textAreaTop" fmla="*/ 109440 h 1962360"/>
              <a:gd name="textAreaBottom" fmla="*/ 1852920 h 1962360"/>
            </a:gdLst>
            <a:ahLst/>
            <a:rect l="textAreaLeft" t="textAreaTop" r="textAreaRight" b="textAreaBottom"/>
            <a:pathLst>
              <a:path w="21600" h="22996">
                <a:moveTo>
                  <a:pt x="4392" y="0"/>
                </a:moveTo>
                <a:arcTo wR="4392" hR="4392" stAng="16200000" swAng="-5400000"/>
                <a:lnTo>
                  <a:pt x="0" y="18604"/>
                </a:lnTo>
                <a:arcTo wR="4392" hR="4392" stAng="10800000" swAng="-5400000"/>
                <a:lnTo>
                  <a:pt x="17208" y="22996"/>
                </a:lnTo>
                <a:arcTo wR="4392" hR="4392" stAng="5400000" swAng="-5400000"/>
                <a:lnTo>
                  <a:pt x="21600" y="4392"/>
                </a:lnTo>
                <a:arcTo wR="4392" hR="4392" stAng="0" swAng="-5400000"/>
                <a:close/>
              </a:path>
            </a:pathLst>
          </a:cu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未知"/>
          <p:cNvSpPr/>
          <p:nvPr/>
        </p:nvSpPr>
        <p:spPr>
          <a:xfrm>
            <a:off x="6915240" y="3417840"/>
            <a:ext cx="1942920" cy="40788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15440" y="349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111560" y="1747800"/>
            <a:ext cx="2305080" cy="455760"/>
            <a:chOff x="4111560" y="1747800"/>
            <a:chExt cx="2305080" cy="455760"/>
          </a:xfrm>
        </p:grpSpPr>
        <p:sp>
          <p:nvSpPr>
            <p:cNvPr id="428" name=""/>
            <p:cNvSpPr/>
            <p:nvPr/>
          </p:nvSpPr>
          <p:spPr>
            <a:xfrm>
              <a:off x="4111560" y="1747800"/>
              <a:ext cx="2305080" cy="455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38920" y="1773360"/>
              <a:ext cx="2250000" cy="407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048280" y="180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750000" y="1747800"/>
            <a:ext cx="2306520" cy="455760"/>
            <a:chOff x="6750000" y="1747800"/>
            <a:chExt cx="2306520" cy="455760"/>
          </a:xfrm>
        </p:grpSpPr>
        <p:sp>
          <p:nvSpPr>
            <p:cNvPr id="432" name=""/>
            <p:cNvSpPr/>
            <p:nvPr/>
          </p:nvSpPr>
          <p:spPr>
            <a:xfrm>
              <a:off x="6750000" y="1747800"/>
              <a:ext cx="2306520" cy="455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79160" y="1773360"/>
              <a:ext cx="2248200" cy="407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>
                    <a:alpha val="90196"/>
                  </a:srgbClr>
                </a:gs>
                <a:gs pos="50000">
                  <a:srgbClr val="c7e3fd"/>
                </a:gs>
                <a:gs pos="100000">
                  <a:srgbClr val="5cb1f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689240" y="180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508040" y="1747800"/>
            <a:ext cx="2305080" cy="455760"/>
            <a:chOff x="1508040" y="1747800"/>
            <a:chExt cx="2305080" cy="455760"/>
          </a:xfrm>
        </p:grpSpPr>
        <p:sp>
          <p:nvSpPr>
            <p:cNvPr id="436" name=""/>
            <p:cNvSpPr/>
            <p:nvPr/>
          </p:nvSpPr>
          <p:spPr>
            <a:xfrm>
              <a:off x="1508040" y="1747800"/>
              <a:ext cx="2305080" cy="455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4608"/>
                </a:gs>
                <a:gs pos="50000">
                  <a:srgbClr val="ffc319"/>
                </a:gs>
                <a:gs pos="100000">
                  <a:srgbClr val="5b4608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37200" y="1773360"/>
              <a:ext cx="2246760" cy="407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445840" y="180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687680" y="2233440"/>
            <a:ext cx="1915920" cy="1160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268880" y="2233440"/>
            <a:ext cx="1915920" cy="1160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921360" y="2233440"/>
            <a:ext cx="1917720" cy="1160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cb1f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305240" y="3990960"/>
            <a:ext cx="194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15240" y="3990960"/>
            <a:ext cx="194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Oval 4"/>
          <p:cNvSpPr/>
          <p:nvPr/>
        </p:nvSpPr>
        <p:spPr>
          <a:xfrm>
            <a:off x="3092400" y="1967040"/>
            <a:ext cx="4273560" cy="373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"/>
          <p:cNvSpPr/>
          <p:nvPr/>
        </p:nvSpPr>
        <p:spPr>
          <a:xfrm>
            <a:off x="3656160" y="2370240"/>
            <a:ext cx="3139920" cy="2739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6400800" y="1530360"/>
            <a:ext cx="23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1044720" y="3571920"/>
            <a:ext cx="22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696080" y="4187880"/>
            <a:ext cx="233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276800" y="1368360"/>
            <a:ext cx="1861200" cy="1608120"/>
            <a:chOff x="4276800" y="1368360"/>
            <a:chExt cx="1861200" cy="1608120"/>
          </a:xfrm>
        </p:grpSpPr>
        <p:grpSp>
          <p:nvGrpSpPr>
            <p:cNvPr id="451" name=""/>
            <p:cNvGrpSpPr/>
            <p:nvPr/>
          </p:nvGrpSpPr>
          <p:grpSpPr>
            <a:xfrm>
              <a:off x="4276800" y="1368360"/>
              <a:ext cx="1861200" cy="1608120"/>
              <a:chOff x="4276800" y="1368360"/>
              <a:chExt cx="1861200" cy="1608120"/>
            </a:xfrm>
          </p:grpSpPr>
          <p:sp>
            <p:nvSpPr>
              <p:cNvPr id="452" name="Oval 12"/>
              <p:cNvSpPr/>
              <p:nvPr/>
            </p:nvSpPr>
            <p:spPr>
              <a:xfrm>
                <a:off x="4276800" y="1368360"/>
                <a:ext cx="1861200" cy="160812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4318560" y="1404720"/>
                <a:ext cx="1780560" cy="1537920"/>
              </a:xfrm>
              <a:prstGeom prst="ellipse">
                <a:avLst/>
              </a:prstGeom>
              <a:solidFill>
                <a:srgbClr val="ff6161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358880" y="1438560"/>
              <a:ext cx="1720440" cy="1487520"/>
              <a:chOff x="4358880" y="1438560"/>
              <a:chExt cx="1720440" cy="1487520"/>
            </a:xfrm>
          </p:grpSpPr>
          <p:sp>
            <p:nvSpPr>
              <p:cNvPr id="455" name="Oval 15"/>
              <p:cNvSpPr/>
              <p:nvPr/>
            </p:nvSpPr>
            <p:spPr>
              <a:xfrm>
                <a:off x="4358880" y="1438560"/>
                <a:ext cx="1720440" cy="1487520"/>
              </a:xfrm>
              <a:prstGeom prst="ellipse">
                <a:avLst/>
              </a:prstGeom>
              <a:solidFill>
                <a:srgbClr val="ff6161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6"/>
              <p:cNvSpPr/>
              <p:nvPr/>
            </p:nvSpPr>
            <p:spPr>
              <a:xfrm>
                <a:off x="4397400" y="1472400"/>
                <a:ext cx="1645920" cy="142236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2666880" y="3765600"/>
            <a:ext cx="1861560" cy="1608120"/>
            <a:chOff x="2666880" y="3765600"/>
            <a:chExt cx="1861560" cy="1608120"/>
          </a:xfrm>
        </p:grpSpPr>
        <p:grpSp>
          <p:nvGrpSpPr>
            <p:cNvPr id="458" name=""/>
            <p:cNvGrpSpPr/>
            <p:nvPr/>
          </p:nvGrpSpPr>
          <p:grpSpPr>
            <a:xfrm>
              <a:off x="2666880" y="3765600"/>
              <a:ext cx="1861560" cy="1608120"/>
              <a:chOff x="2666880" y="3765600"/>
              <a:chExt cx="1861560" cy="1608120"/>
            </a:xfrm>
          </p:grpSpPr>
          <p:sp>
            <p:nvSpPr>
              <p:cNvPr id="459" name="Oval 19"/>
              <p:cNvSpPr/>
              <p:nvPr/>
            </p:nvSpPr>
            <p:spPr>
              <a:xfrm>
                <a:off x="2666880" y="3765600"/>
                <a:ext cx="1861560" cy="160812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20"/>
              <p:cNvSpPr/>
              <p:nvPr/>
            </p:nvSpPr>
            <p:spPr>
              <a:xfrm>
                <a:off x="2708640" y="3801960"/>
                <a:ext cx="1780920" cy="153792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748960" y="3835800"/>
              <a:ext cx="1720800" cy="1487520"/>
              <a:chOff x="2748960" y="3835800"/>
              <a:chExt cx="1720800" cy="148752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2748960" y="3835800"/>
                <a:ext cx="1720800" cy="148752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3"/>
              <p:cNvSpPr/>
              <p:nvPr/>
            </p:nvSpPr>
            <p:spPr>
              <a:xfrm>
                <a:off x="2787480" y="3869640"/>
                <a:ext cx="1646280" cy="1422360"/>
              </a:xfrm>
              <a:prstGeom prst="ellipse">
                <a:avLst/>
              </a:prstGeom>
              <a:solidFill>
                <a:srgbClr val="ffc31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5784840" y="3765600"/>
            <a:ext cx="1861560" cy="1608120"/>
            <a:chOff x="5784840" y="3765600"/>
            <a:chExt cx="1861560" cy="1608120"/>
          </a:xfrm>
        </p:grpSpPr>
        <p:grpSp>
          <p:nvGrpSpPr>
            <p:cNvPr id="465" name=""/>
            <p:cNvGrpSpPr/>
            <p:nvPr/>
          </p:nvGrpSpPr>
          <p:grpSpPr>
            <a:xfrm>
              <a:off x="5784840" y="3765600"/>
              <a:ext cx="1861560" cy="1608120"/>
              <a:chOff x="5784840" y="3765600"/>
              <a:chExt cx="1861560" cy="1608120"/>
            </a:xfrm>
          </p:grpSpPr>
          <p:sp>
            <p:nvSpPr>
              <p:cNvPr id="466" name="Oval 26"/>
              <p:cNvSpPr/>
              <p:nvPr/>
            </p:nvSpPr>
            <p:spPr>
              <a:xfrm>
                <a:off x="5784840" y="3765600"/>
                <a:ext cx="1861560" cy="1608120"/>
              </a:xfrm>
              <a:prstGeom prst="ellipse">
                <a:avLst/>
              </a:prstGeom>
              <a:solidFill>
                <a:srgbClr val="a8d02a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7"/>
              <p:cNvSpPr/>
              <p:nvPr/>
            </p:nvSpPr>
            <p:spPr>
              <a:xfrm>
                <a:off x="5826600" y="3801960"/>
                <a:ext cx="1780920" cy="153792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866920" y="3835800"/>
              <a:ext cx="1720800" cy="1487520"/>
              <a:chOff x="5866920" y="3835800"/>
              <a:chExt cx="1720800" cy="1487520"/>
            </a:xfrm>
          </p:grpSpPr>
          <p:sp>
            <p:nvSpPr>
              <p:cNvPr id="469" name="Oval 29"/>
              <p:cNvSpPr/>
              <p:nvPr/>
            </p:nvSpPr>
            <p:spPr>
              <a:xfrm>
                <a:off x="5866920" y="3835800"/>
                <a:ext cx="1720800" cy="148752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30"/>
              <p:cNvSpPr/>
              <p:nvPr/>
            </p:nvSpPr>
            <p:spPr>
              <a:xfrm>
                <a:off x="5905440" y="3869640"/>
                <a:ext cx="1646280" cy="142236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361040" y="1419120"/>
            <a:ext cx="1674360" cy="1442520"/>
            <a:chOff x="4361040" y="1419120"/>
            <a:chExt cx="1674360" cy="1442520"/>
          </a:xfrm>
        </p:grpSpPr>
        <p:sp>
          <p:nvSpPr>
            <p:cNvPr id="472" name="Oval 32"/>
            <p:cNvSpPr/>
            <p:nvPr/>
          </p:nvSpPr>
          <p:spPr>
            <a:xfrm>
              <a:off x="4405320" y="1481040"/>
              <a:ext cx="1596600" cy="138060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510207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33" descr="cir_lighteffect0"/>
            <p:cNvPicPr/>
            <p:nvPr/>
          </p:nvPicPr>
          <p:blipFill>
            <a:blip r:embed="rId1"/>
            <a:stretch/>
          </p:blipFill>
          <p:spPr>
            <a:xfrm>
              <a:off x="4361040" y="1419120"/>
              <a:ext cx="1674360" cy="12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Rectangle 34"/>
          <p:cNvSpPr/>
          <p:nvPr/>
        </p:nvSpPr>
        <p:spPr>
          <a:xfrm>
            <a:off x="4334040" y="19461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747880" y="3827520"/>
            <a:ext cx="1674360" cy="1444320"/>
            <a:chOff x="2747880" y="3827520"/>
            <a:chExt cx="1674360" cy="1444320"/>
          </a:xfrm>
        </p:grpSpPr>
        <p:sp>
          <p:nvSpPr>
            <p:cNvPr id="476" name="Oval 36"/>
            <p:cNvSpPr/>
            <p:nvPr/>
          </p:nvSpPr>
          <p:spPr>
            <a:xfrm>
              <a:off x="2792160" y="3889800"/>
              <a:ext cx="1596600" cy="1382040"/>
            </a:xfrm>
            <a:prstGeom prst="ellipse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3c0004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37" descr="cir_lighteffect0"/>
            <p:cNvPicPr/>
            <p:nvPr/>
          </p:nvPicPr>
          <p:blipFill>
            <a:blip r:embed="rId2"/>
            <a:stretch/>
          </p:blipFill>
          <p:spPr>
            <a:xfrm>
              <a:off x="2747880" y="3827520"/>
              <a:ext cx="1674360" cy="125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Rectangle 38"/>
          <p:cNvSpPr/>
          <p:nvPr/>
        </p:nvSpPr>
        <p:spPr>
          <a:xfrm>
            <a:off x="2757600" y="4373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900760" y="3827520"/>
            <a:ext cx="1674360" cy="1444320"/>
            <a:chOff x="5900760" y="3827520"/>
            <a:chExt cx="1674360" cy="1444320"/>
          </a:xfrm>
        </p:grpSpPr>
        <p:sp>
          <p:nvSpPr>
            <p:cNvPr id="480" name="Oval 40"/>
            <p:cNvSpPr/>
            <p:nvPr/>
          </p:nvSpPr>
          <p:spPr>
            <a:xfrm>
              <a:off x="5945040" y="3889800"/>
              <a:ext cx="1596600" cy="1382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41" descr="cir_lighteffect0"/>
            <p:cNvPicPr/>
            <p:nvPr/>
          </p:nvPicPr>
          <p:blipFill>
            <a:blip r:embed="rId3"/>
            <a:stretch/>
          </p:blipFill>
          <p:spPr>
            <a:xfrm>
              <a:off x="5900760" y="3827520"/>
              <a:ext cx="1674360" cy="12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5880240" y="3827520"/>
            <a:ext cx="1674360" cy="1444320"/>
            <a:chOff x="5880240" y="3827520"/>
            <a:chExt cx="1674360" cy="1444320"/>
          </a:xfrm>
        </p:grpSpPr>
        <p:sp>
          <p:nvSpPr>
            <p:cNvPr id="483" name="Oval 43"/>
            <p:cNvSpPr/>
            <p:nvPr/>
          </p:nvSpPr>
          <p:spPr>
            <a:xfrm>
              <a:off x="5924520" y="3889800"/>
              <a:ext cx="1596600" cy="138204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120001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44" descr="cir_lighteffect0"/>
            <p:cNvPicPr/>
            <p:nvPr/>
          </p:nvPicPr>
          <p:blipFill>
            <a:blip r:embed="rId4"/>
            <a:stretch/>
          </p:blipFill>
          <p:spPr>
            <a:xfrm>
              <a:off x="5880240" y="3827520"/>
              <a:ext cx="1674360" cy="125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Rectangle 45"/>
          <p:cNvSpPr/>
          <p:nvPr/>
        </p:nvSpPr>
        <p:spPr>
          <a:xfrm>
            <a:off x="5870520" y="43848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14480" y="4159080"/>
            <a:ext cx="6410520" cy="1189080"/>
          </a:xfrm>
          <a:prstGeom prst="rect">
            <a:avLst/>
          </a:prstGeom>
          <a:gradFill rotWithShape="0">
            <a:gsLst>
              <a:gs pos="0">
                <a:srgbClr val="c9c9c9"/>
              </a:gs>
              <a:gs pos="50000">
                <a:srgbClr val="ffffff"/>
              </a:gs>
              <a:gs pos="100000">
                <a:srgbClr val="c9c9c9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28960" y="4336920"/>
            <a:ext cx="5035680" cy="803520"/>
          </a:xfrm>
          <a:prstGeom prst="rect">
            <a:avLst/>
          </a:prstGeom>
          <a:gradFill rotWithShape="0">
            <a:gsLst>
              <a:gs pos="0">
                <a:srgbClr val="752c2c"/>
              </a:gs>
              <a:gs pos="50000">
                <a:srgbClr val="ff6161"/>
              </a:gs>
              <a:gs pos="100000">
                <a:srgbClr val="752c2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19400" y="4581360"/>
            <a:ext cx="4954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35880" y="4592520"/>
            <a:ext cx="48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919680" y="2395440"/>
            <a:ext cx="1452600" cy="1268640"/>
            <a:chOff x="3919680" y="2395440"/>
            <a:chExt cx="1452600" cy="1268640"/>
          </a:xfrm>
        </p:grpSpPr>
        <p:sp>
          <p:nvSpPr>
            <p:cNvPr id="492" name=""/>
            <p:cNvSpPr/>
            <p:nvPr/>
          </p:nvSpPr>
          <p:spPr>
            <a:xfrm>
              <a:off x="3919680" y="2395440"/>
              <a:ext cx="1452600" cy="1268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886e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9680" y="2395440"/>
              <a:ext cx="1452600" cy="1268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86e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97440" y="2463480"/>
              <a:ext cx="1263240" cy="1103040"/>
            </a:xfrm>
            <a:prstGeom prst="ellipse">
              <a:avLst/>
            </a:prstGeom>
            <a:gradFill rotWithShape="0">
              <a:gsLst>
                <a:gs pos="0">
                  <a:srgbClr val="5a4878"/>
                </a:gs>
                <a:gs pos="50000">
                  <a:srgbClr val="a886e0"/>
                </a:gs>
                <a:gs pos="100000">
                  <a:srgbClr val="5a4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97440" y="2464920"/>
              <a:ext cx="1263240" cy="110268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0"/>
                  </a:srgbClr>
                </a:gs>
                <a:gs pos="100000">
                  <a:srgbClr val="6a54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64760" y="2529720"/>
              <a:ext cx="1138680" cy="993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088160" y="2536920"/>
              <a:ext cx="1101240" cy="962640"/>
              <a:chOff x="4088160" y="2536920"/>
              <a:chExt cx="1101240" cy="962640"/>
            </a:xfrm>
          </p:grpSpPr>
          <p:sp>
            <p:nvSpPr>
              <p:cNvPr id="498" name=""/>
              <p:cNvSpPr/>
              <p:nvPr/>
            </p:nvSpPr>
            <p:spPr>
              <a:xfrm>
                <a:off x="4088160" y="2536920"/>
                <a:ext cx="1101240" cy="9626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02200" y="2542320"/>
                <a:ext cx="1074600" cy="938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13360" y="2551320"/>
                <a:ext cx="1022040" cy="877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73480" y="2575800"/>
                <a:ext cx="908640" cy="711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5446800" y="1671480"/>
            <a:ext cx="1446120" cy="1265400"/>
            <a:chOff x="5446800" y="1671480"/>
            <a:chExt cx="1446120" cy="1265400"/>
          </a:xfrm>
        </p:grpSpPr>
        <p:sp>
          <p:nvSpPr>
            <p:cNvPr id="503" name=""/>
            <p:cNvSpPr/>
            <p:nvPr/>
          </p:nvSpPr>
          <p:spPr>
            <a:xfrm>
              <a:off x="5446800" y="1671480"/>
              <a:ext cx="1446120" cy="126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46800" y="1671480"/>
              <a:ext cx="1446120" cy="1265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44000" y="1739520"/>
              <a:ext cx="1254240" cy="109872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45440" y="1742040"/>
              <a:ext cx="1253880" cy="10987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04120" y="1800720"/>
              <a:ext cx="1129680" cy="987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5626440" y="1812600"/>
              <a:ext cx="1095120" cy="959400"/>
              <a:chOff x="5626440" y="1812600"/>
              <a:chExt cx="1095120" cy="959400"/>
            </a:xfrm>
          </p:grpSpPr>
          <p:sp>
            <p:nvSpPr>
              <p:cNvPr id="509" name=""/>
              <p:cNvSpPr/>
              <p:nvPr/>
            </p:nvSpPr>
            <p:spPr>
              <a:xfrm>
                <a:off x="5626440" y="1812600"/>
                <a:ext cx="1095120" cy="959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40480" y="1817640"/>
                <a:ext cx="1068840" cy="935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51640" y="1827000"/>
                <a:ext cx="1016280" cy="87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11040" y="1851480"/>
                <a:ext cx="903600" cy="709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6994440" y="2319480"/>
            <a:ext cx="1444680" cy="1287360"/>
            <a:chOff x="6994440" y="2319480"/>
            <a:chExt cx="1444680" cy="1287360"/>
          </a:xfrm>
        </p:grpSpPr>
        <p:sp>
          <p:nvSpPr>
            <p:cNvPr id="514" name=""/>
            <p:cNvSpPr/>
            <p:nvPr/>
          </p:nvSpPr>
          <p:spPr>
            <a:xfrm>
              <a:off x="6994440" y="2319480"/>
              <a:ext cx="1444680" cy="1287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3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2319480"/>
              <a:ext cx="1444680" cy="128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3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83720" y="2397240"/>
              <a:ext cx="1254960" cy="1119240"/>
            </a:xfrm>
            <a:prstGeom prst="ellipse">
              <a:avLst/>
            </a:prstGeom>
            <a:gradFill rotWithShape="0">
              <a:gsLst>
                <a:gs pos="0">
                  <a:srgbClr val="89521b"/>
                </a:gs>
                <a:gs pos="50000">
                  <a:srgbClr val="ff9933"/>
                </a:gs>
                <a:gs pos="100000">
                  <a:srgbClr val="8952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88760" y="2381760"/>
              <a:ext cx="1255320" cy="111924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0"/>
                  </a:srgbClr>
                </a:gs>
                <a:gs pos="100000">
                  <a:srgbClr val="a160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44200" y="2458440"/>
              <a:ext cx="1130040" cy="1007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162920" y="2472840"/>
              <a:ext cx="1094400" cy="975600"/>
              <a:chOff x="7162920" y="2472840"/>
              <a:chExt cx="1094400" cy="975600"/>
            </a:xfrm>
          </p:grpSpPr>
          <p:sp>
            <p:nvSpPr>
              <p:cNvPr id="520" name=""/>
              <p:cNvSpPr/>
              <p:nvPr/>
            </p:nvSpPr>
            <p:spPr>
              <a:xfrm>
                <a:off x="7162920" y="2472840"/>
                <a:ext cx="1094400" cy="975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76960" y="2478240"/>
                <a:ext cx="1068120" cy="951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88120" y="2487600"/>
                <a:ext cx="1015560" cy="888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47520" y="2512440"/>
                <a:ext cx="902880" cy="721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2368440" y="1676520"/>
            <a:ext cx="1481040" cy="1277640"/>
            <a:chOff x="2368440" y="1676520"/>
            <a:chExt cx="1481040" cy="1277640"/>
          </a:xfrm>
        </p:grpSpPr>
        <p:sp>
          <p:nvSpPr>
            <p:cNvPr id="525" name=""/>
            <p:cNvSpPr/>
            <p:nvPr/>
          </p:nvSpPr>
          <p:spPr>
            <a:xfrm>
              <a:off x="2368440" y="1676520"/>
              <a:ext cx="1481040" cy="1277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68440" y="1676520"/>
              <a:ext cx="1481040" cy="127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64560" y="1759320"/>
              <a:ext cx="1288800" cy="11113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66000" y="1759320"/>
              <a:ext cx="1287000" cy="11113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35120" y="1815840"/>
              <a:ext cx="1158120" cy="999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53840" y="1832040"/>
              <a:ext cx="1122120" cy="9680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67880" y="1838160"/>
              <a:ext cx="1094400" cy="9424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9400" y="1846800"/>
              <a:ext cx="1041480" cy="8820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39880" y="1872000"/>
              <a:ext cx="926280" cy="715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076560" y="2970360"/>
            <a:ext cx="0" cy="1069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4626000" y="3700440"/>
            <a:ext cx="1440" cy="361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57800" y="2957400"/>
            <a:ext cx="0" cy="10828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656120" y="3646440"/>
            <a:ext cx="19080" cy="439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68520" y="2190600"/>
            <a:ext cx="1224000" cy="2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027320" y="2905200"/>
            <a:ext cx="1225800" cy="2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86480" y="2190600"/>
            <a:ext cx="1227240" cy="2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072200" y="2838600"/>
            <a:ext cx="1225800" cy="2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点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027080" y="900000"/>
            <a:ext cx="7562880" cy="548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4" name=""/>
          <p:cNvSpPr/>
          <p:nvPr/>
        </p:nvSpPr>
        <p:spPr>
          <a:xfrm>
            <a:off x="2501640" y="26204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新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76320" y="41882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西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0880" y="35517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青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80520" y="290880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甘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8880" y="43437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四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02800" y="532512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云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68600" y="497088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贵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63800" y="544572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广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362640" y="541080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广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519600" y="57020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香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35400" y="579708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澳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60720" y="60980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海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03840" y="5265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台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11000" y="49647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福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666480" y="46947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江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95800" y="47804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湖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27280" y="44636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重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75000" y="424872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湖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85280" y="41882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安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63920" y="384300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河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80200" y="402408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江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32360" y="411840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40080" y="331740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宁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24200" y="383328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陕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39120" y="269352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内蒙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54400" y="333972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山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91760" y="342468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山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36440" y="31341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河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85400" y="27824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756840" y="300708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天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317360" y="253260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辽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12640" y="224064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吉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821720" y="170856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黑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48240" y="452412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522600" y="1728720"/>
            <a:ext cx="5342040" cy="1219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c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532320" y="3013200"/>
            <a:ext cx="5341680" cy="124128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06840" y="1241280"/>
            <a:ext cx="2609640" cy="1668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c319"/>
              </a:gs>
              <a:gs pos="100000">
                <a:srgbClr val="a8801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065320" y="2532240"/>
            <a:ext cx="2610000" cy="167004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a8d02a"/>
              </a:gs>
              <a:gs pos="100000">
                <a:srgbClr val="5d741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03680" y="4317840"/>
            <a:ext cx="6060960" cy="123048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2880" y="3830760"/>
            <a:ext cx="2610000" cy="167004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6161"/>
              </a:gs>
              <a:gs pos="100000">
                <a:srgbClr val="91373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48040" y="1766880"/>
            <a:ext cx="816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6880" y="2973240"/>
            <a:ext cx="815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73280" y="4352760"/>
            <a:ext cx="816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64120" y="1811160"/>
            <a:ext cx="36370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71840" y="3111480"/>
            <a:ext cx="36370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90800" y="4402080"/>
            <a:ext cx="363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1106640" y="2049480"/>
            <a:ext cx="8225640" cy="3239640"/>
            <a:chOff x="1106640" y="2049480"/>
            <a:chExt cx="8225640" cy="3239640"/>
          </a:xfrm>
        </p:grpSpPr>
        <p:sp>
          <p:nvSpPr>
            <p:cNvPr id="593" name="AutoShape 3"/>
            <p:cNvSpPr/>
            <p:nvPr/>
          </p:nvSpPr>
          <p:spPr>
            <a:xfrm>
              <a:off x="3410280" y="2638440"/>
              <a:ext cx="548280" cy="631080"/>
            </a:xfrm>
            <a:custGeom>
              <a:avLst/>
              <a:gdLst>
                <a:gd name="textAreaLeft" fmla="*/ 0 w 548280"/>
                <a:gd name="textAreaRight" fmla="*/ 548640 w 5482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4"/>
            <p:cNvSpPr/>
            <p:nvPr/>
          </p:nvSpPr>
          <p:spPr>
            <a:xfrm>
              <a:off x="6391800" y="2638440"/>
              <a:ext cx="548640" cy="631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5"/>
            <p:cNvSpPr/>
            <p:nvPr/>
          </p:nvSpPr>
          <p:spPr>
            <a:xfrm>
              <a:off x="7340040" y="271296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>
                    <a:alpha val="0"/>
                  </a:srgbClr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7"/>
            <p:cNvSpPr/>
            <p:nvPr/>
          </p:nvSpPr>
          <p:spPr>
            <a:xfrm>
              <a:off x="7174440" y="2712960"/>
              <a:ext cx="2043360" cy="48024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6e1c00"/>
                </a:gs>
                <a:gs pos="100000">
                  <a:srgbClr val="a8d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8"/>
            <p:cNvSpPr/>
            <p:nvPr/>
          </p:nvSpPr>
          <p:spPr>
            <a:xfrm>
              <a:off x="7208640" y="2725560"/>
              <a:ext cx="2047320" cy="48204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822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9"/>
            <p:cNvSpPr/>
            <p:nvPr/>
          </p:nvSpPr>
          <p:spPr>
            <a:xfrm>
              <a:off x="7285680" y="2711160"/>
              <a:ext cx="1843560" cy="48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0"/>
            <p:cNvSpPr/>
            <p:nvPr/>
          </p:nvSpPr>
          <p:spPr>
            <a:xfrm>
              <a:off x="1372680" y="2705400"/>
              <a:ext cx="183240" cy="47988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ffffff">
                    <a:alpha val="0"/>
                  </a:srgbClr>
                </a:gs>
                <a:gs pos="100000">
                  <a:srgbClr val="5cb1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2"/>
            <p:cNvSpPr/>
            <p:nvPr/>
          </p:nvSpPr>
          <p:spPr>
            <a:xfrm>
              <a:off x="1207080" y="2705400"/>
              <a:ext cx="2045520" cy="47988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533700"/>
                </a:gs>
                <a:gs pos="100000">
                  <a:srgbClr val="5cb1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3"/>
            <p:cNvSpPr/>
            <p:nvPr/>
          </p:nvSpPr>
          <p:spPr>
            <a:xfrm>
              <a:off x="1211400" y="2709000"/>
              <a:ext cx="2045160" cy="482040"/>
            </a:xfrm>
            <a:prstGeom prst="ellipse">
              <a:avLst/>
            </a:prstGeom>
            <a:gradFill rotWithShape="0">
              <a:gsLst>
                <a:gs pos="0">
                  <a:srgbClr val="5cb1fe">
                    <a:alpha val="0"/>
                  </a:srgbClr>
                </a:gs>
                <a:gs pos="100000">
                  <a:srgbClr val="6141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4"/>
            <p:cNvSpPr/>
            <p:nvPr/>
          </p:nvSpPr>
          <p:spPr>
            <a:xfrm>
              <a:off x="1310040" y="2709000"/>
              <a:ext cx="1843560" cy="48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340280" y="2049480"/>
              <a:ext cx="1783080" cy="1791360"/>
              <a:chOff x="1340280" y="2049480"/>
              <a:chExt cx="1783080" cy="1791360"/>
            </a:xfrm>
          </p:grpSpPr>
          <p:sp>
            <p:nvSpPr>
              <p:cNvPr id="604" name="Oval 16"/>
              <p:cNvSpPr/>
              <p:nvPr/>
            </p:nvSpPr>
            <p:spPr>
              <a:xfrm>
                <a:off x="1340280" y="2049480"/>
                <a:ext cx="1783080" cy="1791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7"/>
              <p:cNvSpPr/>
              <p:nvPr/>
            </p:nvSpPr>
            <p:spPr>
              <a:xfrm>
                <a:off x="1362960" y="2059200"/>
                <a:ext cx="1739880" cy="174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8"/>
              <p:cNvSpPr/>
              <p:nvPr/>
            </p:nvSpPr>
            <p:spPr>
              <a:xfrm>
                <a:off x="1381320" y="2076480"/>
                <a:ext cx="1654560" cy="1632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19"/>
              <p:cNvSpPr/>
              <p:nvPr/>
            </p:nvSpPr>
            <p:spPr>
              <a:xfrm>
                <a:off x="1478160" y="2122200"/>
                <a:ext cx="1470960" cy="1324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Oval 20"/>
            <p:cNvSpPr/>
            <p:nvPr/>
          </p:nvSpPr>
          <p:spPr>
            <a:xfrm>
              <a:off x="4358160" y="271296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ffffff">
                    <a:alpha val="0"/>
                  </a:srgbClr>
                </a:gs>
                <a:gs pos="100000">
                  <a:srgbClr val="cc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4192920" y="2712960"/>
              <a:ext cx="2043360" cy="48024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50000">
                  <a:srgbClr val="88792d"/>
                </a:gs>
                <a:gs pos="100000">
                  <a:srgbClr val="ff61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3"/>
            <p:cNvSpPr/>
            <p:nvPr/>
          </p:nvSpPr>
          <p:spPr>
            <a:xfrm>
              <a:off x="4192920" y="2717280"/>
              <a:ext cx="2046960" cy="482040"/>
            </a:xfrm>
            <a:prstGeom prst="ellipse">
              <a:avLst/>
            </a:prstGeom>
            <a:gradFill rotWithShape="0">
              <a:gsLst>
                <a:gs pos="0">
                  <a:srgbClr val="ff6161">
                    <a:alpha val="0"/>
                  </a:srgbClr>
                </a:gs>
                <a:gs pos="100000">
                  <a:srgbClr val="9f8e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4"/>
            <p:cNvSpPr/>
            <p:nvPr/>
          </p:nvSpPr>
          <p:spPr>
            <a:xfrm>
              <a:off x="4295520" y="2711160"/>
              <a:ext cx="1841760" cy="482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326120" y="2049480"/>
              <a:ext cx="1778760" cy="1791360"/>
              <a:chOff x="4326120" y="2049480"/>
              <a:chExt cx="1778760" cy="1791360"/>
            </a:xfrm>
          </p:grpSpPr>
          <p:sp>
            <p:nvSpPr>
              <p:cNvPr id="613" name="Oval 26"/>
              <p:cNvSpPr/>
              <p:nvPr/>
            </p:nvSpPr>
            <p:spPr>
              <a:xfrm>
                <a:off x="4326120" y="2049480"/>
                <a:ext cx="1778760" cy="1791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27"/>
              <p:cNvSpPr/>
              <p:nvPr/>
            </p:nvSpPr>
            <p:spPr>
              <a:xfrm>
                <a:off x="4348800" y="2059200"/>
                <a:ext cx="1735920" cy="174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28"/>
              <p:cNvSpPr/>
              <p:nvPr/>
            </p:nvSpPr>
            <p:spPr>
              <a:xfrm>
                <a:off x="4367160" y="2076480"/>
                <a:ext cx="1650600" cy="1632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29"/>
              <p:cNvSpPr/>
              <p:nvPr/>
            </p:nvSpPr>
            <p:spPr>
              <a:xfrm>
                <a:off x="4464000" y="2122200"/>
                <a:ext cx="1467360" cy="1324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7317720" y="2049480"/>
              <a:ext cx="1785240" cy="1791360"/>
              <a:chOff x="7317720" y="2049480"/>
              <a:chExt cx="1785240" cy="1791360"/>
            </a:xfrm>
          </p:grpSpPr>
          <p:sp>
            <p:nvSpPr>
              <p:cNvPr id="618" name="Oval 31"/>
              <p:cNvSpPr/>
              <p:nvPr/>
            </p:nvSpPr>
            <p:spPr>
              <a:xfrm>
                <a:off x="7317720" y="2049480"/>
                <a:ext cx="1785240" cy="1791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32"/>
              <p:cNvSpPr/>
              <p:nvPr/>
            </p:nvSpPr>
            <p:spPr>
              <a:xfrm>
                <a:off x="7340400" y="2059200"/>
                <a:ext cx="1742040" cy="174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33"/>
              <p:cNvSpPr/>
              <p:nvPr/>
            </p:nvSpPr>
            <p:spPr>
              <a:xfrm>
                <a:off x="7358760" y="2076480"/>
                <a:ext cx="1656720" cy="1632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34"/>
              <p:cNvSpPr/>
              <p:nvPr/>
            </p:nvSpPr>
            <p:spPr>
              <a:xfrm>
                <a:off x="7455960" y="2122200"/>
                <a:ext cx="1472760" cy="1324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AutoShape 35"/>
            <p:cNvSpPr/>
            <p:nvPr/>
          </p:nvSpPr>
          <p:spPr>
            <a:xfrm>
              <a:off x="1106640" y="4724640"/>
              <a:ext cx="2242800" cy="564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编辑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36"/>
            <p:cNvSpPr/>
            <p:nvPr/>
          </p:nvSpPr>
          <p:spPr>
            <a:xfrm>
              <a:off x="4087800" y="4724640"/>
              <a:ext cx="2243160" cy="564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编辑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37"/>
            <p:cNvSpPr/>
            <p:nvPr/>
          </p:nvSpPr>
          <p:spPr>
            <a:xfrm>
              <a:off x="7087320" y="4724640"/>
              <a:ext cx="2244960" cy="564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编辑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1868040" y="2781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编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39"/>
            <p:cNvSpPr/>
            <p:nvPr/>
          </p:nvSpPr>
          <p:spPr>
            <a:xfrm>
              <a:off x="4862880" y="2781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编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40"/>
            <p:cNvSpPr/>
            <p:nvPr/>
          </p:nvSpPr>
          <p:spPr>
            <a:xfrm>
              <a:off x="7851240" y="2781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编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68320" y="2330280"/>
            <a:ext cx="699840" cy="606600"/>
            <a:chOff x="1768320" y="2330280"/>
            <a:chExt cx="699840" cy="606600"/>
          </a:xfrm>
        </p:grpSpPr>
        <p:sp>
          <p:nvSpPr>
            <p:cNvPr id="83" name=""/>
            <p:cNvSpPr/>
            <p:nvPr/>
          </p:nvSpPr>
          <p:spPr>
            <a:xfrm>
              <a:off x="1768320" y="2330280"/>
              <a:ext cx="699840" cy="606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82720" y="2339280"/>
              <a:ext cx="670320" cy="584640"/>
              <a:chOff x="1782720" y="2339280"/>
              <a:chExt cx="670320" cy="584640"/>
            </a:xfrm>
          </p:grpSpPr>
          <p:sp>
            <p:nvSpPr>
              <p:cNvPr id="85" name=""/>
              <p:cNvSpPr/>
              <p:nvPr/>
            </p:nvSpPr>
            <p:spPr>
              <a:xfrm>
                <a:off x="1782720" y="2339280"/>
                <a:ext cx="670320" cy="5846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91720" y="2342160"/>
                <a:ext cx="652320" cy="570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98920" y="2346840"/>
                <a:ext cx="621360" cy="533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33120" y="2362680"/>
                <a:ext cx="554040" cy="43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1892160" y="2400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635200" y="3147840"/>
            <a:ext cx="6066000" cy="687600"/>
            <a:chOff x="2635200" y="3147840"/>
            <a:chExt cx="6066000" cy="687600"/>
          </a:xfrm>
        </p:grpSpPr>
        <p:sp>
          <p:nvSpPr>
            <p:cNvPr id="91" name=""/>
            <p:cNvSpPr/>
            <p:nvPr/>
          </p:nvSpPr>
          <p:spPr>
            <a:xfrm>
              <a:off x="2635200" y="3147840"/>
              <a:ext cx="6066000" cy="6876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e8e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649960" y="3169080"/>
              <a:ext cx="6043320" cy="635400"/>
              <a:chOff x="2649960" y="3169080"/>
              <a:chExt cx="6043320" cy="635400"/>
            </a:xfrm>
          </p:grpSpPr>
          <p:sp>
            <p:nvSpPr>
              <p:cNvPr id="93" name=""/>
              <p:cNvSpPr/>
              <p:nvPr/>
            </p:nvSpPr>
            <p:spPr>
              <a:xfrm>
                <a:off x="2649960" y="363996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49960" y="316908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31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635200" y="4010040"/>
            <a:ext cx="6066000" cy="687240"/>
            <a:chOff x="2635200" y="4010040"/>
            <a:chExt cx="6066000" cy="687240"/>
          </a:xfrm>
        </p:grpSpPr>
        <p:sp>
          <p:nvSpPr>
            <p:cNvPr id="96" name=""/>
            <p:cNvSpPr/>
            <p:nvPr/>
          </p:nvSpPr>
          <p:spPr>
            <a:xfrm>
              <a:off x="2635200" y="4010040"/>
              <a:ext cx="6066000" cy="68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2fbe2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649960" y="4031280"/>
              <a:ext cx="6043320" cy="635400"/>
              <a:chOff x="2649960" y="4031280"/>
              <a:chExt cx="6043320" cy="635400"/>
            </a:xfrm>
          </p:grpSpPr>
          <p:sp>
            <p:nvSpPr>
              <p:cNvPr id="98" name=""/>
              <p:cNvSpPr/>
              <p:nvPr/>
            </p:nvSpPr>
            <p:spPr>
              <a:xfrm>
                <a:off x="2649960" y="450216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49960" y="403128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a8d02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2635200" y="4865760"/>
            <a:ext cx="6066000" cy="687240"/>
            <a:chOff x="2635200" y="4865760"/>
            <a:chExt cx="6066000" cy="687240"/>
          </a:xfrm>
        </p:grpSpPr>
        <p:sp>
          <p:nvSpPr>
            <p:cNvPr id="101" name=""/>
            <p:cNvSpPr/>
            <p:nvPr/>
          </p:nvSpPr>
          <p:spPr>
            <a:xfrm>
              <a:off x="2635200" y="4865760"/>
              <a:ext cx="6066000" cy="68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005fee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649960" y="4887000"/>
              <a:ext cx="6043320" cy="635400"/>
              <a:chOff x="2649960" y="4887000"/>
              <a:chExt cx="6043320" cy="635400"/>
            </a:xfrm>
          </p:grpSpPr>
          <p:sp>
            <p:nvSpPr>
              <p:cNvPr id="103" name=""/>
              <p:cNvSpPr/>
              <p:nvPr/>
            </p:nvSpPr>
            <p:spPr>
              <a:xfrm>
                <a:off x="2649960" y="535788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9960" y="488700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cb1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2635200" y="2286000"/>
            <a:ext cx="6066000" cy="687240"/>
            <a:chOff x="2635200" y="2286000"/>
            <a:chExt cx="6066000" cy="687240"/>
          </a:xfrm>
        </p:grpSpPr>
        <p:sp>
          <p:nvSpPr>
            <p:cNvPr id="106" name=""/>
            <p:cNvSpPr/>
            <p:nvPr/>
          </p:nvSpPr>
          <p:spPr>
            <a:xfrm>
              <a:off x="2635200" y="2286000"/>
              <a:ext cx="6066000" cy="6872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3300"/>
                </a:gs>
                <a:gs pos="50000">
                  <a:srgbClr val="be2f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649960" y="2307240"/>
              <a:ext cx="6043320" cy="635400"/>
              <a:chOff x="2649960" y="2307240"/>
              <a:chExt cx="6043320" cy="635400"/>
            </a:xfrm>
          </p:grpSpPr>
          <p:sp>
            <p:nvSpPr>
              <p:cNvPr id="108" name=""/>
              <p:cNvSpPr/>
              <p:nvPr/>
            </p:nvSpPr>
            <p:spPr>
              <a:xfrm>
                <a:off x="2649960" y="277812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6161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49960" y="2307240"/>
                <a:ext cx="6043320" cy="16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616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044880" y="2400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7480" y="32558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7480" y="41115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7480" y="49579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68320" y="3173400"/>
            <a:ext cx="699840" cy="606600"/>
            <a:chOff x="1768320" y="3173400"/>
            <a:chExt cx="699840" cy="606600"/>
          </a:xfrm>
        </p:grpSpPr>
        <p:sp>
          <p:nvSpPr>
            <p:cNvPr id="115" name=""/>
            <p:cNvSpPr/>
            <p:nvPr/>
          </p:nvSpPr>
          <p:spPr>
            <a:xfrm>
              <a:off x="1768320" y="3173400"/>
              <a:ext cx="699840" cy="606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782720" y="3182400"/>
              <a:ext cx="670320" cy="584640"/>
              <a:chOff x="1782720" y="3182400"/>
              <a:chExt cx="670320" cy="584640"/>
            </a:xfrm>
          </p:grpSpPr>
          <p:sp>
            <p:nvSpPr>
              <p:cNvPr id="117" name=""/>
              <p:cNvSpPr/>
              <p:nvPr/>
            </p:nvSpPr>
            <p:spPr>
              <a:xfrm>
                <a:off x="1782720" y="3182400"/>
                <a:ext cx="670320" cy="5846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91720" y="3185280"/>
                <a:ext cx="652320" cy="570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98920" y="3189960"/>
                <a:ext cx="621360" cy="533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33120" y="3205800"/>
                <a:ext cx="554040" cy="43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1892160" y="3243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68320" y="4041720"/>
            <a:ext cx="699840" cy="606600"/>
            <a:chOff x="1768320" y="4041720"/>
            <a:chExt cx="699840" cy="606600"/>
          </a:xfrm>
        </p:grpSpPr>
        <p:sp>
          <p:nvSpPr>
            <p:cNvPr id="123" name=""/>
            <p:cNvSpPr/>
            <p:nvPr/>
          </p:nvSpPr>
          <p:spPr>
            <a:xfrm>
              <a:off x="1768320" y="4041720"/>
              <a:ext cx="699840" cy="606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82720" y="4050720"/>
              <a:ext cx="670320" cy="584640"/>
              <a:chOff x="1782720" y="4050720"/>
              <a:chExt cx="670320" cy="584640"/>
            </a:xfrm>
          </p:grpSpPr>
          <p:sp>
            <p:nvSpPr>
              <p:cNvPr id="125" name=""/>
              <p:cNvSpPr/>
              <p:nvPr/>
            </p:nvSpPr>
            <p:spPr>
              <a:xfrm>
                <a:off x="1782720" y="4050720"/>
                <a:ext cx="670320" cy="5846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791720" y="4053600"/>
                <a:ext cx="652320" cy="570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98920" y="4058280"/>
                <a:ext cx="621360" cy="533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33120" y="4074120"/>
                <a:ext cx="554040" cy="43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892160" y="4111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8320" y="4876920"/>
            <a:ext cx="699840" cy="606240"/>
            <a:chOff x="1768320" y="4876920"/>
            <a:chExt cx="699840" cy="606240"/>
          </a:xfrm>
        </p:grpSpPr>
        <p:sp>
          <p:nvSpPr>
            <p:cNvPr id="131" name=""/>
            <p:cNvSpPr/>
            <p:nvPr/>
          </p:nvSpPr>
          <p:spPr>
            <a:xfrm>
              <a:off x="1768320" y="4876920"/>
              <a:ext cx="699840" cy="6062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782720" y="4885920"/>
              <a:ext cx="670320" cy="584280"/>
              <a:chOff x="1782720" y="4885920"/>
              <a:chExt cx="670320" cy="584280"/>
            </a:xfrm>
          </p:grpSpPr>
          <p:sp>
            <p:nvSpPr>
              <p:cNvPr id="133" name=""/>
              <p:cNvSpPr/>
              <p:nvPr/>
            </p:nvSpPr>
            <p:spPr>
              <a:xfrm>
                <a:off x="1782720" y="4885920"/>
                <a:ext cx="670320" cy="584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91720" y="4888800"/>
                <a:ext cx="652320" cy="569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98920" y="4893480"/>
                <a:ext cx="621360" cy="5335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33120" y="4909320"/>
                <a:ext cx="554040" cy="432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892160" y="4946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reeform 64"/>
          <p:cNvSpPr/>
          <p:nvPr/>
        </p:nvSpPr>
        <p:spPr>
          <a:xfrm>
            <a:off x="3990960" y="3886200"/>
            <a:ext cx="3745080" cy="196992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1969920"/>
              <a:gd name="textAreaBottom" fmla="*/ 1970280 h 1969920"/>
            </a:gdLst>
            <a:ahLst/>
            <a:rect l="textAreaLeft" t="textAreaTop" r="textAreaRight" b="textAreaBottom"/>
            <a:pathLst>
              <a:path w="2351" h="1237">
                <a:moveTo>
                  <a:pt x="1182" y="1222"/>
                </a:moveTo>
                <a:lnTo>
                  <a:pt x="1206" y="1218"/>
                </a:lnTo>
                <a:lnTo>
                  <a:pt x="1238" y="1212"/>
                </a:lnTo>
                <a:lnTo>
                  <a:pt x="1271" y="1206"/>
                </a:lnTo>
                <a:lnTo>
                  <a:pt x="1294" y="1200"/>
                </a:lnTo>
                <a:lnTo>
                  <a:pt x="1321" y="1194"/>
                </a:lnTo>
                <a:lnTo>
                  <a:pt x="1348" y="1185"/>
                </a:lnTo>
                <a:lnTo>
                  <a:pt x="1375" y="1179"/>
                </a:lnTo>
                <a:lnTo>
                  <a:pt x="1399" y="1171"/>
                </a:lnTo>
                <a:lnTo>
                  <a:pt x="1426" y="1160"/>
                </a:lnTo>
                <a:lnTo>
                  <a:pt x="1459" y="1148"/>
                </a:lnTo>
                <a:lnTo>
                  <a:pt x="1488" y="1136"/>
                </a:lnTo>
                <a:lnTo>
                  <a:pt x="1515" y="1123"/>
                </a:lnTo>
                <a:lnTo>
                  <a:pt x="1546" y="1110"/>
                </a:lnTo>
                <a:lnTo>
                  <a:pt x="1575" y="1095"/>
                </a:lnTo>
                <a:lnTo>
                  <a:pt x="1602" y="1082"/>
                </a:lnTo>
                <a:lnTo>
                  <a:pt x="1626" y="1066"/>
                </a:lnTo>
                <a:lnTo>
                  <a:pt x="1649" y="1052"/>
                </a:lnTo>
                <a:lnTo>
                  <a:pt x="1672" y="1036"/>
                </a:lnTo>
                <a:lnTo>
                  <a:pt x="1698" y="1021"/>
                </a:lnTo>
                <a:lnTo>
                  <a:pt x="1726" y="1002"/>
                </a:lnTo>
                <a:lnTo>
                  <a:pt x="1752" y="983"/>
                </a:lnTo>
                <a:lnTo>
                  <a:pt x="1776" y="965"/>
                </a:lnTo>
                <a:lnTo>
                  <a:pt x="1798" y="948"/>
                </a:lnTo>
                <a:lnTo>
                  <a:pt x="1835" y="919"/>
                </a:lnTo>
                <a:lnTo>
                  <a:pt x="1869" y="889"/>
                </a:lnTo>
                <a:lnTo>
                  <a:pt x="1903" y="855"/>
                </a:lnTo>
                <a:lnTo>
                  <a:pt x="1938" y="816"/>
                </a:lnTo>
                <a:lnTo>
                  <a:pt x="1962" y="788"/>
                </a:lnTo>
                <a:lnTo>
                  <a:pt x="1989" y="756"/>
                </a:lnTo>
                <a:lnTo>
                  <a:pt x="2019" y="721"/>
                </a:lnTo>
                <a:lnTo>
                  <a:pt x="2044" y="686"/>
                </a:lnTo>
                <a:lnTo>
                  <a:pt x="2068" y="648"/>
                </a:lnTo>
                <a:lnTo>
                  <a:pt x="2098" y="605"/>
                </a:lnTo>
                <a:lnTo>
                  <a:pt x="2351" y="753"/>
                </a:lnTo>
                <a:lnTo>
                  <a:pt x="2103" y="0"/>
                </a:lnTo>
                <a:lnTo>
                  <a:pt x="1299" y="143"/>
                </a:lnTo>
                <a:lnTo>
                  <a:pt x="1570" y="296"/>
                </a:lnTo>
                <a:lnTo>
                  <a:pt x="1547" y="329"/>
                </a:lnTo>
                <a:lnTo>
                  <a:pt x="1523" y="357"/>
                </a:lnTo>
                <a:lnTo>
                  <a:pt x="1498" y="385"/>
                </a:lnTo>
                <a:lnTo>
                  <a:pt x="1474" y="412"/>
                </a:lnTo>
                <a:lnTo>
                  <a:pt x="1454" y="433"/>
                </a:lnTo>
                <a:lnTo>
                  <a:pt x="1432" y="455"/>
                </a:lnTo>
                <a:lnTo>
                  <a:pt x="1408" y="474"/>
                </a:lnTo>
                <a:lnTo>
                  <a:pt x="1381" y="494"/>
                </a:lnTo>
                <a:lnTo>
                  <a:pt x="1349" y="516"/>
                </a:lnTo>
                <a:lnTo>
                  <a:pt x="1322" y="534"/>
                </a:lnTo>
                <a:lnTo>
                  <a:pt x="1299" y="547"/>
                </a:lnTo>
                <a:lnTo>
                  <a:pt x="1265" y="566"/>
                </a:lnTo>
                <a:lnTo>
                  <a:pt x="1236" y="578"/>
                </a:lnTo>
                <a:lnTo>
                  <a:pt x="1210" y="586"/>
                </a:lnTo>
                <a:lnTo>
                  <a:pt x="1183" y="595"/>
                </a:lnTo>
                <a:lnTo>
                  <a:pt x="1144" y="606"/>
                </a:lnTo>
                <a:lnTo>
                  <a:pt x="1105" y="612"/>
                </a:lnTo>
                <a:lnTo>
                  <a:pt x="1066" y="616"/>
                </a:lnTo>
                <a:lnTo>
                  <a:pt x="1008" y="618"/>
                </a:lnTo>
                <a:lnTo>
                  <a:pt x="933" y="620"/>
                </a:lnTo>
                <a:lnTo>
                  <a:pt x="875" y="612"/>
                </a:lnTo>
                <a:lnTo>
                  <a:pt x="822" y="600"/>
                </a:lnTo>
                <a:lnTo>
                  <a:pt x="761" y="582"/>
                </a:lnTo>
                <a:lnTo>
                  <a:pt x="708" y="559"/>
                </a:lnTo>
                <a:lnTo>
                  <a:pt x="654" y="532"/>
                </a:lnTo>
                <a:lnTo>
                  <a:pt x="605" y="501"/>
                </a:lnTo>
                <a:lnTo>
                  <a:pt x="558" y="459"/>
                </a:lnTo>
                <a:lnTo>
                  <a:pt x="0" y="781"/>
                </a:lnTo>
                <a:lnTo>
                  <a:pt x="23" y="808"/>
                </a:lnTo>
                <a:lnTo>
                  <a:pt x="55" y="839"/>
                </a:lnTo>
                <a:lnTo>
                  <a:pt x="82" y="866"/>
                </a:lnTo>
                <a:lnTo>
                  <a:pt x="109" y="892"/>
                </a:lnTo>
                <a:lnTo>
                  <a:pt x="136" y="917"/>
                </a:lnTo>
                <a:lnTo>
                  <a:pt x="169" y="944"/>
                </a:lnTo>
                <a:lnTo>
                  <a:pt x="198" y="967"/>
                </a:lnTo>
                <a:lnTo>
                  <a:pt x="228" y="989"/>
                </a:lnTo>
                <a:lnTo>
                  <a:pt x="262" y="1010"/>
                </a:lnTo>
                <a:lnTo>
                  <a:pt x="294" y="1033"/>
                </a:lnTo>
                <a:lnTo>
                  <a:pt x="328" y="1055"/>
                </a:lnTo>
                <a:lnTo>
                  <a:pt x="359" y="1072"/>
                </a:lnTo>
                <a:lnTo>
                  <a:pt x="390" y="1090"/>
                </a:lnTo>
                <a:lnTo>
                  <a:pt x="419" y="1105"/>
                </a:lnTo>
                <a:lnTo>
                  <a:pt x="460" y="1123"/>
                </a:lnTo>
                <a:lnTo>
                  <a:pt x="497" y="1140"/>
                </a:lnTo>
                <a:lnTo>
                  <a:pt x="540" y="1156"/>
                </a:lnTo>
                <a:lnTo>
                  <a:pt x="573" y="1168"/>
                </a:lnTo>
                <a:lnTo>
                  <a:pt x="604" y="1180"/>
                </a:lnTo>
                <a:lnTo>
                  <a:pt x="640" y="1191"/>
                </a:lnTo>
                <a:lnTo>
                  <a:pt x="675" y="1200"/>
                </a:lnTo>
                <a:lnTo>
                  <a:pt x="710" y="1208"/>
                </a:lnTo>
                <a:lnTo>
                  <a:pt x="751" y="1216"/>
                </a:lnTo>
                <a:lnTo>
                  <a:pt x="791" y="1223"/>
                </a:lnTo>
                <a:lnTo>
                  <a:pt x="833" y="1229"/>
                </a:lnTo>
                <a:lnTo>
                  <a:pt x="876" y="1233"/>
                </a:lnTo>
                <a:lnTo>
                  <a:pt x="908" y="1234"/>
                </a:lnTo>
                <a:lnTo>
                  <a:pt x="953" y="1237"/>
                </a:lnTo>
                <a:lnTo>
                  <a:pt x="997" y="1237"/>
                </a:lnTo>
                <a:lnTo>
                  <a:pt x="1032" y="1235"/>
                </a:lnTo>
                <a:lnTo>
                  <a:pt x="1070" y="1234"/>
                </a:lnTo>
                <a:lnTo>
                  <a:pt x="1112" y="1231"/>
                </a:lnTo>
                <a:lnTo>
                  <a:pt x="1150" y="1226"/>
                </a:lnTo>
                <a:lnTo>
                  <a:pt x="1182" y="1222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55d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65"/>
          <p:cNvSpPr/>
          <p:nvPr/>
        </p:nvSpPr>
        <p:spPr>
          <a:xfrm>
            <a:off x="3344760" y="1752480"/>
            <a:ext cx="1898640" cy="351324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3513240"/>
              <a:gd name="textAreaBottom" fmla="*/ 3513600 h 3513240"/>
            </a:gdLst>
            <a:ahLst/>
            <a:rect l="textAreaLeft" t="textAreaTop" r="textAreaRight" b="textAreaBottom"/>
            <a:pathLst>
              <a:path w="1192" h="2205">
                <a:moveTo>
                  <a:pt x="1192" y="0"/>
                </a:moveTo>
                <a:lnTo>
                  <a:pt x="1166" y="4"/>
                </a:lnTo>
                <a:lnTo>
                  <a:pt x="1141" y="8"/>
                </a:lnTo>
                <a:lnTo>
                  <a:pt x="1106" y="16"/>
                </a:lnTo>
                <a:lnTo>
                  <a:pt x="1080" y="22"/>
                </a:lnTo>
                <a:lnTo>
                  <a:pt x="1053" y="30"/>
                </a:lnTo>
                <a:lnTo>
                  <a:pt x="1028" y="38"/>
                </a:lnTo>
                <a:lnTo>
                  <a:pt x="1001" y="45"/>
                </a:lnTo>
                <a:lnTo>
                  <a:pt x="975" y="53"/>
                </a:lnTo>
                <a:lnTo>
                  <a:pt x="948" y="64"/>
                </a:lnTo>
                <a:lnTo>
                  <a:pt x="916" y="76"/>
                </a:lnTo>
                <a:lnTo>
                  <a:pt x="889" y="88"/>
                </a:lnTo>
                <a:lnTo>
                  <a:pt x="861" y="100"/>
                </a:lnTo>
                <a:lnTo>
                  <a:pt x="831" y="113"/>
                </a:lnTo>
                <a:lnTo>
                  <a:pt x="801" y="128"/>
                </a:lnTo>
                <a:lnTo>
                  <a:pt x="774" y="142"/>
                </a:lnTo>
                <a:lnTo>
                  <a:pt x="749" y="158"/>
                </a:lnTo>
                <a:lnTo>
                  <a:pt x="726" y="171"/>
                </a:lnTo>
                <a:lnTo>
                  <a:pt x="703" y="188"/>
                </a:lnTo>
                <a:lnTo>
                  <a:pt x="677" y="202"/>
                </a:lnTo>
                <a:lnTo>
                  <a:pt x="649" y="221"/>
                </a:lnTo>
                <a:lnTo>
                  <a:pt x="623" y="241"/>
                </a:lnTo>
                <a:lnTo>
                  <a:pt x="599" y="260"/>
                </a:lnTo>
                <a:lnTo>
                  <a:pt x="576" y="276"/>
                </a:lnTo>
                <a:lnTo>
                  <a:pt x="539" y="307"/>
                </a:lnTo>
                <a:lnTo>
                  <a:pt x="501" y="344"/>
                </a:lnTo>
                <a:lnTo>
                  <a:pt x="471" y="371"/>
                </a:lnTo>
                <a:lnTo>
                  <a:pt x="436" y="410"/>
                </a:lnTo>
                <a:lnTo>
                  <a:pt x="412" y="438"/>
                </a:lnTo>
                <a:lnTo>
                  <a:pt x="385" y="470"/>
                </a:lnTo>
                <a:lnTo>
                  <a:pt x="355" y="507"/>
                </a:lnTo>
                <a:lnTo>
                  <a:pt x="331" y="540"/>
                </a:lnTo>
                <a:lnTo>
                  <a:pt x="307" y="579"/>
                </a:lnTo>
                <a:lnTo>
                  <a:pt x="283" y="617"/>
                </a:lnTo>
                <a:lnTo>
                  <a:pt x="258" y="658"/>
                </a:lnTo>
                <a:lnTo>
                  <a:pt x="238" y="693"/>
                </a:lnTo>
                <a:lnTo>
                  <a:pt x="219" y="736"/>
                </a:lnTo>
                <a:lnTo>
                  <a:pt x="200" y="777"/>
                </a:lnTo>
                <a:lnTo>
                  <a:pt x="184" y="821"/>
                </a:lnTo>
                <a:lnTo>
                  <a:pt x="168" y="868"/>
                </a:lnTo>
                <a:lnTo>
                  <a:pt x="148" y="926"/>
                </a:lnTo>
                <a:lnTo>
                  <a:pt x="134" y="980"/>
                </a:lnTo>
                <a:lnTo>
                  <a:pt x="121" y="1035"/>
                </a:lnTo>
                <a:lnTo>
                  <a:pt x="114" y="1089"/>
                </a:lnTo>
                <a:lnTo>
                  <a:pt x="105" y="1152"/>
                </a:lnTo>
                <a:lnTo>
                  <a:pt x="98" y="1230"/>
                </a:lnTo>
                <a:lnTo>
                  <a:pt x="97" y="1292"/>
                </a:lnTo>
                <a:lnTo>
                  <a:pt x="98" y="1353"/>
                </a:lnTo>
                <a:lnTo>
                  <a:pt x="103" y="1411"/>
                </a:lnTo>
                <a:lnTo>
                  <a:pt x="110" y="1464"/>
                </a:lnTo>
                <a:lnTo>
                  <a:pt x="117" y="1521"/>
                </a:lnTo>
                <a:lnTo>
                  <a:pt x="129" y="1579"/>
                </a:lnTo>
                <a:lnTo>
                  <a:pt x="145" y="1641"/>
                </a:lnTo>
                <a:lnTo>
                  <a:pt x="165" y="1704"/>
                </a:lnTo>
                <a:lnTo>
                  <a:pt x="186" y="1763"/>
                </a:lnTo>
                <a:lnTo>
                  <a:pt x="208" y="1821"/>
                </a:lnTo>
                <a:lnTo>
                  <a:pt x="235" y="1878"/>
                </a:lnTo>
                <a:lnTo>
                  <a:pt x="268" y="1932"/>
                </a:lnTo>
                <a:lnTo>
                  <a:pt x="0" y="2084"/>
                </a:lnTo>
                <a:lnTo>
                  <a:pt x="817" y="2205"/>
                </a:lnTo>
                <a:lnTo>
                  <a:pt x="1118" y="1454"/>
                </a:lnTo>
                <a:lnTo>
                  <a:pt x="804" y="1622"/>
                </a:lnTo>
                <a:lnTo>
                  <a:pt x="773" y="1574"/>
                </a:lnTo>
                <a:lnTo>
                  <a:pt x="754" y="1530"/>
                </a:lnTo>
                <a:lnTo>
                  <a:pt x="737" y="1486"/>
                </a:lnTo>
                <a:lnTo>
                  <a:pt x="725" y="1442"/>
                </a:lnTo>
                <a:lnTo>
                  <a:pt x="716" y="1398"/>
                </a:lnTo>
                <a:lnTo>
                  <a:pt x="714" y="1357"/>
                </a:lnTo>
                <a:lnTo>
                  <a:pt x="710" y="1315"/>
                </a:lnTo>
                <a:lnTo>
                  <a:pt x="710" y="1273"/>
                </a:lnTo>
                <a:lnTo>
                  <a:pt x="712" y="1223"/>
                </a:lnTo>
                <a:lnTo>
                  <a:pt x="718" y="1175"/>
                </a:lnTo>
                <a:lnTo>
                  <a:pt x="729" y="1121"/>
                </a:lnTo>
                <a:lnTo>
                  <a:pt x="741" y="1078"/>
                </a:lnTo>
                <a:lnTo>
                  <a:pt x="760" y="1029"/>
                </a:lnTo>
                <a:lnTo>
                  <a:pt x="776" y="988"/>
                </a:lnTo>
                <a:lnTo>
                  <a:pt x="799" y="947"/>
                </a:lnTo>
                <a:lnTo>
                  <a:pt x="817" y="916"/>
                </a:lnTo>
                <a:lnTo>
                  <a:pt x="836" y="891"/>
                </a:lnTo>
                <a:lnTo>
                  <a:pt x="855" y="865"/>
                </a:lnTo>
                <a:lnTo>
                  <a:pt x="877" y="839"/>
                </a:lnTo>
                <a:lnTo>
                  <a:pt x="900" y="813"/>
                </a:lnTo>
                <a:lnTo>
                  <a:pt x="920" y="794"/>
                </a:lnTo>
                <a:lnTo>
                  <a:pt x="943" y="769"/>
                </a:lnTo>
                <a:lnTo>
                  <a:pt x="966" y="751"/>
                </a:lnTo>
                <a:lnTo>
                  <a:pt x="993" y="730"/>
                </a:lnTo>
                <a:lnTo>
                  <a:pt x="1025" y="709"/>
                </a:lnTo>
                <a:lnTo>
                  <a:pt x="1052" y="691"/>
                </a:lnTo>
                <a:lnTo>
                  <a:pt x="1075" y="678"/>
                </a:lnTo>
                <a:lnTo>
                  <a:pt x="1109" y="659"/>
                </a:lnTo>
                <a:lnTo>
                  <a:pt x="1141" y="645"/>
                </a:lnTo>
                <a:lnTo>
                  <a:pt x="1192" y="631"/>
                </a:lnTo>
                <a:lnTo>
                  <a:pt x="1192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8d02a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66"/>
          <p:cNvSpPr/>
          <p:nvPr/>
        </p:nvSpPr>
        <p:spPr>
          <a:xfrm>
            <a:off x="4800600" y="1295280"/>
            <a:ext cx="2822400" cy="317988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179880"/>
              <a:gd name="textAreaBottom" fmla="*/ 3180240 h 3179880"/>
            </a:gdLst>
            <a:ahLst/>
            <a:rect l="textAreaLeft" t="textAreaTop" r="textAreaRight" b="textAreaBottom"/>
            <a:pathLst>
              <a:path w="1772" h="1996">
                <a:moveTo>
                  <a:pt x="675" y="293"/>
                </a:moveTo>
                <a:lnTo>
                  <a:pt x="699" y="297"/>
                </a:lnTo>
                <a:lnTo>
                  <a:pt x="732" y="302"/>
                </a:lnTo>
                <a:lnTo>
                  <a:pt x="764" y="310"/>
                </a:lnTo>
                <a:lnTo>
                  <a:pt x="787" y="315"/>
                </a:lnTo>
                <a:lnTo>
                  <a:pt x="814" y="322"/>
                </a:lnTo>
                <a:lnTo>
                  <a:pt x="839" y="330"/>
                </a:lnTo>
                <a:lnTo>
                  <a:pt x="866" y="338"/>
                </a:lnTo>
                <a:lnTo>
                  <a:pt x="891" y="345"/>
                </a:lnTo>
                <a:lnTo>
                  <a:pt x="919" y="356"/>
                </a:lnTo>
                <a:lnTo>
                  <a:pt x="951" y="369"/>
                </a:lnTo>
                <a:lnTo>
                  <a:pt x="979" y="380"/>
                </a:lnTo>
                <a:lnTo>
                  <a:pt x="1006" y="392"/>
                </a:lnTo>
                <a:lnTo>
                  <a:pt x="1037" y="406"/>
                </a:lnTo>
                <a:lnTo>
                  <a:pt x="1067" y="421"/>
                </a:lnTo>
                <a:lnTo>
                  <a:pt x="1094" y="434"/>
                </a:lnTo>
                <a:lnTo>
                  <a:pt x="1120" y="450"/>
                </a:lnTo>
                <a:lnTo>
                  <a:pt x="1142" y="464"/>
                </a:lnTo>
                <a:lnTo>
                  <a:pt x="1165" y="480"/>
                </a:lnTo>
                <a:lnTo>
                  <a:pt x="1191" y="495"/>
                </a:lnTo>
                <a:lnTo>
                  <a:pt x="1219" y="513"/>
                </a:lnTo>
                <a:lnTo>
                  <a:pt x="1245" y="532"/>
                </a:lnTo>
                <a:lnTo>
                  <a:pt x="1269" y="551"/>
                </a:lnTo>
                <a:lnTo>
                  <a:pt x="1292" y="569"/>
                </a:lnTo>
                <a:lnTo>
                  <a:pt x="1328" y="600"/>
                </a:lnTo>
                <a:lnTo>
                  <a:pt x="1366" y="635"/>
                </a:lnTo>
                <a:lnTo>
                  <a:pt x="1396" y="662"/>
                </a:lnTo>
                <a:lnTo>
                  <a:pt x="1431" y="701"/>
                </a:lnTo>
                <a:lnTo>
                  <a:pt x="1455" y="729"/>
                </a:lnTo>
                <a:lnTo>
                  <a:pt x="1482" y="761"/>
                </a:lnTo>
                <a:lnTo>
                  <a:pt x="1512" y="798"/>
                </a:lnTo>
                <a:lnTo>
                  <a:pt x="1536" y="833"/>
                </a:lnTo>
                <a:lnTo>
                  <a:pt x="1560" y="872"/>
                </a:lnTo>
                <a:lnTo>
                  <a:pt x="1586" y="909"/>
                </a:lnTo>
                <a:lnTo>
                  <a:pt x="1607" y="950"/>
                </a:lnTo>
                <a:lnTo>
                  <a:pt x="1629" y="985"/>
                </a:lnTo>
                <a:lnTo>
                  <a:pt x="1649" y="1028"/>
                </a:lnTo>
                <a:lnTo>
                  <a:pt x="1668" y="1070"/>
                </a:lnTo>
                <a:lnTo>
                  <a:pt x="1684" y="1113"/>
                </a:lnTo>
                <a:lnTo>
                  <a:pt x="1700" y="1160"/>
                </a:lnTo>
                <a:lnTo>
                  <a:pt x="1720" y="1218"/>
                </a:lnTo>
                <a:lnTo>
                  <a:pt x="1734" y="1272"/>
                </a:lnTo>
                <a:lnTo>
                  <a:pt x="1747" y="1327"/>
                </a:lnTo>
                <a:lnTo>
                  <a:pt x="1754" y="1381"/>
                </a:lnTo>
                <a:lnTo>
                  <a:pt x="1764" y="1444"/>
                </a:lnTo>
                <a:lnTo>
                  <a:pt x="1770" y="1522"/>
                </a:lnTo>
                <a:lnTo>
                  <a:pt x="1772" y="1583"/>
                </a:lnTo>
                <a:lnTo>
                  <a:pt x="1770" y="1644"/>
                </a:lnTo>
                <a:lnTo>
                  <a:pt x="1765" y="1701"/>
                </a:lnTo>
                <a:lnTo>
                  <a:pt x="1758" y="1755"/>
                </a:lnTo>
                <a:lnTo>
                  <a:pt x="1751" y="1812"/>
                </a:lnTo>
                <a:lnTo>
                  <a:pt x="1739" y="1870"/>
                </a:lnTo>
                <a:lnTo>
                  <a:pt x="1723" y="1932"/>
                </a:lnTo>
                <a:lnTo>
                  <a:pt x="1703" y="1996"/>
                </a:lnTo>
                <a:lnTo>
                  <a:pt x="1587" y="1635"/>
                </a:lnTo>
                <a:lnTo>
                  <a:pt x="1145" y="1711"/>
                </a:lnTo>
                <a:lnTo>
                  <a:pt x="1155" y="1648"/>
                </a:lnTo>
                <a:lnTo>
                  <a:pt x="1159" y="1607"/>
                </a:lnTo>
                <a:lnTo>
                  <a:pt x="1159" y="1564"/>
                </a:lnTo>
                <a:lnTo>
                  <a:pt x="1156" y="1514"/>
                </a:lnTo>
                <a:lnTo>
                  <a:pt x="1149" y="1467"/>
                </a:lnTo>
                <a:lnTo>
                  <a:pt x="1140" y="1413"/>
                </a:lnTo>
                <a:lnTo>
                  <a:pt x="1128" y="1370"/>
                </a:lnTo>
                <a:lnTo>
                  <a:pt x="1109" y="1322"/>
                </a:lnTo>
                <a:lnTo>
                  <a:pt x="1091" y="1280"/>
                </a:lnTo>
                <a:lnTo>
                  <a:pt x="1070" y="1239"/>
                </a:lnTo>
                <a:lnTo>
                  <a:pt x="1051" y="1208"/>
                </a:lnTo>
                <a:lnTo>
                  <a:pt x="1032" y="1183"/>
                </a:lnTo>
                <a:lnTo>
                  <a:pt x="1013" y="1157"/>
                </a:lnTo>
                <a:lnTo>
                  <a:pt x="992" y="1132"/>
                </a:lnTo>
                <a:lnTo>
                  <a:pt x="967" y="1105"/>
                </a:lnTo>
                <a:lnTo>
                  <a:pt x="947" y="1086"/>
                </a:lnTo>
                <a:lnTo>
                  <a:pt x="924" y="1063"/>
                </a:lnTo>
                <a:lnTo>
                  <a:pt x="901" y="1043"/>
                </a:lnTo>
                <a:lnTo>
                  <a:pt x="874" y="1023"/>
                </a:lnTo>
                <a:lnTo>
                  <a:pt x="842" y="1002"/>
                </a:lnTo>
                <a:lnTo>
                  <a:pt x="815" y="984"/>
                </a:lnTo>
                <a:lnTo>
                  <a:pt x="792" y="971"/>
                </a:lnTo>
                <a:lnTo>
                  <a:pt x="758" y="951"/>
                </a:lnTo>
                <a:lnTo>
                  <a:pt x="729" y="940"/>
                </a:lnTo>
                <a:lnTo>
                  <a:pt x="703" y="931"/>
                </a:lnTo>
                <a:lnTo>
                  <a:pt x="676" y="922"/>
                </a:lnTo>
                <a:lnTo>
                  <a:pt x="636" y="912"/>
                </a:lnTo>
                <a:lnTo>
                  <a:pt x="598" y="905"/>
                </a:lnTo>
                <a:lnTo>
                  <a:pt x="559" y="901"/>
                </a:lnTo>
                <a:lnTo>
                  <a:pt x="520" y="899"/>
                </a:lnTo>
                <a:lnTo>
                  <a:pt x="498" y="897"/>
                </a:lnTo>
                <a:lnTo>
                  <a:pt x="498" y="1222"/>
                </a:lnTo>
                <a:lnTo>
                  <a:pt x="0" y="620"/>
                </a:lnTo>
                <a:lnTo>
                  <a:pt x="497" y="0"/>
                </a:lnTo>
                <a:lnTo>
                  <a:pt x="497" y="279"/>
                </a:lnTo>
                <a:lnTo>
                  <a:pt x="524" y="280"/>
                </a:lnTo>
                <a:lnTo>
                  <a:pt x="563" y="282"/>
                </a:lnTo>
                <a:lnTo>
                  <a:pt x="604" y="285"/>
                </a:lnTo>
                <a:lnTo>
                  <a:pt x="643" y="289"/>
                </a:lnTo>
                <a:lnTo>
                  <a:pt x="675" y="293"/>
                </a:lnTo>
                <a:close/>
              </a:path>
            </a:pathLst>
          </a:custGeom>
          <a:gradFill rotWithShape="0">
            <a:gsLst>
              <a:gs pos="0">
                <a:srgbClr val="2683da"/>
              </a:gs>
              <a:gs pos="100000">
                <a:srgbClr val="113b6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68"/>
          <p:cNvSpPr txBox="1"/>
          <p:nvPr/>
        </p:nvSpPr>
        <p:spPr>
          <a:xfrm rot="2760000">
            <a:off x="5340240" y="2689200"/>
            <a:ext cx="2136600" cy="74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145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点击编辑文字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3" name="WordArt 69"/>
          <p:cNvSpPr txBox="1"/>
          <p:nvPr/>
        </p:nvSpPr>
        <p:spPr>
          <a:xfrm rot="9840000">
            <a:off x="4571640" y="4041360"/>
            <a:ext cx="2354400" cy="12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279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点击编辑文字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4" name="WordArt 70"/>
          <p:cNvSpPr txBox="1"/>
          <p:nvPr/>
        </p:nvSpPr>
        <p:spPr>
          <a:xfrm rot="16800000">
            <a:off x="3503520" y="3068280"/>
            <a:ext cx="232740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419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点击编辑文字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5" name="Line 72"/>
          <p:cNvSpPr/>
          <p:nvPr/>
        </p:nvSpPr>
        <p:spPr>
          <a:xfrm>
            <a:off x="7128000" y="2803680"/>
            <a:ext cx="20541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73"/>
          <p:cNvSpPr/>
          <p:nvPr/>
        </p:nvSpPr>
        <p:spPr>
          <a:xfrm>
            <a:off x="1815840" y="2868480"/>
            <a:ext cx="9464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74"/>
          <p:cNvSpPr/>
          <p:nvPr/>
        </p:nvSpPr>
        <p:spPr>
          <a:xfrm>
            <a:off x="1549440" y="3425760"/>
            <a:ext cx="22464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3"/>
          <p:cNvSpPr/>
          <p:nvPr/>
        </p:nvSpPr>
        <p:spPr>
          <a:xfrm>
            <a:off x="7853040" y="2222640"/>
            <a:ext cx="9464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AutoShape 28"/>
          <p:cNvSpPr/>
          <p:nvPr/>
        </p:nvSpPr>
        <p:spPr>
          <a:xfrm>
            <a:off x="1863720" y="4251240"/>
            <a:ext cx="1901880" cy="1263600"/>
          </a:xfrm>
          <a:prstGeom prst="roundRect">
            <a:avLst>
              <a:gd name="adj" fmla="val 6185"/>
            </a:avLst>
          </a:prstGeom>
          <a:noFill/>
          <a:ln w="19080">
            <a:solidFill>
              <a:srgbClr val="006666"/>
            </a:solidFill>
            <a:miter/>
          </a:ln>
          <a:effectLst>
            <a:outerShdw dist="17819" dir="2700000" blurRad="0" rotWithShape="0">
              <a:srgbClr val="003d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4"/>
          <p:cNvSpPr/>
          <p:nvPr/>
        </p:nvSpPr>
        <p:spPr>
          <a:xfrm>
            <a:off x="1739880" y="3424320"/>
            <a:ext cx="2755800" cy="566640"/>
          </a:xfrm>
          <a:prstGeom prst="parallelogram">
            <a:avLst>
              <a:gd name="adj" fmla="val 110147"/>
            </a:avLst>
          </a:prstGeom>
          <a:gradFill rotWithShape="0">
            <a:gsLst>
              <a:gs pos="0">
                <a:srgbClr val="99cc00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8"/>
          <p:cNvSpPr/>
          <p:nvPr/>
        </p:nvSpPr>
        <p:spPr>
          <a:xfrm flipH="1" rot="16200000">
            <a:off x="3456000" y="3298680"/>
            <a:ext cx="1481040" cy="655920"/>
          </a:xfrm>
          <a:prstGeom prst="parallelogram">
            <a:avLst>
              <a:gd name="adj" fmla="val 82635"/>
            </a:avLst>
          </a:prstGeom>
          <a:gradFill rotWithShape="0">
            <a:gsLst>
              <a:gs pos="0">
                <a:srgbClr val="3366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7"/>
          <p:cNvSpPr/>
          <p:nvPr/>
        </p:nvSpPr>
        <p:spPr>
          <a:xfrm>
            <a:off x="1873080" y="4435560"/>
            <a:ext cx="1876680" cy="1060200"/>
          </a:xfrm>
          <a:prstGeom prst="roundRect">
            <a:avLst>
              <a:gd name="adj" fmla="val 647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bc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8"/>
          <p:cNvSpPr/>
          <p:nvPr/>
        </p:nvSpPr>
        <p:spPr>
          <a:xfrm>
            <a:off x="1935000" y="4521240"/>
            <a:ext cx="1789200" cy="4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9"/>
          <p:cNvSpPr/>
          <p:nvPr/>
        </p:nvSpPr>
        <p:spPr>
          <a:xfrm>
            <a:off x="4168800" y="3618000"/>
            <a:ext cx="1901880" cy="1261800"/>
          </a:xfrm>
          <a:prstGeom prst="roundRect">
            <a:avLst>
              <a:gd name="adj" fmla="val 6185"/>
            </a:avLst>
          </a:prstGeom>
          <a:noFill/>
          <a:ln w="1908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0"/>
          <p:cNvSpPr/>
          <p:nvPr/>
        </p:nvSpPr>
        <p:spPr>
          <a:xfrm>
            <a:off x="6453360" y="3040200"/>
            <a:ext cx="1904760" cy="1260360"/>
          </a:xfrm>
          <a:prstGeom prst="roundRect">
            <a:avLst>
              <a:gd name="adj" fmla="val 6185"/>
            </a:avLst>
          </a:prstGeom>
          <a:noFill/>
          <a:ln w="19080">
            <a:solidFill>
              <a:srgbClr val="660066"/>
            </a:solidFill>
            <a:miter/>
          </a:ln>
          <a:effectLst>
            <a:outerShdw dist="17819" dir="2700000" blurRad="0" rotWithShape="0">
              <a:srgbClr val="3d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31"/>
          <p:cNvSpPr/>
          <p:nvPr/>
        </p:nvSpPr>
        <p:spPr>
          <a:xfrm>
            <a:off x="6481800" y="3214800"/>
            <a:ext cx="1878120" cy="1068120"/>
          </a:xfrm>
          <a:prstGeom prst="roundRect">
            <a:avLst>
              <a:gd name="adj" fmla="val 5273"/>
            </a:avLst>
          </a:prstGeom>
          <a:gradFill rotWithShape="0">
            <a:gsLst>
              <a:gs pos="0">
                <a:srgbClr val="efeffa">
                  <a:alpha val="0"/>
                </a:srgbClr>
              </a:gs>
              <a:gs pos="100000">
                <a:srgbClr val="81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32"/>
          <p:cNvSpPr/>
          <p:nvPr/>
        </p:nvSpPr>
        <p:spPr>
          <a:xfrm>
            <a:off x="4203720" y="3859200"/>
            <a:ext cx="1843200" cy="1012680"/>
          </a:xfrm>
          <a:prstGeom prst="roundRect">
            <a:avLst>
              <a:gd name="adj" fmla="val 4106"/>
            </a:avLst>
          </a:prstGeom>
          <a:gradFill rotWithShape="0">
            <a:gsLst>
              <a:gs pos="0">
                <a:srgbClr val="fafbff">
                  <a:alpha val="0"/>
                </a:srgbClr>
              </a:gs>
              <a:gs pos="100000">
                <a:srgbClr val="5485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20"/>
          <p:cNvSpPr/>
          <p:nvPr/>
        </p:nvSpPr>
        <p:spPr>
          <a:xfrm>
            <a:off x="5945040" y="2308320"/>
            <a:ext cx="3273480" cy="674640"/>
          </a:xfrm>
          <a:prstGeom prst="pie">
            <a:avLst/>
          </a:prstGeom>
          <a:gradFill rotWithShape="0">
            <a:gsLst>
              <a:gs pos="0">
                <a:srgbClr val="660066"/>
              </a:gs>
              <a:gs pos="100000">
                <a:srgbClr val="cc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2"/>
          <p:cNvSpPr/>
          <p:nvPr/>
        </p:nvSpPr>
        <p:spPr>
          <a:xfrm rot="5400000">
            <a:off x="5684760" y="2690640"/>
            <a:ext cx="950760" cy="433440"/>
          </a:xfrm>
          <a:prstGeom prst="parallelogram">
            <a:avLst>
              <a:gd name="adj" fmla="val 81516"/>
            </a:avLst>
          </a:prstGeom>
          <a:gradFill rotWithShape="0">
            <a:gsLst>
              <a:gs pos="0">
                <a:srgbClr val="800080"/>
              </a:gs>
              <a:gs pos="100000">
                <a:srgbClr val="48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4"/>
          <p:cNvSpPr/>
          <p:nvPr/>
        </p:nvSpPr>
        <p:spPr>
          <a:xfrm rot="10800000">
            <a:off x="3874680" y="2843280"/>
            <a:ext cx="2506680" cy="52056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669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43"/>
          <p:cNvSpPr/>
          <p:nvPr/>
        </p:nvSpPr>
        <p:spPr>
          <a:xfrm>
            <a:off x="1751040" y="3435480"/>
            <a:ext cx="2112840" cy="549000"/>
          </a:xfrm>
          <a:prstGeom prst="pie">
            <a:avLst/>
          </a:prstGeom>
          <a:noFill/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44"/>
          <p:cNvSpPr/>
          <p:nvPr/>
        </p:nvSpPr>
        <p:spPr>
          <a:xfrm>
            <a:off x="3889440" y="2841480"/>
            <a:ext cx="2475000" cy="516240"/>
          </a:xfrm>
          <a:prstGeom prst="pie">
            <a:avLst/>
          </a:prstGeom>
          <a:noFill/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45"/>
          <p:cNvSpPr/>
          <p:nvPr/>
        </p:nvSpPr>
        <p:spPr>
          <a:xfrm>
            <a:off x="5956200" y="2290680"/>
            <a:ext cx="3245040" cy="685800"/>
          </a:xfrm>
          <a:prstGeom prst="pie">
            <a:avLst/>
          </a:prstGeom>
          <a:noFill/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3" descr="p_12_1"/>
          <p:cNvPicPr/>
          <p:nvPr/>
        </p:nvPicPr>
        <p:blipFill>
          <a:blip r:embed="rId1"/>
          <a:stretch/>
        </p:blipFill>
        <p:spPr>
          <a:xfrm>
            <a:off x="2122560" y="2577960"/>
            <a:ext cx="1484280" cy="12924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5"/>
          <p:cNvSpPr/>
          <p:nvPr/>
        </p:nvSpPr>
        <p:spPr>
          <a:xfrm>
            <a:off x="2162160" y="3008160"/>
            <a:ext cx="138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4" descr="p_12_2"/>
          <p:cNvPicPr/>
          <p:nvPr/>
        </p:nvPicPr>
        <p:blipFill>
          <a:blip r:embed="rId2"/>
          <a:stretch/>
        </p:blipFill>
        <p:spPr>
          <a:xfrm>
            <a:off x="4367160" y="2014560"/>
            <a:ext cx="1484280" cy="1292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p_12_3"/>
          <p:cNvPicPr/>
          <p:nvPr/>
        </p:nvPicPr>
        <p:blipFill>
          <a:blip r:embed="rId3"/>
          <a:stretch/>
        </p:blipFill>
        <p:spPr>
          <a:xfrm>
            <a:off x="6561000" y="1368360"/>
            <a:ext cx="1486080" cy="12906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6"/>
          <p:cNvSpPr/>
          <p:nvPr/>
        </p:nvSpPr>
        <p:spPr>
          <a:xfrm>
            <a:off x="4408560" y="2455920"/>
            <a:ext cx="138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7"/>
          <p:cNvSpPr/>
          <p:nvPr/>
        </p:nvSpPr>
        <p:spPr>
          <a:xfrm>
            <a:off x="6608880" y="1712880"/>
            <a:ext cx="13906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8"/>
          <p:cNvSpPr/>
          <p:nvPr/>
        </p:nvSpPr>
        <p:spPr>
          <a:xfrm>
            <a:off x="4238640" y="4022640"/>
            <a:ext cx="1792440" cy="4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6510240" y="3448080"/>
            <a:ext cx="1789200" cy="4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492200" y="4019400"/>
            <a:ext cx="2681280" cy="14576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993a3a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55920" y="4438800"/>
            <a:ext cx="2528640" cy="9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8"/>
          <p:cNvSpPr/>
          <p:nvPr/>
        </p:nvSpPr>
        <p:spPr>
          <a:xfrm>
            <a:off x="2089080" y="404172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1604880" y="4506840"/>
            <a:ext cx="24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92200" y="1870200"/>
            <a:ext cx="2681280" cy="145728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3a66b9"/>
              </a:gs>
              <a:gs pos="100000">
                <a:srgbClr val="4981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555920" y="2287440"/>
            <a:ext cx="2528640" cy="9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089080" y="18921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1604880" y="2355840"/>
            <a:ext cx="24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48240" y="4019400"/>
            <a:ext cx="2681640" cy="14576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657d19"/>
              </a:gs>
              <a:gs pos="100000">
                <a:srgbClr val="a8d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411960" y="4438800"/>
            <a:ext cx="2529000" cy="9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8"/>
          <p:cNvSpPr/>
          <p:nvPr/>
        </p:nvSpPr>
        <p:spPr>
          <a:xfrm>
            <a:off x="6946920" y="4041720"/>
            <a:ext cx="15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"/>
          <p:cNvSpPr/>
          <p:nvPr/>
        </p:nvSpPr>
        <p:spPr>
          <a:xfrm>
            <a:off x="6461280" y="450684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48240" y="1870200"/>
            <a:ext cx="2681640" cy="145728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99750f"/>
              </a:gs>
              <a:gs pos="100000">
                <a:srgbClr val="ffc3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11960" y="2287440"/>
            <a:ext cx="2529000" cy="9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6946920" y="1892160"/>
            <a:ext cx="15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6461280" y="235584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33840" y="3395520"/>
            <a:ext cx="1517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17440" y="2239560"/>
            <a:ext cx="2897640" cy="2885040"/>
            <a:chOff x="3817440" y="2239560"/>
            <a:chExt cx="2897640" cy="2885040"/>
          </a:xfrm>
        </p:grpSpPr>
        <p:sp>
          <p:nvSpPr>
            <p:cNvPr id="682" name=""/>
            <p:cNvSpPr/>
            <p:nvPr/>
          </p:nvSpPr>
          <p:spPr>
            <a:xfrm rot="6774000">
              <a:off x="4187520" y="2679480"/>
              <a:ext cx="2135160" cy="210420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2104200"/>
                <a:gd name="textAreaBottom" fmla="*/ 2104560 h 210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  <a:effectLst>
              <a:outerShdw dist="81185" dir="307803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2174000">
              <a:off x="4142880" y="2664720"/>
              <a:ext cx="2135160" cy="210456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2104560"/>
                <a:gd name="textAreaBottom" fmla="*/ 2104920 h 21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ff6161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  <a:effectLst>
              <a:outerShdw dist="81185" dir="307803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7574600">
              <a:off x="4220280" y="2580120"/>
              <a:ext cx="2135160" cy="210456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2104560"/>
                <a:gd name="textAreaBottom" fmla="*/ 2104920 h 21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050b0f"/>
                </a:gs>
              </a:gsLst>
              <a:lin ang="17526000"/>
            </a:gradFill>
            <a:ln w="0">
              <a:noFill/>
            </a:ln>
            <a:effectLst>
              <a:outerShdw dist="81185" dir="307803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374000">
              <a:off x="4254480" y="2625840"/>
              <a:ext cx="2135160" cy="210420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2104200"/>
                <a:gd name="textAreaBottom" fmla="*/ 2104560 h 210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  <a:effectLst>
              <a:outerShdw dist="81185" dir="307803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769080" y="4511520"/>
            <a:ext cx="1022400" cy="559080"/>
          </a:xfrm>
          <a:prstGeom prst="can">
            <a:avLst>
              <a:gd name="adj" fmla="val 44916"/>
            </a:avLst>
          </a:prstGeom>
          <a:gradFill rotWithShape="0">
            <a:gsLst>
              <a:gs pos="0">
                <a:srgbClr val="182326"/>
              </a:gs>
              <a:gs pos="50000">
                <a:srgbClr val="767d7e"/>
              </a:gs>
              <a:gs pos="100000">
                <a:srgbClr val="1823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769080" y="2860560"/>
            <a:ext cx="1022400" cy="1871640"/>
          </a:xfrm>
          <a:prstGeom prst="can">
            <a:avLst>
              <a:gd name="adj" fmla="val 11587"/>
            </a:avLst>
          </a:prstGeom>
          <a:gradFill rotWithShape="0">
            <a:gsLst>
              <a:gs pos="0">
                <a:srgbClr val="5cb1fe"/>
              </a:gs>
              <a:gs pos="50000">
                <a:srgbClr val="d6eb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31080" y="4511520"/>
            <a:ext cx="1020960" cy="559080"/>
          </a:xfrm>
          <a:prstGeom prst="can">
            <a:avLst>
              <a:gd name="adj" fmla="val 45245"/>
            </a:avLst>
          </a:prstGeom>
          <a:gradFill rotWithShape="0">
            <a:gsLst>
              <a:gs pos="0">
                <a:srgbClr val="182326"/>
              </a:gs>
              <a:gs pos="50000">
                <a:srgbClr val="767d7e"/>
              </a:gs>
              <a:gs pos="100000">
                <a:srgbClr val="1823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831080" y="2508120"/>
            <a:ext cx="1020960" cy="2224080"/>
          </a:xfrm>
          <a:prstGeom prst="can">
            <a:avLst>
              <a:gd name="adj" fmla="val 9134"/>
            </a:avLst>
          </a:prstGeom>
          <a:gradFill rotWithShape="0">
            <a:gsLst>
              <a:gs pos="0">
                <a:srgbClr val="5cb1fe"/>
              </a:gs>
              <a:gs pos="50000">
                <a:srgbClr val="d6eb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13080" y="4522680"/>
            <a:ext cx="1022400" cy="546120"/>
          </a:xfrm>
          <a:prstGeom prst="can">
            <a:avLst>
              <a:gd name="adj" fmla="val 45796"/>
            </a:avLst>
          </a:prstGeom>
          <a:gradFill rotWithShape="0">
            <a:gsLst>
              <a:gs pos="0">
                <a:srgbClr val="182326"/>
              </a:gs>
              <a:gs pos="50000">
                <a:srgbClr val="767d7e"/>
              </a:gs>
              <a:gs pos="100000">
                <a:srgbClr val="1823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13080" y="3621240"/>
            <a:ext cx="1022400" cy="1122120"/>
          </a:xfrm>
          <a:prstGeom prst="can">
            <a:avLst>
              <a:gd name="adj" fmla="val 19745"/>
            </a:avLst>
          </a:prstGeom>
          <a:gradFill rotWithShape="0">
            <a:gsLst>
              <a:gs pos="0">
                <a:srgbClr val="ffc319"/>
              </a:gs>
              <a:gs pos="50000">
                <a:srgbClr val="feefc6"/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75440" y="4511520"/>
            <a:ext cx="1033200" cy="559080"/>
          </a:xfrm>
          <a:prstGeom prst="can">
            <a:avLst>
              <a:gd name="adj" fmla="val 49291"/>
            </a:avLst>
          </a:prstGeom>
          <a:gradFill rotWithShape="0">
            <a:gsLst>
              <a:gs pos="0">
                <a:srgbClr val="182326"/>
              </a:gs>
              <a:gs pos="50000">
                <a:srgbClr val="767d7e"/>
              </a:gs>
              <a:gs pos="100000">
                <a:srgbClr val="1823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75440" y="3260880"/>
            <a:ext cx="1033200" cy="1482480"/>
          </a:xfrm>
          <a:prstGeom prst="can">
            <a:avLst>
              <a:gd name="adj" fmla="val 15370"/>
            </a:avLst>
          </a:prstGeom>
          <a:gradFill rotWithShape="0">
            <a:gsLst>
              <a:gs pos="0">
                <a:srgbClr val="ffc319"/>
              </a:gs>
              <a:gs pos="50000">
                <a:srgbClr val="feefc6"/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722600" y="4587840"/>
            <a:ext cx="1020600" cy="469800"/>
          </a:xfrm>
          <a:prstGeom prst="can">
            <a:avLst>
              <a:gd name="adj" fmla="val 40402"/>
            </a:avLst>
          </a:prstGeom>
          <a:gradFill rotWithShape="0">
            <a:gsLst>
              <a:gs pos="0">
                <a:srgbClr val="182326"/>
              </a:gs>
              <a:gs pos="50000">
                <a:srgbClr val="767d7e"/>
              </a:gs>
              <a:gs pos="100000">
                <a:srgbClr val="1823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722600" y="4259160"/>
            <a:ext cx="1020600" cy="484200"/>
          </a:xfrm>
          <a:prstGeom prst="can">
            <a:avLst>
              <a:gd name="adj" fmla="val 36273"/>
            </a:avLst>
          </a:prstGeom>
          <a:gradFill rotWithShape="0">
            <a:gsLst>
              <a:gs pos="0">
                <a:srgbClr val="ff6161"/>
              </a:gs>
              <a:gs pos="50000">
                <a:srgbClr val="fedcdc"/>
              </a:gs>
              <a:gs pos="100000">
                <a:srgbClr val="ff61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84600" y="4543560"/>
            <a:ext cx="1020600" cy="522000"/>
          </a:xfrm>
          <a:prstGeom prst="can">
            <a:avLst>
              <a:gd name="adj" fmla="val 45152"/>
            </a:avLst>
          </a:prstGeom>
          <a:gradFill rotWithShape="0">
            <a:gsLst>
              <a:gs pos="0">
                <a:srgbClr val="182326"/>
              </a:gs>
              <a:gs pos="50000">
                <a:srgbClr val="767d7e"/>
              </a:gs>
              <a:gs pos="100000">
                <a:srgbClr val="1823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84600" y="3905280"/>
            <a:ext cx="1020600" cy="838080"/>
          </a:xfrm>
          <a:prstGeom prst="can">
            <a:avLst>
              <a:gd name="adj" fmla="val 25092"/>
            </a:avLst>
          </a:prstGeom>
          <a:gradFill rotWithShape="0">
            <a:gsLst>
              <a:gs pos="0">
                <a:srgbClr val="ff6161"/>
              </a:gs>
              <a:gs pos="50000">
                <a:srgbClr val="fedcdc"/>
              </a:gs>
              <a:gs pos="100000">
                <a:srgbClr val="ff61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365200" y="5135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44880" y="5135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390440" y="5135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31320" y="199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863720" y="3692520"/>
            <a:ext cx="753840" cy="655200"/>
            <a:chOff x="1863720" y="3692520"/>
            <a:chExt cx="753840" cy="655200"/>
          </a:xfrm>
        </p:grpSpPr>
        <p:sp>
          <p:nvSpPr>
            <p:cNvPr id="704" name=""/>
            <p:cNvSpPr/>
            <p:nvPr/>
          </p:nvSpPr>
          <p:spPr>
            <a:xfrm>
              <a:off x="1863720" y="3695400"/>
              <a:ext cx="753840" cy="652320"/>
            </a:xfrm>
            <a:prstGeom prst="ellipse">
              <a:avLst/>
            </a:prstGeom>
            <a:solidFill>
              <a:srgbClr val="ff6161">
                <a:alpha val="70000"/>
              </a:srgbClr>
            </a:solidFill>
            <a:ln w="2844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5" name="" descr=""/>
            <p:cNvPicPr/>
            <p:nvPr/>
          </p:nvPicPr>
          <p:blipFill>
            <a:blip r:embed="rId1"/>
            <a:stretch/>
          </p:blipFill>
          <p:spPr>
            <a:xfrm>
              <a:off x="1926720" y="3692520"/>
              <a:ext cx="6235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2916360" y="3346560"/>
            <a:ext cx="753480" cy="655200"/>
            <a:chOff x="2916360" y="3346560"/>
            <a:chExt cx="753480" cy="655200"/>
          </a:xfrm>
        </p:grpSpPr>
        <p:sp>
          <p:nvSpPr>
            <p:cNvPr id="707" name=""/>
            <p:cNvSpPr/>
            <p:nvPr/>
          </p:nvSpPr>
          <p:spPr>
            <a:xfrm>
              <a:off x="2916360" y="3349440"/>
              <a:ext cx="753480" cy="652320"/>
            </a:xfrm>
            <a:prstGeom prst="ellipse">
              <a:avLst/>
            </a:prstGeom>
            <a:solidFill>
              <a:srgbClr val="ff6161">
                <a:alpha val="70000"/>
              </a:srgbClr>
            </a:solidFill>
            <a:ln w="2844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2"/>
            <a:stretch/>
          </p:blipFill>
          <p:spPr>
            <a:xfrm>
              <a:off x="2979360" y="3346560"/>
              <a:ext cx="62316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"/>
          <p:cNvSpPr/>
          <p:nvPr/>
        </p:nvSpPr>
        <p:spPr>
          <a:xfrm>
            <a:off x="2954160" y="35164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340160" y="3097080"/>
            <a:ext cx="753840" cy="655560"/>
            <a:chOff x="4340160" y="3097080"/>
            <a:chExt cx="753840" cy="655560"/>
          </a:xfrm>
        </p:grpSpPr>
        <p:sp>
          <p:nvSpPr>
            <p:cNvPr id="711" name=""/>
            <p:cNvSpPr/>
            <p:nvPr/>
          </p:nvSpPr>
          <p:spPr>
            <a:xfrm>
              <a:off x="4340160" y="3099960"/>
              <a:ext cx="753840" cy="652680"/>
            </a:xfrm>
            <a:prstGeom prst="ellipse">
              <a:avLst/>
            </a:prstGeom>
            <a:solidFill>
              <a:srgbClr val="ffc319">
                <a:alpha val="70000"/>
              </a:srgbClr>
            </a:solidFill>
            <a:ln w="2844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3"/>
            <a:stretch/>
          </p:blipFill>
          <p:spPr>
            <a:xfrm>
              <a:off x="4403160" y="3097080"/>
              <a:ext cx="62352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"/>
          <p:cNvGrpSpPr/>
          <p:nvPr/>
        </p:nvGrpSpPr>
        <p:grpSpPr>
          <a:xfrm>
            <a:off x="6904080" y="2332080"/>
            <a:ext cx="753840" cy="655200"/>
            <a:chOff x="6904080" y="2332080"/>
            <a:chExt cx="753840" cy="655200"/>
          </a:xfrm>
        </p:grpSpPr>
        <p:sp>
          <p:nvSpPr>
            <p:cNvPr id="714" name=""/>
            <p:cNvSpPr/>
            <p:nvPr/>
          </p:nvSpPr>
          <p:spPr>
            <a:xfrm>
              <a:off x="6904080" y="2334960"/>
              <a:ext cx="753840" cy="652320"/>
            </a:xfrm>
            <a:prstGeom prst="ellipse">
              <a:avLst/>
            </a:prstGeom>
            <a:solidFill>
              <a:srgbClr val="5cb1fe">
                <a:alpha val="70000"/>
              </a:srgbClr>
            </a:solidFill>
            <a:ln w="2844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" descr=""/>
            <p:cNvPicPr/>
            <p:nvPr/>
          </p:nvPicPr>
          <p:blipFill>
            <a:blip r:embed="rId4"/>
            <a:stretch/>
          </p:blipFill>
          <p:spPr>
            <a:xfrm>
              <a:off x="6967080" y="2332080"/>
              <a:ext cx="62352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"/>
          <p:cNvSpPr/>
          <p:nvPr/>
        </p:nvSpPr>
        <p:spPr>
          <a:xfrm>
            <a:off x="4214880" y="3255840"/>
            <a:ext cx="9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5421240" y="2716200"/>
            <a:ext cx="753840" cy="655200"/>
            <a:chOff x="5421240" y="2716200"/>
            <a:chExt cx="753840" cy="655200"/>
          </a:xfrm>
        </p:grpSpPr>
        <p:sp>
          <p:nvSpPr>
            <p:cNvPr id="718" name=""/>
            <p:cNvSpPr/>
            <p:nvPr/>
          </p:nvSpPr>
          <p:spPr>
            <a:xfrm>
              <a:off x="5421240" y="2719080"/>
              <a:ext cx="753840" cy="652320"/>
            </a:xfrm>
            <a:prstGeom prst="ellipse">
              <a:avLst/>
            </a:prstGeom>
            <a:solidFill>
              <a:srgbClr val="ffc319">
                <a:alpha val="70000"/>
              </a:srgbClr>
            </a:solidFill>
            <a:ln w="2844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" descr=""/>
            <p:cNvPicPr/>
            <p:nvPr/>
          </p:nvPicPr>
          <p:blipFill>
            <a:blip r:embed="rId5"/>
            <a:stretch/>
          </p:blipFill>
          <p:spPr>
            <a:xfrm>
              <a:off x="5484240" y="2716200"/>
              <a:ext cx="62352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"/>
          <p:cNvSpPr/>
          <p:nvPr/>
        </p:nvSpPr>
        <p:spPr>
          <a:xfrm>
            <a:off x="5307120" y="2863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91400" y="24922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937640" y="1963800"/>
            <a:ext cx="753480" cy="655200"/>
            <a:chOff x="7937640" y="1963800"/>
            <a:chExt cx="753480" cy="655200"/>
          </a:xfrm>
        </p:grpSpPr>
        <p:sp>
          <p:nvSpPr>
            <p:cNvPr id="723" name=""/>
            <p:cNvSpPr/>
            <p:nvPr/>
          </p:nvSpPr>
          <p:spPr>
            <a:xfrm>
              <a:off x="7937640" y="1966680"/>
              <a:ext cx="753480" cy="652320"/>
            </a:xfrm>
            <a:prstGeom prst="ellipse">
              <a:avLst/>
            </a:prstGeom>
            <a:solidFill>
              <a:srgbClr val="5cb1fe">
                <a:alpha val="70000"/>
              </a:srgbClr>
            </a:solidFill>
            <a:ln w="28440">
              <a:solidFill>
                <a:srgbClr val="f8f8f8">
                  <a:alpha val="6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6"/>
            <a:stretch/>
          </p:blipFill>
          <p:spPr>
            <a:xfrm>
              <a:off x="8000640" y="1963800"/>
              <a:ext cx="62316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"/>
          <p:cNvSpPr/>
          <p:nvPr/>
        </p:nvSpPr>
        <p:spPr>
          <a:xfrm>
            <a:off x="7824960" y="2124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未知"/>
          <p:cNvSpPr/>
          <p:nvPr/>
        </p:nvSpPr>
        <p:spPr>
          <a:xfrm rot="21230400">
            <a:off x="2274480" y="2022480"/>
            <a:ext cx="5006880" cy="1320840"/>
          </a:xfrm>
          <a:custGeom>
            <a:avLst/>
            <a:gdLst/>
            <a:ahLst/>
            <a:rect l="l" t="t" r="r" b="b"/>
            <a:pathLst>
              <a:path w="2706" h="1093">
                <a:moveTo>
                  <a:pt x="0" y="1093"/>
                </a:moveTo>
                <a:lnTo>
                  <a:pt x="247" y="884"/>
                </a:lnTo>
                <a:lnTo>
                  <a:pt x="350" y="793"/>
                </a:lnTo>
                <a:lnTo>
                  <a:pt x="451" y="708"/>
                </a:lnTo>
                <a:lnTo>
                  <a:pt x="553" y="631"/>
                </a:lnTo>
                <a:lnTo>
                  <a:pt x="655" y="562"/>
                </a:lnTo>
                <a:lnTo>
                  <a:pt x="756" y="497"/>
                </a:lnTo>
                <a:lnTo>
                  <a:pt x="856" y="439"/>
                </a:lnTo>
                <a:lnTo>
                  <a:pt x="955" y="388"/>
                </a:lnTo>
                <a:lnTo>
                  <a:pt x="1053" y="342"/>
                </a:lnTo>
                <a:lnTo>
                  <a:pt x="1148" y="300"/>
                </a:lnTo>
                <a:lnTo>
                  <a:pt x="1242" y="264"/>
                </a:lnTo>
                <a:lnTo>
                  <a:pt x="1331" y="232"/>
                </a:lnTo>
                <a:lnTo>
                  <a:pt x="1419" y="204"/>
                </a:lnTo>
                <a:lnTo>
                  <a:pt x="1504" y="182"/>
                </a:lnTo>
                <a:lnTo>
                  <a:pt x="1586" y="160"/>
                </a:lnTo>
                <a:lnTo>
                  <a:pt x="1664" y="144"/>
                </a:lnTo>
                <a:lnTo>
                  <a:pt x="1737" y="131"/>
                </a:lnTo>
                <a:lnTo>
                  <a:pt x="1807" y="121"/>
                </a:lnTo>
                <a:lnTo>
                  <a:pt x="1871" y="112"/>
                </a:lnTo>
                <a:lnTo>
                  <a:pt x="1932" y="107"/>
                </a:lnTo>
                <a:lnTo>
                  <a:pt x="1988" y="103"/>
                </a:lnTo>
                <a:lnTo>
                  <a:pt x="2038" y="100"/>
                </a:lnTo>
                <a:lnTo>
                  <a:pt x="2082" y="99"/>
                </a:lnTo>
                <a:lnTo>
                  <a:pt x="2121" y="100"/>
                </a:lnTo>
                <a:lnTo>
                  <a:pt x="2152" y="99"/>
                </a:lnTo>
                <a:lnTo>
                  <a:pt x="2178" y="101"/>
                </a:lnTo>
                <a:lnTo>
                  <a:pt x="2195" y="102"/>
                </a:lnTo>
                <a:lnTo>
                  <a:pt x="2206" y="102"/>
                </a:lnTo>
                <a:lnTo>
                  <a:pt x="2210" y="102"/>
                </a:lnTo>
                <a:lnTo>
                  <a:pt x="2146" y="0"/>
                </a:lnTo>
                <a:lnTo>
                  <a:pt x="2706" y="330"/>
                </a:lnTo>
                <a:lnTo>
                  <a:pt x="2270" y="473"/>
                </a:lnTo>
                <a:lnTo>
                  <a:pt x="2336" y="358"/>
                </a:lnTo>
                <a:lnTo>
                  <a:pt x="2335" y="357"/>
                </a:lnTo>
                <a:lnTo>
                  <a:pt x="2326" y="354"/>
                </a:lnTo>
                <a:lnTo>
                  <a:pt x="2313" y="350"/>
                </a:lnTo>
                <a:lnTo>
                  <a:pt x="2293" y="345"/>
                </a:lnTo>
                <a:lnTo>
                  <a:pt x="2270" y="337"/>
                </a:lnTo>
                <a:lnTo>
                  <a:pt x="2241" y="330"/>
                </a:lnTo>
                <a:lnTo>
                  <a:pt x="2207" y="323"/>
                </a:lnTo>
                <a:lnTo>
                  <a:pt x="2168" y="317"/>
                </a:lnTo>
                <a:lnTo>
                  <a:pt x="2124" y="311"/>
                </a:lnTo>
                <a:lnTo>
                  <a:pt x="2075" y="306"/>
                </a:lnTo>
                <a:lnTo>
                  <a:pt x="2024" y="301"/>
                </a:lnTo>
                <a:lnTo>
                  <a:pt x="1966" y="298"/>
                </a:lnTo>
                <a:lnTo>
                  <a:pt x="1905" y="295"/>
                </a:lnTo>
                <a:lnTo>
                  <a:pt x="1838" y="298"/>
                </a:lnTo>
                <a:lnTo>
                  <a:pt x="1767" y="301"/>
                </a:lnTo>
                <a:lnTo>
                  <a:pt x="1692" y="309"/>
                </a:lnTo>
                <a:lnTo>
                  <a:pt x="1613" y="317"/>
                </a:lnTo>
                <a:lnTo>
                  <a:pt x="1533" y="330"/>
                </a:lnTo>
                <a:lnTo>
                  <a:pt x="1445" y="349"/>
                </a:lnTo>
                <a:lnTo>
                  <a:pt x="1354" y="371"/>
                </a:lnTo>
                <a:lnTo>
                  <a:pt x="1262" y="397"/>
                </a:lnTo>
                <a:lnTo>
                  <a:pt x="1164" y="428"/>
                </a:lnTo>
                <a:lnTo>
                  <a:pt x="1065" y="464"/>
                </a:lnTo>
                <a:lnTo>
                  <a:pt x="960" y="505"/>
                </a:lnTo>
                <a:lnTo>
                  <a:pt x="853" y="553"/>
                </a:lnTo>
                <a:lnTo>
                  <a:pt x="742" y="608"/>
                </a:lnTo>
                <a:lnTo>
                  <a:pt x="629" y="669"/>
                </a:lnTo>
                <a:lnTo>
                  <a:pt x="512" y="736"/>
                </a:lnTo>
                <a:lnTo>
                  <a:pt x="393" y="809"/>
                </a:lnTo>
                <a:lnTo>
                  <a:pt x="271" y="892"/>
                </a:lnTo>
                <a:lnTo>
                  <a:pt x="0" y="109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111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4729320"/>
            <a:ext cx="10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730520" y="471636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909800" y="38466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283360" y="472932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40080" y="472932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08760" y="472932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764400" y="472932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1238400" y="3268800"/>
            <a:ext cx="2277720" cy="983880"/>
            <a:chOff x="1238400" y="3268800"/>
            <a:chExt cx="2277720" cy="983880"/>
          </a:xfrm>
        </p:grpSpPr>
        <p:sp>
          <p:nvSpPr>
            <p:cNvPr id="736" name="AutoShape 3"/>
            <p:cNvSpPr/>
            <p:nvPr/>
          </p:nvSpPr>
          <p:spPr>
            <a:xfrm>
              <a:off x="1238400" y="3573000"/>
              <a:ext cx="2277720" cy="679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7777">
                    <a:alpha val="60000"/>
                  </a:srgbClr>
                </a:gs>
                <a:gs pos="100000">
                  <a:srgbClr val="4d4d4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4"/>
            <p:cNvSpPr/>
            <p:nvPr/>
          </p:nvSpPr>
          <p:spPr>
            <a:xfrm>
              <a:off x="1238400" y="3268800"/>
              <a:ext cx="2277720" cy="680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4d4d4d"/>
                </a:gs>
              </a:gsLst>
              <a:lin ang="8100000"/>
            </a:gradFill>
            <a:ln w="158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AutoShape 6"/>
          <p:cNvSpPr/>
          <p:nvPr/>
        </p:nvSpPr>
        <p:spPr>
          <a:xfrm>
            <a:off x="1238400" y="2755800"/>
            <a:ext cx="2278080" cy="6796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100000">
                <a:srgbClr val="4d4d4d">
                  <a:alpha val="60000"/>
                </a:srgbClr>
              </a:gs>
            </a:gsLst>
            <a:lin ang="81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060640" y="2109960"/>
            <a:ext cx="637920" cy="1489680"/>
            <a:chOff x="2060640" y="2109960"/>
            <a:chExt cx="637920" cy="1489680"/>
          </a:xfrm>
        </p:grpSpPr>
        <p:sp>
          <p:nvSpPr>
            <p:cNvPr id="740" name="WordArt 8"/>
            <p:cNvSpPr txBox="1"/>
            <p:nvPr/>
          </p:nvSpPr>
          <p:spPr>
            <a:xfrm>
              <a:off x="2060640" y="2109960"/>
              <a:ext cx="637920" cy="7358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9360">
                    <a:solidFill>
                      <a:srgbClr val="80808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Arial"/>
                </a:rPr>
                <a:t>2</a:t>
              </a:r>
              <a:endParaRPr b="1" lang="en-US" sz="2400" spc="-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41" name="WordArt 9"/>
            <p:cNvSpPr txBox="1"/>
            <p:nvPr/>
          </p:nvSpPr>
          <p:spPr>
            <a:xfrm>
              <a:off x="1422720" y="2126880"/>
              <a:ext cx="637920" cy="736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b2b2b2">
                          <a:alpha val="0"/>
                        </a:srgbClr>
                      </a:gs>
                      <a:gs pos="100000">
                        <a:srgbClr val="eaeaea">
                          <a:alpha val="20000"/>
                        </a:srgbClr>
                      </a:gs>
                    </a:gsLst>
                    <a:lin ang="5400000"/>
                  </a:gradFill>
                  <a:latin typeface="Arial"/>
                </a:rPr>
                <a:t>2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b2b2b2">
                        <a:alpha val="0"/>
                      </a:srgbClr>
                    </a:gs>
                    <a:gs pos="100000">
                      <a:srgbClr val="eaeaea">
                        <a:alpha val="20000"/>
                      </a:srgbClr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145040" y="3268800"/>
            <a:ext cx="2279160" cy="1069560"/>
            <a:chOff x="4145040" y="3268800"/>
            <a:chExt cx="2279160" cy="1069560"/>
          </a:xfrm>
        </p:grpSpPr>
        <p:sp>
          <p:nvSpPr>
            <p:cNvPr id="743" name="AutoShape 11"/>
            <p:cNvSpPr/>
            <p:nvPr/>
          </p:nvSpPr>
          <p:spPr>
            <a:xfrm>
              <a:off x="4145040" y="3658680"/>
              <a:ext cx="2279160" cy="679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60000"/>
                  </a:srgbClr>
                </a:gs>
                <a:gs pos="100000">
                  <a:srgbClr val="4d4d4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12"/>
            <p:cNvSpPr/>
            <p:nvPr/>
          </p:nvSpPr>
          <p:spPr>
            <a:xfrm>
              <a:off x="4145040" y="3268800"/>
              <a:ext cx="2279160" cy="679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d445c"/>
                </a:gs>
                <a:gs pos="100000">
                  <a:srgbClr val="ffc319"/>
                </a:gs>
              </a:gsLst>
              <a:lin ang="8100000"/>
            </a:gradFill>
            <a:ln w="158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AutoShape 13"/>
          <p:cNvSpPr/>
          <p:nvPr/>
        </p:nvSpPr>
        <p:spPr>
          <a:xfrm>
            <a:off x="4145040" y="2755800"/>
            <a:ext cx="2279520" cy="6796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d445c"/>
              </a:gs>
              <a:gs pos="100000">
                <a:srgbClr val="ffc319">
                  <a:alpha val="50196"/>
                </a:srgbClr>
              </a:gs>
            </a:gsLst>
            <a:lin ang="81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14"/>
          <p:cNvSpPr/>
          <p:nvPr/>
        </p:nvSpPr>
        <p:spPr>
          <a:xfrm>
            <a:off x="4145040" y="2244600"/>
            <a:ext cx="2279520" cy="6811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ffc319">
                  <a:alpha val="20000"/>
                </a:srgbClr>
              </a:gs>
            </a:gsLst>
            <a:lin ang="81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902120" y="1617840"/>
            <a:ext cx="636480" cy="1491840"/>
            <a:chOff x="4902120" y="1617840"/>
            <a:chExt cx="636480" cy="1491840"/>
          </a:xfrm>
        </p:grpSpPr>
        <p:sp>
          <p:nvSpPr>
            <p:cNvPr id="748" name="WordArt 16"/>
            <p:cNvSpPr txBox="1"/>
            <p:nvPr/>
          </p:nvSpPr>
          <p:spPr>
            <a:xfrm>
              <a:off x="4902120" y="1617840"/>
              <a:ext cx="636480" cy="736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9360">
                    <a:solidFill>
                      <a:srgbClr val="80808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Arial"/>
                </a:rPr>
                <a:t>1</a:t>
              </a:r>
              <a:endParaRPr b="1" lang="en-US" sz="2400" spc="-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49" name="WordArt 17"/>
            <p:cNvSpPr txBox="1"/>
            <p:nvPr/>
          </p:nvSpPr>
          <p:spPr>
            <a:xfrm>
              <a:off x="4265640" y="1635120"/>
              <a:ext cx="636480" cy="737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b2b2b2">
                          <a:alpha val="0"/>
                        </a:srgbClr>
                      </a:gs>
                      <a:gs pos="100000">
                        <a:srgbClr val="eaeaea">
                          <a:alpha val="20000"/>
                        </a:srgbClr>
                      </a:gs>
                    </a:gsLst>
                    <a:lin ang="5400000"/>
                  </a:gradFill>
                  <a:latin typeface="Arial"/>
                </a:rPr>
                <a:t>1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b2b2b2">
                        <a:alpha val="0"/>
                      </a:srgbClr>
                    </a:gs>
                    <a:gs pos="100000">
                      <a:srgbClr val="eaeaea">
                        <a:alpha val="20000"/>
                      </a:srgbClr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7134120" y="3268800"/>
            <a:ext cx="2282400" cy="983880"/>
            <a:chOff x="7134120" y="3268800"/>
            <a:chExt cx="2282400" cy="983880"/>
          </a:xfrm>
        </p:grpSpPr>
        <p:sp>
          <p:nvSpPr>
            <p:cNvPr id="751" name="AutoShape 19"/>
            <p:cNvSpPr/>
            <p:nvPr/>
          </p:nvSpPr>
          <p:spPr>
            <a:xfrm>
              <a:off x="7137720" y="3573000"/>
              <a:ext cx="2278800" cy="6796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7777">
                    <a:alpha val="60000"/>
                  </a:srgbClr>
                </a:gs>
                <a:gs pos="100000">
                  <a:srgbClr val="4d4d4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20"/>
            <p:cNvSpPr/>
            <p:nvPr/>
          </p:nvSpPr>
          <p:spPr>
            <a:xfrm>
              <a:off x="7134120" y="3268800"/>
              <a:ext cx="2278800" cy="680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4d4d4d"/>
                </a:gs>
              </a:gsLst>
              <a:lin ang="8100000"/>
            </a:gradFill>
            <a:ln w="158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948440" y="2612880"/>
            <a:ext cx="637920" cy="1486800"/>
            <a:chOff x="7948440" y="2612880"/>
            <a:chExt cx="637920" cy="1486800"/>
          </a:xfrm>
        </p:grpSpPr>
        <p:sp>
          <p:nvSpPr>
            <p:cNvPr id="754" name="WordArt 22"/>
            <p:cNvSpPr txBox="1"/>
            <p:nvPr/>
          </p:nvSpPr>
          <p:spPr>
            <a:xfrm>
              <a:off x="7948440" y="2612880"/>
              <a:ext cx="637920" cy="7344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9360">
                    <a:solidFill>
                      <a:srgbClr val="80808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Arial"/>
                </a:rPr>
                <a:t>3</a:t>
              </a:r>
              <a:endParaRPr b="1" lang="en-US" sz="2400" spc="-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5" name="WordArt 23"/>
            <p:cNvSpPr txBox="1"/>
            <p:nvPr/>
          </p:nvSpPr>
          <p:spPr>
            <a:xfrm>
              <a:off x="7310520" y="2629800"/>
              <a:ext cx="637920" cy="7347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b2b2b2">
                          <a:alpha val="0"/>
                        </a:srgbClr>
                      </a:gs>
                      <a:gs pos="100000">
                        <a:srgbClr val="eaeaea">
                          <a:alpha val="20000"/>
                        </a:srgbClr>
                      </a:gs>
                    </a:gsLst>
                    <a:lin ang="5400000"/>
                  </a:gradFill>
                  <a:latin typeface="Arial"/>
                </a:rPr>
                <a:t>3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b2b2b2">
                        <a:alpha val="0"/>
                      </a:srgbClr>
                    </a:gs>
                    <a:gs pos="100000">
                      <a:srgbClr val="eaeaea">
                        <a:alpha val="20000"/>
                      </a:srgbClr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756" name="Line 24"/>
          <p:cNvSpPr/>
          <p:nvPr/>
        </p:nvSpPr>
        <p:spPr>
          <a:xfrm>
            <a:off x="3720960" y="3790800"/>
            <a:ext cx="0" cy="91440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7070760" y="415440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1152360" y="4154400"/>
            <a:ext cx="23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4135320" y="415440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8"/>
          <p:cNvSpPr/>
          <p:nvPr/>
        </p:nvSpPr>
        <p:spPr>
          <a:xfrm>
            <a:off x="6737400" y="3790800"/>
            <a:ext cx="0" cy="91440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1147680" y="4686480"/>
            <a:ext cx="2440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114800" y="4686480"/>
            <a:ext cx="2440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7130880" y="4686480"/>
            <a:ext cx="2440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未知"/>
          <p:cNvSpPr/>
          <p:nvPr/>
        </p:nvSpPr>
        <p:spPr>
          <a:xfrm>
            <a:off x="1474920" y="1881360"/>
            <a:ext cx="7764480" cy="3581280"/>
          </a:xfrm>
          <a:custGeom>
            <a:avLst/>
            <a:gdLst/>
            <a:ahLst/>
            <a:rect l="l" t="t" r="r" b="b"/>
            <a:pathLst>
              <a:path w="4284" h="2262">
                <a:moveTo>
                  <a:pt x="210" y="1836"/>
                </a:moveTo>
                <a:lnTo>
                  <a:pt x="726" y="2010"/>
                </a:lnTo>
                <a:lnTo>
                  <a:pt x="1206" y="1974"/>
                </a:lnTo>
                <a:lnTo>
                  <a:pt x="1680" y="1914"/>
                </a:lnTo>
                <a:lnTo>
                  <a:pt x="2130" y="1710"/>
                </a:lnTo>
                <a:lnTo>
                  <a:pt x="2610" y="1506"/>
                </a:lnTo>
                <a:lnTo>
                  <a:pt x="3096" y="1080"/>
                </a:lnTo>
                <a:lnTo>
                  <a:pt x="3570" y="588"/>
                </a:lnTo>
                <a:lnTo>
                  <a:pt x="4068" y="114"/>
                </a:lnTo>
                <a:lnTo>
                  <a:pt x="4284" y="0"/>
                </a:lnTo>
                <a:lnTo>
                  <a:pt x="4284" y="2262"/>
                </a:lnTo>
                <a:lnTo>
                  <a:pt x="0" y="2262"/>
                </a:lnTo>
                <a:lnTo>
                  <a:pt x="0" y="1740"/>
                </a:lnTo>
                <a:lnTo>
                  <a:pt x="210" y="1836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6400" y="1671480"/>
            <a:ext cx="2583000" cy="3791160"/>
          </a:xfrm>
          <a:prstGeom prst="rect">
            <a:avLst/>
          </a:prstGeom>
          <a:solidFill>
            <a:srgbClr val="ff3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170000" y="1428840"/>
            <a:ext cx="0" cy="30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170000" y="1738440"/>
            <a:ext cx="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70000" y="2049480"/>
            <a:ext cx="0" cy="30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170000" y="2359080"/>
            <a:ext cx="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70000" y="2670120"/>
            <a:ext cx="0" cy="30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70000" y="2979720"/>
            <a:ext cx="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3290760"/>
            <a:ext cx="0" cy="30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70000" y="3600360"/>
            <a:ext cx="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170000" y="3911760"/>
            <a:ext cx="0" cy="30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170000" y="4221000"/>
            <a:ext cx="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170000" y="4532400"/>
            <a:ext cx="0" cy="30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170000" y="4842000"/>
            <a:ext cx="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38760" y="4917960"/>
            <a:ext cx="0" cy="3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946760" y="57769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点击编辑文字信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30320" y="1703520"/>
            <a:ext cx="50976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82840" y="1913040"/>
            <a:ext cx="77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482840" y="245736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82840" y="273060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82840" y="300528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482840" y="327816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482840" y="354960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82840" y="382572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82840" y="4097160"/>
            <a:ext cx="7743600" cy="0"/>
          </a:xfrm>
          <a:prstGeom prst="line">
            <a:avLst/>
          </a:prstGeom>
          <a:ln w="19080">
            <a:solidFill>
              <a:srgbClr val="ff7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482840" y="437040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482840" y="464652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82840" y="491796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82840" y="519120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482840" y="5465880"/>
            <a:ext cx="77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203640" y="1913040"/>
            <a:ext cx="0" cy="3552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064040" y="1913040"/>
            <a:ext cx="0" cy="3552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925880" y="1913040"/>
            <a:ext cx="0" cy="3552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84840" y="1913040"/>
            <a:ext cx="0" cy="3552840"/>
          </a:xfrm>
          <a:prstGeom prst="line">
            <a:avLst/>
          </a:prstGeom>
          <a:ln w="19080">
            <a:solidFill>
              <a:srgbClr val="b763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645240" y="1913040"/>
            <a:ext cx="0" cy="3552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507440" y="1913040"/>
            <a:ext cx="0" cy="3552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366040" y="1913040"/>
            <a:ext cx="0" cy="3552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82840" y="2184480"/>
            <a:ext cx="77436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344680" y="1913040"/>
            <a:ext cx="0" cy="35528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541520" y="4106880"/>
            <a:ext cx="612720" cy="779400"/>
          </a:xfrm>
          <a:prstGeom prst="downArrow">
            <a:avLst>
              <a:gd name="adj1" fmla="val 59370"/>
              <a:gd name="adj2" fmla="val 43649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67080" y="4094280"/>
            <a:ext cx="612720" cy="1023840"/>
          </a:xfrm>
          <a:prstGeom prst="downArrow">
            <a:avLst>
              <a:gd name="adj1" fmla="val 59370"/>
              <a:gd name="adj2" fmla="val 57339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97240" y="4097160"/>
            <a:ext cx="612720" cy="922680"/>
          </a:xfrm>
          <a:prstGeom prst="downArrow">
            <a:avLst>
              <a:gd name="adj1" fmla="val 59370"/>
              <a:gd name="adj2" fmla="val 51674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176720" y="4097160"/>
            <a:ext cx="612720" cy="862200"/>
          </a:xfrm>
          <a:prstGeom prst="downArrow">
            <a:avLst>
              <a:gd name="adj1" fmla="val 59370"/>
              <a:gd name="adj2" fmla="val 48286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18040" y="4097160"/>
            <a:ext cx="612720" cy="546120"/>
          </a:xfrm>
          <a:prstGeom prst="downArrow">
            <a:avLst>
              <a:gd name="adj1" fmla="val 59370"/>
              <a:gd name="adj2" fmla="val 34315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870520" y="4052880"/>
            <a:ext cx="614520" cy="270000"/>
          </a:xfrm>
          <a:prstGeom prst="downArrow">
            <a:avLst>
              <a:gd name="adj1" fmla="val 59380"/>
              <a:gd name="adj2" fmla="val 5431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740640" y="3637800"/>
            <a:ext cx="612720" cy="500040"/>
          </a:xfrm>
          <a:prstGeom prst="downArrow">
            <a:avLst>
              <a:gd name="adj1" fmla="val 59898"/>
              <a:gd name="adj2" fmla="val 4061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620120" y="2852640"/>
            <a:ext cx="612720" cy="1285920"/>
          </a:xfrm>
          <a:prstGeom prst="downArrow">
            <a:avLst>
              <a:gd name="adj1" fmla="val 63546"/>
              <a:gd name="adj2" fmla="val 3377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8507520" y="2087640"/>
            <a:ext cx="612720" cy="2060640"/>
          </a:xfrm>
          <a:prstGeom prst="downArrow">
            <a:avLst>
              <a:gd name="adj1" fmla="val 63546"/>
              <a:gd name="adj2" fmla="val 5412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594800" y="54817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466360" y="54817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22080" y="547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222080" y="5475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033520" y="54817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22360" y="547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89240" y="5484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33800" y="54817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532360" y="5468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91400" y="382284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697880" y="3138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4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553600" y="2467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942880" y="4010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056200" y="427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1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00480" y="4471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313080" y="45543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478240" y="4637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68520" y="44337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2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30760" y="2852640"/>
            <a:ext cx="1408320" cy="595440"/>
          </a:xfrm>
          <a:prstGeom prst="wedgeRectCallout">
            <a:avLst>
              <a:gd name="adj1" fmla="val 42407"/>
              <a:gd name="adj2" fmla="val 82097"/>
            </a:avLst>
          </a:prstGeom>
          <a:gradFill rotWithShape="0">
            <a:gsLst>
              <a:gs pos="0">
                <a:srgbClr val="d24869"/>
              </a:gs>
              <a:gs pos="100000">
                <a:srgbClr val="9f364f"/>
              </a:gs>
            </a:gsLst>
            <a:lin ang="54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HY견고딕"/>
                <a:ea typeface="HY견고딕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HY견고딕"/>
                <a:ea typeface="HY견고딕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269560" y="14954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点击编辑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 flipV="1">
            <a:off x="1857240" y="4084560"/>
            <a:ext cx="1670040" cy="1362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757680" y="3583800"/>
            <a:ext cx="1670040" cy="1862280"/>
          </a:xfrm>
          <a:prstGeom prst="can">
            <a:avLst>
              <a:gd name="adj" fmla="val 18638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65680" y="2925000"/>
            <a:ext cx="1660680" cy="2521080"/>
          </a:xfrm>
          <a:prstGeom prst="can">
            <a:avLst>
              <a:gd name="adj" fmla="val 13388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569360" y="2279520"/>
            <a:ext cx="1655640" cy="3167280"/>
          </a:xfrm>
          <a:prstGeom prst="can">
            <a:avLst>
              <a:gd name="adj" fmla="val 10495"/>
            </a:avLst>
          </a:prstGeom>
          <a:gradFill rotWithShape="0">
            <a:gsLst>
              <a:gs pos="0">
                <a:srgbClr val="949494">
                  <a:alpha val="20000"/>
                </a:srgbClr>
              </a:gs>
              <a:gs pos="50000">
                <a:srgbClr val="eaeaea">
                  <a:alpha val="20000"/>
                </a:srgbClr>
              </a:gs>
              <a:gs pos="100000">
                <a:srgbClr val="949494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308560" y="2903400"/>
            <a:ext cx="1660320" cy="447480"/>
            <a:chOff x="5308560" y="2903400"/>
            <a:chExt cx="1660320" cy="447480"/>
          </a:xfrm>
        </p:grpSpPr>
        <p:sp>
          <p:nvSpPr>
            <p:cNvPr id="839" name=""/>
            <p:cNvSpPr/>
            <p:nvPr/>
          </p:nvSpPr>
          <p:spPr>
            <a:xfrm>
              <a:off x="5312880" y="2939040"/>
              <a:ext cx="1656000" cy="411840"/>
            </a:xfrm>
            <a:prstGeom prst="ellipse">
              <a:avLst/>
            </a:prstGeom>
            <a:gradFill rotWithShape="0">
              <a:gsLst>
                <a:gs pos="0">
                  <a:srgbClr val="915700"/>
                </a:gs>
                <a:gs pos="50000">
                  <a:srgbClr val="ff9900"/>
                </a:gs>
                <a:gs pos="100000">
                  <a:srgbClr val="915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08560" y="2903400"/>
              <a:ext cx="1656000" cy="4118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0b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09000" y="2266920"/>
            <a:ext cx="1659960" cy="447480"/>
            <a:chOff x="7209000" y="2266920"/>
            <a:chExt cx="1659960" cy="447480"/>
          </a:xfrm>
        </p:grpSpPr>
        <p:sp>
          <p:nvSpPr>
            <p:cNvPr id="842" name=""/>
            <p:cNvSpPr/>
            <p:nvPr/>
          </p:nvSpPr>
          <p:spPr>
            <a:xfrm>
              <a:off x="7213320" y="2302560"/>
              <a:ext cx="1655640" cy="411840"/>
            </a:xfrm>
            <a:prstGeom prst="ellipse">
              <a:avLst/>
            </a:prstGeom>
            <a:gradFill rotWithShape="0">
              <a:gsLst>
                <a:gs pos="0">
                  <a:srgbClr val="3a5700"/>
                </a:gs>
                <a:gs pos="50000">
                  <a:srgbClr val="669900"/>
                </a:gs>
                <a:gs pos="100000">
                  <a:srgbClr val="3a5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09000" y="2266920"/>
              <a:ext cx="1655640" cy="41184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d2e0b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506600" y="4052880"/>
            <a:ext cx="1655280" cy="447480"/>
            <a:chOff x="1506600" y="4052880"/>
            <a:chExt cx="1655280" cy="447480"/>
          </a:xfrm>
        </p:grpSpPr>
        <p:sp>
          <p:nvSpPr>
            <p:cNvPr id="845" name=""/>
            <p:cNvSpPr/>
            <p:nvPr/>
          </p:nvSpPr>
          <p:spPr>
            <a:xfrm>
              <a:off x="1510920" y="4088520"/>
              <a:ext cx="1650960" cy="411840"/>
            </a:xfrm>
            <a:prstGeom prst="ellipse">
              <a:avLst/>
            </a:prstGeom>
            <a:gradFill rotWithShape="0">
              <a:gsLst>
                <a:gs pos="0">
                  <a:srgbClr val="913737"/>
                </a:gs>
                <a:gs pos="50000">
                  <a:srgbClr val="ff6161"/>
                </a:gs>
                <a:gs pos="100000">
                  <a:srgbClr val="91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06600" y="4052880"/>
              <a:ext cx="1650960" cy="41184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e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409920" y="3540240"/>
            <a:ext cx="1660320" cy="450360"/>
            <a:chOff x="3409920" y="3540240"/>
            <a:chExt cx="1660320" cy="450360"/>
          </a:xfrm>
        </p:grpSpPr>
        <p:sp>
          <p:nvSpPr>
            <p:cNvPr id="848" name=""/>
            <p:cNvSpPr/>
            <p:nvPr/>
          </p:nvSpPr>
          <p:spPr>
            <a:xfrm>
              <a:off x="3414240" y="3576240"/>
              <a:ext cx="1656000" cy="414360"/>
            </a:xfrm>
            <a:prstGeom prst="ellipse">
              <a:avLst/>
            </a:prstGeom>
            <a:gradFill rotWithShape="0">
              <a:gsLst>
                <a:gs pos="0">
                  <a:srgbClr val="916f0e"/>
                </a:gs>
                <a:gs pos="50000">
                  <a:srgbClr val="ffc319"/>
                </a:gs>
                <a:gs pos="100000">
                  <a:srgbClr val="916f0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09920" y="3540240"/>
              <a:ext cx="1656000" cy="414360"/>
            </a:xfrm>
            <a:prstGeom prst="ellipse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bb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87520" y="46180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403440" y="46180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27640" y="461808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230960" y="4618080"/>
            <a:ext cx="16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1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04120" y="2384280"/>
            <a:ext cx="1171440" cy="190800"/>
          </a:xfrm>
          <a:prstGeom prst="rect">
            <a:avLst/>
          </a:prstGeom>
          <a:ln w="0">
            <a:noFill/>
          </a:ln>
        </p:spPr>
      </p:pic>
      <p:grpSp>
        <p:nvGrpSpPr>
          <p:cNvPr id="855" name=""/>
          <p:cNvGrpSpPr/>
          <p:nvPr/>
        </p:nvGrpSpPr>
        <p:grpSpPr>
          <a:xfrm>
            <a:off x="7386480" y="1460520"/>
            <a:ext cx="1236600" cy="1044360"/>
            <a:chOff x="7386480" y="1460520"/>
            <a:chExt cx="1236600" cy="1044360"/>
          </a:xfrm>
        </p:grpSpPr>
        <p:pic>
          <p:nvPicPr>
            <p:cNvPr id="856" name="" descr=""/>
            <p:cNvPicPr/>
            <p:nvPr/>
          </p:nvPicPr>
          <p:blipFill>
            <a:blip r:embed="rId2"/>
            <a:stretch/>
          </p:blipFill>
          <p:spPr>
            <a:xfrm>
              <a:off x="7386480" y="1460520"/>
              <a:ext cx="1227960" cy="103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7386480" y="1460520"/>
              <a:ext cx="1236600" cy="10443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55294"/>
                  </a:srgbClr>
                </a:gs>
                <a:gs pos="50000">
                  <a:srgbClr val="465e00">
                    <a:alpha val="90196"/>
                  </a:srgbClr>
                </a:gs>
                <a:gs pos="100000">
                  <a:srgbClr val="99cc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" descr=""/>
            <p:cNvPicPr/>
            <p:nvPr/>
          </p:nvPicPr>
          <p:blipFill>
            <a:blip r:embed="rId3"/>
            <a:stretch/>
          </p:blipFill>
          <p:spPr>
            <a:xfrm>
              <a:off x="7509240" y="1470600"/>
              <a:ext cx="98532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9" name=""/>
          <p:cNvSpPr/>
          <p:nvPr/>
        </p:nvSpPr>
        <p:spPr>
          <a:xfrm>
            <a:off x="7692840" y="1770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533920" y="2995560"/>
            <a:ext cx="1166760" cy="193680"/>
          </a:xfrm>
          <a:prstGeom prst="rect">
            <a:avLst/>
          </a:prstGeom>
          <a:ln w="0">
            <a:noFill/>
          </a:ln>
        </p:spPr>
      </p:pic>
      <p:grpSp>
        <p:nvGrpSpPr>
          <p:cNvPr id="861" name=""/>
          <p:cNvGrpSpPr/>
          <p:nvPr/>
        </p:nvGrpSpPr>
        <p:grpSpPr>
          <a:xfrm>
            <a:off x="5511960" y="2075040"/>
            <a:ext cx="1234440" cy="1040760"/>
            <a:chOff x="5511960" y="2075040"/>
            <a:chExt cx="1234440" cy="1040760"/>
          </a:xfrm>
        </p:grpSpPr>
        <p:pic>
          <p:nvPicPr>
            <p:cNvPr id="862" name="" descr=""/>
            <p:cNvPicPr/>
            <p:nvPr/>
          </p:nvPicPr>
          <p:blipFill>
            <a:blip r:embed="rId5"/>
            <a:stretch/>
          </p:blipFill>
          <p:spPr>
            <a:xfrm>
              <a:off x="5511960" y="2075040"/>
              <a:ext cx="122580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>
              <a:off x="5511960" y="2075040"/>
              <a:ext cx="1234440" cy="104076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55294"/>
                  </a:srgbClr>
                </a:gs>
                <a:gs pos="50000">
                  <a:srgbClr val="754600">
                    <a:alpha val="90196"/>
                  </a:srgbClr>
                </a:gs>
                <a:gs pos="100000">
                  <a:srgbClr val="ff99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4" name="" descr=""/>
            <p:cNvPicPr/>
            <p:nvPr/>
          </p:nvPicPr>
          <p:blipFill>
            <a:blip r:embed="rId6"/>
            <a:stretch/>
          </p:blipFill>
          <p:spPr>
            <a:xfrm>
              <a:off x="5634720" y="2084760"/>
              <a:ext cx="983520" cy="36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5" name=""/>
          <p:cNvSpPr/>
          <p:nvPr/>
        </p:nvSpPr>
        <p:spPr>
          <a:xfrm>
            <a:off x="5817960" y="23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646440" y="3657600"/>
            <a:ext cx="1170000" cy="190440"/>
          </a:xfrm>
          <a:prstGeom prst="rect">
            <a:avLst/>
          </a:prstGeom>
          <a:ln w="0">
            <a:noFill/>
          </a:ln>
        </p:spPr>
      </p:pic>
      <p:grpSp>
        <p:nvGrpSpPr>
          <p:cNvPr id="867" name=""/>
          <p:cNvGrpSpPr/>
          <p:nvPr/>
        </p:nvGrpSpPr>
        <p:grpSpPr>
          <a:xfrm>
            <a:off x="3629160" y="2733840"/>
            <a:ext cx="1233000" cy="1040760"/>
            <a:chOff x="3629160" y="2733840"/>
            <a:chExt cx="1233000" cy="1040760"/>
          </a:xfrm>
        </p:grpSpPr>
        <p:pic>
          <p:nvPicPr>
            <p:cNvPr id="868" name="" descr=""/>
            <p:cNvPicPr/>
            <p:nvPr/>
          </p:nvPicPr>
          <p:blipFill>
            <a:blip r:embed="rId8"/>
            <a:stretch/>
          </p:blipFill>
          <p:spPr>
            <a:xfrm>
              <a:off x="3629160" y="2733840"/>
              <a:ext cx="122436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3629160" y="2733840"/>
              <a:ext cx="1233000" cy="1040760"/>
            </a:xfrm>
            <a:prstGeom prst="ellipse">
              <a:avLst/>
            </a:prstGeom>
            <a:gradFill rotWithShape="0">
              <a:gsLst>
                <a:gs pos="0">
                  <a:srgbClr val="ffc319">
                    <a:alpha val="55294"/>
                  </a:srgbClr>
                </a:gs>
                <a:gs pos="50000">
                  <a:srgbClr val="75590b">
                    <a:alpha val="90196"/>
                  </a:srgbClr>
                </a:gs>
                <a:gs pos="100000">
                  <a:srgbClr val="ffc31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0" name="" descr=""/>
            <p:cNvPicPr/>
            <p:nvPr/>
          </p:nvPicPr>
          <p:blipFill>
            <a:blip r:embed="rId9"/>
            <a:stretch/>
          </p:blipFill>
          <p:spPr>
            <a:xfrm>
              <a:off x="3751560" y="2743560"/>
              <a:ext cx="982440" cy="36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1" name=""/>
          <p:cNvSpPr/>
          <p:nvPr/>
        </p:nvSpPr>
        <p:spPr>
          <a:xfrm>
            <a:off x="3933720" y="3043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1722600" y="4157640"/>
            <a:ext cx="1168200" cy="190440"/>
          </a:xfrm>
          <a:prstGeom prst="rect">
            <a:avLst/>
          </a:prstGeom>
          <a:ln w="0">
            <a:noFill/>
          </a:ln>
        </p:spPr>
      </p:pic>
      <p:grpSp>
        <p:nvGrpSpPr>
          <p:cNvPr id="873" name=""/>
          <p:cNvGrpSpPr/>
          <p:nvPr/>
        </p:nvGrpSpPr>
        <p:grpSpPr>
          <a:xfrm>
            <a:off x="1703520" y="3233880"/>
            <a:ext cx="1234440" cy="1044000"/>
            <a:chOff x="1703520" y="3233880"/>
            <a:chExt cx="1234440" cy="1044000"/>
          </a:xfrm>
        </p:grpSpPr>
        <p:pic>
          <p:nvPicPr>
            <p:cNvPr id="874" name="" descr=""/>
            <p:cNvPicPr/>
            <p:nvPr/>
          </p:nvPicPr>
          <p:blipFill>
            <a:blip r:embed="rId11"/>
            <a:stretch/>
          </p:blipFill>
          <p:spPr>
            <a:xfrm>
              <a:off x="1703520" y="3233880"/>
              <a:ext cx="1225800" cy="10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1703520" y="3233880"/>
              <a:ext cx="1234440" cy="1044000"/>
            </a:xfrm>
            <a:prstGeom prst="ellipse">
              <a:avLst/>
            </a:prstGeom>
            <a:gradFill rotWithShape="0">
              <a:gsLst>
                <a:gs pos="0">
                  <a:srgbClr val="ff6161">
                    <a:alpha val="55294"/>
                  </a:srgbClr>
                </a:gs>
                <a:gs pos="50000">
                  <a:srgbClr val="752c2c">
                    <a:alpha val="90196"/>
                  </a:srgbClr>
                </a:gs>
                <a:gs pos="100000">
                  <a:srgbClr val="ff6161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6" name="" descr=""/>
            <p:cNvPicPr/>
            <p:nvPr/>
          </p:nvPicPr>
          <p:blipFill>
            <a:blip r:embed="rId12"/>
            <a:stretch/>
          </p:blipFill>
          <p:spPr>
            <a:xfrm>
              <a:off x="1826280" y="3243960"/>
              <a:ext cx="98352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7" name=""/>
          <p:cNvSpPr/>
          <p:nvPr/>
        </p:nvSpPr>
        <p:spPr>
          <a:xfrm>
            <a:off x="200952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  <a:ea typeface="宋体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349800" y="4048200"/>
            <a:ext cx="4437000" cy="105876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20580000">
            <a:off x="2771640" y="2362320"/>
            <a:ext cx="4597560" cy="240660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20580000">
            <a:off x="2815920" y="2233080"/>
            <a:ext cx="4437000" cy="2332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rot="20580000">
            <a:off x="2752560" y="2228040"/>
            <a:ext cx="4546440" cy="23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rot="20640000">
            <a:off x="2735280" y="2258280"/>
            <a:ext cx="4590000" cy="229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rot="20580000">
            <a:off x="2761560" y="2234160"/>
            <a:ext cx="4525560" cy="22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rot="20640000">
            <a:off x="2739240" y="2251080"/>
            <a:ext cx="4546800" cy="22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rot="20580000">
            <a:off x="3979800" y="2803320"/>
            <a:ext cx="2151000" cy="1068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515760" y="2981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033520" y="225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373080" y="2617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未知"/>
          <p:cNvSpPr/>
          <p:nvPr/>
        </p:nvSpPr>
        <p:spPr>
          <a:xfrm>
            <a:off x="6632640" y="3043080"/>
            <a:ext cx="1033560" cy="136548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20520000">
            <a:off x="2747880" y="2253240"/>
            <a:ext cx="4996080" cy="23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未知"/>
          <p:cNvSpPr/>
          <p:nvPr/>
        </p:nvSpPr>
        <p:spPr>
          <a:xfrm>
            <a:off x="5275440" y="3425760"/>
            <a:ext cx="1403280" cy="98748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373080" y="340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973040" y="4014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453840" y="389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20580000">
            <a:off x="4060800" y="3003480"/>
            <a:ext cx="2063880" cy="870120"/>
          </a:xfrm>
          <a:prstGeom prst="ellipse">
            <a:avLst/>
          </a:prstGeom>
          <a:gradFill rotWithShape="0">
            <a:gsLst>
              <a:gs pos="0">
                <a:srgbClr val="557c96"/>
              </a:gs>
              <a:gs pos="100000">
                <a:srgbClr val="273945"/>
              </a:gs>
            </a:gsLst>
            <a:lin ang="145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未知"/>
          <p:cNvSpPr/>
          <p:nvPr/>
        </p:nvSpPr>
        <p:spPr>
          <a:xfrm>
            <a:off x="5415120" y="3741840"/>
            <a:ext cx="1023840" cy="82080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2"/>
          <p:cNvSpPr/>
          <p:nvPr/>
        </p:nvSpPr>
        <p:spPr>
          <a:xfrm>
            <a:off x="7088040" y="198756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9" name="AutoShape 23"/>
          <p:cNvCxnSpPr/>
          <p:nvPr/>
        </p:nvCxnSpPr>
        <p:spPr>
          <a:xfrm flipV="1" rot="10800000">
            <a:off x="6830280" y="2113560"/>
            <a:ext cx="219960" cy="33732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00" name="Text Box 24"/>
          <p:cNvSpPr/>
          <p:nvPr/>
        </p:nvSpPr>
        <p:spPr>
          <a:xfrm>
            <a:off x="2249640" y="2433600"/>
            <a:ext cx="16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AutoShape 25"/>
          <p:cNvCxnSpPr/>
          <p:nvPr/>
        </p:nvCxnSpPr>
        <p:spPr>
          <a:xfrm>
            <a:off x="3413160" y="2609640"/>
            <a:ext cx="203760" cy="3387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02" name="Text Box 26"/>
          <p:cNvSpPr/>
          <p:nvPr/>
        </p:nvSpPr>
        <p:spPr>
          <a:xfrm>
            <a:off x="3774960" y="16686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AutoShape 27"/>
          <p:cNvCxnSpPr/>
          <p:nvPr/>
        </p:nvCxnSpPr>
        <p:spPr>
          <a:xfrm>
            <a:off x="4924440" y="1858680"/>
            <a:ext cx="202320" cy="3387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904" name="AutoShape 29"/>
          <p:cNvCxnSpPr/>
          <p:nvPr/>
        </p:nvCxnSpPr>
        <p:spPr>
          <a:xfrm rot="10800000">
            <a:off x="7117560" y="3550680"/>
            <a:ext cx="556560" cy="538560"/>
          </a:xfrm>
          <a:prstGeom prst="bentConnector3">
            <a:avLst>
              <a:gd name="adj1" fmla="val 51197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905" name="Text Box 30"/>
          <p:cNvSpPr/>
          <p:nvPr/>
        </p:nvSpPr>
        <p:spPr>
          <a:xfrm>
            <a:off x="1714680" y="4640400"/>
            <a:ext cx="13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6" name="AutoShape 31"/>
          <p:cNvCxnSpPr/>
          <p:nvPr/>
        </p:nvCxnSpPr>
        <p:spPr>
          <a:xfrm flipH="1" flipV="1" rot="5400000">
            <a:off x="2826000" y="4332600"/>
            <a:ext cx="619920" cy="380160"/>
          </a:xfrm>
          <a:prstGeom prst="bentConnector3">
            <a:avLst>
              <a:gd name="adj1" fmla="val -406"/>
            </a:avLst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907" name=""/>
          <p:cNvCxnSpPr/>
          <p:nvPr/>
        </p:nvCxnSpPr>
        <p:spPr>
          <a:xfrm flipH="1" flipV="1">
            <a:off x="4882320" y="4511520"/>
            <a:ext cx="3960" cy="62604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08" name="Text Box 30"/>
          <p:cNvSpPr/>
          <p:nvPr/>
        </p:nvSpPr>
        <p:spPr>
          <a:xfrm>
            <a:off x="4305240" y="5149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2"/>
          <p:cNvSpPr/>
          <p:nvPr/>
        </p:nvSpPr>
        <p:spPr>
          <a:xfrm>
            <a:off x="7642080" y="396864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点击编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5635800" y="3511440"/>
            <a:ext cx="1895400" cy="390600"/>
          </a:xfrm>
          <a:prstGeom prst="rect">
            <a:avLst/>
          </a:prstGeom>
          <a:gradFill rotWithShape="0">
            <a:gsLst>
              <a:gs pos="0">
                <a:srgbClr val="c5e1c7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70280" y="3954600"/>
            <a:ext cx="1865520" cy="388800"/>
          </a:xfrm>
          <a:prstGeom prst="rect">
            <a:avLst/>
          </a:prstGeom>
          <a:gradFill rotWithShape="0">
            <a:gsLst>
              <a:gs pos="0">
                <a:srgbClr val="c5e1c7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82800" y="4400640"/>
            <a:ext cx="1884240" cy="38880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258200" y="3848040"/>
            <a:ext cx="2508120" cy="555840"/>
          </a:xfrm>
          <a:prstGeom prst="parallelogram">
            <a:avLst>
              <a:gd name="adj" fmla="val 112808"/>
            </a:avLst>
          </a:prstGeom>
          <a:gradFill rotWithShape="0">
            <a:gsLst>
              <a:gs pos="0">
                <a:srgbClr val="ffc319">
                  <a:alpha val="50196"/>
                </a:srgbClr>
              </a:gs>
              <a:gs pos="100000">
                <a:srgbClr val="fedd81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130560" y="3386160"/>
            <a:ext cx="2509920" cy="585720"/>
          </a:xfrm>
          <a:prstGeom prst="parallelogram">
            <a:avLst>
              <a:gd name="adj" fmla="val 109808"/>
            </a:avLst>
          </a:prstGeom>
          <a:gradFill rotWithShape="0">
            <a:gsLst>
              <a:gs pos="0">
                <a:srgbClr val="e3f0e4"/>
              </a:gs>
              <a:gs pos="100000">
                <a:srgbClr val="cee6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未知"/>
          <p:cNvSpPr/>
          <p:nvPr/>
        </p:nvSpPr>
        <p:spPr>
          <a:xfrm>
            <a:off x="3138480" y="3389400"/>
            <a:ext cx="631800" cy="101916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cee6d0"/>
              </a:gs>
              <a:gs pos="100000">
                <a:srgbClr val="5e6a5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5002200" y="2922480"/>
            <a:ext cx="2517840" cy="592200"/>
          </a:xfrm>
          <a:prstGeom prst="parallelogram">
            <a:avLst>
              <a:gd name="adj" fmla="val 105721"/>
            </a:avLst>
          </a:prstGeom>
          <a:gradFill rotWithShape="0">
            <a:gsLst>
              <a:gs pos="0">
                <a:srgbClr val="e3f0e4"/>
              </a:gs>
              <a:gs pos="100000">
                <a:srgbClr val="cee6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未知"/>
          <p:cNvSpPr/>
          <p:nvPr/>
        </p:nvSpPr>
        <p:spPr>
          <a:xfrm>
            <a:off x="4998960" y="2916360"/>
            <a:ext cx="636840" cy="10522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cee6d0"/>
              </a:gs>
              <a:gs pos="100000">
                <a:srgbClr val="5e6a5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3801960" y="3532320"/>
            <a:ext cx="1040040" cy="25236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3711600" y="2665440"/>
            <a:ext cx="1190520" cy="102708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3711600" y="2665440"/>
            <a:ext cx="1181160" cy="1030320"/>
          </a:xfrm>
          <a:prstGeom prst="ellipse">
            <a:avLst/>
          </a:prstGeom>
          <a:gradFill rotWithShape="0">
            <a:gsLst>
              <a:gs pos="0">
                <a:srgbClr val="1a4242">
                  <a:alpha val="90196"/>
                </a:srgbClr>
              </a:gs>
              <a:gs pos="50000">
                <a:srgbClr val="66ffff">
                  <a:alpha val="45098"/>
                </a:srgbClr>
              </a:gs>
              <a:gs pos="100000">
                <a:srgbClr val="1a42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未知"/>
          <p:cNvSpPr/>
          <p:nvPr/>
        </p:nvSpPr>
        <p:spPr>
          <a:xfrm>
            <a:off x="3833640" y="2687760"/>
            <a:ext cx="928800" cy="3553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5784840" y="3090960"/>
            <a:ext cx="1041480" cy="2556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4"/>
          <a:stretch/>
        </p:blipFill>
        <p:spPr>
          <a:xfrm>
            <a:off x="5695920" y="2225520"/>
            <a:ext cx="1189080" cy="102888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695920" y="2225520"/>
            <a:ext cx="1181160" cy="1032120"/>
          </a:xfrm>
          <a:prstGeom prst="ellipse">
            <a:avLst/>
          </a:prstGeom>
          <a:gradFill rotWithShape="0">
            <a:gsLst>
              <a:gs pos="0">
                <a:srgbClr val="1a4242">
                  <a:alpha val="90196"/>
                </a:srgbClr>
              </a:gs>
              <a:gs pos="50000">
                <a:srgbClr val="66ffff">
                  <a:alpha val="45098"/>
                </a:srgbClr>
              </a:gs>
              <a:gs pos="100000">
                <a:srgbClr val="1a42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未知"/>
          <p:cNvSpPr/>
          <p:nvPr/>
        </p:nvSpPr>
        <p:spPr>
          <a:xfrm>
            <a:off x="5819760" y="2246400"/>
            <a:ext cx="925560" cy="358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962000" y="5237280"/>
            <a:ext cx="174492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3828960" y="3327840"/>
            <a:ext cx="1099440" cy="432000"/>
            <a:chOff x="3828960" y="3327840"/>
            <a:chExt cx="1099440" cy="432000"/>
          </a:xfrm>
        </p:grpSpPr>
        <p:grpSp>
          <p:nvGrpSpPr>
            <p:cNvPr id="929" name=""/>
            <p:cNvGrpSpPr/>
            <p:nvPr/>
          </p:nvGrpSpPr>
          <p:grpSpPr>
            <a:xfrm>
              <a:off x="4016880" y="3327840"/>
              <a:ext cx="911520" cy="393120"/>
              <a:chOff x="4016880" y="3327840"/>
              <a:chExt cx="911520" cy="393120"/>
            </a:xfrm>
          </p:grpSpPr>
          <p:sp>
            <p:nvSpPr>
              <p:cNvPr id="930" name=""/>
              <p:cNvSpPr/>
              <p:nvPr/>
            </p:nvSpPr>
            <p:spPr>
              <a:xfrm flipH="1" flipV="1" rot="4002600">
                <a:off x="4524120" y="3191400"/>
                <a:ext cx="140760" cy="66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 flipV="1" rot="4818000">
                <a:off x="4420440" y="3231000"/>
                <a:ext cx="14076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 rot="5113800">
                <a:off x="4357440" y="3240720"/>
                <a:ext cx="140760" cy="66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 rot="5646600">
                <a:off x="4283280" y="3250080"/>
                <a:ext cx="140760" cy="66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3828960" y="3334680"/>
              <a:ext cx="909360" cy="425160"/>
              <a:chOff x="3828960" y="3334680"/>
              <a:chExt cx="909360" cy="425160"/>
            </a:xfrm>
          </p:grpSpPr>
          <p:sp>
            <p:nvSpPr>
              <p:cNvPr id="935" name=""/>
              <p:cNvSpPr/>
              <p:nvPr/>
            </p:nvSpPr>
            <p:spPr>
              <a:xfrm flipH="1" flipV="1" rot="5355600">
                <a:off x="4333320" y="3252960"/>
                <a:ext cx="14148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 rot="6171600">
                <a:off x="4222080" y="3249720"/>
                <a:ext cx="14148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flipV="1" rot="6466800">
                <a:off x="4160880" y="3234960"/>
                <a:ext cx="141480" cy="66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flipV="1" rot="6999000">
                <a:off x="4087440" y="3213720"/>
                <a:ext cx="141480" cy="666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5739120" y="2875680"/>
            <a:ext cx="1097640" cy="431640"/>
            <a:chOff x="5739120" y="2875680"/>
            <a:chExt cx="1097640" cy="431640"/>
          </a:xfrm>
        </p:grpSpPr>
        <p:grpSp>
          <p:nvGrpSpPr>
            <p:cNvPr id="940" name=""/>
            <p:cNvGrpSpPr/>
            <p:nvPr/>
          </p:nvGrpSpPr>
          <p:grpSpPr>
            <a:xfrm>
              <a:off x="5925960" y="2875680"/>
              <a:ext cx="910800" cy="392760"/>
              <a:chOff x="5925960" y="2875680"/>
              <a:chExt cx="910800" cy="392760"/>
            </a:xfrm>
          </p:grpSpPr>
          <p:sp>
            <p:nvSpPr>
              <p:cNvPr id="941" name=""/>
              <p:cNvSpPr/>
              <p:nvPr/>
            </p:nvSpPr>
            <p:spPr>
              <a:xfrm flipH="1" flipV="1" rot="4002600">
                <a:off x="6432840" y="2739240"/>
                <a:ext cx="140760" cy="66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 flipV="1" rot="4818000">
                <a:off x="6329160" y="2778480"/>
                <a:ext cx="14076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 flipV="1" rot="5113800">
                <a:off x="6266160" y="2788560"/>
                <a:ext cx="140760" cy="66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 flipV="1" rot="5646600">
                <a:off x="6192000" y="2797920"/>
                <a:ext cx="140760" cy="66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5739120" y="2882880"/>
              <a:ext cx="907920" cy="424440"/>
              <a:chOff x="5739120" y="2882880"/>
              <a:chExt cx="907920" cy="424440"/>
            </a:xfrm>
          </p:grpSpPr>
          <p:sp>
            <p:nvSpPr>
              <p:cNvPr id="946" name=""/>
              <p:cNvSpPr/>
              <p:nvPr/>
            </p:nvSpPr>
            <p:spPr>
              <a:xfrm flipH="1" flipV="1" rot="5355600">
                <a:off x="6242400" y="280080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 rot="6171600">
                <a:off x="6131160" y="279756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 flipV="1" rot="6466800">
                <a:off x="6070320" y="278280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 rot="6999000">
                <a:off x="5997240" y="276264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>
            <a:off x="1467000" y="167148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31200" y="3068640"/>
            <a:ext cx="1895400" cy="388800"/>
          </a:xfrm>
          <a:prstGeom prst="rect">
            <a:avLst/>
          </a:prstGeom>
          <a:gradFill rotWithShape="0">
            <a:gsLst>
              <a:gs pos="0">
                <a:srgbClr val="c5e1c7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897600" y="2475000"/>
            <a:ext cx="2517840" cy="593640"/>
          </a:xfrm>
          <a:prstGeom prst="parallelogram">
            <a:avLst>
              <a:gd name="adj" fmla="val 105464"/>
            </a:avLst>
          </a:prstGeom>
          <a:gradFill rotWithShape="0">
            <a:gsLst>
              <a:gs pos="0">
                <a:srgbClr val="e3f0e4"/>
              </a:gs>
              <a:gs pos="100000">
                <a:srgbClr val="cee6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未知"/>
          <p:cNvSpPr/>
          <p:nvPr/>
        </p:nvSpPr>
        <p:spPr>
          <a:xfrm>
            <a:off x="6896160" y="2473200"/>
            <a:ext cx="635040" cy="104796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cee6d0"/>
              </a:gs>
              <a:gs pos="100000">
                <a:srgbClr val="5e6a5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5"/>
          <a:stretch/>
        </p:blipFill>
        <p:spPr>
          <a:xfrm>
            <a:off x="7680240" y="2647800"/>
            <a:ext cx="1041480" cy="2509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6"/>
          <a:stretch/>
        </p:blipFill>
        <p:spPr>
          <a:xfrm>
            <a:off x="7589880" y="1779480"/>
            <a:ext cx="1190520" cy="102708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7589880" y="1779480"/>
            <a:ext cx="1182600" cy="1030320"/>
          </a:xfrm>
          <a:prstGeom prst="ellipse">
            <a:avLst/>
          </a:prstGeom>
          <a:gradFill rotWithShape="0">
            <a:gsLst>
              <a:gs pos="0">
                <a:srgbClr val="1a4242">
                  <a:alpha val="90196"/>
                </a:srgbClr>
              </a:gs>
              <a:gs pos="50000">
                <a:srgbClr val="66ffff">
                  <a:alpha val="45098"/>
                </a:srgbClr>
              </a:gs>
              <a:gs pos="100000">
                <a:srgbClr val="1a42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未知"/>
          <p:cNvSpPr/>
          <p:nvPr/>
        </p:nvSpPr>
        <p:spPr>
          <a:xfrm>
            <a:off x="7713720" y="1801800"/>
            <a:ext cx="927000" cy="3556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7634520" y="2429640"/>
            <a:ext cx="1097640" cy="431640"/>
            <a:chOff x="7634520" y="2429640"/>
            <a:chExt cx="1097640" cy="431640"/>
          </a:xfrm>
        </p:grpSpPr>
        <p:grpSp>
          <p:nvGrpSpPr>
            <p:cNvPr id="959" name=""/>
            <p:cNvGrpSpPr/>
            <p:nvPr/>
          </p:nvGrpSpPr>
          <p:grpSpPr>
            <a:xfrm>
              <a:off x="7821360" y="2429640"/>
              <a:ext cx="910800" cy="392760"/>
              <a:chOff x="7821360" y="2429640"/>
              <a:chExt cx="910800" cy="392760"/>
            </a:xfrm>
          </p:grpSpPr>
          <p:sp>
            <p:nvSpPr>
              <p:cNvPr id="960" name=""/>
              <p:cNvSpPr/>
              <p:nvPr/>
            </p:nvSpPr>
            <p:spPr>
              <a:xfrm flipH="1" flipV="1" rot="4002600">
                <a:off x="8328240" y="2293200"/>
                <a:ext cx="140760" cy="66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 rot="4818000">
                <a:off x="8224560" y="2332440"/>
                <a:ext cx="14076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flipV="1" rot="5113800">
                <a:off x="8161560" y="2342520"/>
                <a:ext cx="140760" cy="66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 flipV="1" rot="5646600">
                <a:off x="8087400" y="2351880"/>
                <a:ext cx="140760" cy="66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7634520" y="2436840"/>
              <a:ext cx="907920" cy="424440"/>
              <a:chOff x="7634520" y="2436840"/>
              <a:chExt cx="907920" cy="424440"/>
            </a:xfrm>
          </p:grpSpPr>
          <p:sp>
            <p:nvSpPr>
              <p:cNvPr id="965" name=""/>
              <p:cNvSpPr/>
              <p:nvPr/>
            </p:nvSpPr>
            <p:spPr>
              <a:xfrm flipH="1" flipV="1" rot="5355600">
                <a:off x="8137800" y="235476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flipV="1" rot="6171600">
                <a:off x="8026560" y="235152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 rot="6466800">
                <a:off x="7965720" y="233676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 rot="6999000">
                <a:off x="7892640" y="2316600"/>
                <a:ext cx="1414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9" name="未知"/>
          <p:cNvSpPr/>
          <p:nvPr/>
        </p:nvSpPr>
        <p:spPr>
          <a:xfrm>
            <a:off x="1258920" y="3833640"/>
            <a:ext cx="631800" cy="101952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fee08e"/>
              </a:gs>
              <a:gs pos="100000">
                <a:srgbClr val="ffc319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7"/>
          <a:stretch/>
        </p:blipFill>
        <p:spPr>
          <a:xfrm>
            <a:off x="1917720" y="3930480"/>
            <a:ext cx="1041480" cy="25416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8"/>
          <a:stretch/>
        </p:blipFill>
        <p:spPr>
          <a:xfrm>
            <a:off x="1827360" y="3065400"/>
            <a:ext cx="1190520" cy="102708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827360" y="3065400"/>
            <a:ext cx="1182600" cy="1030320"/>
          </a:xfrm>
          <a:prstGeom prst="ellipse">
            <a:avLst/>
          </a:prstGeom>
          <a:gradFill rotWithShape="0">
            <a:gsLst>
              <a:gs pos="0">
                <a:srgbClr val="a88010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a88010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未知"/>
          <p:cNvSpPr/>
          <p:nvPr/>
        </p:nvSpPr>
        <p:spPr>
          <a:xfrm>
            <a:off x="1951200" y="3086280"/>
            <a:ext cx="928440" cy="3571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31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933560" y="345456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945080" y="3729600"/>
            <a:ext cx="1099080" cy="430560"/>
            <a:chOff x="1945080" y="3729600"/>
            <a:chExt cx="1099080" cy="430560"/>
          </a:xfrm>
        </p:grpSpPr>
        <p:grpSp>
          <p:nvGrpSpPr>
            <p:cNvPr id="976" name=""/>
            <p:cNvGrpSpPr/>
            <p:nvPr/>
          </p:nvGrpSpPr>
          <p:grpSpPr>
            <a:xfrm>
              <a:off x="2132280" y="3729600"/>
              <a:ext cx="911880" cy="390960"/>
              <a:chOff x="2132280" y="3729600"/>
              <a:chExt cx="911880" cy="390960"/>
            </a:xfrm>
          </p:grpSpPr>
          <p:sp>
            <p:nvSpPr>
              <p:cNvPr id="977" name=""/>
              <p:cNvSpPr/>
              <p:nvPr/>
            </p:nvSpPr>
            <p:spPr>
              <a:xfrm flipH="1" flipV="1" rot="4002600">
                <a:off x="2640600" y="3592080"/>
                <a:ext cx="13932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 rot="4818000">
                <a:off x="2537280" y="3631680"/>
                <a:ext cx="139320" cy="66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flipV="1" rot="5113800">
                <a:off x="2474640" y="3641400"/>
                <a:ext cx="139680" cy="66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 rot="5646600">
                <a:off x="2399040" y="3650760"/>
                <a:ext cx="139680" cy="66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1945080" y="3736080"/>
              <a:ext cx="909000" cy="424080"/>
              <a:chOff x="1945080" y="3736080"/>
              <a:chExt cx="909000" cy="424080"/>
            </a:xfrm>
          </p:grpSpPr>
          <p:sp>
            <p:nvSpPr>
              <p:cNvPr id="982" name=""/>
              <p:cNvSpPr/>
              <p:nvPr/>
            </p:nvSpPr>
            <p:spPr>
              <a:xfrm flipH="1" flipV="1" rot="5355600">
                <a:off x="2449440" y="3653280"/>
                <a:ext cx="14076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 flipV="1" rot="6171600">
                <a:off x="2338560" y="3650040"/>
                <a:ext cx="14076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 flipV="1" rot="6466800">
                <a:off x="2276280" y="3634920"/>
                <a:ext cx="14076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 flipV="1" rot="6999000">
                <a:off x="2203560" y="3614760"/>
                <a:ext cx="140400" cy="66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3814920" y="4722840"/>
            <a:ext cx="17445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673600" y="4162320"/>
            <a:ext cx="17478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62880" y="3749760"/>
            <a:ext cx="17478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21040" y="3056040"/>
            <a:ext cx="9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97440" y="260676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697880" y="217008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"/>
          <p:cNvGrpSpPr/>
          <p:nvPr/>
        </p:nvGrpSpPr>
        <p:grpSpPr>
          <a:xfrm>
            <a:off x="1528920" y="1836720"/>
            <a:ext cx="7345080" cy="3449520"/>
            <a:chOff x="1528920" y="1836720"/>
            <a:chExt cx="7345080" cy="3449520"/>
          </a:xfrm>
        </p:grpSpPr>
        <p:sp>
          <p:nvSpPr>
            <p:cNvPr id="994" name="Freeform 2"/>
            <p:cNvSpPr/>
            <p:nvPr/>
          </p:nvSpPr>
          <p:spPr>
            <a:xfrm>
              <a:off x="1555200" y="2590200"/>
              <a:ext cx="7318800" cy="2426040"/>
            </a:xfrm>
            <a:custGeom>
              <a:avLst/>
              <a:gdLst>
                <a:gd name="textAreaLeft" fmla="*/ 0 w 7318800"/>
                <a:gd name="textAreaRight" fmla="*/ 7319160 w 7318800"/>
                <a:gd name="textAreaTop" fmla="*/ 0 h 2426040"/>
                <a:gd name="textAreaBottom" fmla="*/ 2426400 h 2426040"/>
              </a:gdLst>
              <a:ahLst/>
              <a:rect l="textAreaLeft" t="textAreaTop" r="textAreaRight" b="textAreaBottom"/>
              <a:pathLst>
                <a:path w="5034" h="1908">
                  <a:moveTo>
                    <a:pt x="2502" y="0"/>
                  </a:moveTo>
                  <a:lnTo>
                    <a:pt x="1465" y="383"/>
                  </a:lnTo>
                  <a:lnTo>
                    <a:pt x="1783" y="383"/>
                  </a:lnTo>
                  <a:lnTo>
                    <a:pt x="0" y="1908"/>
                  </a:lnTo>
                  <a:lnTo>
                    <a:pt x="5034" y="1908"/>
                  </a:lnTo>
                  <a:lnTo>
                    <a:pt x="3229" y="383"/>
                  </a:lnTo>
                  <a:lnTo>
                    <a:pt x="3613" y="395"/>
                  </a:lnTo>
                  <a:lnTo>
                    <a:pt x="25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AutoShape 3"/>
            <p:cNvSpPr/>
            <p:nvPr/>
          </p:nvSpPr>
          <p:spPr>
            <a:xfrm>
              <a:off x="2664720" y="1836720"/>
              <a:ext cx="5076360" cy="614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文字信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4"/>
            <p:cNvSpPr/>
            <p:nvPr/>
          </p:nvSpPr>
          <p:spPr>
            <a:xfrm>
              <a:off x="1528920" y="4106520"/>
              <a:ext cx="1350720" cy="1179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黑体"/>
                  <a:ea typeface="宋体"/>
                </a:rPr>
                <a:t>点击编辑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5"/>
            <p:cNvSpPr/>
            <p:nvPr/>
          </p:nvSpPr>
          <p:spPr>
            <a:xfrm>
              <a:off x="4485960" y="4106520"/>
              <a:ext cx="1350720" cy="1179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黑体"/>
                  <a:ea typeface="宋体"/>
                </a:rPr>
                <a:t>点击编辑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6"/>
            <p:cNvSpPr/>
            <p:nvPr/>
          </p:nvSpPr>
          <p:spPr>
            <a:xfrm>
              <a:off x="2972520" y="4106520"/>
              <a:ext cx="1351440" cy="1179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黑体"/>
                  <a:ea typeface="宋体"/>
                </a:rPr>
                <a:t>点击编辑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"/>
            <p:cNvSpPr/>
            <p:nvPr/>
          </p:nvSpPr>
          <p:spPr>
            <a:xfrm>
              <a:off x="5997960" y="4106520"/>
              <a:ext cx="1350720" cy="1179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黑体"/>
                  <a:ea typeface="宋体"/>
                </a:rPr>
                <a:t>点击编辑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0"/>
            <p:cNvSpPr/>
            <p:nvPr/>
          </p:nvSpPr>
          <p:spPr>
            <a:xfrm>
              <a:off x="7522920" y="4106520"/>
              <a:ext cx="1350720" cy="1179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黑体"/>
                  <a:ea typeface="宋体"/>
                </a:rPr>
                <a:t>点击编辑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WordArt 17"/>
            <p:cNvSpPr txBox="1"/>
            <p:nvPr/>
          </p:nvSpPr>
          <p:spPr>
            <a:xfrm>
              <a:off x="3632760" y="3532680"/>
              <a:ext cx="3048120" cy="32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0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solidFill>
                    <a:srgbClr val="000000"/>
                  </a:solidFill>
                  <a:latin typeface="黑体"/>
                </a:rPr>
                <a:t>点击编辑文字</a:t>
              </a:r>
              <a:endPara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002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16120" y="1592280"/>
            <a:ext cx="4440240" cy="4341960"/>
          </a:xfrm>
          <a:prstGeom prst="donut">
            <a:avLst>
              <a:gd name="adj" fmla="val 18564"/>
            </a:avLst>
          </a:prstGeom>
          <a:gradFill rotWithShape="0">
            <a:gsLst>
              <a:gs pos="0">
                <a:srgbClr val="cc3300">
                  <a:alpha val="60000"/>
                </a:srgbClr>
              </a:gs>
              <a:gs pos="50000">
                <a:srgbClr val="edbdad">
                  <a:alpha val="60000"/>
                </a:srgbClr>
              </a:gs>
              <a:gs pos="100000">
                <a:srgbClr val="cc3300">
                  <a:alpha val="60000"/>
                </a:srgbClr>
              </a:gs>
            </a:gsLst>
            <a:lin ang="8100000"/>
          </a:gradFill>
          <a:ln w="76320">
            <a:solidFill>
              <a:srgbClr val="5f5f5f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72240" y="193680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16600" y="4836960"/>
            <a:ext cx="36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8960" y="41832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26622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11760" y="3413160"/>
            <a:ext cx="36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184720" y="1936800"/>
            <a:ext cx="550800" cy="504720"/>
            <a:chOff x="5184720" y="1936800"/>
            <a:chExt cx="550800" cy="504720"/>
          </a:xfrm>
        </p:grpSpPr>
        <p:grpSp>
          <p:nvGrpSpPr>
            <p:cNvPr id="146" name=""/>
            <p:cNvGrpSpPr/>
            <p:nvPr/>
          </p:nvGrpSpPr>
          <p:grpSpPr>
            <a:xfrm>
              <a:off x="5184720" y="1936800"/>
              <a:ext cx="550800" cy="504720"/>
              <a:chOff x="5184720" y="1936800"/>
              <a:chExt cx="550800" cy="504720"/>
            </a:xfrm>
          </p:grpSpPr>
          <p:pic>
            <p:nvPicPr>
              <p:cNvPr id="1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84720" y="1936800"/>
                <a:ext cx="55080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184720" y="1936800"/>
                <a:ext cx="547200" cy="504720"/>
              </a:xfrm>
              <a:prstGeom prst="ellipse">
                <a:avLst/>
              </a:prstGeom>
              <a:gradFill rotWithShape="0">
                <a:gsLst>
                  <a:gs pos="0">
                    <a:srgbClr val="5cb1fe">
                      <a:alpha val="55294"/>
                    </a:srgbClr>
                  </a:gs>
                  <a:gs pos="50000">
                    <a:srgbClr val="2a5175">
                      <a:alpha val="90196"/>
                    </a:srgbClr>
                  </a:gs>
                  <a:gs pos="100000">
                    <a:srgbClr val="5cb1fe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239440" y="1941480"/>
              <a:ext cx="434880" cy="17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702400" y="2598840"/>
            <a:ext cx="550800" cy="504720"/>
            <a:chOff x="5702400" y="2598840"/>
            <a:chExt cx="550800" cy="504720"/>
          </a:xfrm>
        </p:grpSpPr>
        <p:grpSp>
          <p:nvGrpSpPr>
            <p:cNvPr id="151" name=""/>
            <p:cNvGrpSpPr/>
            <p:nvPr/>
          </p:nvGrpSpPr>
          <p:grpSpPr>
            <a:xfrm>
              <a:off x="5702400" y="2598840"/>
              <a:ext cx="550800" cy="504720"/>
              <a:chOff x="5702400" y="2598840"/>
              <a:chExt cx="550800" cy="504720"/>
            </a:xfrm>
          </p:grpSpPr>
          <p:pic>
            <p:nvPicPr>
              <p:cNvPr id="1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02400" y="2598840"/>
                <a:ext cx="55080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5702400" y="2598840"/>
                <a:ext cx="547200" cy="50472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d5f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5757120" y="2603520"/>
              <a:ext cx="434880" cy="17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5877000" y="3343320"/>
            <a:ext cx="550800" cy="504720"/>
            <a:chOff x="5877000" y="3343320"/>
            <a:chExt cx="550800" cy="504720"/>
          </a:xfrm>
        </p:grpSpPr>
        <p:grpSp>
          <p:nvGrpSpPr>
            <p:cNvPr id="156" name=""/>
            <p:cNvGrpSpPr/>
            <p:nvPr/>
          </p:nvGrpSpPr>
          <p:grpSpPr>
            <a:xfrm>
              <a:off x="5877000" y="3343320"/>
              <a:ext cx="550800" cy="504720"/>
              <a:chOff x="5877000" y="3343320"/>
              <a:chExt cx="550800" cy="5047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77000" y="3343320"/>
                <a:ext cx="55080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877000" y="3343320"/>
                <a:ext cx="547200" cy="50472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75590b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5931720" y="3348000"/>
              <a:ext cx="434880" cy="17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5738760" y="4100400"/>
            <a:ext cx="550800" cy="505080"/>
            <a:chOff x="5738760" y="4100400"/>
            <a:chExt cx="550800" cy="505080"/>
          </a:xfrm>
        </p:grpSpPr>
        <p:grpSp>
          <p:nvGrpSpPr>
            <p:cNvPr id="161" name=""/>
            <p:cNvGrpSpPr/>
            <p:nvPr/>
          </p:nvGrpSpPr>
          <p:grpSpPr>
            <a:xfrm>
              <a:off x="5738760" y="4100400"/>
              <a:ext cx="550800" cy="505080"/>
              <a:chOff x="5738760" y="4100400"/>
              <a:chExt cx="550800" cy="505080"/>
            </a:xfrm>
          </p:grpSpPr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38760" y="4100400"/>
                <a:ext cx="55080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5738760" y="4100400"/>
                <a:ext cx="547200" cy="505080"/>
              </a:xfrm>
              <a:prstGeom prst="ellipse">
                <a:avLst/>
              </a:prstGeom>
              <a:gradFill rotWithShape="0">
                <a:gsLst>
                  <a:gs pos="0">
                    <a:srgbClr val="ff6161">
                      <a:alpha val="55294"/>
                    </a:srgbClr>
                  </a:gs>
                  <a:gs pos="50000">
                    <a:srgbClr val="752c2c">
                      <a:alpha val="90196"/>
                    </a:srgbClr>
                  </a:gs>
                  <a:gs pos="100000">
                    <a:srgbClr val="ff6161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5793480" y="4105080"/>
              <a:ext cx="434880" cy="17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5380200" y="4768920"/>
            <a:ext cx="550800" cy="504720"/>
            <a:chOff x="5380200" y="4768920"/>
            <a:chExt cx="550800" cy="504720"/>
          </a:xfrm>
        </p:grpSpPr>
        <p:grpSp>
          <p:nvGrpSpPr>
            <p:cNvPr id="166" name=""/>
            <p:cNvGrpSpPr/>
            <p:nvPr/>
          </p:nvGrpSpPr>
          <p:grpSpPr>
            <a:xfrm>
              <a:off x="5380200" y="4768920"/>
              <a:ext cx="550800" cy="504720"/>
              <a:chOff x="5380200" y="4768920"/>
              <a:chExt cx="550800" cy="504720"/>
            </a:xfrm>
          </p:grpSpPr>
          <p:pic>
            <p:nvPicPr>
              <p:cNvPr id="16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380200" y="4768920"/>
                <a:ext cx="55080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5380200" y="4768920"/>
                <a:ext cx="547200" cy="504720"/>
              </a:xfrm>
              <a:prstGeom prst="ellipse">
                <a:avLst/>
              </a:prstGeom>
              <a:gradFill rotWithShape="0">
                <a:gsLst>
                  <a:gs pos="0">
                    <a:srgbClr val="9966ff">
                      <a:alpha val="55294"/>
                    </a:srgbClr>
                  </a:gs>
                  <a:gs pos="50000">
                    <a:srgbClr val="462f75">
                      <a:alpha val="90196"/>
                    </a:srgbClr>
                  </a:gs>
                  <a:gs pos="100000">
                    <a:srgbClr val="9966ff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" name="" descr=""/>
            <p:cNvPicPr/>
            <p:nvPr/>
          </p:nvPicPr>
          <p:blipFill>
            <a:blip r:embed="rId10"/>
            <a:stretch/>
          </p:blipFill>
          <p:spPr>
            <a:xfrm>
              <a:off x="5434920" y="4773600"/>
              <a:ext cx="434880" cy="17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 Box 4"/>
          <p:cNvSpPr/>
          <p:nvPr/>
        </p:nvSpPr>
        <p:spPr>
          <a:xfrm>
            <a:off x="2293920" y="3459240"/>
            <a:ext cx="33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点击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 flipH="1" rot="2760000">
            <a:off x="5094000" y="1781640"/>
            <a:ext cx="1903680" cy="15595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fc319"/>
              </a:gs>
              <a:gs pos="100000">
                <a:srgbClr val="fedf88"/>
              </a:gs>
            </a:gsLst>
            <a:lin ang="81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175280" y="2660760"/>
            <a:ext cx="1765080" cy="176508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rot="18840000">
            <a:off x="3125160" y="1770480"/>
            <a:ext cx="1903320" cy="156204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f6161"/>
              </a:gs>
              <a:gs pos="100000">
                <a:srgbClr val="fea3a3"/>
              </a:gs>
            </a:gsLst>
            <a:lin ang="81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186080" y="2655720"/>
            <a:ext cx="1764000" cy="176400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 rot="18840000">
            <a:off x="5081400" y="3747960"/>
            <a:ext cx="1939680" cy="156204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ea3a3"/>
              </a:gs>
              <a:gs pos="100000">
                <a:srgbClr val="ff6161"/>
              </a:gs>
            </a:gsLst>
            <a:lin ang="81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66240" y="4287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736080" y="2441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466240" y="2441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 rot="2760000">
            <a:off x="3121560" y="3740400"/>
            <a:ext cx="1884240" cy="156204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ffc319"/>
              </a:gs>
              <a:gs pos="100000">
                <a:srgbClr val="fedf88"/>
              </a:gs>
            </a:gsLst>
            <a:lin ang="81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736080" y="4287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00280" y="1987560"/>
            <a:ext cx="1903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834240" y="4429080"/>
            <a:ext cx="19033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97040" y="4492800"/>
            <a:ext cx="19033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896160" y="1987560"/>
            <a:ext cx="19051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813560" y="33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9" name=""/>
          <p:cNvGraphicFramePr/>
          <p:nvPr/>
        </p:nvGraphicFramePr>
        <p:xfrm>
          <a:off x="2548080" y="1773360"/>
          <a:ext cx="6499080" cy="3201840"/>
        </p:xfrm>
        <a:graphic>
          <a:graphicData uri="http://schemas.openxmlformats.org/drawingml/2006/table">
            <a:tbl>
              <a:tblPr/>
              <a:tblGrid>
                <a:gridCol w="1298520"/>
                <a:gridCol w="1301760"/>
                <a:gridCol w="1298520"/>
                <a:gridCol w="1301760"/>
                <a:gridCol w="1298520"/>
              </a:tblGrid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20" name="Text Box 47"/>
          <p:cNvSpPr/>
          <p:nvPr/>
        </p:nvSpPr>
        <p:spPr>
          <a:xfrm>
            <a:off x="878040" y="184644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878040" y="240336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878040" y="292572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878040" y="343836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878040" y="397188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878040" y="451332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2446200" y="5016600"/>
            <a:ext cx="70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4"/>
          <p:cNvSpPr/>
          <p:nvPr/>
        </p:nvSpPr>
        <p:spPr>
          <a:xfrm>
            <a:off x="3832200" y="1878120"/>
            <a:ext cx="10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55"/>
          <p:cNvSpPr/>
          <p:nvPr/>
        </p:nvSpPr>
        <p:spPr>
          <a:xfrm>
            <a:off x="3808440" y="2960640"/>
            <a:ext cx="10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56"/>
          <p:cNvSpPr/>
          <p:nvPr/>
        </p:nvSpPr>
        <p:spPr>
          <a:xfrm>
            <a:off x="7104240" y="2473200"/>
            <a:ext cx="10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57"/>
          <p:cNvSpPr/>
          <p:nvPr/>
        </p:nvSpPr>
        <p:spPr>
          <a:xfrm>
            <a:off x="4213080" y="348300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58"/>
          <p:cNvSpPr/>
          <p:nvPr/>
        </p:nvSpPr>
        <p:spPr>
          <a:xfrm>
            <a:off x="6769080" y="4029120"/>
            <a:ext cx="10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59"/>
          <p:cNvSpPr/>
          <p:nvPr/>
        </p:nvSpPr>
        <p:spPr>
          <a:xfrm>
            <a:off x="8072280" y="456408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2562120" y="1887480"/>
            <a:ext cx="1104480" cy="273240"/>
            <a:chOff x="2562120" y="1887480"/>
            <a:chExt cx="1104480" cy="273240"/>
          </a:xfrm>
        </p:grpSpPr>
        <p:sp>
          <p:nvSpPr>
            <p:cNvPr id="1034" name="Rectangle 62"/>
            <p:cNvSpPr/>
            <p:nvPr/>
          </p:nvSpPr>
          <p:spPr>
            <a:xfrm>
              <a:off x="2562120" y="1887480"/>
              <a:ext cx="1104480" cy="273240"/>
            </a:xfrm>
            <a:prstGeom prst="rect">
              <a:avLst/>
            </a:prstGeom>
            <a:gradFill rotWithShape="0">
              <a:gsLst>
                <a:gs pos="0">
                  <a:srgbClr val="d7656d"/>
                </a:gs>
                <a:gs pos="50000">
                  <a:srgbClr val="ffc319"/>
                </a:gs>
                <a:gs pos="100000">
                  <a:srgbClr val="d765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63"/>
            <p:cNvSpPr/>
            <p:nvPr/>
          </p:nvSpPr>
          <p:spPr>
            <a:xfrm>
              <a:off x="2562120" y="1888560"/>
              <a:ext cx="1104480" cy="11052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562120" y="2979720"/>
            <a:ext cx="969840" cy="276120"/>
            <a:chOff x="2562120" y="2979720"/>
            <a:chExt cx="969840" cy="276120"/>
          </a:xfrm>
        </p:grpSpPr>
        <p:sp>
          <p:nvSpPr>
            <p:cNvPr id="1037" name="Rectangle 65"/>
            <p:cNvSpPr/>
            <p:nvPr/>
          </p:nvSpPr>
          <p:spPr>
            <a:xfrm>
              <a:off x="2562120" y="2981160"/>
              <a:ext cx="969840" cy="274680"/>
            </a:xfrm>
            <a:prstGeom prst="rect">
              <a:avLst/>
            </a:prstGeom>
            <a:gradFill rotWithShape="0">
              <a:gsLst>
                <a:gs pos="0">
                  <a:srgbClr val="ff8f8f"/>
                </a:gs>
                <a:gs pos="50000">
                  <a:srgbClr val="5cb1fe"/>
                </a:gs>
                <a:gs pos="100000">
                  <a:srgbClr val="ff8f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66"/>
            <p:cNvSpPr/>
            <p:nvPr/>
          </p:nvSpPr>
          <p:spPr>
            <a:xfrm>
              <a:off x="2562120" y="2979720"/>
              <a:ext cx="9698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554200" y="2463840"/>
            <a:ext cx="4419360" cy="276120"/>
            <a:chOff x="2554200" y="2463840"/>
            <a:chExt cx="4419360" cy="276120"/>
          </a:xfrm>
        </p:grpSpPr>
        <p:sp>
          <p:nvSpPr>
            <p:cNvPr id="1040" name="Rectangle 68"/>
            <p:cNvSpPr/>
            <p:nvPr/>
          </p:nvSpPr>
          <p:spPr>
            <a:xfrm>
              <a:off x="2554200" y="2465280"/>
              <a:ext cx="4400280" cy="274680"/>
            </a:xfrm>
            <a:prstGeom prst="rect">
              <a:avLst/>
            </a:prstGeom>
            <a:gradFill rotWithShape="0">
              <a:gsLst>
                <a:gs pos="0">
                  <a:srgbClr val="ff4956"/>
                </a:gs>
                <a:gs pos="50000">
                  <a:srgbClr val="ff6161"/>
                </a:gs>
                <a:gs pos="100000">
                  <a:srgbClr val="ff49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69"/>
            <p:cNvSpPr/>
            <p:nvPr/>
          </p:nvSpPr>
          <p:spPr>
            <a:xfrm>
              <a:off x="2554200" y="2463840"/>
              <a:ext cx="4419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562120" y="3489480"/>
            <a:ext cx="1501560" cy="272880"/>
            <a:chOff x="2562120" y="3489480"/>
            <a:chExt cx="1501560" cy="272880"/>
          </a:xfrm>
        </p:grpSpPr>
        <p:sp>
          <p:nvSpPr>
            <p:cNvPr id="1043" name="Rectangle 71"/>
            <p:cNvSpPr/>
            <p:nvPr/>
          </p:nvSpPr>
          <p:spPr>
            <a:xfrm>
              <a:off x="2562120" y="3489480"/>
              <a:ext cx="1501560" cy="272880"/>
            </a:xfrm>
            <a:prstGeom prst="rect">
              <a:avLst/>
            </a:prstGeom>
            <a:gradFill rotWithShape="0">
              <a:gsLst>
                <a:gs pos="0">
                  <a:srgbClr val="633538"/>
                </a:gs>
                <a:gs pos="50000">
                  <a:srgbClr val="a8d02a"/>
                </a:gs>
                <a:gs pos="100000">
                  <a:srgbClr val="6335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72"/>
            <p:cNvSpPr/>
            <p:nvPr/>
          </p:nvSpPr>
          <p:spPr>
            <a:xfrm>
              <a:off x="2562120" y="3489480"/>
              <a:ext cx="1501560" cy="11016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2562120" y="4041720"/>
            <a:ext cx="4079520" cy="274320"/>
            <a:chOff x="2562120" y="4041720"/>
            <a:chExt cx="4079520" cy="274320"/>
          </a:xfrm>
        </p:grpSpPr>
        <p:sp>
          <p:nvSpPr>
            <p:cNvPr id="1046" name="Rectangle 74"/>
            <p:cNvSpPr/>
            <p:nvPr/>
          </p:nvSpPr>
          <p:spPr>
            <a:xfrm>
              <a:off x="2562120" y="4042800"/>
              <a:ext cx="4079520" cy="27324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75"/>
            <p:cNvSpPr/>
            <p:nvPr/>
          </p:nvSpPr>
          <p:spPr>
            <a:xfrm>
              <a:off x="2562120" y="4041720"/>
              <a:ext cx="4074480" cy="11052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2562120" y="4573440"/>
            <a:ext cx="5395680" cy="274320"/>
            <a:chOff x="2562120" y="4573440"/>
            <a:chExt cx="5395680" cy="274320"/>
          </a:xfrm>
        </p:grpSpPr>
        <p:sp>
          <p:nvSpPr>
            <p:cNvPr id="1049" name="Rectangle 77"/>
            <p:cNvSpPr/>
            <p:nvPr/>
          </p:nvSpPr>
          <p:spPr>
            <a:xfrm>
              <a:off x="2562120" y="4574520"/>
              <a:ext cx="5395680" cy="273240"/>
            </a:xfrm>
            <a:prstGeom prst="rect">
              <a:avLst/>
            </a:prstGeom>
            <a:gradFill rotWithShape="0">
              <a:gsLst>
                <a:gs pos="0">
                  <a:srgbClr val="c18bbe"/>
                </a:gs>
                <a:gs pos="50000">
                  <a:srgbClr val="ad67aa"/>
                </a:gs>
                <a:gs pos="100000">
                  <a:srgbClr val="c18bb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78"/>
            <p:cNvSpPr/>
            <p:nvPr/>
          </p:nvSpPr>
          <p:spPr>
            <a:xfrm>
              <a:off x="2562120" y="4573440"/>
              <a:ext cx="5395680" cy="11052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Freeform 3"/>
          <p:cNvSpPr/>
          <p:nvPr/>
        </p:nvSpPr>
        <p:spPr>
          <a:xfrm>
            <a:off x="1311120" y="2554200"/>
            <a:ext cx="8007480" cy="2163960"/>
          </a:xfrm>
          <a:custGeom>
            <a:avLst/>
            <a:gdLst>
              <a:gd name="textAreaLeft" fmla="*/ 0 w 8007480"/>
              <a:gd name="textAreaRight" fmla="*/ 8007840 w 8007480"/>
              <a:gd name="textAreaTop" fmla="*/ 0 h 2163960"/>
              <a:gd name="textAreaBottom" fmla="*/ 2164320 h 216396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878120" y="3605040"/>
            <a:ext cx="1132920" cy="914040"/>
            <a:chOff x="1878120" y="3605040"/>
            <a:chExt cx="1132920" cy="914040"/>
          </a:xfrm>
        </p:grpSpPr>
        <p:sp>
          <p:nvSpPr>
            <p:cNvPr id="1054" name="Freeform 5"/>
            <p:cNvSpPr/>
            <p:nvPr/>
          </p:nvSpPr>
          <p:spPr>
            <a:xfrm>
              <a:off x="1990080" y="4309200"/>
              <a:ext cx="441360" cy="198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"/>
            <p:cNvSpPr/>
            <p:nvPr/>
          </p:nvSpPr>
          <p:spPr>
            <a:xfrm>
              <a:off x="2293200" y="4236840"/>
              <a:ext cx="483480" cy="19512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7"/>
            <p:cNvSpPr/>
            <p:nvPr/>
          </p:nvSpPr>
          <p:spPr>
            <a:xfrm>
              <a:off x="2606760" y="4355280"/>
              <a:ext cx="404280" cy="1638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8"/>
            <p:cNvSpPr/>
            <p:nvPr/>
          </p:nvSpPr>
          <p:spPr>
            <a:xfrm>
              <a:off x="1878120" y="3852000"/>
              <a:ext cx="295200" cy="6534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"/>
            <p:cNvSpPr/>
            <p:nvPr/>
          </p:nvSpPr>
          <p:spPr>
            <a:xfrm>
              <a:off x="2162880" y="3605040"/>
              <a:ext cx="371160" cy="822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0"/>
            <p:cNvSpPr/>
            <p:nvPr/>
          </p:nvSpPr>
          <p:spPr>
            <a:xfrm>
              <a:off x="2502720" y="3865680"/>
              <a:ext cx="295200" cy="6534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0" name="Picture 11" descr="161"/>
          <p:cNvPicPr/>
          <p:nvPr/>
        </p:nvPicPr>
        <p:blipFill>
          <a:blip r:embed="rId1"/>
          <a:stretch/>
        </p:blipFill>
        <p:spPr>
          <a:xfrm>
            <a:off x="7829640" y="1747800"/>
            <a:ext cx="803160" cy="7002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2" descr="232"/>
          <p:cNvPicPr/>
          <p:nvPr/>
        </p:nvPicPr>
        <p:blipFill>
          <a:blip r:embed="rId2"/>
          <a:stretch/>
        </p:blipFill>
        <p:spPr>
          <a:xfrm>
            <a:off x="5773680" y="2401920"/>
            <a:ext cx="1063800" cy="8128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3" descr="133"/>
          <p:cNvPicPr/>
          <p:nvPr/>
        </p:nvPicPr>
        <p:blipFill>
          <a:blip r:embed="rId3"/>
          <a:stretch/>
        </p:blipFill>
        <p:spPr>
          <a:xfrm>
            <a:off x="3867120" y="2862360"/>
            <a:ext cx="1017720" cy="1014480"/>
          </a:xfrm>
          <a:prstGeom prst="rect">
            <a:avLst/>
          </a:prstGeom>
          <a:ln w="0">
            <a:noFill/>
          </a:ln>
        </p:spPr>
      </p:pic>
      <p:grpSp>
        <p:nvGrpSpPr>
          <p:cNvPr id="1063" name=""/>
          <p:cNvGrpSpPr/>
          <p:nvPr/>
        </p:nvGrpSpPr>
        <p:grpSpPr>
          <a:xfrm>
            <a:off x="1238400" y="4799160"/>
            <a:ext cx="1812600" cy="276120"/>
            <a:chOff x="1238400" y="4799160"/>
            <a:chExt cx="1812600" cy="276120"/>
          </a:xfrm>
        </p:grpSpPr>
        <p:sp>
          <p:nvSpPr>
            <p:cNvPr id="1064" name="AutoShape 15"/>
            <p:cNvSpPr/>
            <p:nvPr/>
          </p:nvSpPr>
          <p:spPr>
            <a:xfrm>
              <a:off x="1238400" y="4799160"/>
              <a:ext cx="1812600" cy="27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2957400" y="4818960"/>
              <a:ext cx="91800" cy="241200"/>
              <a:chOff x="2957400" y="4818960"/>
              <a:chExt cx="91800" cy="241200"/>
            </a:xfrm>
          </p:grpSpPr>
          <p:pic>
            <p:nvPicPr>
              <p:cNvPr id="1066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957400" y="4818960"/>
                <a:ext cx="91800" cy="24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>
                <a:off x="3023640" y="4897440"/>
                <a:ext cx="126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1240560" y="4818960"/>
              <a:ext cx="97920" cy="235440"/>
              <a:chOff x="1240560" y="4818960"/>
              <a:chExt cx="97920" cy="235440"/>
            </a:xfrm>
          </p:grpSpPr>
          <p:pic>
            <p:nvPicPr>
              <p:cNvPr id="1069" name="AutoShap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240560" y="4818960"/>
                <a:ext cx="9792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0" name=""/>
              <p:cNvSpPr/>
              <p:nvPr/>
            </p:nvSpPr>
            <p:spPr>
              <a:xfrm>
                <a:off x="1254600" y="4897080"/>
                <a:ext cx="12600" cy="8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1" name="Text Box 18"/>
          <p:cNvSpPr/>
          <p:nvPr/>
        </p:nvSpPr>
        <p:spPr>
          <a:xfrm>
            <a:off x="1376280" y="478008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9"/>
          <p:cNvSpPr/>
          <p:nvPr/>
        </p:nvSpPr>
        <p:spPr>
          <a:xfrm>
            <a:off x="1455840" y="1860480"/>
            <a:ext cx="41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0"/>
          <p:cNvSpPr/>
          <p:nvPr/>
        </p:nvSpPr>
        <p:spPr>
          <a:xfrm>
            <a:off x="1311120" y="510552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1"/>
          <p:cNvSpPr/>
          <p:nvPr/>
        </p:nvSpPr>
        <p:spPr>
          <a:xfrm>
            <a:off x="3435480" y="4492800"/>
            <a:ext cx="17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5440320" y="376884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3"/>
          <p:cNvSpPr/>
          <p:nvPr/>
        </p:nvSpPr>
        <p:spPr>
          <a:xfrm>
            <a:off x="7547040" y="3044880"/>
            <a:ext cx="17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3371760" y="4100400"/>
            <a:ext cx="1811520" cy="274680"/>
            <a:chOff x="3371760" y="4100400"/>
            <a:chExt cx="1811520" cy="274680"/>
          </a:xfrm>
        </p:grpSpPr>
        <p:sp>
          <p:nvSpPr>
            <p:cNvPr id="1078" name="AutoShape 25"/>
            <p:cNvSpPr/>
            <p:nvPr/>
          </p:nvSpPr>
          <p:spPr>
            <a:xfrm>
              <a:off x="3371760" y="4100400"/>
              <a:ext cx="1811520" cy="27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5086800" y="4119840"/>
              <a:ext cx="91440" cy="240840"/>
              <a:chOff x="5086800" y="4119840"/>
              <a:chExt cx="91440" cy="240840"/>
            </a:xfrm>
          </p:grpSpPr>
          <p:pic>
            <p:nvPicPr>
              <p:cNvPr id="1080" name="AutoShap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5086800" y="4119840"/>
                <a:ext cx="91440" cy="24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"/>
              <p:cNvSpPr/>
              <p:nvPr/>
            </p:nvSpPr>
            <p:spPr>
              <a:xfrm>
                <a:off x="5155920" y="4197600"/>
                <a:ext cx="1260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377160" y="4119840"/>
              <a:ext cx="91440" cy="235440"/>
              <a:chOff x="3377160" y="4119840"/>
              <a:chExt cx="91440" cy="235440"/>
            </a:xfrm>
          </p:grpSpPr>
          <p:pic>
            <p:nvPicPr>
              <p:cNvPr id="1083" name="AutoShap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3377160" y="4119840"/>
                <a:ext cx="9144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4" name=""/>
              <p:cNvSpPr/>
              <p:nvPr/>
            </p:nvSpPr>
            <p:spPr>
              <a:xfrm>
                <a:off x="3387960" y="4197600"/>
                <a:ext cx="1260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5" name="Text Box 18"/>
          <p:cNvSpPr/>
          <p:nvPr/>
        </p:nvSpPr>
        <p:spPr>
          <a:xfrm>
            <a:off x="3503520" y="4079880"/>
            <a:ext cx="14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5405400" y="3392640"/>
            <a:ext cx="1811520" cy="272880"/>
            <a:chOff x="5405400" y="3392640"/>
            <a:chExt cx="1811520" cy="272880"/>
          </a:xfrm>
        </p:grpSpPr>
        <p:sp>
          <p:nvSpPr>
            <p:cNvPr id="1087" name="AutoShape 30"/>
            <p:cNvSpPr/>
            <p:nvPr/>
          </p:nvSpPr>
          <p:spPr>
            <a:xfrm>
              <a:off x="5405400" y="3392640"/>
              <a:ext cx="1811520" cy="27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7120440" y="3408120"/>
              <a:ext cx="91440" cy="243000"/>
              <a:chOff x="7120440" y="3408120"/>
              <a:chExt cx="91440" cy="243000"/>
            </a:xfrm>
          </p:grpSpPr>
          <p:pic>
            <p:nvPicPr>
              <p:cNvPr id="1089" name="AutoShap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120440" y="3408120"/>
                <a:ext cx="9144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"/>
              <p:cNvSpPr/>
              <p:nvPr/>
            </p:nvSpPr>
            <p:spPr>
              <a:xfrm>
                <a:off x="7189920" y="3489120"/>
                <a:ext cx="1260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5409720" y="3413880"/>
              <a:ext cx="91800" cy="232920"/>
              <a:chOff x="5409720" y="3413880"/>
              <a:chExt cx="91800" cy="232920"/>
            </a:xfrm>
          </p:grpSpPr>
          <p:pic>
            <p:nvPicPr>
              <p:cNvPr id="1092" name="AutoShap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5409720" y="3413880"/>
                <a:ext cx="91800" cy="23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"/>
              <p:cNvSpPr/>
              <p:nvPr/>
            </p:nvSpPr>
            <p:spPr>
              <a:xfrm>
                <a:off x="5420880" y="3489480"/>
                <a:ext cx="12600" cy="7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4" name="Text Box 18"/>
          <p:cNvSpPr/>
          <p:nvPr/>
        </p:nvSpPr>
        <p:spPr>
          <a:xfrm>
            <a:off x="5510160" y="337176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7526160" y="2700360"/>
            <a:ext cx="1808280" cy="272880"/>
            <a:chOff x="7526160" y="2700360"/>
            <a:chExt cx="1808280" cy="272880"/>
          </a:xfrm>
        </p:grpSpPr>
        <p:sp>
          <p:nvSpPr>
            <p:cNvPr id="1096" name="AutoShape 35"/>
            <p:cNvSpPr/>
            <p:nvPr/>
          </p:nvSpPr>
          <p:spPr>
            <a:xfrm>
              <a:off x="7526160" y="2700360"/>
              <a:ext cx="1808280" cy="27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aa59"/>
                </a:gs>
                <a:gs pos="50000">
                  <a:srgbClr val="b68a1c"/>
                </a:gs>
                <a:gs pos="100000">
                  <a:srgbClr val="caaa5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9235800" y="2719800"/>
              <a:ext cx="97560" cy="238680"/>
              <a:chOff x="9235800" y="2719800"/>
              <a:chExt cx="97560" cy="238680"/>
            </a:xfrm>
          </p:grpSpPr>
          <p:pic>
            <p:nvPicPr>
              <p:cNvPr id="1098" name="AutoShap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9235800" y="2719800"/>
                <a:ext cx="97560" cy="2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>
                <a:off x="9307800" y="2797560"/>
                <a:ext cx="1260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528320" y="2719800"/>
              <a:ext cx="97560" cy="232920"/>
              <a:chOff x="7528320" y="2719800"/>
              <a:chExt cx="97560" cy="232920"/>
            </a:xfrm>
          </p:grpSpPr>
          <p:pic>
            <p:nvPicPr>
              <p:cNvPr id="1101" name="AutoShape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28320" y="2719800"/>
                <a:ext cx="97560" cy="23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>
                <a:off x="7542000" y="2796840"/>
                <a:ext cx="12600" cy="7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Text Box 18"/>
          <p:cNvSpPr/>
          <p:nvPr/>
        </p:nvSpPr>
        <p:spPr>
          <a:xfrm>
            <a:off x="7615080" y="267984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2436840" y="1292400"/>
            <a:ext cx="5132160" cy="4503240"/>
            <a:chOff x="2436840" y="1292400"/>
            <a:chExt cx="5132160" cy="4503240"/>
          </a:xfrm>
        </p:grpSpPr>
        <p:sp>
          <p:nvSpPr>
            <p:cNvPr id="1106" name="Puzzle3"/>
            <p:cNvSpPr/>
            <p:nvPr/>
          </p:nvSpPr>
          <p:spPr>
            <a:xfrm>
              <a:off x="4935600" y="1292400"/>
              <a:ext cx="2017440" cy="2392920"/>
            </a:xfrm>
            <a:custGeom>
              <a:avLst/>
              <a:gdLst>
                <a:gd name="textAreaLeft" fmla="*/ 211680 w 2017440"/>
                <a:gd name="textAreaRight" fmla="*/ 1789560 w 2017440"/>
                <a:gd name="textAreaTop" fmla="*/ 855000 h 2392920"/>
                <a:gd name="textAreaBottom" fmla="*/ 2241360 h 2392920"/>
              </a:gdLst>
              <a:ahLst/>
              <a:rect l="textAreaLeft" t="textAreaTop" r="textAreaRight" b="textAreaBottom"/>
              <a:pathLst>
                <a:path w="21653" h="21678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Puzzle2"/>
            <p:cNvSpPr/>
            <p:nvPr/>
          </p:nvSpPr>
          <p:spPr>
            <a:xfrm>
              <a:off x="4349160" y="3035880"/>
              <a:ext cx="3219840" cy="2179800"/>
            </a:xfrm>
            <a:custGeom>
              <a:avLst/>
              <a:gdLst>
                <a:gd name="textAreaLeft" fmla="*/ 803880 w 3219840"/>
                <a:gd name="textAreaRight" fmla="*/ 2412360 w 3219840"/>
                <a:gd name="textAreaTop" fmla="*/ 679680 h 2179800"/>
                <a:gd name="textAreaBottom" fmla="*/ 2063160 h 21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Puzzle4"/>
            <p:cNvSpPr/>
            <p:nvPr/>
          </p:nvSpPr>
          <p:spPr>
            <a:xfrm>
              <a:off x="3103200" y="3008880"/>
              <a:ext cx="1941120" cy="2786760"/>
            </a:xfrm>
            <a:custGeom>
              <a:avLst/>
              <a:gdLst>
                <a:gd name="textAreaLeft" fmla="*/ 186480 w 1941120"/>
                <a:gd name="textAreaRight" fmla="*/ 1816200 w 1941120"/>
                <a:gd name="textAreaTop" fmla="*/ 730080 h 2786760"/>
                <a:gd name="textAreaBottom" fmla="*/ 2061360 h 2786760"/>
              </a:gdLst>
              <a:ahLst/>
              <a:rect l="textAreaLeft" t="textAreaTop" r="textAreaRight" b="textAreaBottom"/>
              <a:pathLst>
                <a:path w="21618" h="21666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8cd59c"/>
                </a:gs>
                <a:gs pos="100000">
                  <a:srgbClr val="20ae3e"/>
                </a:gs>
              </a:gsLst>
              <a:lin ang="135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Puzzle1"/>
            <p:cNvSpPr/>
            <p:nvPr/>
          </p:nvSpPr>
          <p:spPr>
            <a:xfrm>
              <a:off x="2436840" y="2016360"/>
              <a:ext cx="3259800" cy="1661040"/>
            </a:xfrm>
            <a:custGeom>
              <a:avLst/>
              <a:gdLst>
                <a:gd name="textAreaLeft" fmla="*/ 918000 w 3259800"/>
                <a:gd name="textAreaRight" fmla="*/ 2433960 w 3259800"/>
                <a:gd name="textAreaTop" fmla="*/ 197280 h 1661040"/>
                <a:gd name="textAreaBottom" fmla="*/ 1503000 h 1661040"/>
              </a:gdLst>
              <a:ahLst/>
              <a:rect l="textAreaLeft" t="textAreaTop" r="textAreaRight" b="textAreaBottom"/>
              <a:pathLst>
                <a:path w="21645" h="2173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a3464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Text Box 8"/>
          <p:cNvSpPr/>
          <p:nvPr/>
        </p:nvSpPr>
        <p:spPr>
          <a:xfrm>
            <a:off x="7607880" y="380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9"/>
          <p:cNvSpPr/>
          <p:nvPr/>
        </p:nvSpPr>
        <p:spPr>
          <a:xfrm>
            <a:off x="782640" y="3192480"/>
            <a:ext cx="21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10"/>
          <p:cNvSpPr/>
          <p:nvPr/>
        </p:nvSpPr>
        <p:spPr>
          <a:xfrm>
            <a:off x="2610000" y="12924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1"/>
          <p:cNvSpPr/>
          <p:nvPr/>
        </p:nvSpPr>
        <p:spPr>
          <a:xfrm>
            <a:off x="4699080" y="547200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Oval 11"/>
          <p:cNvSpPr/>
          <p:nvPr/>
        </p:nvSpPr>
        <p:spPr>
          <a:xfrm>
            <a:off x="3695760" y="2077920"/>
            <a:ext cx="2968560" cy="2968920"/>
          </a:xfrm>
          <a:prstGeom prst="ellipse">
            <a:avLst/>
          </a:prstGeom>
          <a:gradFill rotWithShape="0">
            <a:gsLst>
              <a:gs pos="0">
                <a:srgbClr val="ffea96">
                  <a:alpha val="60000"/>
                </a:srgbClr>
              </a:gs>
              <a:gs pos="100000">
                <a:srgbClr val="ff6161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16"/>
          <p:cNvSpPr/>
          <p:nvPr/>
        </p:nvSpPr>
        <p:spPr>
          <a:xfrm>
            <a:off x="3724200" y="2106720"/>
            <a:ext cx="2911680" cy="291132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7"/>
          <p:cNvSpPr/>
          <p:nvPr/>
        </p:nvSpPr>
        <p:spPr>
          <a:xfrm>
            <a:off x="5176800" y="2473200"/>
            <a:ext cx="0" cy="1109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22"/>
          <p:cNvSpPr/>
          <p:nvPr/>
        </p:nvSpPr>
        <p:spPr>
          <a:xfrm flipV="1">
            <a:off x="4416480" y="3582720"/>
            <a:ext cx="760320" cy="941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23"/>
          <p:cNvSpPr/>
          <p:nvPr/>
        </p:nvSpPr>
        <p:spPr>
          <a:xfrm>
            <a:off x="4016520" y="3308400"/>
            <a:ext cx="1160280" cy="274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24"/>
          <p:cNvSpPr/>
          <p:nvPr/>
        </p:nvSpPr>
        <p:spPr>
          <a:xfrm flipH="1">
            <a:off x="5176800" y="3308400"/>
            <a:ext cx="1147680" cy="274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25"/>
          <p:cNvSpPr/>
          <p:nvPr/>
        </p:nvSpPr>
        <p:spPr>
          <a:xfrm flipH="1" flipV="1">
            <a:off x="5176440" y="3582720"/>
            <a:ext cx="739800" cy="9651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Picture 29" descr="3원_3"/>
          <p:cNvPicPr/>
          <p:nvPr/>
        </p:nvPicPr>
        <p:blipFill>
          <a:blip r:embed="rId1"/>
          <a:stretch/>
        </p:blipFill>
        <p:spPr>
          <a:xfrm>
            <a:off x="4538520" y="2906640"/>
            <a:ext cx="1298880" cy="1308240"/>
          </a:xfrm>
          <a:prstGeom prst="rect">
            <a:avLst/>
          </a:prstGeom>
          <a:ln w="0">
            <a:noFill/>
          </a:ln>
        </p:spPr>
      </p:pic>
      <p:sp>
        <p:nvSpPr>
          <p:cNvPr id="1123" name="AutoShape 36"/>
          <p:cNvSpPr/>
          <p:nvPr/>
        </p:nvSpPr>
        <p:spPr>
          <a:xfrm>
            <a:off x="4641840" y="1289160"/>
            <a:ext cx="1082520" cy="1081080"/>
          </a:xfrm>
          <a:prstGeom prst="pie">
            <a:avLst/>
          </a:prstGeom>
          <a:gradFill rotWithShape="0">
            <a:gsLst>
              <a:gs pos="0">
                <a:srgbClr val="f18a46"/>
              </a:gs>
              <a:gs pos="100000">
                <a:srgbClr val="eb5f0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46"/>
          <p:cNvSpPr/>
          <p:nvPr/>
        </p:nvSpPr>
        <p:spPr>
          <a:xfrm>
            <a:off x="4680000" y="1287360"/>
            <a:ext cx="993600" cy="99216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47"/>
          <p:cNvSpPr/>
          <p:nvPr/>
        </p:nvSpPr>
        <p:spPr>
          <a:xfrm>
            <a:off x="4687920" y="1297080"/>
            <a:ext cx="985680" cy="982440"/>
          </a:xfrm>
          <a:prstGeom prst="pie">
            <a:avLst/>
          </a:pr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48"/>
          <p:cNvSpPr/>
          <p:nvPr/>
        </p:nvSpPr>
        <p:spPr>
          <a:xfrm>
            <a:off x="6421320" y="2692440"/>
            <a:ext cx="1082880" cy="1081080"/>
          </a:xfrm>
          <a:prstGeom prst="pie">
            <a:avLst/>
          </a:pr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6465960" y="2690640"/>
            <a:ext cx="993600" cy="99252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50"/>
          <p:cNvSpPr/>
          <p:nvPr/>
        </p:nvSpPr>
        <p:spPr>
          <a:xfrm>
            <a:off x="6469200" y="2697120"/>
            <a:ext cx="985680" cy="982800"/>
          </a:xfrm>
          <a:prstGeom prst="pie">
            <a:avLst/>
          </a:pr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51"/>
          <p:cNvSpPr/>
          <p:nvPr/>
        </p:nvSpPr>
        <p:spPr>
          <a:xfrm>
            <a:off x="5800680" y="4437000"/>
            <a:ext cx="1082880" cy="1081080"/>
          </a:xfrm>
          <a:prstGeom prst="pie">
            <a:avLst/>
          </a:pr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52"/>
          <p:cNvSpPr/>
          <p:nvPr/>
        </p:nvSpPr>
        <p:spPr>
          <a:xfrm>
            <a:off x="5845320" y="4435560"/>
            <a:ext cx="993600" cy="99216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53"/>
          <p:cNvSpPr/>
          <p:nvPr/>
        </p:nvSpPr>
        <p:spPr>
          <a:xfrm>
            <a:off x="5848200" y="4441680"/>
            <a:ext cx="986040" cy="982800"/>
          </a:xfrm>
          <a:prstGeom prst="pie">
            <a:avLst/>
          </a:pr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54"/>
          <p:cNvSpPr/>
          <p:nvPr/>
        </p:nvSpPr>
        <p:spPr>
          <a:xfrm>
            <a:off x="3449520" y="4437000"/>
            <a:ext cx="1082880" cy="1081080"/>
          </a:xfrm>
          <a:prstGeom prst="pie">
            <a:avLst/>
          </a:pr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55"/>
          <p:cNvSpPr/>
          <p:nvPr/>
        </p:nvSpPr>
        <p:spPr>
          <a:xfrm>
            <a:off x="3494160" y="4435560"/>
            <a:ext cx="993600" cy="99216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56"/>
          <p:cNvSpPr/>
          <p:nvPr/>
        </p:nvSpPr>
        <p:spPr>
          <a:xfrm>
            <a:off x="3497400" y="4441680"/>
            <a:ext cx="985680" cy="982800"/>
          </a:xfrm>
          <a:prstGeom prst="pie">
            <a:avLst/>
          </a:pr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57"/>
          <p:cNvSpPr/>
          <p:nvPr/>
        </p:nvSpPr>
        <p:spPr>
          <a:xfrm>
            <a:off x="2884320" y="2692440"/>
            <a:ext cx="1082880" cy="1081080"/>
          </a:xfrm>
          <a:prstGeom prst="pie">
            <a:avLst/>
          </a:prstGeom>
          <a:gradFill rotWithShape="0">
            <a:gsLst>
              <a:gs pos="0">
                <a:srgbClr val="f08a46"/>
              </a:gs>
              <a:gs pos="100000">
                <a:srgbClr val="eb5f0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482400">
                <a:alpha val="5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58"/>
          <p:cNvSpPr/>
          <p:nvPr/>
        </p:nvSpPr>
        <p:spPr>
          <a:xfrm>
            <a:off x="2928960" y="2690640"/>
            <a:ext cx="993600" cy="992520"/>
          </a:xfrm>
          <a:prstGeom prst="ellipse">
            <a:avLst/>
          </a:prstGeom>
          <a:gradFill rotWithShape="0">
            <a:gsLst>
              <a:gs pos="0">
                <a:srgbClr val="fed0a2"/>
              </a:gs>
              <a:gs pos="100000">
                <a:srgbClr val="ffe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59"/>
          <p:cNvSpPr/>
          <p:nvPr/>
        </p:nvSpPr>
        <p:spPr>
          <a:xfrm>
            <a:off x="2932200" y="2697120"/>
            <a:ext cx="985680" cy="982800"/>
          </a:xfrm>
          <a:prstGeom prst="pie">
            <a:avLst/>
          </a:prstGeom>
          <a:gradFill rotWithShape="0">
            <a:gsLst>
              <a:gs pos="0">
                <a:srgbClr val="febd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72"/>
          <p:cNvSpPr/>
          <p:nvPr/>
        </p:nvSpPr>
        <p:spPr>
          <a:xfrm>
            <a:off x="4762440" y="1343160"/>
            <a:ext cx="8413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73"/>
          <p:cNvSpPr/>
          <p:nvPr/>
        </p:nvSpPr>
        <p:spPr>
          <a:xfrm>
            <a:off x="6532560" y="2692440"/>
            <a:ext cx="841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4"/>
          <p:cNvSpPr/>
          <p:nvPr/>
        </p:nvSpPr>
        <p:spPr>
          <a:xfrm>
            <a:off x="5921280" y="4437000"/>
            <a:ext cx="841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5"/>
          <p:cNvSpPr/>
          <p:nvPr/>
        </p:nvSpPr>
        <p:spPr>
          <a:xfrm>
            <a:off x="3570120" y="4491000"/>
            <a:ext cx="841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6"/>
          <p:cNvSpPr/>
          <p:nvPr/>
        </p:nvSpPr>
        <p:spPr>
          <a:xfrm>
            <a:off x="3005280" y="2746440"/>
            <a:ext cx="841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4f17"/>
                </a:solidFill>
                <a:latin typeface="HY견고딕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78"/>
          <p:cNvSpPr/>
          <p:nvPr/>
        </p:nvSpPr>
        <p:spPr>
          <a:xfrm>
            <a:off x="6916680" y="4672080"/>
            <a:ext cx="217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80"/>
          <p:cNvSpPr/>
          <p:nvPr/>
        </p:nvSpPr>
        <p:spPr>
          <a:xfrm>
            <a:off x="7523280" y="2862360"/>
            <a:ext cx="1763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81"/>
          <p:cNvSpPr/>
          <p:nvPr/>
        </p:nvSpPr>
        <p:spPr>
          <a:xfrm>
            <a:off x="5765760" y="1494000"/>
            <a:ext cx="2543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헤드라인M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84"/>
          <p:cNvSpPr/>
          <p:nvPr/>
        </p:nvSpPr>
        <p:spPr>
          <a:xfrm>
            <a:off x="4646520" y="3094200"/>
            <a:ext cx="108288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f2103"/>
                </a:solidFill>
                <a:latin typeface="Arial Narrow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80"/>
          <p:cNvSpPr/>
          <p:nvPr/>
        </p:nvSpPr>
        <p:spPr>
          <a:xfrm>
            <a:off x="1487520" y="2838600"/>
            <a:ext cx="1765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80"/>
          <p:cNvSpPr/>
          <p:nvPr/>
        </p:nvSpPr>
        <p:spPr>
          <a:xfrm>
            <a:off x="1868400" y="4667400"/>
            <a:ext cx="1765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6692760" y="2035080"/>
            <a:ext cx="2473560" cy="2986200"/>
          </a:xfrm>
          <a:custGeom>
            <a:avLst/>
            <a:gdLst>
              <a:gd name="textAreaLeft" fmla="*/ 91080 w 2473560"/>
              <a:gd name="textAreaRight" fmla="*/ 2382480 w 2473560"/>
              <a:gd name="textAreaTop" fmla="*/ 91080 h 2986200"/>
              <a:gd name="textAreaBottom" fmla="*/ 2895120 h 2986200"/>
            </a:gdLst>
            <a:ahLst/>
            <a:rect l="textAreaLeft" t="textAreaTop" r="textAreaRight" b="textAreaBottom"/>
            <a:pathLst>
              <a:path w="21600" h="26076">
                <a:moveTo>
                  <a:pt x="2716" y="0"/>
                </a:moveTo>
                <a:arcTo wR="2716" hR="2716" stAng="16200000" swAng="-5400000"/>
                <a:lnTo>
                  <a:pt x="0" y="23360"/>
                </a:lnTo>
                <a:arcTo wR="2716" hR="2716" stAng="10800000" swAng="-5400000"/>
                <a:lnTo>
                  <a:pt x="18884" y="26076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688080" y="4246560"/>
            <a:ext cx="2465280" cy="7682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5cb1fe">
                  <a:alpha val="0"/>
                </a:srgbClr>
              </a:gs>
              <a:gs pos="100000">
                <a:srgbClr val="bbde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710400" y="2044800"/>
            <a:ext cx="2432160" cy="76824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c7e4fd"/>
              </a:gs>
              <a:gs pos="100000">
                <a:srgbClr val="5cb1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4021200" y="2314440"/>
            <a:ext cx="2476080" cy="2706840"/>
            <a:chOff x="4021200" y="2314440"/>
            <a:chExt cx="2476080" cy="2706840"/>
          </a:xfrm>
        </p:grpSpPr>
        <p:sp>
          <p:nvSpPr>
            <p:cNvPr id="1154" name=""/>
            <p:cNvSpPr/>
            <p:nvPr/>
          </p:nvSpPr>
          <p:spPr>
            <a:xfrm>
              <a:off x="4024440" y="2314440"/>
              <a:ext cx="2472840" cy="2706840"/>
            </a:xfrm>
            <a:custGeom>
              <a:avLst/>
              <a:gdLst>
                <a:gd name="textAreaLeft" fmla="*/ 91080 w 2472840"/>
                <a:gd name="textAreaRight" fmla="*/ 2381760 w 2472840"/>
                <a:gd name="textAreaTop" fmla="*/ 91080 h 2706840"/>
                <a:gd name="textAreaBottom" fmla="*/ 2615760 h 2706840"/>
              </a:gdLst>
              <a:ahLst/>
              <a:rect l="textAreaLeft" t="textAreaTop" r="textAreaRight" b="textAreaBottom"/>
              <a:pathLst>
                <a:path w="21600" h="23644">
                  <a:moveTo>
                    <a:pt x="2716" y="0"/>
                  </a:moveTo>
                  <a:arcTo wR="2716" hR="2716" stAng="16200000" swAng="-5400000"/>
                  <a:lnTo>
                    <a:pt x="0" y="20928"/>
                  </a:lnTo>
                  <a:arcTo wR="2716" hR="2716" stAng="10800000" swAng="-5400000"/>
                  <a:lnTo>
                    <a:pt x="18884" y="236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21200" y="4318920"/>
              <a:ext cx="2474640" cy="69624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ffc319">
                    <a:alpha val="0"/>
                  </a:srgbClr>
                </a:gs>
                <a:gs pos="100000">
                  <a:srgbClr val="fee5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32720" y="2322720"/>
              <a:ext cx="2452680" cy="6962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feeab1"/>
                </a:gs>
                <a:gs pos="100000">
                  <a:srgbClr val="ffc31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387440" y="2719440"/>
            <a:ext cx="2476080" cy="2301840"/>
            <a:chOff x="1387440" y="2719440"/>
            <a:chExt cx="2476080" cy="2301840"/>
          </a:xfrm>
        </p:grpSpPr>
        <p:sp>
          <p:nvSpPr>
            <p:cNvPr id="1158" name=""/>
            <p:cNvSpPr/>
            <p:nvPr/>
          </p:nvSpPr>
          <p:spPr>
            <a:xfrm>
              <a:off x="1390680" y="2719440"/>
              <a:ext cx="2472840" cy="2301840"/>
            </a:xfrm>
            <a:prstGeom prst="roundRect">
              <a:avLst>
                <a:gd name="adj" fmla="val 12574"/>
              </a:avLst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87440" y="4424040"/>
              <a:ext cx="2474640" cy="5925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6161">
                    <a:alpha val="0"/>
                  </a:srgbClr>
                </a:gs>
                <a:gs pos="100000">
                  <a:srgbClr val="febd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20560" y="2726640"/>
              <a:ext cx="2431440" cy="5925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ec9c9"/>
                </a:gs>
                <a:gs pos="100000">
                  <a:srgbClr val="ff616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1531800" y="3830760"/>
            <a:ext cx="22370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102200" y="3249720"/>
            <a:ext cx="223524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816600" y="2889360"/>
            <a:ext cx="223524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643040" y="2313000"/>
            <a:ext cx="18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290840" y="1881360"/>
            <a:ext cx="18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980400" y="1595520"/>
            <a:ext cx="18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955880" y="5264280"/>
            <a:ext cx="65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1531800" y="2809800"/>
            <a:ext cx="63828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156200" y="2389320"/>
            <a:ext cx="639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6788160" y="2116080"/>
            <a:ext cx="639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71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3"/>
          <p:cNvSpPr/>
          <p:nvPr/>
        </p:nvSpPr>
        <p:spPr>
          <a:xfrm>
            <a:off x="6197760" y="2109960"/>
            <a:ext cx="290808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0303"/>
                </a:solidFill>
                <a:latin typeface="Arial"/>
                <a:ea typeface="宋体"/>
              </a:rPr>
              <a:t>点击输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4"/>
          <p:cNvSpPr/>
          <p:nvPr/>
        </p:nvSpPr>
        <p:spPr>
          <a:xfrm flipH="1">
            <a:off x="6045120" y="1947960"/>
            <a:ext cx="64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 rot="2692800">
            <a:off x="2263680" y="1782720"/>
            <a:ext cx="3451320" cy="3463920"/>
          </a:xfrm>
          <a:custGeom>
            <a:avLst/>
            <a:gdLst>
              <a:gd name="textAreaLeft" fmla="*/ 275760 w 3451320"/>
              <a:gd name="textAreaRight" fmla="*/ 3175560 w 34513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6e4346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utoShape 6"/>
          <p:cNvSpPr/>
          <p:nvPr/>
        </p:nvSpPr>
        <p:spPr>
          <a:xfrm rot="18892800">
            <a:off x="2289600" y="177840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5cb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7"/>
          <p:cNvSpPr/>
          <p:nvPr/>
        </p:nvSpPr>
        <p:spPr>
          <a:xfrm flipV="1" rot="18907200">
            <a:off x="2260440" y="1743840"/>
            <a:ext cx="3451320" cy="3463920"/>
          </a:xfrm>
          <a:custGeom>
            <a:avLst/>
            <a:gdLst>
              <a:gd name="textAreaLeft" fmla="*/ 275760 w 3451320"/>
              <a:gd name="textAreaRight" fmla="*/ 3175560 w 34513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8"/>
          <p:cNvSpPr/>
          <p:nvPr/>
        </p:nvSpPr>
        <p:spPr>
          <a:xfrm flipH="1" flipV="1" rot="2692800">
            <a:off x="2288520" y="1743840"/>
            <a:ext cx="3451320" cy="3463920"/>
          </a:xfrm>
          <a:custGeom>
            <a:avLst/>
            <a:gdLst>
              <a:gd name="textAreaLeft" fmla="*/ 275760 w 3451320"/>
              <a:gd name="textAreaRight" fmla="*/ 3175560 w 34513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ce434d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WordArt 9"/>
          <p:cNvSpPr txBox="1"/>
          <p:nvPr/>
        </p:nvSpPr>
        <p:spPr>
          <a:xfrm rot="18991800">
            <a:off x="2336400" y="23698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9" name="WordArt 10"/>
          <p:cNvSpPr txBox="1"/>
          <p:nvPr/>
        </p:nvSpPr>
        <p:spPr>
          <a:xfrm rot="2855400">
            <a:off x="3501720" y="242424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0" name="WordArt 11"/>
          <p:cNvSpPr txBox="1"/>
          <p:nvPr/>
        </p:nvSpPr>
        <p:spPr>
          <a:xfrm rot="2855400">
            <a:off x="2328480" y="35640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1" name="WordArt 12"/>
          <p:cNvSpPr txBox="1"/>
          <p:nvPr/>
        </p:nvSpPr>
        <p:spPr>
          <a:xfrm rot="18739200">
            <a:off x="3525120" y="350280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点击输入文本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2" name="Text Box 13"/>
          <p:cNvSpPr/>
          <p:nvPr/>
        </p:nvSpPr>
        <p:spPr>
          <a:xfrm>
            <a:off x="3146400" y="343692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4"/>
          <p:cNvSpPr/>
          <p:nvPr/>
        </p:nvSpPr>
        <p:spPr>
          <a:xfrm>
            <a:off x="3025800" y="276696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5"/>
          <p:cNvSpPr/>
          <p:nvPr/>
        </p:nvSpPr>
        <p:spPr>
          <a:xfrm>
            <a:off x="3048120" y="3224160"/>
            <a:ext cx="189540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utoShape 16"/>
          <p:cNvSpPr/>
          <p:nvPr/>
        </p:nvSpPr>
        <p:spPr>
          <a:xfrm>
            <a:off x="6426360" y="375444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17"/>
          <p:cNvSpPr/>
          <p:nvPr/>
        </p:nvSpPr>
        <p:spPr>
          <a:xfrm>
            <a:off x="6426360" y="408780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18"/>
          <p:cNvSpPr/>
          <p:nvPr/>
        </p:nvSpPr>
        <p:spPr>
          <a:xfrm>
            <a:off x="6426360" y="439272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9"/>
          <p:cNvSpPr/>
          <p:nvPr/>
        </p:nvSpPr>
        <p:spPr>
          <a:xfrm>
            <a:off x="6426360" y="469728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20"/>
          <p:cNvSpPr/>
          <p:nvPr/>
        </p:nvSpPr>
        <p:spPr>
          <a:xfrm>
            <a:off x="6680160" y="37130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21"/>
          <p:cNvSpPr/>
          <p:nvPr/>
        </p:nvSpPr>
        <p:spPr>
          <a:xfrm>
            <a:off x="6680160" y="40496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2"/>
          <p:cNvSpPr/>
          <p:nvPr/>
        </p:nvSpPr>
        <p:spPr>
          <a:xfrm>
            <a:off x="6680160" y="43639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23"/>
          <p:cNvSpPr/>
          <p:nvPr/>
        </p:nvSpPr>
        <p:spPr>
          <a:xfrm>
            <a:off x="6680160" y="4668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24"/>
          <p:cNvSpPr/>
          <p:nvPr/>
        </p:nvSpPr>
        <p:spPr>
          <a:xfrm>
            <a:off x="6089040" y="2639880"/>
            <a:ext cx="26542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2968560" y="1738440"/>
            <a:ext cx="4518000" cy="3873240"/>
          </a:xfrm>
          <a:prstGeom prst="ellipse">
            <a:avLst/>
          </a:prstGeom>
          <a:noFill/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218040" y="1944720"/>
            <a:ext cx="3985920" cy="3483000"/>
          </a:xfrm>
          <a:prstGeom prst="ellipse">
            <a:avLst/>
          </a:prstGeom>
          <a:noFill/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463920" y="2270160"/>
            <a:ext cx="3395520" cy="2968560"/>
          </a:xfrm>
          <a:prstGeom prst="ellipse">
            <a:avLst/>
          </a:prstGeom>
          <a:noFill/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rot="9043800">
            <a:off x="2598840" y="3565080"/>
            <a:ext cx="2138400" cy="185256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1852560"/>
              <a:gd name="textAreaBottom" fmla="*/ 1852920 h 18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6200000">
            <a:off x="4192560" y="1242720"/>
            <a:ext cx="1868400" cy="211932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1788000">
            <a:off x="5506560" y="3578040"/>
            <a:ext cx="2136960" cy="1852560"/>
          </a:xfrm>
          <a:custGeom>
            <a:avLst/>
            <a:gdLst>
              <a:gd name="textAreaLeft" fmla="*/ 0 w 2136960"/>
              <a:gd name="textAreaRight" fmla="*/ 2137320 w 2136960"/>
              <a:gd name="textAreaTop" fmla="*/ 0 h 1852560"/>
              <a:gd name="textAreaBottom" fmla="*/ 1852920 h 18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375080" y="191628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699240" y="1444680"/>
            <a:ext cx="20620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849400" y="4541760"/>
            <a:ext cx="17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686560" y="4541760"/>
            <a:ext cx="171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bfc"/>
                </a:solidFill>
                <a:latin typeface="Arial"/>
                <a:ea typeface="宋体"/>
              </a:rPr>
              <a:t>点击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656480" y="4103640"/>
            <a:ext cx="20606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071720" y="3116160"/>
            <a:ext cx="17128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067280" y="3411360"/>
            <a:ext cx="2062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6594480" y="1671480"/>
            <a:ext cx="2432160" cy="3165480"/>
          </a:xfrm>
          <a:custGeom>
            <a:avLst/>
            <a:gdLst>
              <a:gd name="textAreaLeft" fmla="*/ 15840 w 2432160"/>
              <a:gd name="textAreaRight" fmla="*/ 2416320 w 2432160"/>
              <a:gd name="textAreaTop" fmla="*/ 15840 h 3165480"/>
              <a:gd name="textAreaBottom" fmla="*/ 3149640 h 3165480"/>
            </a:gdLst>
            <a:ahLst/>
            <a:rect l="textAreaLeft" t="textAreaTop" r="textAreaRight" b="textAreaBottom"/>
            <a:pathLst>
              <a:path w="21600" h="28112">
                <a:moveTo>
                  <a:pt x="488" y="0"/>
                </a:moveTo>
                <a:arcTo wR="488" hR="488" stAng="16200000" swAng="-5400000"/>
                <a:lnTo>
                  <a:pt x="0" y="27624"/>
                </a:lnTo>
                <a:arcTo wR="488" hR="488" stAng="10800000" swAng="-5400000"/>
                <a:lnTo>
                  <a:pt x="21112" y="28112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92120" y="1671480"/>
            <a:ext cx="2425680" cy="3165480"/>
          </a:xfrm>
          <a:custGeom>
            <a:avLst/>
            <a:gdLst>
              <a:gd name="textAreaLeft" fmla="*/ 15840 w 2425680"/>
              <a:gd name="textAreaRight" fmla="*/ 2409840 w 2425680"/>
              <a:gd name="textAreaTop" fmla="*/ 15840 h 3165480"/>
              <a:gd name="textAreaBottom" fmla="*/ 3149640 h 3165480"/>
            </a:gdLst>
            <a:ahLst/>
            <a:rect l="textAreaLeft" t="textAreaTop" r="textAreaRight" b="textAreaBottom"/>
            <a:pathLst>
              <a:path w="21600" h="28187">
                <a:moveTo>
                  <a:pt x="488" y="0"/>
                </a:moveTo>
                <a:arcTo wR="488" hR="488" stAng="16200000" swAng="-5400000"/>
                <a:lnTo>
                  <a:pt x="0" y="27699"/>
                </a:lnTo>
                <a:arcTo wR="488" hR="488" stAng="10800000" swAng="-5400000"/>
                <a:lnTo>
                  <a:pt x="21112" y="28187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440000" y="1719360"/>
            <a:ext cx="233352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52c2c"/>
              </a:gs>
              <a:gs pos="100000">
                <a:srgbClr val="ff6161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467000" y="1704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637320" y="1719360"/>
            <a:ext cx="234936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f8a1b"/>
              </a:gs>
              <a:gs pos="100000">
                <a:srgbClr val="a8d02a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891480" y="1704960"/>
            <a:ext cx="18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700280" y="2247840"/>
            <a:ext cx="218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986280" y="1671480"/>
            <a:ext cx="2425680" cy="3165480"/>
          </a:xfrm>
          <a:custGeom>
            <a:avLst/>
            <a:gdLst>
              <a:gd name="textAreaLeft" fmla="*/ 15840 w 2425680"/>
              <a:gd name="textAreaRight" fmla="*/ 2409840 w 2425680"/>
              <a:gd name="textAreaTop" fmla="*/ 15840 h 3165480"/>
              <a:gd name="textAreaBottom" fmla="*/ 3149640 h 3165480"/>
            </a:gdLst>
            <a:ahLst/>
            <a:rect l="textAreaLeft" t="textAreaTop" r="textAreaRight" b="textAreaBottom"/>
            <a:pathLst>
              <a:path w="21600" h="28187">
                <a:moveTo>
                  <a:pt x="488" y="0"/>
                </a:moveTo>
                <a:arcTo wR="488" hR="488" stAng="16200000" swAng="-5400000"/>
                <a:lnTo>
                  <a:pt x="0" y="27699"/>
                </a:lnTo>
                <a:arcTo wR="488" hR="488" stAng="10800000" swAng="-5400000"/>
                <a:lnTo>
                  <a:pt x="21112" y="28187"/>
                </a:lnTo>
                <a:arcTo wR="488" hR="488" stAng="5400000" swAng="-5400000"/>
                <a:lnTo>
                  <a:pt x="21600" y="488"/>
                </a:lnTo>
                <a:arcTo wR="488" hR="488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035600" y="1719360"/>
            <a:ext cx="233352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5590b"/>
              </a:gs>
              <a:gs pos="100000">
                <a:srgbClr val="ffc319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278240" y="17049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1852560" y="4913280"/>
            <a:ext cx="1567080" cy="372960"/>
          </a:xfrm>
          <a:prstGeom prst="rect">
            <a:avLst/>
          </a:prstGeom>
          <a:ln w="0">
            <a:noFill/>
          </a:ln>
        </p:spPr>
      </p:pic>
      <p:grpSp>
        <p:nvGrpSpPr>
          <p:cNvPr id="1220" name=""/>
          <p:cNvGrpSpPr/>
          <p:nvPr/>
        </p:nvGrpSpPr>
        <p:grpSpPr>
          <a:xfrm>
            <a:off x="1717560" y="3475080"/>
            <a:ext cx="1887120" cy="1767240"/>
            <a:chOff x="1717560" y="3475080"/>
            <a:chExt cx="1887120" cy="1767240"/>
          </a:xfrm>
        </p:grpSpPr>
        <p:pic>
          <p:nvPicPr>
            <p:cNvPr id="1221" name="" descr=""/>
            <p:cNvPicPr/>
            <p:nvPr/>
          </p:nvPicPr>
          <p:blipFill>
            <a:blip r:embed="rId2"/>
            <a:stretch/>
          </p:blipFill>
          <p:spPr>
            <a:xfrm>
              <a:off x="1733040" y="3540960"/>
              <a:ext cx="185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"/>
            <p:cNvSpPr/>
            <p:nvPr/>
          </p:nvSpPr>
          <p:spPr>
            <a:xfrm>
              <a:off x="1733040" y="3540960"/>
              <a:ext cx="1871640" cy="1643760"/>
            </a:xfrm>
            <a:prstGeom prst="ellipse">
              <a:avLst/>
            </a:prstGeom>
            <a:solidFill>
              <a:srgbClr val="ff616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3" name="" descr=""/>
            <p:cNvPicPr/>
            <p:nvPr/>
          </p:nvPicPr>
          <p:blipFill>
            <a:blip r:embed="rId3"/>
            <a:srcRect l="0" t="14289" r="0" b="0"/>
            <a:stretch/>
          </p:blipFill>
          <p:spPr>
            <a:xfrm>
              <a:off x="1717560" y="3475080"/>
              <a:ext cx="1369800" cy="102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4" name=""/>
            <p:cNvGrpSpPr/>
            <p:nvPr/>
          </p:nvGrpSpPr>
          <p:grpSpPr>
            <a:xfrm>
              <a:off x="2388960" y="4166640"/>
              <a:ext cx="1195920" cy="1075680"/>
              <a:chOff x="2388960" y="4166640"/>
              <a:chExt cx="1195920" cy="107568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2661840" y="4166640"/>
                <a:ext cx="923040" cy="1067400"/>
                <a:chOff x="2661840" y="4166640"/>
                <a:chExt cx="923040" cy="1067400"/>
              </a:xfrm>
            </p:grpSpPr>
            <p:sp>
              <p:nvSpPr>
                <p:cNvPr id="1226" name=""/>
                <p:cNvSpPr/>
                <p:nvPr/>
              </p:nvSpPr>
              <p:spPr>
                <a:xfrm flipH="1" flipV="1" rot="1528800">
                  <a:off x="3161160" y="4176360"/>
                  <a:ext cx="24336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H="1" flipV="1" rot="2344200">
                  <a:off x="3093480" y="4304880"/>
                  <a:ext cx="24336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 flipV="1" rot="2640000">
                  <a:off x="3034800" y="4366080"/>
                  <a:ext cx="243360" cy="87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 flipV="1" rot="3172200">
                  <a:off x="2961360" y="4436280"/>
                  <a:ext cx="24336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388960" y="4446720"/>
                <a:ext cx="1144080" cy="795600"/>
                <a:chOff x="2388960" y="4446720"/>
                <a:chExt cx="1144080" cy="795600"/>
              </a:xfrm>
            </p:grpSpPr>
            <p:sp>
              <p:nvSpPr>
                <p:cNvPr id="1231" name=""/>
                <p:cNvSpPr/>
                <p:nvPr/>
              </p:nvSpPr>
              <p:spPr>
                <a:xfrm flipH="1" flipV="1" rot="2881800">
                  <a:off x="3004200" y="4392360"/>
                  <a:ext cx="24444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 flipV="1" rot="3697200">
                  <a:off x="2892240" y="4485240"/>
                  <a:ext cx="24444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 rot="3993000">
                  <a:off x="2813760" y="4519800"/>
                  <a:ext cx="24444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 flipV="1" rot="4525200">
                  <a:off x="2719800" y="4555800"/>
                  <a:ext cx="24444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5" name=""/>
          <p:cNvSpPr/>
          <p:nvPr/>
        </p:nvSpPr>
        <p:spPr>
          <a:xfrm>
            <a:off x="1919160" y="407196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4"/>
          <a:stretch/>
        </p:blipFill>
        <p:spPr>
          <a:xfrm>
            <a:off x="4444920" y="4913280"/>
            <a:ext cx="1569960" cy="372960"/>
          </a:xfrm>
          <a:prstGeom prst="rect">
            <a:avLst/>
          </a:prstGeom>
          <a:ln w="0">
            <a:noFill/>
          </a:ln>
        </p:spPr>
      </p:pic>
      <p:grpSp>
        <p:nvGrpSpPr>
          <p:cNvPr id="1237" name=""/>
          <p:cNvGrpSpPr/>
          <p:nvPr/>
        </p:nvGrpSpPr>
        <p:grpSpPr>
          <a:xfrm>
            <a:off x="4278240" y="3475080"/>
            <a:ext cx="1885680" cy="1767240"/>
            <a:chOff x="4278240" y="3475080"/>
            <a:chExt cx="1885680" cy="1767240"/>
          </a:xfrm>
        </p:grpSpPr>
        <p:pic>
          <p:nvPicPr>
            <p:cNvPr id="1238" name="" descr=""/>
            <p:cNvPicPr/>
            <p:nvPr/>
          </p:nvPicPr>
          <p:blipFill>
            <a:blip r:embed="rId5"/>
            <a:stretch/>
          </p:blipFill>
          <p:spPr>
            <a:xfrm>
              <a:off x="4293720" y="3540960"/>
              <a:ext cx="18572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4293720" y="3540960"/>
              <a:ext cx="1870200" cy="1643760"/>
            </a:xfrm>
            <a:prstGeom prst="ellipse">
              <a:avLst/>
            </a:prstGeom>
            <a:solidFill>
              <a:srgbClr val="ffc3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0" name="" descr=""/>
            <p:cNvPicPr/>
            <p:nvPr/>
          </p:nvPicPr>
          <p:blipFill>
            <a:blip r:embed="rId6"/>
            <a:srcRect l="0" t="14289" r="0" b="0"/>
            <a:stretch/>
          </p:blipFill>
          <p:spPr>
            <a:xfrm>
              <a:off x="4278240" y="3475080"/>
              <a:ext cx="1368720" cy="102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1" name=""/>
            <p:cNvGrpSpPr/>
            <p:nvPr/>
          </p:nvGrpSpPr>
          <p:grpSpPr>
            <a:xfrm>
              <a:off x="4948920" y="4166280"/>
              <a:ext cx="1195560" cy="1076040"/>
              <a:chOff x="4948920" y="4166280"/>
              <a:chExt cx="1195560" cy="1076040"/>
            </a:xfrm>
          </p:grpSpPr>
          <p:grpSp>
            <p:nvGrpSpPr>
              <p:cNvPr id="1242" name=""/>
              <p:cNvGrpSpPr/>
              <p:nvPr/>
            </p:nvGrpSpPr>
            <p:grpSpPr>
              <a:xfrm>
                <a:off x="5222160" y="4166280"/>
                <a:ext cx="922320" cy="1067400"/>
                <a:chOff x="5222160" y="4166280"/>
                <a:chExt cx="922320" cy="1067400"/>
              </a:xfrm>
            </p:grpSpPr>
            <p:sp>
              <p:nvSpPr>
                <p:cNvPr id="1243" name=""/>
                <p:cNvSpPr/>
                <p:nvPr/>
              </p:nvSpPr>
              <p:spPr>
                <a:xfrm flipH="1" flipV="1" rot="1528800">
                  <a:off x="5721120" y="4175640"/>
                  <a:ext cx="2430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 flipV="1" rot="2344200">
                  <a:off x="5653440" y="4304880"/>
                  <a:ext cx="2430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 flipV="1" rot="2640000">
                  <a:off x="5595120" y="4366080"/>
                  <a:ext cx="24300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 flipV="1" rot="3172200">
                  <a:off x="5522040" y="4435920"/>
                  <a:ext cx="2430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4948920" y="4447440"/>
                <a:ext cx="1144080" cy="794880"/>
                <a:chOff x="4948920" y="4447440"/>
                <a:chExt cx="1144080" cy="794880"/>
              </a:xfrm>
            </p:grpSpPr>
            <p:sp>
              <p:nvSpPr>
                <p:cNvPr id="1248" name=""/>
                <p:cNvSpPr/>
                <p:nvPr/>
              </p:nvSpPr>
              <p:spPr>
                <a:xfrm flipH="1" flipV="1" rot="2881800">
                  <a:off x="5564160" y="4393080"/>
                  <a:ext cx="24408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 flipV="1" rot="3697200">
                  <a:off x="5452560" y="4486320"/>
                  <a:ext cx="24408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 flipV="1" rot="3993000">
                  <a:off x="5374080" y="4519440"/>
                  <a:ext cx="2440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 flipV="1" rot="4525200">
                  <a:off x="5279760" y="4555800"/>
                  <a:ext cx="2440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52" name="" descr=""/>
          <p:cNvPicPr/>
          <p:nvPr/>
        </p:nvPicPr>
        <p:blipFill>
          <a:blip r:embed="rId7"/>
          <a:stretch/>
        </p:blipFill>
        <p:spPr>
          <a:xfrm>
            <a:off x="7139160" y="4923000"/>
            <a:ext cx="1450800" cy="363240"/>
          </a:xfrm>
          <a:prstGeom prst="rect">
            <a:avLst/>
          </a:prstGeom>
          <a:ln w="0">
            <a:noFill/>
          </a:ln>
        </p:spPr>
      </p:pic>
      <p:grpSp>
        <p:nvGrpSpPr>
          <p:cNvPr id="1253" name=""/>
          <p:cNvGrpSpPr/>
          <p:nvPr/>
        </p:nvGrpSpPr>
        <p:grpSpPr>
          <a:xfrm>
            <a:off x="6954840" y="3475080"/>
            <a:ext cx="1887120" cy="1767240"/>
            <a:chOff x="6954840" y="3475080"/>
            <a:chExt cx="1887120" cy="1767240"/>
          </a:xfrm>
        </p:grpSpPr>
        <p:pic>
          <p:nvPicPr>
            <p:cNvPr id="1254" name="" descr=""/>
            <p:cNvPicPr/>
            <p:nvPr/>
          </p:nvPicPr>
          <p:blipFill>
            <a:blip r:embed="rId8"/>
            <a:stretch/>
          </p:blipFill>
          <p:spPr>
            <a:xfrm>
              <a:off x="6970320" y="3540960"/>
              <a:ext cx="185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5" name=""/>
            <p:cNvSpPr/>
            <p:nvPr/>
          </p:nvSpPr>
          <p:spPr>
            <a:xfrm>
              <a:off x="6970320" y="3540960"/>
              <a:ext cx="1871640" cy="1643760"/>
            </a:xfrm>
            <a:prstGeom prst="ellipse">
              <a:avLst/>
            </a:prstGeom>
            <a:solidFill>
              <a:srgbClr val="a8d02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6" name="" descr=""/>
            <p:cNvPicPr/>
            <p:nvPr/>
          </p:nvPicPr>
          <p:blipFill>
            <a:blip r:embed="rId9"/>
            <a:srcRect l="0" t="14289" r="0" b="0"/>
            <a:stretch/>
          </p:blipFill>
          <p:spPr>
            <a:xfrm>
              <a:off x="6954840" y="3475080"/>
              <a:ext cx="1369800" cy="102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7" name=""/>
            <p:cNvGrpSpPr/>
            <p:nvPr/>
          </p:nvGrpSpPr>
          <p:grpSpPr>
            <a:xfrm>
              <a:off x="7626240" y="4166640"/>
              <a:ext cx="1195920" cy="1075680"/>
              <a:chOff x="7626240" y="4166640"/>
              <a:chExt cx="1195920" cy="10756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7899120" y="4166640"/>
                <a:ext cx="923040" cy="1067400"/>
                <a:chOff x="7899120" y="4166640"/>
                <a:chExt cx="923040" cy="1067400"/>
              </a:xfrm>
            </p:grpSpPr>
            <p:sp>
              <p:nvSpPr>
                <p:cNvPr id="1259" name=""/>
                <p:cNvSpPr/>
                <p:nvPr/>
              </p:nvSpPr>
              <p:spPr>
                <a:xfrm flipH="1" flipV="1" rot="1528800">
                  <a:off x="8398440" y="4176360"/>
                  <a:ext cx="24336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 flipV="1" rot="2344200">
                  <a:off x="8330760" y="4304880"/>
                  <a:ext cx="24336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 flipV="1" rot="2640000">
                  <a:off x="8272080" y="4366080"/>
                  <a:ext cx="243360" cy="87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H="1" flipV="1" rot="3172200">
                  <a:off x="8198640" y="4436280"/>
                  <a:ext cx="24336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7626240" y="4446720"/>
                <a:ext cx="1144080" cy="795600"/>
                <a:chOff x="7626240" y="4446720"/>
                <a:chExt cx="1144080" cy="795600"/>
              </a:xfrm>
            </p:grpSpPr>
            <p:sp>
              <p:nvSpPr>
                <p:cNvPr id="1264" name=""/>
                <p:cNvSpPr/>
                <p:nvPr/>
              </p:nvSpPr>
              <p:spPr>
                <a:xfrm flipH="1" flipV="1" rot="2881800">
                  <a:off x="8241480" y="4392360"/>
                  <a:ext cx="24444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 flipV="1" rot="3697200">
                  <a:off x="8129520" y="4485240"/>
                  <a:ext cx="24444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 flipV="1" rot="3993000">
                  <a:off x="8051040" y="4519800"/>
                  <a:ext cx="24444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 flipV="1" rot="4525200">
                  <a:off x="7957080" y="4555800"/>
                  <a:ext cx="24444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68" name=""/>
          <p:cNvSpPr/>
          <p:nvPr/>
        </p:nvSpPr>
        <p:spPr>
          <a:xfrm>
            <a:off x="4497480" y="407196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174080" y="407196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94000" y="2247840"/>
            <a:ext cx="2259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765840" y="2247840"/>
            <a:ext cx="225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6014880" y="2462040"/>
            <a:ext cx="3252960" cy="274644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6520" y="2527200"/>
            <a:ext cx="3087720" cy="260532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1093680" y="1900080"/>
            <a:ext cx="3261960" cy="465120"/>
            <a:chOff x="1093680" y="1900080"/>
            <a:chExt cx="3261960" cy="465120"/>
          </a:xfrm>
        </p:grpSpPr>
        <p:sp>
          <p:nvSpPr>
            <p:cNvPr id="1276" name=""/>
            <p:cNvSpPr/>
            <p:nvPr/>
          </p:nvSpPr>
          <p:spPr>
            <a:xfrm>
              <a:off x="1093680" y="1900080"/>
              <a:ext cx="3261960" cy="465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9913"/>
                </a:gs>
                <a:gs pos="50000">
                  <a:srgbClr val="ffc319"/>
                </a:gs>
                <a:gs pos="100000">
                  <a:srgbClr val="c99913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4192560" y="1969560"/>
              <a:ext cx="14544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128240" y="1969560"/>
              <a:ext cx="14544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5985000" y="1900080"/>
            <a:ext cx="3263400" cy="465120"/>
            <a:chOff x="5985000" y="1900080"/>
            <a:chExt cx="3263400" cy="465120"/>
          </a:xfrm>
        </p:grpSpPr>
        <p:sp>
          <p:nvSpPr>
            <p:cNvPr id="1280" name=""/>
            <p:cNvSpPr/>
            <p:nvPr/>
          </p:nvSpPr>
          <p:spPr>
            <a:xfrm>
              <a:off x="5985000" y="1900080"/>
              <a:ext cx="3263400" cy="465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2d00"/>
                </a:gs>
                <a:gs pos="50000">
                  <a:srgbClr val="cc3300"/>
                </a:gs>
                <a:gs pos="100000">
                  <a:srgbClr val="b62d00"/>
                </a:gs>
              </a:gsLst>
              <a:lin ang="10800000"/>
            </a:gradFill>
            <a:ln w="12600">
              <a:solidFill>
                <a:srgbClr val="ff6161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9085320" y="1969560"/>
              <a:ext cx="14544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019560" y="1969560"/>
              <a:ext cx="14544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1093680" y="2462040"/>
            <a:ext cx="3252960" cy="270684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fc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8"/>
          <p:cNvSpPr/>
          <p:nvPr/>
        </p:nvSpPr>
        <p:spPr>
          <a:xfrm>
            <a:off x="1397160" y="1979640"/>
            <a:ext cx="25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8"/>
          <p:cNvSpPr/>
          <p:nvPr/>
        </p:nvSpPr>
        <p:spPr>
          <a:xfrm>
            <a:off x="6351480" y="197964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 flipV="1" rot="10806000">
            <a:off x="4440240" y="3004560"/>
            <a:ext cx="1476360" cy="753840"/>
          </a:xfrm>
          <a:prstGeom prst="rightArrow">
            <a:avLst>
              <a:gd name="adj1" fmla="val 46509"/>
              <a:gd name="adj2" fmla="val 43031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91360" y="260352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278400" y="387972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6161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351480" y="2890800"/>
            <a:ext cx="287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信息点击输入文本信息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6164280" y="2673360"/>
            <a:ext cx="192240" cy="166680"/>
            <a:chOff x="6164280" y="2673360"/>
            <a:chExt cx="192240" cy="166680"/>
          </a:xfrm>
        </p:grpSpPr>
        <p:sp>
          <p:nvSpPr>
            <p:cNvPr id="1291" name=""/>
            <p:cNvSpPr/>
            <p:nvPr/>
          </p:nvSpPr>
          <p:spPr>
            <a:xfrm>
              <a:off x="6164280" y="2673360"/>
              <a:ext cx="192240" cy="1666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79760" y="2687040"/>
              <a:ext cx="159840" cy="138600"/>
            </a:xfrm>
            <a:prstGeom prst="ellipse">
              <a:avLst/>
            </a:prstGeom>
            <a:gradFill rotWithShape="0">
              <a:gsLst>
                <a:gs pos="0">
                  <a:srgbClr val="fe9a9a"/>
                </a:gs>
                <a:gs pos="100000">
                  <a:srgbClr val="ff61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6164280" y="3960720"/>
            <a:ext cx="192240" cy="166680"/>
            <a:chOff x="6164280" y="3960720"/>
            <a:chExt cx="192240" cy="166680"/>
          </a:xfrm>
        </p:grpSpPr>
        <p:sp>
          <p:nvSpPr>
            <p:cNvPr id="1294" name=""/>
            <p:cNvSpPr/>
            <p:nvPr/>
          </p:nvSpPr>
          <p:spPr>
            <a:xfrm>
              <a:off x="6164280" y="3960720"/>
              <a:ext cx="192240" cy="1666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179760" y="3974400"/>
              <a:ext cx="159840" cy="138600"/>
            </a:xfrm>
            <a:prstGeom prst="ellipse">
              <a:avLst/>
            </a:prstGeom>
            <a:gradFill rotWithShape="0">
              <a:gsLst>
                <a:gs pos="0">
                  <a:srgbClr val="fe9a9a"/>
                </a:gs>
                <a:gs pos="100000">
                  <a:srgbClr val="ff61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1266840" y="4448160"/>
            <a:ext cx="300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179360" y="2689200"/>
            <a:ext cx="3081600" cy="426960"/>
          </a:xfrm>
          <a:prstGeom prst="roundRect">
            <a:avLst>
              <a:gd name="adj" fmla="val 50000"/>
            </a:avLst>
          </a:prstGeom>
          <a:solidFill>
            <a:srgbClr val="ffc31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179360" y="3271680"/>
            <a:ext cx="3081600" cy="427320"/>
          </a:xfrm>
          <a:prstGeom prst="roundRect">
            <a:avLst>
              <a:gd name="adj" fmla="val 50000"/>
            </a:avLst>
          </a:prstGeom>
          <a:solidFill>
            <a:srgbClr val="ffc31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179360" y="3830760"/>
            <a:ext cx="3081600" cy="426960"/>
          </a:xfrm>
          <a:prstGeom prst="roundRect">
            <a:avLst>
              <a:gd name="adj" fmla="val 50000"/>
            </a:avLst>
          </a:prstGeom>
          <a:solidFill>
            <a:srgbClr val="ffc31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216080" y="2762280"/>
            <a:ext cx="2960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216080" y="3344760"/>
            <a:ext cx="2960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216080" y="3902040"/>
            <a:ext cx="2960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V="1" rot="10794000">
            <a:off x="4404960" y="3609360"/>
            <a:ext cx="1481040" cy="753840"/>
          </a:xfrm>
          <a:prstGeom prst="rightArrow">
            <a:avLst>
              <a:gd name="adj1" fmla="val 46509"/>
              <a:gd name="adj2" fmla="val 43168"/>
            </a:avLst>
          </a:prstGeom>
          <a:gradFill rotWithShape="0">
            <a:gsLst>
              <a:gs pos="0">
                <a:srgbClr val="cc3300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351480" y="4216320"/>
            <a:ext cx="287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输入文本信息点击输入文本信息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"/>
          <p:cNvGrpSpPr/>
          <p:nvPr/>
        </p:nvGrpSpPr>
        <p:grpSpPr>
          <a:xfrm>
            <a:off x="3590640" y="982800"/>
            <a:ext cx="5173200" cy="4727160"/>
            <a:chOff x="3590640" y="982800"/>
            <a:chExt cx="5173200" cy="4727160"/>
          </a:xfrm>
        </p:grpSpPr>
        <p:sp>
          <p:nvSpPr>
            <p:cNvPr id="173" name="Freeform 5"/>
            <p:cNvSpPr/>
            <p:nvPr/>
          </p:nvSpPr>
          <p:spPr>
            <a:xfrm>
              <a:off x="5351040" y="982800"/>
              <a:ext cx="1591920" cy="2423160"/>
            </a:xfrm>
            <a:custGeom>
              <a:avLst/>
              <a:gdLst>
                <a:gd name="textAreaLeft" fmla="*/ 0 w 1591920"/>
                <a:gd name="textAreaRight" fmla="*/ 1592280 w 1591920"/>
                <a:gd name="textAreaTop" fmla="*/ 0 h 2423160"/>
                <a:gd name="textAreaBottom" fmla="*/ 2423520 h 242316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 rot="574800">
              <a:off x="3682800" y="2095200"/>
              <a:ext cx="2762280" cy="1338120"/>
            </a:xfrm>
            <a:custGeom>
              <a:avLst/>
              <a:gdLst>
                <a:gd name="textAreaLeft" fmla="*/ 0 w 2762280"/>
                <a:gd name="textAreaRight" fmla="*/ 2762640 w 2762280"/>
                <a:gd name="textAreaTop" fmla="*/ 0 h 1338120"/>
                <a:gd name="textAreaBottom" fmla="*/ 1338480 h 1338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 rot="21118800">
              <a:off x="3676680" y="3395520"/>
              <a:ext cx="2779560" cy="1341000"/>
            </a:xfrm>
            <a:custGeom>
              <a:avLst/>
              <a:gdLst>
                <a:gd name="textAreaLeft" fmla="*/ 0 w 2779560"/>
                <a:gd name="textAreaRight" fmla="*/ 2779920 w 2779560"/>
                <a:gd name="textAreaTop" fmla="*/ 0 h 1341000"/>
                <a:gd name="textAreaBottom" fmla="*/ 1341360 h 134100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5351040" y="3366720"/>
              <a:ext cx="1515960" cy="2343240"/>
            </a:xfrm>
            <a:custGeom>
              <a:avLst/>
              <a:gdLst>
                <a:gd name="textAreaLeft" fmla="*/ 0 w 1515960"/>
                <a:gd name="textAreaRight" fmla="*/ 1516320 w 1515960"/>
                <a:gd name="textAreaTop" fmla="*/ 0 h 2343240"/>
                <a:gd name="textAreaBottom" fmla="*/ 2343600 h 23432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 rot="521400">
              <a:off x="5875200" y="3474720"/>
              <a:ext cx="2653200" cy="1251000"/>
            </a:xfrm>
            <a:custGeom>
              <a:avLst/>
              <a:gdLst>
                <a:gd name="textAreaLeft" fmla="*/ 0 w 2653200"/>
                <a:gd name="textAreaRight" fmla="*/ 2653560 w 265320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 rot="21130800">
              <a:off x="5957280" y="2164680"/>
              <a:ext cx="2729160" cy="1320480"/>
            </a:xfrm>
            <a:custGeom>
              <a:avLst/>
              <a:gdLst>
                <a:gd name="textAreaLeft" fmla="*/ 0 w 2729160"/>
                <a:gd name="textAreaRight" fmla="*/ 2729520 w 272916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1"/>
            <p:cNvGrpSpPr/>
            <p:nvPr/>
          </p:nvGrpSpPr>
          <p:grpSpPr>
            <a:xfrm>
              <a:off x="5436360" y="2859480"/>
              <a:ext cx="1220760" cy="1112400"/>
              <a:chOff x="5436360" y="2859480"/>
              <a:chExt cx="1220760" cy="1112400"/>
            </a:xfrm>
          </p:grpSpPr>
          <p:sp>
            <p:nvSpPr>
              <p:cNvPr id="180" name="Oval 12"/>
              <p:cNvSpPr/>
              <p:nvPr/>
            </p:nvSpPr>
            <p:spPr>
              <a:xfrm>
                <a:off x="5436360" y="2859480"/>
                <a:ext cx="1220760" cy="11124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"/>
              <p:cNvSpPr/>
              <p:nvPr/>
            </p:nvSpPr>
            <p:spPr>
              <a:xfrm>
                <a:off x="5575680" y="2877840"/>
                <a:ext cx="941760" cy="419760"/>
              </a:xfrm>
              <a:custGeom>
                <a:avLst/>
                <a:gdLst>
                  <a:gd name="textAreaLeft" fmla="*/ 0 w 941760"/>
                  <a:gd name="textAreaRight" fmla="*/ 942120 w 94176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4"/>
            <p:cNvSpPr/>
            <p:nvPr/>
          </p:nvSpPr>
          <p:spPr>
            <a:xfrm>
              <a:off x="4295880" y="2277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5888160" y="1512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7404480" y="2277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4295880" y="4084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7404480" y="4084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9"/>
            <p:cNvSpPr/>
            <p:nvPr/>
          </p:nvSpPr>
          <p:spPr>
            <a:xfrm>
              <a:off x="5813280" y="4849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62576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189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93440" y="767700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2957400" y="3736800"/>
            <a:ext cx="1776600" cy="1341720"/>
          </a:xfrm>
          <a:prstGeom prst="hexagon">
            <a:avLst>
              <a:gd name="adj" fmla="val 33103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957400" y="2395440"/>
            <a:ext cx="1776600" cy="1341360"/>
          </a:xfrm>
          <a:prstGeom prst="hexagon">
            <a:avLst>
              <a:gd name="adj" fmla="val 33112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272120" y="1724040"/>
            <a:ext cx="1774800" cy="1341360"/>
          </a:xfrm>
          <a:prstGeom prst="hexagon">
            <a:avLst>
              <a:gd name="adj" fmla="val 33078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272120" y="4406760"/>
            <a:ext cx="1774800" cy="1341720"/>
          </a:xfrm>
          <a:prstGeom prst="hexagon">
            <a:avLst>
              <a:gd name="adj" fmla="val 33069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Y견고딕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584680" y="3736800"/>
            <a:ext cx="1776600" cy="1341720"/>
          </a:xfrm>
          <a:prstGeom prst="hexagon">
            <a:avLst>
              <a:gd name="adj" fmla="val 33103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584680" y="2395440"/>
            <a:ext cx="1776600" cy="1341360"/>
          </a:xfrm>
          <a:prstGeom prst="hexagon">
            <a:avLst>
              <a:gd name="adj" fmla="val 33112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071960" y="2874960"/>
            <a:ext cx="2216160" cy="1677960"/>
          </a:xfrm>
          <a:prstGeom prst="hexagon">
            <a:avLst>
              <a:gd name="adj" fmla="val 33019"/>
              <a:gd name="vf" fmla="val 11547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견고딕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274160" y="1595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Black"/>
                <a:ea typeface="宋体"/>
              </a:rPr>
              <a:t>文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"/>
          <p:cNvGrpSpPr/>
          <p:nvPr/>
        </p:nvGrpSpPr>
        <p:grpSpPr>
          <a:xfrm>
            <a:off x="2411280" y="2173320"/>
            <a:ext cx="5857560" cy="2730240"/>
            <a:chOff x="2411280" y="2173320"/>
            <a:chExt cx="5857560" cy="2730240"/>
          </a:xfrm>
        </p:grpSpPr>
        <p:sp>
          <p:nvSpPr>
            <p:cNvPr id="1316" name="未知"/>
            <p:cNvSpPr/>
            <p:nvPr/>
          </p:nvSpPr>
          <p:spPr>
            <a:xfrm>
              <a:off x="3287880" y="3589560"/>
              <a:ext cx="4980960" cy="131400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ff6161"/>
                </a:gs>
                <a:gs pos="100000">
                  <a:srgbClr val="fe8989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a20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未知"/>
            <p:cNvSpPr/>
            <p:nvPr/>
          </p:nvSpPr>
          <p:spPr>
            <a:xfrm>
              <a:off x="2411280" y="2543760"/>
              <a:ext cx="2206800" cy="18828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a20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未知"/>
            <p:cNvSpPr/>
            <p:nvPr/>
          </p:nvSpPr>
          <p:spPr>
            <a:xfrm>
              <a:off x="4228920" y="2173320"/>
              <a:ext cx="4038120" cy="167076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fed665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a20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206280" y="1671480"/>
            <a:ext cx="2678040" cy="574920"/>
          </a:xfrm>
          <a:noFill/>
          <a:ln w="9360">
            <a:solidFill>
              <a:srgbClr val="5cb1f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361040" y="343044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83480" y="1595520"/>
            <a:ext cx="2663640" cy="576360"/>
          </a:xfrm>
          <a:noFill/>
          <a:ln w="936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468760" y="5116680"/>
            <a:ext cx="2957760" cy="574560"/>
          </a:xfrm>
          <a:noFill/>
          <a:ln w="9360">
            <a:solidFill>
              <a:srgbClr val="ff616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 flipV="1">
            <a:off x="2616120" y="3452760"/>
            <a:ext cx="2379600" cy="14702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2058840" y="3231720"/>
            <a:ext cx="2789280" cy="5144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3233880" y="3673440"/>
            <a:ext cx="1982520" cy="234936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4429080" y="1654200"/>
            <a:ext cx="4510080" cy="3623760"/>
            <a:chOff x="4429080" y="1654200"/>
            <a:chExt cx="4510080" cy="3623760"/>
          </a:xfrm>
        </p:grpSpPr>
        <p:sp>
          <p:nvSpPr>
            <p:cNvPr id="1328" name=""/>
            <p:cNvSpPr/>
            <p:nvPr/>
          </p:nvSpPr>
          <p:spPr>
            <a:xfrm>
              <a:off x="7566120" y="3428640"/>
              <a:ext cx="1373040" cy="137124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00760" y="3309840"/>
              <a:ext cx="1530360" cy="152820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34160" y="2074680"/>
              <a:ext cx="2354040" cy="235368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75160" y="3089160"/>
              <a:ext cx="2190960" cy="218880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29080" y="1654200"/>
              <a:ext cx="2530440" cy="253008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4041720" y="1373040"/>
            <a:ext cx="3230640" cy="3230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129120" y="3062160"/>
            <a:ext cx="2496960" cy="95436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3790800" y="3062160"/>
            <a:ext cx="1835280" cy="168912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863880" y="3382920"/>
            <a:ext cx="663840" cy="6634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Gulim"/>
                <a:ea typeface="Gulim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68800" y="3889440"/>
            <a:ext cx="663480" cy="6634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Gulim"/>
                <a:ea typeface="Gulim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rot="13057200">
            <a:off x="2842920" y="2160"/>
            <a:ext cx="6112440" cy="61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75" y="404"/>
                </a:moveTo>
                <a:arcTo wR="10800" hR="10800" stAng="-6342856" swAng="4722353"/>
                <a:lnTo>
                  <a:pt x="10800" y="10800"/>
                </a:lnTo>
                <a:close/>
              </a:path>
              <a:path fill="none" w="21600" h="21600">
                <a:moveTo>
                  <a:pt x="7875" y="404"/>
                </a:moveTo>
                <a:arcTo wR="10800" hR="10800" stAng="-6342856" swAng="472235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129120" y="4457880"/>
            <a:ext cx="880920" cy="880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2b2b2"/>
                </a:solidFill>
                <a:latin typeface="Gulim"/>
                <a:ea typeface="Gulim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16120" y="3643200"/>
            <a:ext cx="879480" cy="88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2b2b2"/>
                </a:solidFill>
                <a:latin typeface="Gulim"/>
                <a:ea typeface="Gulim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2468160" y="3062160"/>
            <a:ext cx="2747880" cy="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710160" y="2757600"/>
            <a:ext cx="663480" cy="6634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Gulim"/>
                <a:ea typeface="Gulim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449440" y="2521080"/>
            <a:ext cx="881280" cy="879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2b2b2"/>
                </a:solidFill>
                <a:latin typeface="Gulim"/>
                <a:ea typeface="Gulim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4377960" y="3529080"/>
            <a:ext cx="996840" cy="180972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rot="11095800">
            <a:off x="5121360" y="3016080"/>
            <a:ext cx="1069560" cy="10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89" y="68"/>
                </a:moveTo>
                <a:arcTo wR="10800" hR="10800" stAng="-5786180" swAng="8058513"/>
                <a:lnTo>
                  <a:pt x="10800" y="10800"/>
                </a:lnTo>
                <a:close/>
              </a:path>
              <a:path fill="none" w="21600" h="21600">
                <a:moveTo>
                  <a:pt x="9589" y="68"/>
                </a:moveTo>
                <a:arcTo wR="10800" hR="10800" stAng="-5786180" swAng="8058513"/>
              </a:path>
            </a:pathLst>
          </a:custGeom>
          <a:noFill/>
          <a:ln w="19080">
            <a:solidFill>
              <a:srgbClr val="ffffff"/>
            </a:solidFill>
            <a:prstDash val="sysDot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294280" y="152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8520120" y="183672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548240" y="183672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544760" y="183672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554360" y="1911240"/>
            <a:ext cx="396576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44760" y="1911240"/>
            <a:ext cx="124776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rot="13057200">
            <a:off x="1733760" y="637920"/>
            <a:ext cx="6116760" cy="611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9" y="45"/>
                </a:moveTo>
                <a:arcTo wR="10800" hR="10800" stAng="-5712762" swAng="3752481"/>
                <a:lnTo>
                  <a:pt x="10800" y="10800"/>
                </a:lnTo>
                <a:close/>
              </a:path>
              <a:path fill="none" w="21600" h="21600">
                <a:moveTo>
                  <a:pt x="9819" y="45"/>
                </a:moveTo>
                <a:arcTo wR="10800" hR="10800" stAng="-5712762" swAng="3752481"/>
              </a:path>
            </a:pathLst>
          </a:cu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574640" y="4667400"/>
            <a:ext cx="1108080" cy="11080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HY견고딕"/>
                <a:ea typeface="HY견고딕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792520" y="183204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792520" y="1911240"/>
            <a:ext cx="168912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991480" y="1528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168560" y="3309840"/>
            <a:ext cx="1108080" cy="11080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HY견고딕"/>
                <a:ea typeface="HY견고딕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863880" y="5119560"/>
            <a:ext cx="879480" cy="879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2b2b2"/>
                </a:solidFill>
                <a:latin typeface="Gulim"/>
                <a:ea typeface="Gulim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4508280" y="2179800"/>
            <a:ext cx="4764960" cy="3678120"/>
            <a:chOff x="4508280" y="2179800"/>
            <a:chExt cx="4764960" cy="3678120"/>
          </a:xfrm>
        </p:grpSpPr>
        <p:sp>
          <p:nvSpPr>
            <p:cNvPr id="1360" name=""/>
            <p:cNvSpPr/>
            <p:nvPr/>
          </p:nvSpPr>
          <p:spPr>
            <a:xfrm rot="1746600">
              <a:off x="4844880" y="2568240"/>
              <a:ext cx="2098800" cy="1928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746600">
              <a:off x="6779880" y="2674800"/>
              <a:ext cx="1330200" cy="15555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1746600">
              <a:off x="7648560" y="3423960"/>
              <a:ext cx="1330200" cy="1555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1746600">
              <a:off x="6780240" y="3520800"/>
              <a:ext cx="1330200" cy="1555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1746600">
              <a:off x="5060520" y="3062160"/>
              <a:ext cx="2511360" cy="2331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5164200" y="2028960"/>
            <a:ext cx="3524040" cy="2706480"/>
            <a:chOff x="5164200" y="2028960"/>
            <a:chExt cx="3524040" cy="2706480"/>
          </a:xfrm>
        </p:grpSpPr>
        <p:sp>
          <p:nvSpPr>
            <p:cNvPr id="1366" name=""/>
            <p:cNvSpPr/>
            <p:nvPr/>
          </p:nvSpPr>
          <p:spPr>
            <a:xfrm>
              <a:off x="6932520" y="3640320"/>
              <a:ext cx="914400" cy="915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772400" y="3640320"/>
              <a:ext cx="915840" cy="915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64200" y="2028960"/>
              <a:ext cx="1525320" cy="1527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59400" y="2441520"/>
              <a:ext cx="1390680" cy="1390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64240" y="3345120"/>
              <a:ext cx="1390680" cy="1390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 rot="18924000">
            <a:off x="5227200" y="225216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rot="18924000">
            <a:off x="6416640" y="2568240"/>
            <a:ext cx="5461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rot="18924000">
            <a:off x="5718240" y="3520800"/>
            <a:ext cx="5461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rot="18924000">
            <a:off x="7772040" y="370008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标题 52"/>
          <p:cNvSpPr/>
          <p:nvPr/>
        </p:nvSpPr>
        <p:spPr>
          <a:xfrm>
            <a:off x="6837480" y="347760"/>
            <a:ext cx="3375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Oval 4"/>
          <p:cNvSpPr/>
          <p:nvPr/>
        </p:nvSpPr>
        <p:spPr>
          <a:xfrm>
            <a:off x="4311720" y="1292400"/>
            <a:ext cx="2176560" cy="181440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e98f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Oval 6"/>
          <p:cNvSpPr/>
          <p:nvPr/>
        </p:nvSpPr>
        <p:spPr>
          <a:xfrm>
            <a:off x="1217520" y="3578400"/>
            <a:ext cx="2419560" cy="779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14"/>
          <p:cNvSpPr/>
          <p:nvPr/>
        </p:nvSpPr>
        <p:spPr>
          <a:xfrm>
            <a:off x="4191120" y="4456080"/>
            <a:ext cx="2417760" cy="779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16"/>
          <p:cNvSpPr/>
          <p:nvPr/>
        </p:nvSpPr>
        <p:spPr>
          <a:xfrm>
            <a:off x="7072200" y="3578400"/>
            <a:ext cx="2419560" cy="779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22"/>
          <p:cNvSpPr/>
          <p:nvPr/>
        </p:nvSpPr>
        <p:spPr>
          <a:xfrm rot="1471200">
            <a:off x="2363400" y="3309480"/>
            <a:ext cx="192240" cy="169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25"/>
          <p:cNvSpPr/>
          <p:nvPr/>
        </p:nvSpPr>
        <p:spPr>
          <a:xfrm>
            <a:off x="5302080" y="4211640"/>
            <a:ext cx="193680" cy="168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26"/>
          <p:cNvSpPr/>
          <p:nvPr/>
        </p:nvSpPr>
        <p:spPr>
          <a:xfrm rot="20076000">
            <a:off x="8161200" y="3309480"/>
            <a:ext cx="192240" cy="169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4" name="AutoShape 27"/>
          <p:cNvCxnSpPr/>
          <p:nvPr/>
        </p:nvCxnSpPr>
        <p:spPr>
          <a:xfrm flipV="1">
            <a:off x="2233080" y="2206080"/>
            <a:ext cx="1544040" cy="1168920"/>
          </a:xfrm>
          <a:prstGeom prst="straightConnector1">
            <a:avLst/>
          </a:prstGeom>
          <a:ln cap="rnd" w="2844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85" name="AutoShape 28"/>
          <p:cNvCxnSpPr/>
          <p:nvPr/>
        </p:nvCxnSpPr>
        <p:spPr>
          <a:xfrm flipH="1" flipV="1">
            <a:off x="5681160" y="2206080"/>
            <a:ext cx="1470960" cy="1170360"/>
          </a:xfrm>
          <a:prstGeom prst="straightConnector1">
            <a:avLst/>
          </a:prstGeom>
          <a:ln cap="rnd" w="2844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86" name="AutoShape 29"/>
          <p:cNvCxnSpPr/>
          <p:nvPr/>
        </p:nvCxnSpPr>
        <p:spPr>
          <a:xfrm flipV="1">
            <a:off x="4728960" y="3079440"/>
            <a:ext cx="1080" cy="1108800"/>
          </a:xfrm>
          <a:prstGeom prst="straightConnector1">
            <a:avLst/>
          </a:prstGeom>
          <a:ln cap="rnd" w="2844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87" name="Oval 30"/>
          <p:cNvSpPr/>
          <p:nvPr/>
        </p:nvSpPr>
        <p:spPr>
          <a:xfrm>
            <a:off x="4173480" y="4448160"/>
            <a:ext cx="2417760" cy="779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e9e9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4792680" y="5219640"/>
            <a:ext cx="1212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0.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32"/>
          <p:cNvSpPr/>
          <p:nvPr/>
        </p:nvSpPr>
        <p:spPr>
          <a:xfrm>
            <a:off x="7064280" y="3570120"/>
            <a:ext cx="2417760" cy="7797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e9e9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33"/>
          <p:cNvSpPr/>
          <p:nvPr/>
        </p:nvSpPr>
        <p:spPr>
          <a:xfrm>
            <a:off x="7677000" y="4341960"/>
            <a:ext cx="1208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9.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34"/>
          <p:cNvSpPr/>
          <p:nvPr/>
        </p:nvSpPr>
        <p:spPr>
          <a:xfrm>
            <a:off x="1219320" y="3544920"/>
            <a:ext cx="2419200" cy="7794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bce9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35"/>
          <p:cNvSpPr/>
          <p:nvPr/>
        </p:nvSpPr>
        <p:spPr>
          <a:xfrm>
            <a:off x="1824120" y="4341960"/>
            <a:ext cx="1208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50.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37"/>
          <p:cNvSpPr/>
          <p:nvPr/>
        </p:nvSpPr>
        <p:spPr>
          <a:xfrm>
            <a:off x="4764600" y="5818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38"/>
          <p:cNvSpPr/>
          <p:nvPr/>
        </p:nvSpPr>
        <p:spPr>
          <a:xfrm>
            <a:off x="4656240" y="1579680"/>
            <a:ext cx="1487520" cy="1241280"/>
          </a:xfrm>
          <a:prstGeom prst="ellipse">
            <a:avLst/>
          </a:prstGeom>
          <a:gradFill rotWithShape="0">
            <a:gsLst>
              <a:gs pos="0">
                <a:srgbClr val="e98f8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 rot="13740000">
            <a:off x="5688360" y="3786480"/>
            <a:ext cx="957240" cy="218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8"/>
          <p:cNvSpPr/>
          <p:nvPr/>
        </p:nvSpPr>
        <p:spPr>
          <a:xfrm rot="20820000">
            <a:off x="3352680" y="3351240"/>
            <a:ext cx="115416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4425840" y="2043360"/>
            <a:ext cx="1889640" cy="1836000"/>
            <a:chOff x="4425840" y="2043360"/>
            <a:chExt cx="1889640" cy="1836000"/>
          </a:xfrm>
        </p:grpSpPr>
        <p:sp>
          <p:nvSpPr>
            <p:cNvPr id="1399" name="Rectangle 10"/>
            <p:cNvSpPr/>
            <p:nvPr/>
          </p:nvSpPr>
          <p:spPr>
            <a:xfrm rot="18394200">
              <a:off x="5787000" y="2247840"/>
              <a:ext cx="586080" cy="1504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4425840" y="2316960"/>
              <a:ext cx="1838160" cy="1562400"/>
              <a:chOff x="4425840" y="2316960"/>
              <a:chExt cx="1838160" cy="1562400"/>
            </a:xfrm>
          </p:grpSpPr>
          <p:sp>
            <p:nvSpPr>
              <p:cNvPr id="1401" name="Oval 12"/>
              <p:cNvSpPr/>
              <p:nvPr/>
            </p:nvSpPr>
            <p:spPr>
              <a:xfrm>
                <a:off x="4425840" y="2316960"/>
                <a:ext cx="1838160" cy="1562400"/>
              </a:xfrm>
              <a:prstGeom prst="ellipse">
                <a:avLst/>
              </a:prstGeom>
              <a:gradFill rotWithShape="0">
                <a:gsLst>
                  <a:gs pos="0">
                    <a:srgbClr val="5cb1fe"/>
                  </a:gs>
                  <a:gs pos="100000">
                    <a:srgbClr val="3e0e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3"/>
              <p:cNvSpPr/>
              <p:nvPr/>
            </p:nvSpPr>
            <p:spPr>
              <a:xfrm>
                <a:off x="4635720" y="2342880"/>
                <a:ext cx="1418040" cy="589680"/>
              </a:xfrm>
              <a:custGeom>
                <a:avLst/>
                <a:gdLst>
                  <a:gd name="textAreaLeft" fmla="*/ 0 w 1418040"/>
                  <a:gd name="textAreaRight" fmla="*/ 1418400 w 1418040"/>
                  <a:gd name="textAreaTop" fmla="*/ 0 h 589680"/>
                  <a:gd name="textAreaBottom" fmla="*/ 590040 h 5896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cb1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3" name="Text Box 14"/>
            <p:cNvSpPr/>
            <p:nvPr/>
          </p:nvSpPr>
          <p:spPr>
            <a:xfrm>
              <a:off x="5050080" y="2997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6035760" y="1368360"/>
            <a:ext cx="996120" cy="857160"/>
            <a:chOff x="6035760" y="1368360"/>
            <a:chExt cx="996120" cy="857160"/>
          </a:xfrm>
        </p:grpSpPr>
        <p:grpSp>
          <p:nvGrpSpPr>
            <p:cNvPr id="1405" name=""/>
            <p:cNvGrpSpPr/>
            <p:nvPr/>
          </p:nvGrpSpPr>
          <p:grpSpPr>
            <a:xfrm>
              <a:off x="6035760" y="1368360"/>
              <a:ext cx="996120" cy="857160"/>
              <a:chOff x="6035760" y="1368360"/>
              <a:chExt cx="996120" cy="857160"/>
            </a:xfrm>
          </p:grpSpPr>
          <p:sp>
            <p:nvSpPr>
              <p:cNvPr id="1406" name="Oval 17"/>
              <p:cNvSpPr/>
              <p:nvPr/>
            </p:nvSpPr>
            <p:spPr>
              <a:xfrm>
                <a:off x="6035760" y="1368360"/>
                <a:ext cx="996120" cy="857160"/>
              </a:xfrm>
              <a:prstGeom prst="ellipse">
                <a:avLst/>
              </a:prstGeom>
              <a:gradFill rotWithShape="0">
                <a:gsLst>
                  <a:gs pos="0">
                    <a:srgbClr val="ff6161"/>
                  </a:gs>
                  <a:gs pos="100000">
                    <a:srgbClr val="74020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8"/>
              <p:cNvSpPr/>
              <p:nvPr/>
            </p:nvSpPr>
            <p:spPr>
              <a:xfrm>
                <a:off x="6149520" y="1382400"/>
                <a:ext cx="768600" cy="323280"/>
              </a:xfrm>
              <a:custGeom>
                <a:avLst/>
                <a:gdLst>
                  <a:gd name="textAreaLeft" fmla="*/ 0 w 768600"/>
                  <a:gd name="textAreaRight" fmla="*/ 768960 w 7686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1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8" name="Text Box 19"/>
            <p:cNvSpPr/>
            <p:nvPr/>
          </p:nvSpPr>
          <p:spPr>
            <a:xfrm>
              <a:off x="6359760" y="1698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点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1666800" y="2689200"/>
            <a:ext cx="1995120" cy="1785960"/>
            <a:chOff x="1666800" y="2689200"/>
            <a:chExt cx="1995120" cy="1785960"/>
          </a:xfrm>
        </p:grpSpPr>
        <p:grpSp>
          <p:nvGrpSpPr>
            <p:cNvPr id="1410" name=""/>
            <p:cNvGrpSpPr/>
            <p:nvPr/>
          </p:nvGrpSpPr>
          <p:grpSpPr>
            <a:xfrm>
              <a:off x="1666800" y="2689200"/>
              <a:ext cx="1995120" cy="1785960"/>
              <a:chOff x="1666800" y="2689200"/>
              <a:chExt cx="1995120" cy="1785960"/>
            </a:xfrm>
          </p:grpSpPr>
          <p:sp>
            <p:nvSpPr>
              <p:cNvPr id="1411" name="Oval 22"/>
              <p:cNvSpPr/>
              <p:nvPr/>
            </p:nvSpPr>
            <p:spPr>
              <a:xfrm>
                <a:off x="1666800" y="2689200"/>
                <a:ext cx="1995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c319"/>
                  </a:gs>
                  <a:gs pos="100000">
                    <a:srgbClr val="88000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23"/>
              <p:cNvSpPr/>
              <p:nvPr/>
            </p:nvSpPr>
            <p:spPr>
              <a:xfrm>
                <a:off x="1894680" y="2718720"/>
                <a:ext cx="1539000" cy="673920"/>
              </a:xfrm>
              <a:custGeom>
                <a:avLst/>
                <a:gdLst>
                  <a:gd name="textAreaLeft" fmla="*/ 0 w 1539000"/>
                  <a:gd name="textAreaRight" fmla="*/ 1539360 w 1539000"/>
                  <a:gd name="textAreaTop" fmla="*/ 0 h 673920"/>
                  <a:gd name="textAreaBottom" fmla="*/ 674280 h 673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Text Box 24"/>
            <p:cNvSpPr/>
            <p:nvPr/>
          </p:nvSpPr>
          <p:spPr>
            <a:xfrm>
              <a:off x="2353320" y="348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956200" y="3946680"/>
            <a:ext cx="2298600" cy="1984320"/>
            <a:chOff x="5956200" y="3946680"/>
            <a:chExt cx="2298600" cy="1984320"/>
          </a:xfrm>
        </p:grpSpPr>
        <p:grpSp>
          <p:nvGrpSpPr>
            <p:cNvPr id="1415" name=""/>
            <p:cNvGrpSpPr/>
            <p:nvPr/>
          </p:nvGrpSpPr>
          <p:grpSpPr>
            <a:xfrm>
              <a:off x="5956200" y="3946680"/>
              <a:ext cx="2298600" cy="1984320"/>
              <a:chOff x="5956200" y="3946680"/>
              <a:chExt cx="2298600" cy="1984320"/>
            </a:xfrm>
          </p:grpSpPr>
          <p:sp>
            <p:nvSpPr>
              <p:cNvPr id="1416" name="Oval 27"/>
              <p:cNvSpPr/>
              <p:nvPr/>
            </p:nvSpPr>
            <p:spPr>
              <a:xfrm>
                <a:off x="5956200" y="3946680"/>
                <a:ext cx="2298600" cy="1984320"/>
              </a:xfrm>
              <a:prstGeom prst="ellipse">
                <a:avLst/>
              </a:prstGeom>
              <a:gradFill rotWithShape="0">
                <a:gsLst>
                  <a:gs pos="0">
                    <a:srgbClr val="a8d02a"/>
                  </a:gs>
                  <a:gs pos="100000">
                    <a:srgbClr val="2000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28"/>
              <p:cNvSpPr/>
              <p:nvPr/>
            </p:nvSpPr>
            <p:spPr>
              <a:xfrm>
                <a:off x="6219000" y="3979440"/>
                <a:ext cx="1773000" cy="748800"/>
              </a:xfrm>
              <a:custGeom>
                <a:avLst/>
                <a:gdLst>
                  <a:gd name="textAreaLeft" fmla="*/ 0 w 1773000"/>
                  <a:gd name="textAreaRight" fmla="*/ 1773360 w 1773000"/>
                  <a:gd name="textAreaTop" fmla="*/ 0 h 748800"/>
                  <a:gd name="textAreaBottom" fmla="*/ 749160 h 748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8" name="Text Box 29"/>
            <p:cNvSpPr/>
            <p:nvPr/>
          </p:nvSpPr>
          <p:spPr>
            <a:xfrm>
              <a:off x="6895800" y="480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点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1652760" y="4640400"/>
            <a:ext cx="217296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134120" y="1674720"/>
            <a:ext cx="21733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794720" y="3522600"/>
            <a:ext cx="217476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Oval 2"/>
          <p:cNvSpPr/>
          <p:nvPr/>
        </p:nvSpPr>
        <p:spPr>
          <a:xfrm>
            <a:off x="3718080" y="1525680"/>
            <a:ext cx="2877840" cy="2514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3"/>
          <p:cNvSpPr/>
          <p:nvPr/>
        </p:nvSpPr>
        <p:spPr>
          <a:xfrm>
            <a:off x="2895480" y="2805120"/>
            <a:ext cx="2878200" cy="25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4"/>
          <p:cNvSpPr/>
          <p:nvPr/>
        </p:nvSpPr>
        <p:spPr>
          <a:xfrm>
            <a:off x="4540320" y="2805120"/>
            <a:ext cx="2879640" cy="25146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5"/>
          <p:cNvSpPr/>
          <p:nvPr/>
        </p:nvSpPr>
        <p:spPr>
          <a:xfrm>
            <a:off x="4557600" y="3035160"/>
            <a:ext cx="1198800" cy="1165320"/>
          </a:xfrm>
          <a:prstGeom prst="pie">
            <a:avLst/>
          </a:prstGeom>
          <a:gradFill rotWithShape="0">
            <a:gsLst>
              <a:gs pos="0">
                <a:srgbClr val="a8d02a"/>
              </a:gs>
              <a:gs pos="100000">
                <a:srgbClr val="36571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6"/>
          <p:cNvSpPr/>
          <p:nvPr/>
        </p:nvSpPr>
        <p:spPr>
          <a:xfrm>
            <a:off x="5159520" y="2604960"/>
            <a:ext cx="1423800" cy="1308240"/>
          </a:xfrm>
          <a:prstGeom prst="pie">
            <a:avLst/>
          </a:prstGeom>
          <a:gradFill rotWithShape="0">
            <a:gsLst>
              <a:gs pos="0">
                <a:srgbClr val="ffc319"/>
              </a:gs>
              <a:gs pos="100000">
                <a:srgbClr val="ff61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"/>
          <p:cNvSpPr/>
          <p:nvPr/>
        </p:nvSpPr>
        <p:spPr>
          <a:xfrm>
            <a:off x="3727440" y="2602080"/>
            <a:ext cx="1427040" cy="1314360"/>
          </a:xfrm>
          <a:prstGeom prst="pie">
            <a:avLst/>
          </a:prstGeom>
          <a:gradFill rotWithShape="0">
            <a:gsLst>
              <a:gs pos="0">
                <a:srgbClr val="ffc319"/>
              </a:gs>
              <a:gs pos="100000">
                <a:srgbClr val="ff61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8"/>
          <p:cNvSpPr/>
          <p:nvPr/>
        </p:nvSpPr>
        <p:spPr>
          <a:xfrm>
            <a:off x="4430880" y="3913200"/>
            <a:ext cx="1449360" cy="1184400"/>
          </a:xfrm>
          <a:prstGeom prst="pie">
            <a:avLst/>
          </a:prstGeom>
          <a:gradFill rotWithShape="0">
            <a:gsLst>
              <a:gs pos="0">
                <a:srgbClr val="ff6161"/>
              </a:gs>
              <a:gs pos="100000">
                <a:srgbClr val="ffc31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9"/>
          <p:cNvSpPr/>
          <p:nvPr/>
        </p:nvSpPr>
        <p:spPr>
          <a:xfrm>
            <a:off x="4081320" y="1535040"/>
            <a:ext cx="2143440" cy="911160"/>
          </a:xfrm>
          <a:prstGeom prst="pi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10"/>
          <p:cNvSpPr/>
          <p:nvPr/>
        </p:nvSpPr>
        <p:spPr>
          <a:xfrm>
            <a:off x="3119400" y="5538960"/>
            <a:ext cx="410364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11"/>
          <p:cNvSpPr/>
          <p:nvPr/>
        </p:nvSpPr>
        <p:spPr>
          <a:xfrm flipV="1" rot="10800000">
            <a:off x="4854600" y="3047040"/>
            <a:ext cx="612720" cy="595080"/>
          </a:xfrm>
          <a:prstGeom prst="pie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12"/>
          <p:cNvSpPr/>
          <p:nvPr/>
        </p:nvSpPr>
        <p:spPr>
          <a:xfrm>
            <a:off x="3760920" y="2668680"/>
            <a:ext cx="1307880" cy="933480"/>
          </a:xfrm>
          <a:prstGeom prst="pi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13"/>
          <p:cNvSpPr/>
          <p:nvPr/>
        </p:nvSpPr>
        <p:spPr>
          <a:xfrm>
            <a:off x="4161240" y="30178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14"/>
          <p:cNvSpPr/>
          <p:nvPr/>
        </p:nvSpPr>
        <p:spPr>
          <a:xfrm>
            <a:off x="4922280" y="3430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15"/>
          <p:cNvSpPr/>
          <p:nvPr/>
        </p:nvSpPr>
        <p:spPr>
          <a:xfrm>
            <a:off x="5869080" y="4051440"/>
            <a:ext cx="145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6"/>
          <p:cNvSpPr/>
          <p:nvPr/>
        </p:nvSpPr>
        <p:spPr>
          <a:xfrm>
            <a:off x="3052800" y="4051440"/>
            <a:ext cx="145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7"/>
          <p:cNvSpPr/>
          <p:nvPr/>
        </p:nvSpPr>
        <p:spPr>
          <a:xfrm>
            <a:off x="4478400" y="218268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18"/>
          <p:cNvSpPr/>
          <p:nvPr/>
        </p:nvSpPr>
        <p:spPr>
          <a:xfrm flipH="1">
            <a:off x="5238000" y="2668680"/>
            <a:ext cx="1306440" cy="933480"/>
          </a:xfrm>
          <a:prstGeom prst="pi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19"/>
          <p:cNvSpPr/>
          <p:nvPr/>
        </p:nvSpPr>
        <p:spPr>
          <a:xfrm flipH="1" rot="7200000">
            <a:off x="4716720" y="3936240"/>
            <a:ext cx="1141200" cy="1069920"/>
          </a:xfrm>
          <a:prstGeom prst="pi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20"/>
          <p:cNvSpPr/>
          <p:nvPr/>
        </p:nvSpPr>
        <p:spPr>
          <a:xfrm>
            <a:off x="4967640" y="42703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21"/>
          <p:cNvSpPr/>
          <p:nvPr/>
        </p:nvSpPr>
        <p:spPr>
          <a:xfrm>
            <a:off x="5808960" y="30178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23"/>
          <p:cNvSpPr/>
          <p:nvPr/>
        </p:nvSpPr>
        <p:spPr>
          <a:xfrm>
            <a:off x="6648480" y="1536840"/>
            <a:ext cx="23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24"/>
          <p:cNvSpPr/>
          <p:nvPr/>
        </p:nvSpPr>
        <p:spPr>
          <a:xfrm>
            <a:off x="6611760" y="1900080"/>
            <a:ext cx="2440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25"/>
          <p:cNvSpPr/>
          <p:nvPr/>
        </p:nvSpPr>
        <p:spPr>
          <a:xfrm>
            <a:off x="703440" y="3105000"/>
            <a:ext cx="23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26"/>
          <p:cNvSpPr/>
          <p:nvPr/>
        </p:nvSpPr>
        <p:spPr>
          <a:xfrm>
            <a:off x="695160" y="3571920"/>
            <a:ext cx="2440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27"/>
          <p:cNvSpPr/>
          <p:nvPr/>
        </p:nvSpPr>
        <p:spPr>
          <a:xfrm>
            <a:off x="7527960" y="4089240"/>
            <a:ext cx="23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28"/>
          <p:cNvSpPr/>
          <p:nvPr/>
        </p:nvSpPr>
        <p:spPr>
          <a:xfrm>
            <a:off x="7523280" y="4621320"/>
            <a:ext cx="24397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 flipV="1">
            <a:off x="4081320" y="3798720"/>
            <a:ext cx="4241880" cy="709920"/>
          </a:xfrm>
          <a:prstGeom prst="parallelogram">
            <a:avLst>
              <a:gd name="adj" fmla="val 149379"/>
            </a:avLst>
          </a:prstGeom>
          <a:gradFill rotWithShape="0">
            <a:gsLst>
              <a:gs pos="0">
                <a:srgbClr val="ff2994"/>
              </a:gs>
              <a:gs pos="100000">
                <a:srgbClr val="420a26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4071960" y="4903920"/>
            <a:ext cx="4245120" cy="690480"/>
          </a:xfrm>
          <a:prstGeom prst="parallelogram">
            <a:avLst>
              <a:gd name="adj" fmla="val 153702"/>
            </a:avLst>
          </a:prstGeom>
          <a:gradFill rotWithShape="0">
            <a:gsLst>
              <a:gs pos="0">
                <a:srgbClr val="b98667"/>
              </a:gs>
              <a:gs pos="100000">
                <a:srgbClr val="30231a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4071960" y="269352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6a58a4"/>
              </a:gs>
              <a:gs pos="100000">
                <a:srgbClr val="1b172a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4081320" y="1588680"/>
            <a:ext cx="4241880" cy="641520"/>
          </a:xfrm>
          <a:prstGeom prst="parallelogram">
            <a:avLst>
              <a:gd name="adj" fmla="val 165091"/>
            </a:avLst>
          </a:prstGeom>
          <a:gradFill rotWithShape="0">
            <a:gsLst>
              <a:gs pos="0">
                <a:srgbClr val="2b66a7"/>
              </a:gs>
              <a:gs pos="100000">
                <a:srgbClr val="0b1a2b"/>
              </a:gs>
            </a:gsLst>
            <a:lin ang="135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048200" y="1589040"/>
            <a:ext cx="0" cy="33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008160" y="3798720"/>
            <a:ext cx="4241880" cy="979560"/>
          </a:xfrm>
          <a:prstGeom prst="parallelogram">
            <a:avLst>
              <a:gd name="adj" fmla="val 108260"/>
            </a:avLst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651200" y="2692440"/>
            <a:ext cx="1040040" cy="208116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998800" y="4903920"/>
            <a:ext cx="4245120" cy="979200"/>
          </a:xfrm>
          <a:prstGeom prst="parallelogram">
            <a:avLst>
              <a:gd name="adj" fmla="val 108382"/>
            </a:avLst>
          </a:prstGeom>
          <a:gradFill rotWithShape="0">
            <a:gsLst>
              <a:gs pos="0">
                <a:srgbClr val="63564e"/>
              </a:gs>
              <a:gs pos="100000">
                <a:srgbClr val="d8bcaa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998800" y="269244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c475c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976480" y="2568240"/>
            <a:ext cx="0" cy="33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6194520" y="2568240"/>
            <a:ext cx="0" cy="33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651200" y="1585800"/>
            <a:ext cx="1040040" cy="208116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866960" y="1589040"/>
            <a:ext cx="6950160" cy="180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709720" y="1590840"/>
            <a:ext cx="0" cy="9777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836720" y="590220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008160" y="1589040"/>
            <a:ext cx="4241880" cy="979560"/>
          </a:xfrm>
          <a:prstGeom prst="parallelogram">
            <a:avLst>
              <a:gd name="adj" fmla="val 108260"/>
            </a:avLst>
          </a:prstGeom>
          <a:gradFill rotWithShape="0">
            <a:gsLst>
              <a:gs pos="0">
                <a:srgbClr val="2a4562"/>
              </a:gs>
              <a:gs pos="100000">
                <a:srgbClr val="5d96d5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622680" y="31449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173840" y="193500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W/E-CRM / C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206600" y="524196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-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624840" y="43671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461200" y="43498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96680" y="32018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GW/K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39160" y="3252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001040" y="27925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8335800" y="2230560"/>
            <a:ext cx="0" cy="3363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7250040" y="156204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855800" y="256716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852560" y="3687840"/>
            <a:ext cx="6964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849320" y="4789440"/>
            <a:ext cx="69678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525520" y="4075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706840" y="259704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703600" y="371808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495600" y="430992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773320" y="39225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668560" y="28018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IP/EK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964320" y="39546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22960" y="1847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输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8488440" y="1590840"/>
            <a:ext cx="0" cy="9777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8485200" y="259704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481960" y="371808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478720" y="483876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525520" y="30067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525520" y="1935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8526240" y="52322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B2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722960" y="311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输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722960" y="420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输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22960" y="547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字输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AutoShape 3"/>
          <p:cNvSpPr/>
          <p:nvPr/>
        </p:nvSpPr>
        <p:spPr>
          <a:xfrm>
            <a:off x="1746360" y="4329000"/>
            <a:ext cx="3294000" cy="102420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7"/>
          <p:cNvSpPr/>
          <p:nvPr/>
        </p:nvSpPr>
        <p:spPr>
          <a:xfrm>
            <a:off x="5340240" y="4329000"/>
            <a:ext cx="3295800" cy="102420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1981080" y="4202280"/>
            <a:ext cx="2836800" cy="381960"/>
            <a:chOff x="1981080" y="4202280"/>
            <a:chExt cx="2836800" cy="381960"/>
          </a:xfrm>
        </p:grpSpPr>
        <p:sp>
          <p:nvSpPr>
            <p:cNvPr id="1501" name="AutoShape 5"/>
            <p:cNvSpPr/>
            <p:nvPr/>
          </p:nvSpPr>
          <p:spPr>
            <a:xfrm>
              <a:off x="1981080" y="4202280"/>
              <a:ext cx="2836800" cy="38196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AutoShape 6"/>
            <p:cNvSpPr/>
            <p:nvPr/>
          </p:nvSpPr>
          <p:spPr>
            <a:xfrm>
              <a:off x="2000160" y="4205520"/>
              <a:ext cx="2797200" cy="17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5573880" y="4202280"/>
            <a:ext cx="2836440" cy="381960"/>
            <a:chOff x="5573880" y="4202280"/>
            <a:chExt cx="2836440" cy="381960"/>
          </a:xfrm>
        </p:grpSpPr>
        <p:sp>
          <p:nvSpPr>
            <p:cNvPr id="1504" name="AutoShape 9"/>
            <p:cNvSpPr/>
            <p:nvPr/>
          </p:nvSpPr>
          <p:spPr>
            <a:xfrm>
              <a:off x="5573880" y="4202280"/>
              <a:ext cx="2836440" cy="38196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10"/>
            <p:cNvSpPr/>
            <p:nvPr/>
          </p:nvSpPr>
          <p:spPr>
            <a:xfrm>
              <a:off x="5592960" y="4205520"/>
              <a:ext cx="2796840" cy="17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1479600" y="3678120"/>
            <a:ext cx="7687800" cy="473040"/>
            <a:chOff x="1479600" y="3678120"/>
            <a:chExt cx="7687800" cy="473040"/>
          </a:xfrm>
        </p:grpSpPr>
        <p:sp>
          <p:nvSpPr>
            <p:cNvPr id="1507" name="AutoShape 12"/>
            <p:cNvSpPr/>
            <p:nvPr/>
          </p:nvSpPr>
          <p:spPr>
            <a:xfrm>
              <a:off x="1479600" y="3793680"/>
              <a:ext cx="339840" cy="2376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AutoShape 13"/>
            <p:cNvSpPr/>
            <p:nvPr/>
          </p:nvSpPr>
          <p:spPr>
            <a:xfrm>
              <a:off x="1605600" y="3678120"/>
              <a:ext cx="7561800" cy="473040"/>
            </a:xfrm>
            <a:prstGeom prst="rightArrow">
              <a:avLst>
                <a:gd name="adj1" fmla="val 50000"/>
                <a:gd name="adj2" fmla="val 72527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Text Box 14"/>
          <p:cNvSpPr/>
          <p:nvPr/>
        </p:nvSpPr>
        <p:spPr>
          <a:xfrm>
            <a:off x="2541600" y="3767040"/>
            <a:ext cx="6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15"/>
          <p:cNvSpPr/>
          <p:nvPr/>
        </p:nvSpPr>
        <p:spPr>
          <a:xfrm>
            <a:off x="4930920" y="3759120"/>
            <a:ext cx="65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16"/>
          <p:cNvSpPr/>
          <p:nvPr/>
        </p:nvSpPr>
        <p:spPr>
          <a:xfrm>
            <a:off x="7254720" y="3759120"/>
            <a:ext cx="6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17"/>
          <p:cNvSpPr/>
          <p:nvPr/>
        </p:nvSpPr>
        <p:spPr>
          <a:xfrm flipV="1">
            <a:off x="1754280" y="2125440"/>
            <a:ext cx="0" cy="1633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18"/>
          <p:cNvSpPr/>
          <p:nvPr/>
        </p:nvSpPr>
        <p:spPr>
          <a:xfrm flipV="1">
            <a:off x="4071960" y="1835280"/>
            <a:ext cx="0" cy="1923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19"/>
          <p:cNvSpPr/>
          <p:nvPr/>
        </p:nvSpPr>
        <p:spPr>
          <a:xfrm flipV="1">
            <a:off x="6369120" y="1444320"/>
            <a:ext cx="0" cy="2314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AutoShape 21"/>
          <p:cNvSpPr/>
          <p:nvPr/>
        </p:nvSpPr>
        <p:spPr>
          <a:xfrm>
            <a:off x="1754280" y="3368520"/>
            <a:ext cx="2309760" cy="3906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9d673"/>
              </a:gs>
              <a:gs pos="100000">
                <a:srgbClr val="ff616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AutoShape 22"/>
          <p:cNvSpPr/>
          <p:nvPr/>
        </p:nvSpPr>
        <p:spPr>
          <a:xfrm>
            <a:off x="4071960" y="2909880"/>
            <a:ext cx="2306520" cy="849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aac4e0"/>
              </a:gs>
              <a:gs pos="100000">
                <a:srgbClr val="ffc3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23"/>
          <p:cNvSpPr/>
          <p:nvPr/>
        </p:nvSpPr>
        <p:spPr>
          <a:xfrm>
            <a:off x="6378480" y="2386080"/>
            <a:ext cx="2309760" cy="137304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dad1be"/>
              </a:gs>
              <a:gs pos="100000">
                <a:srgbClr val="5cb1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24"/>
          <p:cNvSpPr/>
          <p:nvPr/>
        </p:nvSpPr>
        <p:spPr>
          <a:xfrm>
            <a:off x="1790640" y="2498760"/>
            <a:ext cx="224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27"/>
          <p:cNvSpPr/>
          <p:nvPr/>
        </p:nvSpPr>
        <p:spPr>
          <a:xfrm>
            <a:off x="1981080" y="3370320"/>
            <a:ext cx="179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28"/>
          <p:cNvSpPr/>
          <p:nvPr/>
        </p:nvSpPr>
        <p:spPr>
          <a:xfrm>
            <a:off x="2806560" y="4248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29"/>
          <p:cNvSpPr/>
          <p:nvPr/>
        </p:nvSpPr>
        <p:spPr>
          <a:xfrm>
            <a:off x="6402240" y="4248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30"/>
          <p:cNvSpPr/>
          <p:nvPr/>
        </p:nvSpPr>
        <p:spPr>
          <a:xfrm>
            <a:off x="1798560" y="4651200"/>
            <a:ext cx="3194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31"/>
          <p:cNvSpPr/>
          <p:nvPr/>
        </p:nvSpPr>
        <p:spPr>
          <a:xfrm>
            <a:off x="5383080" y="4651200"/>
            <a:ext cx="319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 Box 32"/>
          <p:cNvSpPr/>
          <p:nvPr/>
        </p:nvSpPr>
        <p:spPr>
          <a:xfrm>
            <a:off x="4302000" y="3171960"/>
            <a:ext cx="1795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33"/>
          <p:cNvSpPr/>
          <p:nvPr/>
        </p:nvSpPr>
        <p:spPr>
          <a:xfrm>
            <a:off x="6589800" y="2940120"/>
            <a:ext cx="179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24"/>
          <p:cNvSpPr/>
          <p:nvPr/>
        </p:nvSpPr>
        <p:spPr>
          <a:xfrm>
            <a:off x="4116240" y="1974960"/>
            <a:ext cx="224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24"/>
          <p:cNvSpPr/>
          <p:nvPr/>
        </p:nvSpPr>
        <p:spPr>
          <a:xfrm>
            <a:off x="6440400" y="1549440"/>
            <a:ext cx="224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 flipV="1" rot="10800000">
            <a:off x="2481120" y="4987800"/>
            <a:ext cx="5050080" cy="4636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3157560" y="1854360"/>
            <a:ext cx="3658680" cy="3681000"/>
            <a:chOff x="3157560" y="1854360"/>
            <a:chExt cx="3658680" cy="3681000"/>
          </a:xfrm>
        </p:grpSpPr>
        <p:sp>
          <p:nvSpPr>
            <p:cNvPr id="1531" name="未知"/>
            <p:cNvSpPr/>
            <p:nvPr/>
          </p:nvSpPr>
          <p:spPr>
            <a:xfrm>
              <a:off x="4989600" y="1854360"/>
              <a:ext cx="1826640" cy="184392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4" y="174"/>
                  </a:move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174" y="17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9900"/>
                </a:gs>
              </a:gsLst>
              <a:lin ang="135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未知"/>
            <p:cNvSpPr/>
            <p:nvPr/>
          </p:nvSpPr>
          <p:spPr>
            <a:xfrm>
              <a:off x="4989600" y="3698280"/>
              <a:ext cx="1826640" cy="183708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173"/>
                  </a:moveTo>
                  <a:cubicBezTo>
                    <a:pt x="96" y="173"/>
                    <a:pt x="174" y="96"/>
                    <a:pt x="174" y="0"/>
                  </a:cubicBez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未知"/>
            <p:cNvSpPr/>
            <p:nvPr/>
          </p:nvSpPr>
          <p:spPr>
            <a:xfrm>
              <a:off x="3157560" y="3698280"/>
              <a:ext cx="1832040" cy="183708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0"/>
                  </a:moveTo>
                  <a:cubicBezTo>
                    <a:pt x="0" y="96"/>
                    <a:pt x="77" y="173"/>
                    <a:pt x="173" y="173"/>
                  </a:cubicBezTo>
                  <a:lnTo>
                    <a:pt x="17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未知"/>
            <p:cNvSpPr/>
            <p:nvPr/>
          </p:nvSpPr>
          <p:spPr>
            <a:xfrm>
              <a:off x="3157560" y="1854360"/>
              <a:ext cx="1832040" cy="184392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35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未知"/>
          <p:cNvSpPr/>
          <p:nvPr/>
        </p:nvSpPr>
        <p:spPr>
          <a:xfrm>
            <a:off x="4986360" y="2160720"/>
            <a:ext cx="1504800" cy="151740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74" y="174"/>
                </a:move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74" y="174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未知"/>
          <p:cNvSpPr/>
          <p:nvPr/>
        </p:nvSpPr>
        <p:spPr>
          <a:xfrm>
            <a:off x="4981680" y="3452760"/>
            <a:ext cx="1504800" cy="15112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173"/>
                </a:moveTo>
                <a:cubicBezTo>
                  <a:pt x="96" y="173"/>
                  <a:pt x="174" y="96"/>
                  <a:pt x="174" y="0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135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未知"/>
          <p:cNvSpPr/>
          <p:nvPr/>
        </p:nvSpPr>
        <p:spPr>
          <a:xfrm>
            <a:off x="3487680" y="3452760"/>
            <a:ext cx="1506600" cy="15112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0" y="0"/>
                </a:moveTo>
                <a:cubicBezTo>
                  <a:pt x="0" y="96"/>
                  <a:pt x="77" y="173"/>
                  <a:pt x="173" y="173"/>
                </a:cubicBez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未知"/>
          <p:cNvSpPr/>
          <p:nvPr/>
        </p:nvSpPr>
        <p:spPr>
          <a:xfrm flipH="1" rot="5400000">
            <a:off x="3093120" y="1775160"/>
            <a:ext cx="1579320" cy="2193840"/>
          </a:xfrm>
          <a:custGeom>
            <a:avLst/>
            <a:gdLst/>
            <a:ahLst/>
            <a:rect l="l" t="t" r="r" b="b"/>
            <a:pathLst>
              <a:path w="123" h="173">
                <a:moveTo>
                  <a:pt x="0" y="173"/>
                </a:moveTo>
                <a:cubicBezTo>
                  <a:pt x="46" y="173"/>
                  <a:pt x="90" y="155"/>
                  <a:pt x="123" y="123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990000"/>
              </a:gs>
            </a:gsLst>
            <a:lin ang="189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3828600" y="2456280"/>
            <a:ext cx="2224440" cy="2230560"/>
            <a:chOff x="3828600" y="2456280"/>
            <a:chExt cx="2224440" cy="2230560"/>
          </a:xfrm>
        </p:grpSpPr>
        <p:sp>
          <p:nvSpPr>
            <p:cNvPr id="1540" name=""/>
            <p:cNvSpPr/>
            <p:nvPr/>
          </p:nvSpPr>
          <p:spPr>
            <a:xfrm rot="649800">
              <a:off x="3990960" y="2617560"/>
              <a:ext cx="1899720" cy="19076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90196"/>
                  </a:srgbClr>
                </a:gs>
                <a:gs pos="50000">
                  <a:srgbClr val="ffffff"/>
                </a:gs>
                <a:gs pos="100000">
                  <a:srgbClr val="808080">
                    <a:alpha val="90196"/>
                  </a:srgbClr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649800">
              <a:off x="4097520" y="2721600"/>
              <a:ext cx="1685880" cy="1699200"/>
            </a:xfrm>
            <a:prstGeom prst="ellipse">
              <a:avLst/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100000">
                  <a:srgbClr val="ff6161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"/>
          <p:cNvSpPr txBox="1"/>
          <p:nvPr/>
        </p:nvSpPr>
        <p:spPr>
          <a:xfrm>
            <a:off x="4421160" y="3209760"/>
            <a:ext cx="109548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43" name=""/>
          <p:cNvSpPr txBox="1"/>
          <p:nvPr/>
        </p:nvSpPr>
        <p:spPr>
          <a:xfrm rot="2997000">
            <a:off x="5732640" y="2591640"/>
            <a:ext cx="932040" cy="15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44" name=""/>
          <p:cNvSpPr txBox="1"/>
          <p:nvPr/>
        </p:nvSpPr>
        <p:spPr>
          <a:xfrm rot="18869400">
            <a:off x="5653080" y="4724280"/>
            <a:ext cx="923760" cy="15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45" name=""/>
          <p:cNvSpPr txBox="1"/>
          <p:nvPr/>
        </p:nvSpPr>
        <p:spPr>
          <a:xfrm rot="2616600">
            <a:off x="3441240" y="4757400"/>
            <a:ext cx="952560" cy="15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46" name=""/>
          <p:cNvSpPr/>
          <p:nvPr/>
        </p:nvSpPr>
        <p:spPr>
          <a:xfrm>
            <a:off x="3898800" y="2160720"/>
            <a:ext cx="1100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400" spc="-1" strike="noStrike">
                <a:solidFill>
                  <a:srgbClr val="990000"/>
                </a:solidFill>
                <a:latin typeface="Arial"/>
                <a:ea typeface="华文细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378400" y="2664000"/>
            <a:ext cx="11001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400" spc="-1" strike="noStrike">
                <a:solidFill>
                  <a:srgbClr val="990000"/>
                </a:solidFill>
                <a:latin typeface="Arial"/>
                <a:ea typeface="华文细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295960" y="3956040"/>
            <a:ext cx="1101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400" spc="-1" strike="noStrike">
                <a:solidFill>
                  <a:srgbClr val="990000"/>
                </a:solidFill>
                <a:latin typeface="Arial"/>
                <a:ea typeface="华文细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538440" y="3956040"/>
            <a:ext cx="1100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400" spc="-1" strike="noStrike">
                <a:solidFill>
                  <a:srgbClr val="990000"/>
                </a:solidFill>
                <a:latin typeface="Arial"/>
                <a:ea typeface="华文细黑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994120" y="2806560"/>
            <a:ext cx="1100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4520" y="4357800"/>
            <a:ext cx="3124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6816600" y="4357800"/>
            <a:ext cx="3125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816600" y="2224080"/>
            <a:ext cx="3125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未知"/>
          <p:cNvSpPr/>
          <p:nvPr/>
        </p:nvSpPr>
        <p:spPr>
          <a:xfrm>
            <a:off x="4268880" y="2708280"/>
            <a:ext cx="1388880" cy="6732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5435640" y="2960640"/>
            <a:ext cx="37004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5435640" y="2141640"/>
            <a:ext cx="3700440" cy="77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"/>
          <p:cNvGrpSpPr/>
          <p:nvPr/>
        </p:nvGrpSpPr>
        <p:grpSpPr>
          <a:xfrm>
            <a:off x="1289160" y="1620720"/>
            <a:ext cx="3795120" cy="406440"/>
            <a:chOff x="1289160" y="1620720"/>
            <a:chExt cx="3795120" cy="406440"/>
          </a:xfrm>
        </p:grpSpPr>
        <p:sp>
          <p:nvSpPr>
            <p:cNvPr id="1559" name=""/>
            <p:cNvSpPr/>
            <p:nvPr/>
          </p:nvSpPr>
          <p:spPr>
            <a:xfrm>
              <a:off x="1289160" y="1620720"/>
              <a:ext cx="379512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3c5dd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4895280" y="1654920"/>
              <a:ext cx="169200" cy="34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311840" y="1656720"/>
              <a:ext cx="168840" cy="33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Text Box 18"/>
          <p:cNvSpPr/>
          <p:nvPr/>
        </p:nvSpPr>
        <p:spPr>
          <a:xfrm>
            <a:off x="1601640" y="1595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点击输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rot="5400000">
            <a:off x="5227920" y="2282040"/>
            <a:ext cx="426960" cy="48564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 rot="5400000">
            <a:off x="5229720" y="3102840"/>
            <a:ext cx="423720" cy="485640"/>
          </a:xfrm>
          <a:prstGeom prst="diamond">
            <a:avLst/>
          </a:prstGeom>
          <a:solidFill>
            <a:srgbClr val="99cc0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435640" y="4594320"/>
            <a:ext cx="3700440" cy="78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35640" y="3773520"/>
            <a:ext cx="37004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rot="5400000">
            <a:off x="5229000" y="3916440"/>
            <a:ext cx="425160" cy="485640"/>
          </a:xfrm>
          <a:prstGeom prst="diamond">
            <a:avLst/>
          </a:prstGeom>
          <a:solidFill>
            <a:srgbClr val="cc330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rot="5400000">
            <a:off x="5227920" y="4736160"/>
            <a:ext cx="426960" cy="485640"/>
          </a:xfrm>
          <a:prstGeom prst="diamond">
            <a:avLst/>
          </a:prstGeom>
          <a:solidFill>
            <a:srgbClr val="ffc31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738760" y="2325600"/>
            <a:ext cx="334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411200" y="2217600"/>
            <a:ext cx="3613320" cy="31575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760400" y="2886120"/>
            <a:ext cx="2916360" cy="249552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154240" y="3519360"/>
            <a:ext cx="2152800" cy="1863720"/>
          </a:xfrm>
          <a:prstGeom prst="ellipse">
            <a:avLst/>
          </a:prstGeom>
          <a:solidFill>
            <a:srgbClr val="cc3300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503440" y="4124160"/>
            <a:ext cx="1479600" cy="1263960"/>
          </a:xfrm>
          <a:prstGeom prst="ellipse">
            <a:avLst/>
          </a:prstGeom>
          <a:solidFill>
            <a:srgbClr val="ffc31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2376360" y="463536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8"/>
          <p:cNvSpPr/>
          <p:nvPr/>
        </p:nvSpPr>
        <p:spPr>
          <a:xfrm>
            <a:off x="2282760" y="37465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8"/>
          <p:cNvSpPr/>
          <p:nvPr/>
        </p:nvSpPr>
        <p:spPr>
          <a:xfrm>
            <a:off x="2282760" y="305604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8"/>
          <p:cNvSpPr/>
          <p:nvPr/>
        </p:nvSpPr>
        <p:spPr>
          <a:xfrm>
            <a:off x="2282760" y="2389320"/>
            <a:ext cx="18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文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738760" y="3137040"/>
            <a:ext cx="334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738760" y="3956040"/>
            <a:ext cx="334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738760" y="4765680"/>
            <a:ext cx="334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19640" y="1701720"/>
            <a:ext cx="5991120" cy="863640"/>
          </a:xfrm>
          <a:prstGeom prst="rect">
            <a:avLst/>
          </a:prstGeom>
          <a:gradFill rotWithShape="0">
            <a:gsLst>
              <a:gs pos="0">
                <a:srgbClr val="752f00">
                  <a:alpha val="0"/>
                </a:srgbClr>
              </a:gs>
              <a:gs pos="100000">
                <a:srgbClr val="ff6600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9240" y="4400640"/>
            <a:ext cx="4151520" cy="1206360"/>
          </a:xfrm>
          <a:prstGeom prst="rect">
            <a:avLst/>
          </a:prstGeom>
          <a:gradFill rotWithShape="0">
            <a:gsLst>
              <a:gs pos="0">
                <a:srgbClr val="004646">
                  <a:alpha val="0"/>
                </a:srgbClr>
              </a:gs>
              <a:gs pos="100000">
                <a:srgbClr val="009999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17880" y="2565360"/>
            <a:ext cx="5492880" cy="932040"/>
          </a:xfrm>
          <a:prstGeom prst="rect">
            <a:avLst/>
          </a:prstGeom>
          <a:gradFill rotWithShape="0">
            <a:gsLst>
              <a:gs pos="0">
                <a:srgbClr val="5e4600">
                  <a:alpha val="0"/>
                </a:srgbClr>
              </a:gs>
              <a:gs pos="100000">
                <a:srgbClr val="cc9900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19440" y="3497400"/>
            <a:ext cx="4891320" cy="904680"/>
          </a:xfrm>
          <a:prstGeom prst="rect">
            <a:avLst/>
          </a:prstGeom>
          <a:gradFill rotWithShape="0">
            <a:gsLst>
              <a:gs pos="0">
                <a:srgbClr val="5e7517">
                  <a:alpha val="0"/>
                </a:srgbClr>
              </a:gs>
              <a:gs pos="100000">
                <a:srgbClr val="ccff33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1200" y="2565360"/>
            <a:ext cx="56595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19440" y="3497400"/>
            <a:ext cx="489132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8400" y="4402080"/>
            <a:ext cx="43023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560700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11600" y="1901880"/>
            <a:ext cx="396108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9900"/>
                </a:solidFill>
                <a:latin typeface="Arial"/>
                <a:ea typeface="宋体"/>
              </a:rPr>
              <a:t>点击输入文字信息  点击输入文字信息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9900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35240" y="1135080"/>
            <a:ext cx="4677840" cy="4476240"/>
            <a:chOff x="1335240" y="1135080"/>
            <a:chExt cx="4677840" cy="4476240"/>
          </a:xfrm>
        </p:grpSpPr>
        <p:grpSp>
          <p:nvGrpSpPr>
            <p:cNvPr id="201" name=""/>
            <p:cNvGrpSpPr/>
            <p:nvPr/>
          </p:nvGrpSpPr>
          <p:grpSpPr>
            <a:xfrm>
              <a:off x="1335240" y="4106160"/>
              <a:ext cx="4677840" cy="1505160"/>
              <a:chOff x="1335240" y="4106160"/>
              <a:chExt cx="4677840" cy="1505160"/>
            </a:xfrm>
          </p:grpSpPr>
          <p:sp>
            <p:nvSpPr>
              <p:cNvPr id="202" name=""/>
              <p:cNvSpPr/>
              <p:nvPr/>
            </p:nvSpPr>
            <p:spPr>
              <a:xfrm>
                <a:off x="1801080" y="4106160"/>
                <a:ext cx="3601440" cy="5407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35240" y="4642200"/>
                <a:ext cx="4172040" cy="96444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c5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15880" y="4115520"/>
                <a:ext cx="997200" cy="149580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837080" y="3306960"/>
              <a:ext cx="3480840" cy="1194480"/>
              <a:chOff x="1837080" y="3306960"/>
              <a:chExt cx="3480840" cy="1194480"/>
            </a:xfrm>
          </p:grpSpPr>
          <p:sp>
            <p:nvSpPr>
              <p:cNvPr id="206" name=""/>
              <p:cNvSpPr/>
              <p:nvPr/>
            </p:nvSpPr>
            <p:spPr>
              <a:xfrm>
                <a:off x="2183760" y="3306960"/>
                <a:ext cx="2679840" cy="4291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37080" y="3732120"/>
                <a:ext cx="3104640" cy="76572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406000"/>
                  </a:gs>
                  <a:gs pos="100000">
                    <a:srgbClr val="8cd2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75960" y="3314160"/>
                <a:ext cx="741960" cy="11872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31640" y="2589480"/>
              <a:ext cx="2570040" cy="1039680"/>
              <a:chOff x="2231640" y="2589480"/>
              <a:chExt cx="2570040" cy="1039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175280" y="2589480"/>
                <a:ext cx="626400" cy="103968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66440" y="2589480"/>
                <a:ext cx="1797840" cy="28008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31640" y="2869560"/>
                <a:ext cx="2313360" cy="75312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614320" y="1856160"/>
              <a:ext cx="1678320" cy="914040"/>
              <a:chOff x="2614320" y="1856160"/>
              <a:chExt cx="1678320" cy="914040"/>
            </a:xfrm>
          </p:grpSpPr>
          <p:sp>
            <p:nvSpPr>
              <p:cNvPr id="214" name=""/>
              <p:cNvSpPr/>
              <p:nvPr/>
            </p:nvSpPr>
            <p:spPr>
              <a:xfrm>
                <a:off x="2966760" y="1862280"/>
                <a:ext cx="887040" cy="14616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4320" y="2004840"/>
                <a:ext cx="1504080" cy="76536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60560" y="1856160"/>
                <a:ext cx="532080" cy="90828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007800" y="1135080"/>
              <a:ext cx="780840" cy="764280"/>
              <a:chOff x="3007800" y="1135080"/>
              <a:chExt cx="780840" cy="764280"/>
            </a:xfrm>
          </p:grpSpPr>
          <p:sp>
            <p:nvSpPr>
              <p:cNvPr id="218" name=""/>
              <p:cNvSpPr/>
              <p:nvPr/>
            </p:nvSpPr>
            <p:spPr>
              <a:xfrm>
                <a:off x="3007800" y="1135080"/>
                <a:ext cx="714960" cy="76428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47280" y="1135080"/>
                <a:ext cx="441360" cy="76068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2952360" y="3060720"/>
            <a:ext cx="91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92320" y="2292480"/>
            <a:ext cx="790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498636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66760" y="396252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5120" y="2811600"/>
            <a:ext cx="327492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319"/>
                </a:solidFill>
                <a:latin typeface="Arial"/>
                <a:ea typeface="宋体"/>
              </a:rPr>
              <a:t>点击输入文字信息  点击输入文字信息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319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24560" y="3724200"/>
            <a:ext cx="327492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8d02a"/>
                </a:solidFill>
                <a:latin typeface="Arial"/>
                <a:ea typeface="宋体"/>
              </a:rPr>
              <a:t>点击输入文字信息  点击输入文字信息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8d02a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81760" y="4714920"/>
            <a:ext cx="327492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cb1fe"/>
                </a:solidFill>
                <a:latin typeface="Arial"/>
                <a:ea typeface="宋体"/>
              </a:rPr>
              <a:t>点击输入文字信息  点击输入文字信息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cb1fe"/>
                </a:solidFill>
                <a:latin typeface="Arial"/>
                <a:ea typeface="宋体"/>
              </a:rPr>
              <a:t>点击输入文字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"/>
          <p:cNvGrpSpPr/>
          <p:nvPr/>
        </p:nvGrpSpPr>
        <p:grpSpPr>
          <a:xfrm>
            <a:off x="4611600" y="2278080"/>
            <a:ext cx="3484440" cy="1106640"/>
            <a:chOff x="4611600" y="2278080"/>
            <a:chExt cx="3484440" cy="1106640"/>
          </a:xfrm>
        </p:grpSpPr>
        <p:sp>
          <p:nvSpPr>
            <p:cNvPr id="1583" name=""/>
            <p:cNvSpPr txBox="1"/>
            <p:nvPr/>
          </p:nvSpPr>
          <p:spPr>
            <a:xfrm>
              <a:off x="4611600" y="2278080"/>
              <a:ext cx="3484440" cy="70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solidFill>
                    <a:srgbClr val="ffffff"/>
                  </a:solidFill>
                  <a:latin typeface="方正大黑简体"/>
                </a:rPr>
                <a:t>谢 谢 观 赏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方正大黑简体"/>
                <a:ea typeface="方正大黑简体"/>
              </a:endParaRPr>
            </a:p>
          </p:txBody>
        </p:sp>
        <p:sp>
          <p:nvSpPr>
            <p:cNvPr id="1584" name=""/>
            <p:cNvSpPr txBox="1"/>
            <p:nvPr/>
          </p:nvSpPr>
          <p:spPr>
            <a:xfrm>
              <a:off x="5373720" y="3121200"/>
              <a:ext cx="199224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方正大黑简体"/>
                </a:rPr>
                <a:t>THONK YOU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方正大黑简体"/>
                <a:ea typeface="方正大黑简体"/>
              </a:endParaRPr>
            </a:p>
          </p:txBody>
        </p:sp>
      </p:grpSp>
      <p:pic>
        <p:nvPicPr>
          <p:cNvPr id="1585" name="" descr=""/>
          <p:cNvPicPr/>
          <p:nvPr/>
        </p:nvPicPr>
        <p:blipFill>
          <a:blip r:embed="rId1"/>
          <a:stretch/>
        </p:blipFill>
        <p:spPr>
          <a:xfrm>
            <a:off x="1335240" y="297000"/>
            <a:ext cx="2815920" cy="2819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933720" y="3591000"/>
            <a:ext cx="1413000" cy="1270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22560" y="3591000"/>
            <a:ext cx="1414440" cy="1270080"/>
          </a:xfrm>
          <a:prstGeom prst="roundRect">
            <a:avLst>
              <a:gd name="adj" fmla="val 9991"/>
            </a:avLst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933720" y="2279520"/>
            <a:ext cx="1413000" cy="1270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2560" y="2279520"/>
            <a:ext cx="1414440" cy="1270080"/>
          </a:xfrm>
          <a:prstGeom prst="roundRect">
            <a:avLst>
              <a:gd name="adj" fmla="val 9991"/>
            </a:avLst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402160" y="3591000"/>
            <a:ext cx="1409760" cy="1270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391000" y="3591000"/>
            <a:ext cx="1406520" cy="1270080"/>
          </a:xfrm>
          <a:prstGeom prst="roundRect">
            <a:avLst>
              <a:gd name="adj" fmla="val 9991"/>
            </a:avLst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402160" y="2279520"/>
            <a:ext cx="1366920" cy="1270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91000" y="2279520"/>
            <a:ext cx="1359000" cy="1270080"/>
          </a:xfrm>
          <a:prstGeom prst="roundRect">
            <a:avLst>
              <a:gd name="adj" fmla="val 9991"/>
            </a:avLst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04560" y="1561680"/>
            <a:ext cx="4794480" cy="4026960"/>
            <a:chOff x="3004560" y="1561680"/>
            <a:chExt cx="4794480" cy="4026960"/>
          </a:xfrm>
        </p:grpSpPr>
        <p:sp>
          <p:nvSpPr>
            <p:cNvPr id="237" name=""/>
            <p:cNvSpPr/>
            <p:nvPr/>
          </p:nvSpPr>
          <p:spPr>
            <a:xfrm flipH="1" rot="5400000">
              <a:off x="3402000" y="1177920"/>
              <a:ext cx="3993480" cy="476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8" y="17183"/>
                  </a:moveTo>
                  <a:arcTo wR="10800" hR="10800" stAng="8626049" swAng="5306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8" y="17183"/>
                  </a:moveTo>
                  <a:arcTo wR="10800" hR="10800" stAng="8626049" swAng="5306177"/>
                </a:path>
              </a:pathLst>
            </a:cu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5400000">
              <a:off x="3421440" y="1193040"/>
              <a:ext cx="3993840" cy="476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94" y="16779"/>
                  </a:moveTo>
                  <a:arcTo wR="10800" hR="10800" stAng="2016719" swAng="68821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94" y="16779"/>
                  </a:moveTo>
                  <a:arcTo wR="10800" hR="10800" stAng="2016719" swAng="6882173"/>
                </a:path>
              </a:pathLst>
            </a:cu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5400000">
              <a:off x="3386880" y="1212120"/>
              <a:ext cx="3993480" cy="47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44" y="4601"/>
                  </a:moveTo>
                  <a:arcTo wR="10800" hR="10800" stAng="-2101626" swAng="4262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44" y="4601"/>
                  </a:moveTo>
                  <a:arcTo wR="10800" hR="10800" stAng="-2101626" swAng="4262783"/>
                </a:path>
              </a:pathLst>
            </a:cu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rot="5400000">
              <a:off x="3404160" y="1199160"/>
              <a:ext cx="3991680" cy="475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98" y="2936"/>
                  </a:moveTo>
                  <a:arcTo wR="10800" hR="10800" stAng="-7996003" swAng="601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398" y="2936"/>
                  </a:moveTo>
                  <a:arcTo wR="10800" hR="10800" stAng="-7996003" swAng="6016597"/>
                </a:path>
              </a:pathLst>
            </a:custGeom>
            <a:noFill/>
            <a:ln cap="rnd" w="38160">
              <a:solidFill>
                <a:srgbClr val="5cb1fe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7062840" y="2502000"/>
            <a:ext cx="2333520" cy="2112840"/>
          </a:xfrm>
          <a:prstGeom prst="rightArrow">
            <a:avLst>
              <a:gd name="adj1" fmla="val 65176"/>
              <a:gd name="adj2" fmla="val 36963"/>
            </a:avLst>
          </a:prstGeom>
          <a:gradFill rotWithShape="0">
            <a:gsLst>
              <a:gs pos="0">
                <a:srgbClr val="ffc319"/>
              </a:gs>
              <a:gs pos="50000">
                <a:srgbClr val="fed86c"/>
              </a:gs>
              <a:gs pos="100000">
                <a:srgbClr val="ffc3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3440" y="2598840"/>
            <a:ext cx="2332080" cy="2111400"/>
          </a:xfrm>
          <a:prstGeom prst="rightArrow">
            <a:avLst>
              <a:gd name="adj1" fmla="val 65176"/>
              <a:gd name="adj2" fmla="val 36965"/>
            </a:avLst>
          </a:prstGeom>
          <a:gradFill rotWithShape="0">
            <a:gsLst>
              <a:gs pos="0">
                <a:srgbClr val="ff6161"/>
              </a:gs>
              <a:gs pos="50000">
                <a:srgbClr val="febfb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88840" y="348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60960" y="341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04600" y="2739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5240" y="2739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9668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836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70120" y="1900080"/>
            <a:ext cx="2697120" cy="3275280"/>
          </a:xfrm>
          <a:prstGeom prst="upArrow">
            <a:avLst>
              <a:gd name="adj1" fmla="val 56361"/>
              <a:gd name="adj2" fmla="val 68448"/>
            </a:avLst>
          </a:prstGeom>
          <a:gradFill rotWithShape="0">
            <a:gsLst>
              <a:gs pos="0">
                <a:srgbClr val="5cb1fe"/>
              </a:gs>
              <a:gs pos="100000">
                <a:srgbClr val="3362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9360" y="2035080"/>
            <a:ext cx="2728800" cy="3273480"/>
          </a:xfrm>
          <a:prstGeom prst="downArrow">
            <a:avLst>
              <a:gd name="adj1" fmla="val 65009"/>
              <a:gd name="adj2" fmla="val 50555"/>
            </a:avLst>
          </a:prstGeom>
          <a:gradFill rotWithShape="0">
            <a:gsLst>
              <a:gs pos="0">
                <a:srgbClr val="752c2c"/>
              </a:gs>
              <a:gs pos="100000">
                <a:srgbClr val="ff61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2320" y="2792520"/>
            <a:ext cx="2181240" cy="5950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2320" y="3570120"/>
            <a:ext cx="2181240" cy="5954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22320" y="4338720"/>
            <a:ext cx="2181240" cy="5950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23120" y="2427120"/>
            <a:ext cx="2181240" cy="5954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23120" y="3208320"/>
            <a:ext cx="2181240" cy="5954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3120" y="3975120"/>
            <a:ext cx="218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1868400" y="292104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8"/>
          <p:cNvSpPr/>
          <p:nvPr/>
        </p:nvSpPr>
        <p:spPr>
          <a:xfrm>
            <a:off x="1868400" y="37069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8"/>
          <p:cNvSpPr/>
          <p:nvPr/>
        </p:nvSpPr>
        <p:spPr>
          <a:xfrm>
            <a:off x="1868400" y="44737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6483240" y="255276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6483240" y="333864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6483240" y="410220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33440" y="158580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2800" y="2071800"/>
            <a:ext cx="3227400" cy="3120840"/>
          </a:xfrm>
          <a:prstGeom prst="roundRect">
            <a:avLst>
              <a:gd name="adj" fmla="val 9481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867960" y="3229920"/>
            <a:ext cx="2443320" cy="519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1667520" y="3231000"/>
            <a:ext cx="244332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443680" y="3230640"/>
            <a:ext cx="2444760" cy="519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182760" y="3228480"/>
            <a:ext cx="2443320" cy="522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b2b"/>
              </a:gs>
              <a:gs pos="100000">
                <a:srgbClr val="5f5f5f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870200" y="2936880"/>
            <a:ext cx="442440" cy="1751040"/>
            <a:chOff x="1870200" y="2936880"/>
            <a:chExt cx="442440" cy="1751040"/>
          </a:xfrm>
        </p:grpSpPr>
        <p:sp>
          <p:nvSpPr>
            <p:cNvPr id="271" name=""/>
            <p:cNvSpPr/>
            <p:nvPr/>
          </p:nvSpPr>
          <p:spPr>
            <a:xfrm rot="16200000">
              <a:off x="1215720" y="3591000"/>
              <a:ext cx="1751040" cy="442440"/>
            </a:xfrm>
            <a:prstGeom prst="roundRect">
              <a:avLst>
                <a:gd name="adj" fmla="val 50000"/>
              </a:avLst>
            </a:pr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1273680" y="3626280"/>
              <a:ext cx="1681560" cy="31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671920" y="2563560"/>
            <a:ext cx="437760" cy="2117160"/>
            <a:chOff x="2671920" y="2563560"/>
            <a:chExt cx="437760" cy="2117160"/>
          </a:xfrm>
        </p:grpSpPr>
        <p:sp>
          <p:nvSpPr>
            <p:cNvPr id="274" name=""/>
            <p:cNvSpPr/>
            <p:nvPr/>
          </p:nvSpPr>
          <p:spPr>
            <a:xfrm rot="16200000">
              <a:off x="1832040" y="3403080"/>
              <a:ext cx="2117160" cy="437760"/>
            </a:xfrm>
            <a:prstGeom prst="roundRect">
              <a:avLst>
                <a:gd name="adj" fmla="val 50000"/>
              </a:avLst>
            </a:pr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1896840" y="3432240"/>
              <a:ext cx="2033280" cy="30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48080" y="3970440"/>
            <a:ext cx="441000" cy="714240"/>
            <a:chOff x="3448080" y="3970440"/>
            <a:chExt cx="441000" cy="714240"/>
          </a:xfrm>
        </p:grpSpPr>
        <p:sp>
          <p:nvSpPr>
            <p:cNvPr id="277" name=""/>
            <p:cNvSpPr/>
            <p:nvPr/>
          </p:nvSpPr>
          <p:spPr>
            <a:xfrm rot="16200000">
              <a:off x="3311280" y="4106880"/>
              <a:ext cx="714240" cy="441000"/>
            </a:xfrm>
            <a:prstGeom prst="roundRect">
              <a:avLst>
                <a:gd name="adj" fmla="val 50000"/>
              </a:avLst>
            </a:pr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3348720" y="4159080"/>
              <a:ext cx="685800" cy="31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183200" y="3344760"/>
            <a:ext cx="442440" cy="1333440"/>
            <a:chOff x="4183200" y="3344760"/>
            <a:chExt cx="442440" cy="1333440"/>
          </a:xfrm>
        </p:grpSpPr>
        <p:sp>
          <p:nvSpPr>
            <p:cNvPr id="280" name=""/>
            <p:cNvSpPr/>
            <p:nvPr/>
          </p:nvSpPr>
          <p:spPr>
            <a:xfrm rot="16200000">
              <a:off x="3737520" y="3790080"/>
              <a:ext cx="1333440" cy="442440"/>
            </a:xfrm>
            <a:prstGeom prst="roundRect">
              <a:avLst>
                <a:gd name="adj" fmla="val 50000"/>
              </a:avLst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3787200" y="3832200"/>
              <a:ext cx="1280520" cy="31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809720" y="4724280"/>
            <a:ext cx="336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161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7280" y="2584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19000" y="2335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09560" y="3654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55480" y="3038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33960" y="2279520"/>
            <a:ext cx="4205160" cy="538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ff6161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089680" y="2297160"/>
            <a:ext cx="572760" cy="530280"/>
            <a:chOff x="5089680" y="2297160"/>
            <a:chExt cx="572760" cy="530280"/>
          </a:xfrm>
        </p:grpSpPr>
        <p:grpSp>
          <p:nvGrpSpPr>
            <p:cNvPr id="289" name=""/>
            <p:cNvGrpSpPr/>
            <p:nvPr/>
          </p:nvGrpSpPr>
          <p:grpSpPr>
            <a:xfrm>
              <a:off x="5089680" y="2297160"/>
              <a:ext cx="572760" cy="530280"/>
              <a:chOff x="5089680" y="2297160"/>
              <a:chExt cx="572760" cy="530280"/>
            </a:xfrm>
          </p:grpSpPr>
          <p:pic>
            <p:nvPicPr>
              <p:cNvPr id="2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4040" y="2712960"/>
                <a:ext cx="47160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89680" y="2297160"/>
                <a:ext cx="572760" cy="48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5089680" y="2297160"/>
                <a:ext cx="568800" cy="490320"/>
              </a:xfrm>
              <a:prstGeom prst="ellipse">
                <a:avLst/>
              </a:prstGeom>
              <a:gradFill rotWithShape="0">
                <a:gsLst>
                  <a:gs pos="0">
                    <a:srgbClr val="3c4a0f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3c4a0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5146200" y="2301480"/>
              <a:ext cx="45288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6211800" y="23716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33960" y="2978280"/>
            <a:ext cx="4205160" cy="538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ff6161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89680" y="2995560"/>
            <a:ext cx="572760" cy="530280"/>
            <a:chOff x="5089680" y="2995560"/>
            <a:chExt cx="572760" cy="530280"/>
          </a:xfrm>
        </p:grpSpPr>
        <p:grpSp>
          <p:nvGrpSpPr>
            <p:cNvPr id="297" name=""/>
            <p:cNvGrpSpPr/>
            <p:nvPr/>
          </p:nvGrpSpPr>
          <p:grpSpPr>
            <a:xfrm>
              <a:off x="5089680" y="2995560"/>
              <a:ext cx="572760" cy="530280"/>
              <a:chOff x="5089680" y="2995560"/>
              <a:chExt cx="572760" cy="530280"/>
            </a:xfrm>
          </p:grpSpPr>
          <p:pic>
            <p:nvPicPr>
              <p:cNvPr id="2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4040" y="3411360"/>
                <a:ext cx="47160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89680" y="2995560"/>
                <a:ext cx="572760" cy="48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5089680" y="2995560"/>
                <a:ext cx="568800" cy="490320"/>
              </a:xfrm>
              <a:prstGeom prst="ellipse">
                <a:avLst/>
              </a:prstGeom>
              <a:gradFill rotWithShape="0">
                <a:gsLst>
                  <a:gs pos="0">
                    <a:srgbClr val="213f5b">
                      <a:alpha val="90196"/>
                    </a:srgbClr>
                  </a:gs>
                  <a:gs pos="50000">
                    <a:srgbClr val="5cb1fe">
                      <a:alpha val="55294"/>
                    </a:srgbClr>
                  </a:gs>
                  <a:gs pos="100000">
                    <a:srgbClr val="213f5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5146200" y="2999880"/>
              <a:ext cx="45288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"/>
          <p:cNvSpPr/>
          <p:nvPr/>
        </p:nvSpPr>
        <p:spPr>
          <a:xfrm>
            <a:off x="6211800" y="30700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33960" y="3684600"/>
            <a:ext cx="4205160" cy="538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ff6161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89680" y="3701880"/>
            <a:ext cx="572760" cy="532080"/>
            <a:chOff x="5089680" y="3701880"/>
            <a:chExt cx="572760" cy="532080"/>
          </a:xfrm>
        </p:grpSpPr>
        <p:grpSp>
          <p:nvGrpSpPr>
            <p:cNvPr id="305" name=""/>
            <p:cNvGrpSpPr/>
            <p:nvPr/>
          </p:nvGrpSpPr>
          <p:grpSpPr>
            <a:xfrm>
              <a:off x="5089680" y="3701880"/>
              <a:ext cx="572760" cy="532080"/>
              <a:chOff x="5089680" y="3701880"/>
              <a:chExt cx="572760" cy="532080"/>
            </a:xfrm>
          </p:grpSpPr>
          <p:pic>
            <p:nvPicPr>
              <p:cNvPr id="30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44040" y="4119120"/>
                <a:ext cx="47160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089680" y="3701880"/>
                <a:ext cx="57276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5089680" y="3701880"/>
                <a:ext cx="568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b4608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5b460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9" name="" descr=""/>
            <p:cNvPicPr/>
            <p:nvPr/>
          </p:nvPicPr>
          <p:blipFill>
            <a:blip r:embed="rId9"/>
            <a:stretch/>
          </p:blipFill>
          <p:spPr>
            <a:xfrm>
              <a:off x="5146200" y="3706200"/>
              <a:ext cx="452880" cy="17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6211800" y="3776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33960" y="4354560"/>
            <a:ext cx="4205160" cy="538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ff6161"/>
              </a:gs>
            </a:gsLst>
            <a:lin ang="108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89680" y="4371840"/>
            <a:ext cx="572760" cy="532080"/>
            <a:chOff x="5089680" y="4371840"/>
            <a:chExt cx="572760" cy="532080"/>
          </a:xfrm>
        </p:grpSpPr>
        <p:grpSp>
          <p:nvGrpSpPr>
            <p:cNvPr id="313" name=""/>
            <p:cNvGrpSpPr/>
            <p:nvPr/>
          </p:nvGrpSpPr>
          <p:grpSpPr>
            <a:xfrm>
              <a:off x="5089680" y="4371840"/>
              <a:ext cx="572760" cy="532080"/>
              <a:chOff x="5089680" y="4371840"/>
              <a:chExt cx="572760" cy="5320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144040" y="4789080"/>
                <a:ext cx="471600" cy="11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089680" y="4371840"/>
                <a:ext cx="57276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5089680" y="4371840"/>
                <a:ext cx="568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b2222">
                      <a:alpha val="90196"/>
                    </a:srgbClr>
                  </a:gs>
                  <a:gs pos="50000">
                    <a:srgbClr val="ff6161">
                      <a:alpha val="55294"/>
                    </a:srgbClr>
                  </a:gs>
                  <a:gs pos="100000">
                    <a:srgbClr val="5b222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" descr=""/>
            <p:cNvPicPr/>
            <p:nvPr/>
          </p:nvPicPr>
          <p:blipFill>
            <a:blip r:embed="rId12"/>
            <a:stretch/>
          </p:blipFill>
          <p:spPr>
            <a:xfrm>
              <a:off x="5146200" y="4376160"/>
              <a:ext cx="452880" cy="17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"/>
          <p:cNvSpPr/>
          <p:nvPr/>
        </p:nvSpPr>
        <p:spPr>
          <a:xfrm>
            <a:off x="6211800" y="4448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输入文字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标题 52"/>
          <p:cNvSpPr/>
          <p:nvPr/>
        </p:nvSpPr>
        <p:spPr>
          <a:xfrm>
            <a:off x="6684840" y="195120"/>
            <a:ext cx="337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7940000">
            <a:off x="5549760" y="2410920"/>
            <a:ext cx="793800" cy="288720"/>
          </a:xfrm>
          <a:prstGeom prst="rightArrow">
            <a:avLst>
              <a:gd name="adj1" fmla="val 35167"/>
              <a:gd name="adj2" fmla="val 11133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3420000">
            <a:off x="5600520" y="4519440"/>
            <a:ext cx="793800" cy="288720"/>
          </a:xfrm>
          <a:prstGeom prst="rightArrow">
            <a:avLst>
              <a:gd name="adj1" fmla="val 35167"/>
              <a:gd name="adj2" fmla="val 11133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4340000">
            <a:off x="4381200" y="2432880"/>
            <a:ext cx="793800" cy="289080"/>
          </a:xfrm>
          <a:prstGeom prst="rightArrow">
            <a:avLst>
              <a:gd name="adj1" fmla="val 35167"/>
              <a:gd name="adj2" fmla="val 11119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7500000">
            <a:off x="4343040" y="4487400"/>
            <a:ext cx="793800" cy="289080"/>
          </a:xfrm>
          <a:prstGeom prst="rightArrow">
            <a:avLst>
              <a:gd name="adj1" fmla="val 35167"/>
              <a:gd name="adj2" fmla="val 11119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91280" y="34988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3781080" y="34905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68600" y="1744560"/>
            <a:ext cx="3743280" cy="37432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31000" y="171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47680" y="171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14800" y="3468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3100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33280" y="3468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71720" y="500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编辑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59160" y="3519360"/>
            <a:ext cx="304920" cy="304920"/>
          </a:xfrm>
          <a:prstGeom prst="ellipse">
            <a:avLst/>
          </a:prstGeom>
          <a:gradFill rotWithShape="0">
            <a:gsLst>
              <a:gs pos="0">
                <a:srgbClr val="e498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73560" y="1868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e498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78680" y="1868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e498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97240" y="506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e498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8680" y="5068800"/>
            <a:ext cx="304560" cy="304920"/>
          </a:xfrm>
          <a:prstGeom prst="ellipse">
            <a:avLst/>
          </a:prstGeom>
          <a:gradFill rotWithShape="0">
            <a:gsLst>
              <a:gs pos="0">
                <a:srgbClr val="e498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93080" y="3506760"/>
            <a:ext cx="304560" cy="304920"/>
          </a:xfrm>
          <a:prstGeom prst="ellipse">
            <a:avLst/>
          </a:prstGeom>
          <a:gradFill rotWithShape="0">
            <a:gsLst>
              <a:gs pos="0">
                <a:srgbClr val="e4987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41760" y="277164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8d02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53000" y="288144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5a7016"/>
              </a:gs>
              <a:gs pos="50000">
                <a:srgbClr val="a8d02a"/>
              </a:gs>
              <a:gs pos="100000">
                <a:srgbClr val="5a70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54440" y="284004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a8d02a">
                  <a:alpha val="0"/>
                </a:srgbClr>
              </a:gs>
              <a:gs pos="100000">
                <a:srgbClr val="6a831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7520" y="295596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748040" y="2975040"/>
            <a:ext cx="1290960" cy="1278000"/>
            <a:chOff x="4748040" y="2975040"/>
            <a:chExt cx="1290960" cy="1278000"/>
          </a:xfrm>
        </p:grpSpPr>
        <p:sp>
          <p:nvSpPr>
            <p:cNvPr id="345" name=""/>
            <p:cNvSpPr/>
            <p:nvPr/>
          </p:nvSpPr>
          <p:spPr>
            <a:xfrm>
              <a:off x="4748040" y="29750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64600" y="29818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77920" y="29944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48120" y="30268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116320" y="340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0:51:18Z</dcterms:created>
  <dc:creator>www.themegallery.com</dc:creator>
  <dc:description/>
  <cp:keywords/>
  <dc:language>en-US</dc:language>
  <cp:lastModifiedBy>admin</cp:lastModifiedBy>
  <cp:lastPrinted>1899-12-30T00:00:00Z</cp:lastPrinted>
  <dcterms:modified xsi:type="dcterms:W3CDTF">2015-01-16T07:17:26Z</dcterms:modified>
  <cp:revision>26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