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7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5.png" ContentType="image/png"/>
  <Override PartName="/ppt/media/image9.jpeg" ContentType="image/jpeg"/>
  <Override PartName="/ppt/media/image31.png" ContentType="image/png"/>
  <Override PartName="/ppt/media/image25.gif" ContentType="image/gif"/>
  <Override PartName="/ppt/media/image6.jpeg" ContentType="image/jpeg"/>
  <Override PartName="/ppt/media/image4.wmf" ContentType="image/x-wmf"/>
  <Override PartName="/ppt/media/image1.jpeg" ContentType="image/jpeg"/>
  <Override PartName="/ppt/media/image27.gif" ContentType="image/gif"/>
  <Override PartName="/ppt/media/image14.gif" ContentType="image/gif"/>
  <Override PartName="/ppt/media/image17.gif" ContentType="image/gif"/>
  <Override PartName="/ppt/media/image18.wmf" ContentType="image/x-wmf"/>
  <Override PartName="/ppt/media/image2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png" ContentType="image/png"/>
  <Override PartName="/ppt/media/image22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F15-00E0-4F50-9C69-336FEB42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87F-9668-478F-812D-43300FE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E0A-E7FC-419E-9720-2E85B4E7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684-B522-4D2B-9D34-5FE7115F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F58-5454-45BB-8F64-9790ADCA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547-DDA2-4B46-BD06-DE7AD33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BA0-1BEB-4CE2-A151-F170F86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E33-F23F-4327-B585-A5F66CF5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42E-13AB-4B63-A6D1-525A308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2BA-D0FB-48A2-9CA5-124CB67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A85-4C62-424D-9764-C9E9D15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0C6-0025-42B0-9F7E-1BB1628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576-0676-4C02-BB19-B4464893E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83664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3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130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68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54936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500280"/>
            <a:ext cx="8286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(11)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4720" y="1197000"/>
            <a:ext cx="6984720" cy="3024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放飞希望</a:t>
            </a: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沟通无限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13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”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满分：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三：语文、数学、外语（各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历史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地理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—百日誓师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广东省省一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中旬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考前心理调整。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7440" y="486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6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在思想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27160" y="333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6720" y="44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合理安排饮食，注意补充营养关心照顾，身体是革命的本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醒孩子注意安全（交通安全、运动安全、饮食安全等），保证学生按时作息，不要因晚上学习时间过长或看电视无度、睡眠不足影响第二天学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抓好子女在家的行为习惯。如良好的休息、科学的安排学习、适量的家务劳动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33360"/>
            <a:ext cx="8569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长能够教育孩子在上课时专心听老师讲课，不懂就是不懂，要虚心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“认真”二字。少做最好不做与学习无关的事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社会需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各种各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能力，任何一个学生都能在社会上立足，并且成就一番事业。科学的分析子女的成绩档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与其他同学作比较，而是着眼于自身的比较。比较前后几次考试，看是否退步，原因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7340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高三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(11)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50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52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63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7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2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8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8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08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56000" y="5518080"/>
            <a:ext cx="38448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USER</cp:lastModifiedBy>
  <dcterms:modified xsi:type="dcterms:W3CDTF">2013-01-25T08:43:48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