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756-E272-415C-9DCD-C63D4FE2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0C9-CB9C-491C-B6D4-308AAE7B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F01-2CC8-4648-B2C2-754C1DF3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F8A-8010-4346-888E-04238C33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112-4584-47ED-A7FA-089A5D4C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941-7AF7-4866-B083-F448EFB5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758-C020-4229-80DF-B230A89D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D6D-3037-4A7C-A55C-E95F2CA5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647-20E5-481D-BB9E-1AB4EF44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15B-575E-4C32-95C8-D997D28C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A326-0CE5-4518-96CA-ABB86531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EACE-3AE5-452F-A03D-009240EC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FD90-F130-48B2-BBE9-266ADD85C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Arial"/>
              </a:rPr>
              <a:t>复活节活动流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复活节活动策划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1911240"/>
            <a:ext cx="841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游戏六手工活动涂彩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手工活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涂彩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—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兔子讲找回来的彩蛋分发给孩子们，请孩子和爸爸妈妈一起在涂彩蛋。（主持人可以在这个时候介绍有关复活节的相关知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活动准备：颜料，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游戏八送蛋幸福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送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幸福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—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持人进行介绍，请爸爸妈妈帮助孩子弄碎我们发下去的鸡蛋，吃掉。期望新的春天，幸福平安快乐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持人做总结。活动结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准备材料：彩蛋，颜料，画笔，垃圾袋，小贴纸，小礼物，兔子舞音乐，剪好的兔子耳朵形粉纸，纸盘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0" y="333360"/>
            <a:ext cx="3457440" cy="18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谢谢观看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5" name=""/>
          <p:cNvSpPr/>
          <p:nvPr/>
        </p:nvSpPr>
        <p:spPr>
          <a:xfrm>
            <a:off x="396720" y="5877000"/>
            <a:ext cx="72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祝大家复活节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复活节活动安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动时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日下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0-5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动主题： 快乐复活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邀约对象：在校学生及家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时大力邀请非本校的学生及家长参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开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持人出场，介绍。引出故事，小兔子出场。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天来了，天气一天天的暖和起来，可爱的小兔子高兴的走出了家门，“天气真好，我可以和我的小伙伴一起玩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小伙伴们，你们愿意和我一起玩吗？”答“愿意”“那现在我们就来热身一下，准备一会儿一起变成活泼可爱的小兔子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场一起互动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f your`re happ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游戏一手工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手工活动—《变身。小兔子》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—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三个一组自由组合（ 一个扮演兔妈妈，一个扮演兔宝宝 ，一个扮演兔爸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和宝宝一起动手，制作小兔子头饰。（妈妈制作可以戴的兔子耳朵，宝宝自己动手在纸盘子上画出小兔子的五官，粘贴兔子耳朵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活动准备：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纸盘子，彩笔，减好的兔子耳朵形粉色彩纸，胶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游戏二兔子妈妈找宝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游戏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兔子妈妈找宝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—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站在袋子里面，跳到对面去找宝宝，宝宝随便站，不要站在妈妈的正对面，妈妈找到宝宝后，把宝宝装到“袋子”里面，再跳回原来的位置上。哪组快，哪组获胜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一起进行游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活动准备：黑色垃圾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。天才宝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-shirt 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。奖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游戏三兔子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游戏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兔子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—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   游戏结束后，播放音乐，请一家三口人站好。一起来跳兔子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19280" y="407664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准备：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兔子舞音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游戏四兔子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游戏四《兔子蹲》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—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所有的朋友分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队，如：红兔子队，黄兔子队，蓝兔子队。根据主持人的口令提示，进行游戏。例如：红兔子蹲红兔子蹲，红兔子蹲完蓝兔子蹲……。也可以换成跳、拍手等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游戏五找彩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游戏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找彩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—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玩了这么半天，小兔子差点忘记了，他还给我们小朋友带来了又去的礼物呢！“咦？我的礼物哪去了？呀！礼物袋子坏了，我的礼物应该是散落在那边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*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了，小朋友们，快帮我找回来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孩子和爸爸妈妈，一起到指定位置去找彩蛋。找到后，拿彩蛋，到报名处换小礼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活动准备：彩蛋，小贴纸，破掉的袋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cp:keywords/>
  <dc:language>en-US</dc:language>
  <cp:lastModifiedBy>admin</cp:lastModifiedBy>
  <dcterms:modified xsi:type="dcterms:W3CDTF">2015-03-28T02:10:29Z</dcterms:modified>
  <cp:revision>4</cp:revision>
  <dc:subject/>
  <dc:title>复活节活动流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