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990-C5CE-4D7C-AC0A-B0848B22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687-1041-4CDF-83DD-CA150EC5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D8B-4BF3-4171-B950-5522D52C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162-ADBD-4255-90F7-86590686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537-887B-4082-960A-4438A189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FDAA-38E9-4E07-82D5-3424EC1F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CB7A-C316-4B7F-92DA-C6A9ECE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E1AB-A9E4-4EE2-9536-3AD6952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322C-BCE3-42F2-8664-C22BACEC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5A9B-5D46-4290-8879-DB842BA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104-7610-4F34-8607-80B1FDB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32B-E9B4-4036-B731-3FCA6A2B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66E3-CB10-4FC6-9675-75698F4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3E25-6835-4A71-828B-42BC13E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AC0A-0B8C-418B-B05C-3B4C9CC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CD40-01E7-48B3-B611-28C22A99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6536-5676-4D22-9669-39E9EAEB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05B1-754C-4A76-BFC8-DFCEE558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7273-7079-4C1C-B8F2-BEA9A991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67AF-92C7-44DA-A0EF-DEFCBE63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327E-1AE1-455D-9EB5-97D9F18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EE22-E61F-49A1-8467-8C7702F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CF5-2A90-4E6E-9695-7376775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C780-5C3F-47B9-82A2-F9DA8396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CC67-D083-41A0-A462-19C554D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C575-37DA-4C0C-ADE8-0408EA0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7644-13F6-45F5-9D18-5AC7EB7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7183-A575-41FC-AB70-8A144C0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24E9-1A82-46B9-9484-D1F25708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0277-7A54-4175-B5C0-6C54B838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F22B-7319-4FBA-9AA0-9BFCE2FA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F62FC-6D20-482B-96DF-B2F74B4A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0AB5-3588-4FED-8EBD-C2EAF8F6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908-3D8A-40B7-83A3-E884CB17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EEBB-74B8-45F7-8DC3-1C465829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F671-42EA-4D07-86FC-E891DAE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47CE-E871-4067-B916-68D5FDB8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9C52-01B3-4AAE-A6CD-9C6720A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9D92-2F01-4D87-A6F8-C2997555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3883-B977-468C-8C1E-7D7B1814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58CB-2BD3-438F-B0CA-CB45C904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7DB0-1ABA-4953-9EC5-F030C8C3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1527-C01C-4FDF-91E5-3286A0DC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4488-02E0-4708-B79A-5025F8C6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436-6463-417A-8D00-547AF19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80F0-9CB2-41C6-ADB9-3898E23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1D3D-945F-42FD-AE41-4343E75D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58F56-3B29-4038-A883-F63A596D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77951-5425-4B5D-B2A6-0661C0C5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B1C5-459E-46C6-B97C-352A948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C4401-3632-408A-8718-738391E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98C10-3CFE-4E04-BB0F-D33CD8BE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20F0F-E268-403B-B8A7-1D33253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D092-5A88-40D2-8796-56700CED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4CF9-69B9-4EBE-A6F1-D76DC75A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BBD-8F79-4867-A10F-D386A35A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DE39-AC6A-497F-9330-DC0B312E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E785-D28B-4AD4-9DA5-9FC6C768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D78A0-2762-4F43-8B8D-F600DD8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1271-C73D-4543-998D-C4F64B70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D349A-B2C1-4D2A-9EFE-110C4F2B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B4D7-17DC-454C-BF82-94B76A2C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5731-E753-42C2-BEF2-821AC387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7632-46D4-404B-B2E9-02CD0D0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ED79-2C28-435B-908B-FE6DA11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BCB6-2E92-49F4-ABB5-9E38270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D88-A0EF-4D6F-BA2B-428BB37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F0E3-0971-4543-A6D1-571816D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FAC6F-E5EE-4B5E-9BA1-2A3DFC74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B9B27-E854-47ED-AB54-B0A45F30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824-FF03-4974-9E3C-D9E09B0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B7A-1096-4D96-8BCD-BC8EA99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1948-E99B-46E2-BC03-64BFC4FFFC6D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1946-7056-4036-80C7-33CC541FABE1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3F92-05BE-4DCB-892C-A23D0B00BC49}" type="slidenum">
              <a:rPr b="0" lang="en-US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5A6F-0524-447F-A7B7-9D4F93643524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4115-5259-42B8-A8EB-D9805D398BD8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7B2-C0FE-4C33-8476-BA2581260C12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fofireworks.com/NewsDetails.asp?Id=5152" TargetMode="External"/><Relationship Id="rId2" Type="http://schemas.openxmlformats.org/officeDocument/2006/relationships/hyperlink" Target="http://www.infofireworks.com/NewsDetails.asp?Id=5152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infofireworks.com/NewsDetails.asp?Id=5153" TargetMode="External"/><Relationship Id="rId5" Type="http://schemas.openxmlformats.org/officeDocument/2006/relationships/hyperlink" Target="http://www.infofireworks.com/NewsDetails.asp?Id=5153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infofireworks.com/NewsDetails.asp?Id=5157" TargetMode="External"/><Relationship Id="rId8" Type="http://schemas.openxmlformats.org/officeDocument/2006/relationships/hyperlink" Target="http://www.infofireworks.com/NewsDetails.asp?Id=5157" TargetMode="External"/><Relationship Id="rId9" Type="http://schemas.openxmlformats.org/officeDocument/2006/relationships/hyperlink" Target="http://www.infofireworks.com/NewsDetails.asp?Id=5157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infofireworks.com/NewsDetails.asp?Id=5155" TargetMode="External"/><Relationship Id="rId12" Type="http://schemas.openxmlformats.org/officeDocument/2006/relationships/hyperlink" Target="http://www.infofireworks.com/NewsDetails.asp?Id=5155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681120" y="-452520"/>
            <a:ext cx="9825120" cy="7310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13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914400"/>
            <a:ext cx="60962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滋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 </a:t>
            </a:r>
            <a:r>
              <a:rPr b="0" lang="zh-CN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做一件事如果只是应付、只是完成任务，当然不会品尝到其中的滋味，更不会品味到其中的乐趣</a:t>
            </a: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!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31760" y="1189080"/>
            <a:ext cx="8880480" cy="4343400"/>
            <a:chOff x="131760" y="1189080"/>
            <a:chExt cx="8880480" cy="4343400"/>
          </a:xfrm>
        </p:grpSpPr>
        <p:sp>
          <p:nvSpPr>
            <p:cNvPr id="314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27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16" name="" descr="500×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31760" y="835200"/>
            <a:ext cx="8880480" cy="5029200"/>
            <a:chOff x="131760" y="835200"/>
            <a:chExt cx="8880480" cy="5029200"/>
          </a:xfrm>
        </p:grpSpPr>
        <p:sp>
          <p:nvSpPr>
            <p:cNvPr id="318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324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20" name="" descr="760×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2520" y="3056040"/>
            <a:ext cx="8778960" cy="747720"/>
            <a:chOff x="182520" y="3056040"/>
            <a:chExt cx="8778960" cy="747720"/>
          </a:xfrm>
        </p:grpSpPr>
        <p:sp>
          <p:nvSpPr>
            <p:cNvPr id="322" name=""/>
            <p:cNvSpPr/>
            <p:nvPr/>
          </p:nvSpPr>
          <p:spPr>
            <a:xfrm>
              <a:off x="182520" y="305604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82520" y="3056040"/>
              <a:ext cx="8778960" cy="747720"/>
              <a:chOff x="182520" y="3056040"/>
              <a:chExt cx="8778960" cy="74772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520" y="305604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82520" y="3056040"/>
                <a:ext cx="8778960" cy="747720"/>
                <a:chOff x="182520" y="3056040"/>
                <a:chExt cx="8778960" cy="747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961120" y="3056040"/>
            <a:ext cx="182520" cy="747720"/>
            <a:chOff x="8961120" y="3056040"/>
            <a:chExt cx="182520" cy="747720"/>
          </a:xfrm>
        </p:grpSpPr>
        <p:sp>
          <p:nvSpPr>
            <p:cNvPr id="330" name=""/>
            <p:cNvSpPr/>
            <p:nvPr/>
          </p:nvSpPr>
          <p:spPr>
            <a:xfrm flipH="1">
              <a:off x="8993160" y="3056040"/>
              <a:ext cx="150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961120" y="3056040"/>
              <a:ext cx="182520" cy="747720"/>
              <a:chOff x="8961120" y="3056040"/>
              <a:chExt cx="182520" cy="7477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9094680" y="305604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8961120" y="3056040"/>
                <a:ext cx="182520" cy="747720"/>
                <a:chOff x="8961120" y="3056040"/>
                <a:chExt cx="182520" cy="7477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4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9448560" y="3048120"/>
            <a:ext cx="152280" cy="747720"/>
            <a:chOff x="9448560" y="3048120"/>
            <a:chExt cx="152280" cy="747720"/>
          </a:xfrm>
        </p:grpSpPr>
        <p:sp>
          <p:nvSpPr>
            <p:cNvPr id="338" name=""/>
            <p:cNvSpPr/>
            <p:nvPr/>
          </p:nvSpPr>
          <p:spPr>
            <a:xfrm flipH="1">
              <a:off x="9474840" y="304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448560" y="3048120"/>
              <a:ext cx="152280" cy="747720"/>
              <a:chOff x="9448560" y="3048120"/>
              <a:chExt cx="152280" cy="7477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9559800" y="3048120"/>
                <a:ext cx="40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9448560" y="3048120"/>
                <a:ext cx="152280" cy="747720"/>
                <a:chOff x="9448560" y="3048120"/>
                <a:chExt cx="152280" cy="74772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7"/>
                    </a:rPr>
                    <a:t>  </a:t>
                  </a: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8"/>
                    </a:rPr>
                    <a:t>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45561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524880" y="4343400"/>
            <a:ext cx="8778960" cy="747720"/>
            <a:chOff x="9524880" y="4343400"/>
            <a:chExt cx="8778960" cy="747720"/>
          </a:xfrm>
        </p:grpSpPr>
        <p:sp>
          <p:nvSpPr>
            <p:cNvPr id="346" name=""/>
            <p:cNvSpPr/>
            <p:nvPr/>
          </p:nvSpPr>
          <p:spPr>
            <a:xfrm>
              <a:off x="9524880" y="434340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524880" y="4343400"/>
              <a:ext cx="8778960" cy="747720"/>
              <a:chOff x="9524880" y="4343400"/>
              <a:chExt cx="8778960" cy="74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9524880" y="434340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524880" y="4343400"/>
                <a:ext cx="8778960" cy="747720"/>
                <a:chOff x="9524880" y="4343400"/>
                <a:chExt cx="8778960" cy="747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除夕放烟花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9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 </a:t>
            </a:r>
            <a:r>
              <a:rPr b="0" lang="zh-CN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放烟花是很平常的事，为什么作者会觉得那么有滋有味呢？你能找出具体语句说说他品尝到了哪些滋味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3276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华文新魏"/>
              </a:rPr>
              <a:t>买烟花时的犹豫不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98640" y="393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买到烟花时兴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00160" y="4572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a7f32"/>
                </a:solidFill>
                <a:latin typeface="Arial"/>
                <a:ea typeface="华文新魏"/>
              </a:rPr>
              <a:t>等着放烟花时焦急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530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Arial"/>
                <a:ea typeface="华文新魏"/>
              </a:rPr>
              <a:t>放烟花时欢乐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3789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16200" y="10808"/>
                  <a:pt x="21600" y="10808"/>
                </a:cubicBezTo>
                <a:cubicBezTo>
                  <a:pt x="162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46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难忘的滋味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6093000"/>
            <a:ext cx="544320" cy="485640"/>
          </a:xfrm>
          <a:prstGeom prst="leftArrow">
            <a:avLst>
              <a:gd name="adj1" fmla="val 50000"/>
              <a:gd name="adj2" fmla="val 2802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生活中有没有类似“吃到了盼望以久的某种好东西，却发现自己对此毫无感觉”的事呢？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260280"/>
            <a:ext cx="4392720" cy="1152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一    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220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是怎样焦急地等待放烟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最能引起你共鸣的语句，体会作者的感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4720" y="3141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根据文中的相关语句，想象我放烟花的动作、神态，体会我的心理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909720"/>
            <a:ext cx="6696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③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副词的特殊作用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47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可惜”——“终于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6920" y="4166280"/>
            <a:ext cx="38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899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终于”写出了度日如年的心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　　　突然得以释放的兴奋</a:t>
            </a:r>
            <a:r>
              <a:rPr b="0" lang="zh-CN" sz="3200" spc="-1" strike="noStrike">
                <a:solidFill>
                  <a:srgbClr val="402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18920" y="909360"/>
            <a:ext cx="5954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④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天真幼稚的内心世界。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  “</a:t>
            </a: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我下决心……让他们大吃一惊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恨不得马上把它点着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整天心神不定，魂不守舍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总算熬到……，草草吃几口，……溜……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甚至觉得天已经快要亮了。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总 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品味到生活的滋味，关键在于：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方正隶书简体"/>
              </a:rPr>
              <a:t>关注过程，细心体验。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8000" y="836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</a:rPr>
              <a:t>张抗抗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62864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当代女作家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浙江杭州人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5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生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3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考入杭州一中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9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中学毕业后在农场劳动八年，当过农工，工人，通讯员，创作员等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72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发表第一篇短篇小说《灯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75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版长篇小说《分界线》，作品《夏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8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获全国优秀短篇小说奖。《淡淡的晨雾》获第一届全国优秀中篇小说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她具有良好的艺术感觉和艺术素至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。她以女性的温柔和细腻探索青年一代的追求与痛苦，揭示人的心灵，作品中洋溢着青春的朝气和纯洁的诗意；她的作品还包含着更多的理性思考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984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1701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、朦胧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”是指“眼睛看东西模糊”。因此，表示“视物不清”一类意思的词语中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ménglóng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，应当写成“蒙眬”。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朦胧”是指客观景物、语言表达的意思，或者人的主观意识“模糊”、“不清楚”。因此，在汉语中说到暮色、月色等客观景物模糊，话语等表达的意思不清晰以及主观意识不清楚的时候，都要用“朦胧”。例如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1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在朦胧的暮色中，他回到家里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2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街上月色朦胧，他匆匆赶路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字  词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2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半夜吃杨梅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437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除夕放烟花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9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方正行楷简体"/>
              </a:rPr>
              <a:t>没有吃出滋味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4292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高兴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4120" y="170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文章写了哪几件事？各有什么感觉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读  一   读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0000" y="54936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br>
              <a:rPr sz="3600"/>
            </a:br>
            <a:endParaRPr b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1917720"/>
            <a:ext cx="7913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  </a:t>
            </a: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杨梅是我最喜欢吃的，为什么作者却感觉毫无滋味？文章有没有语句写出他没有尝到什么滋味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是差不多被</a:t>
            </a:r>
            <a:r>
              <a:rPr b="0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爸爸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抱起来放在椅子上的……还在打着瞌睡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舌头是硬的，牙齿是木的，嘴巴机械的蠕动着咀嚼着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喉咙也好象堵塞了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0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我仍然十分努力的吃着杨梅……如果放到明天就变味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6530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大家齐心协力</a:t>
            </a:r>
            <a:r>
              <a:rPr b="0" lang="en-US" sz="2400" spc="-1" strike="noStrike">
                <a:solidFill>
                  <a:srgbClr val="009999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终于把杨梅吃光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5373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--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把吃杨梅变成完成任务，当然没有滋味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8080" y="3070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不清醒，没有尝出什么滋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"/>
          <p:cNvSpPr/>
          <p:nvPr/>
        </p:nvSpPr>
        <p:spPr>
          <a:xfrm>
            <a:off x="973080" y="2349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怎样吃杨梅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相关语句，品读重点词句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7180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表达我感悟的句子，理解做者的感悟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师生共同探究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5986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2720" y="2053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形容词作动词用，写出从一个孩子的眼中看出杨梅逐渐变少的动态。 很形象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296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滚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78000" y="363744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快地从脑海中闪过去的意思。这个词一方面与前文“一个个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又圆又大，红里透黑”的外形特点一致，另一方面也形象地表明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对头天吃过这样的杨梅，一下子记起来了，但又实在没有很深的印象。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841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33160" y="565992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突出了我焦急等待的心情以及大家也急于看放烟花的心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“亮”起来，表明在“我”看来，大家也和我一样欣喜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并且都关切地盯着烟花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72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塞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40920" y="270072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往嘴里放、填，而没有咀嚼、品味的过程，很形象地描绘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当时在半睡半醒、睡眼迷蒙的状态下，想吃又实在睁不开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的吃相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37840" y="46454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高高地擎着。是高兴，仿佛要让所有的人都看到，也是因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爱民，怕不小心碰到什么弄坏了，作者用这个词，充分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传达出“我”内心抑制不住的兴奋、狂喜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0360" y="580536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17080" y="14119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动词的妙用。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761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比的鲜明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没吃到杨梅写杨梅的诱人。　　吃杨梅时的贪婪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吃完杨梅后的无味感觉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9:29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