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C61-DC2B-4848-BD92-DAF611A8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297-8F98-43E0-A070-DD23E6A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62F-0807-4706-82AA-610C4941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71F-F373-4AF9-886E-6A64F627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4476-6D33-4B57-A8F7-C2B8731D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A701-7B3C-428E-BEDB-17C9B811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7C40-8F35-4A16-AAB1-25CD860A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F756-8D82-42C3-AA3B-49485231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8B76-E568-4159-B52F-2C1563DA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B6F1-2997-42DA-9F67-338344B2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C4D6-3377-4181-A879-F05EDF90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503-D8C1-4825-935B-72F5D7F4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E619-245A-4728-8D77-E20AA0C6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6FE7-ACC7-4D98-B859-C5592EB8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BA17-AE28-4046-90BC-8D6A3E36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AF9B-7396-4798-84F0-381D3604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7ED1-64FD-4598-915E-EFC5FC22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3ECF-437B-4658-9705-31404D4A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E9FC-4C41-4DAB-B361-5E05AC37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CAAA-75E5-4E6D-8253-06557BC3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1D42E-DFA0-47CF-8783-F439F17D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94B9-C1F0-4BE4-A2E3-6CD6670D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5A9-FDBF-4C42-8B14-EF9C435E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58B5F-997B-4BB6-895F-D9629226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ECE4-CA41-41FB-A57E-D9BDBBE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8375-5DAF-4D42-87E2-587078AF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09B4-5D92-4BFF-9236-9B3439DD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B08E-B0C1-4125-A771-7CBBDB36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EDD63-F80A-4A2C-ABC0-6A26F584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3551-434D-44C2-B819-720BA3A5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2360-9970-4BD3-AECB-04B63B12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C08D-BEAD-400B-9E15-EBB3694F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54E1-F6BD-4D80-9E22-78B9E6E5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498-FC2A-48AD-9CDB-E30600CC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585FA-058D-40CB-9930-B8371EF8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771F-F472-46C6-B850-EB479285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5583-DC24-4F8B-A40C-72E5A5E9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414C-C74B-4542-8FB8-318C2F2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960BC-A666-42F3-97BA-73CEF50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ED36-DA55-4402-B38A-75798D5A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F200-8960-43D7-8DB8-9A26C7A8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D7CF-2BCA-45B8-805B-323650D8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4E1A-DA73-40F8-BE26-9873CD78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D340D-583E-4B37-B33E-0EE240DB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5C7-3CBB-4BA5-B67A-1BFF32B7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B137-4028-4811-9653-561ADF92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530F0-B6E4-4EB7-AB48-6A7CACB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69A42-98B4-48A9-BEE7-4F83B5D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0DA39-08C8-4512-836D-6F96549D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3C7B0-926F-47AF-8AD3-3EDA0DED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A5C36-8EEB-46C8-865F-C254FF2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D5CB-7930-451F-A33A-69F79DA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E0948-B48C-48C3-92FE-360F12BB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CC76E-37C2-4B06-8B83-1A02D19B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FF14-2E2B-4987-9572-B7CB19F6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5E3-942E-4663-BB40-CFED885D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68B96-6B1B-4D46-B615-1FC0DAB6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5E430-77DE-41F9-9CC1-28E00474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A0D9-59F5-4A75-BACB-3C6BC107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003F8-AEC4-4730-AC35-917B50EB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0F6F5-5782-46E9-83C8-4BCCB2B8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71674-02C8-47C0-BB5D-B13A7252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8A43F-931B-40AB-ACF6-7547701B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DA3D3-E294-4F6B-AB11-F1D4C913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502B7-7C00-4B61-BD88-5DA5763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49565-3C4F-4114-8FE1-5C16156F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336-C2A6-4752-A785-89D6C11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C24CE-ECED-4A1C-93EB-4718C9CB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FA82-5D8D-485F-8962-805CE6E1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6C496-0245-4534-8318-0CB50028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550-CBD9-4D04-BA3D-D4B17A1A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558-ED7B-42C2-AD4F-E0856A9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E7C1-591B-40BD-9B88-EBFD306ABD17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45D6-6D16-421A-87F0-78694F47F8ED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D756-4932-4181-B1D0-5CB49FC53420}" type="slidenum">
              <a:rPr b="0" lang="en-US" sz="18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847B-F816-40DF-85B7-92012C4123DC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80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DAA5-EE64-4F13-9276-CA53CA685664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25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F121-2C8D-495E-88FC-F1FE39E90771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fofireworks.com/NewsDetails.asp?Id=5152" TargetMode="External"/><Relationship Id="rId2" Type="http://schemas.openxmlformats.org/officeDocument/2006/relationships/hyperlink" Target="http://www.infofireworks.com/NewsDetails.asp?Id=5152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infofireworks.com/NewsDetails.asp?Id=5153" TargetMode="External"/><Relationship Id="rId5" Type="http://schemas.openxmlformats.org/officeDocument/2006/relationships/hyperlink" Target="http://www.infofireworks.com/NewsDetails.asp?Id=5153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infofireworks.com/NewsDetails.asp?Id=5157" TargetMode="External"/><Relationship Id="rId8" Type="http://schemas.openxmlformats.org/officeDocument/2006/relationships/hyperlink" Target="http://www.infofireworks.com/NewsDetails.asp?Id=5157" TargetMode="External"/><Relationship Id="rId9" Type="http://schemas.openxmlformats.org/officeDocument/2006/relationships/hyperlink" Target="http://www.infofireworks.com/NewsDetails.asp?Id=5157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infofireworks.com/NewsDetails.asp?Id=5155" TargetMode="External"/><Relationship Id="rId12" Type="http://schemas.openxmlformats.org/officeDocument/2006/relationships/hyperlink" Target="http://www.infofireworks.com/NewsDetails.asp?Id=5155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681120" y="-452520"/>
            <a:ext cx="9825120" cy="7310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013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914400"/>
            <a:ext cx="60962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滋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小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 </a:t>
            </a:r>
            <a:r>
              <a:rPr b="0" lang="zh-CN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做一件事如果只是应付、只是完成任务，当然不会品尝到其中的滋味，更不会品味到其中的乐趣</a:t>
            </a: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!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31760" y="1189080"/>
            <a:ext cx="8880480" cy="4343400"/>
            <a:chOff x="131760" y="1189080"/>
            <a:chExt cx="8880480" cy="4343400"/>
          </a:xfrm>
        </p:grpSpPr>
        <p:sp>
          <p:nvSpPr>
            <p:cNvPr id="314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27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16" name="" descr="500×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31760" y="835200"/>
            <a:ext cx="8880480" cy="5029200"/>
            <a:chOff x="131760" y="835200"/>
            <a:chExt cx="8880480" cy="5029200"/>
          </a:xfrm>
        </p:grpSpPr>
        <p:sp>
          <p:nvSpPr>
            <p:cNvPr id="318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324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20" name="" descr="760×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82520" y="3056040"/>
            <a:ext cx="8778960" cy="747720"/>
            <a:chOff x="182520" y="3056040"/>
            <a:chExt cx="8778960" cy="747720"/>
          </a:xfrm>
        </p:grpSpPr>
        <p:sp>
          <p:nvSpPr>
            <p:cNvPr id="322" name=""/>
            <p:cNvSpPr/>
            <p:nvPr/>
          </p:nvSpPr>
          <p:spPr>
            <a:xfrm>
              <a:off x="182520" y="305604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82520" y="3056040"/>
              <a:ext cx="8778960" cy="747720"/>
              <a:chOff x="182520" y="3056040"/>
              <a:chExt cx="8778960" cy="74772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520" y="305604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182520" y="3056040"/>
                <a:ext cx="8778960" cy="747720"/>
                <a:chOff x="182520" y="3056040"/>
                <a:chExt cx="8778960" cy="747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961120" y="3056040"/>
            <a:ext cx="182520" cy="747720"/>
            <a:chOff x="8961120" y="3056040"/>
            <a:chExt cx="182520" cy="747720"/>
          </a:xfrm>
        </p:grpSpPr>
        <p:sp>
          <p:nvSpPr>
            <p:cNvPr id="330" name=""/>
            <p:cNvSpPr/>
            <p:nvPr/>
          </p:nvSpPr>
          <p:spPr>
            <a:xfrm flipH="1">
              <a:off x="8993160" y="3056040"/>
              <a:ext cx="150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8961120" y="3056040"/>
              <a:ext cx="182520" cy="747720"/>
              <a:chOff x="8961120" y="3056040"/>
              <a:chExt cx="182520" cy="7477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9094680" y="3056040"/>
                <a:ext cx="48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8961120" y="3056040"/>
                <a:ext cx="182520" cy="747720"/>
                <a:chOff x="8961120" y="3056040"/>
                <a:chExt cx="182520" cy="74772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4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9448560" y="3048120"/>
            <a:ext cx="152280" cy="747720"/>
            <a:chOff x="9448560" y="3048120"/>
            <a:chExt cx="152280" cy="747720"/>
          </a:xfrm>
        </p:grpSpPr>
        <p:sp>
          <p:nvSpPr>
            <p:cNvPr id="338" name=""/>
            <p:cNvSpPr/>
            <p:nvPr/>
          </p:nvSpPr>
          <p:spPr>
            <a:xfrm flipH="1">
              <a:off x="9474840" y="30481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448560" y="3048120"/>
              <a:ext cx="152280" cy="747720"/>
              <a:chOff x="9448560" y="3048120"/>
              <a:chExt cx="152280" cy="7477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9559800" y="3048120"/>
                <a:ext cx="406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9448560" y="3048120"/>
                <a:ext cx="152280" cy="747720"/>
                <a:chOff x="9448560" y="3048120"/>
                <a:chExt cx="152280" cy="747720"/>
              </a:xfrm>
            </p:grpSpPr>
            <p:sp>
              <p:nvSpPr>
                <p:cNvPr id="342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7"/>
                    </a:rPr>
                    <a:t>  </a:t>
                  </a: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8"/>
                    </a:rPr>
                    <a:t>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455616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9524880" y="4343400"/>
            <a:ext cx="8778960" cy="747720"/>
            <a:chOff x="9524880" y="4343400"/>
            <a:chExt cx="8778960" cy="747720"/>
          </a:xfrm>
        </p:grpSpPr>
        <p:sp>
          <p:nvSpPr>
            <p:cNvPr id="346" name=""/>
            <p:cNvSpPr/>
            <p:nvPr/>
          </p:nvSpPr>
          <p:spPr>
            <a:xfrm>
              <a:off x="9524880" y="434340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524880" y="4343400"/>
              <a:ext cx="8778960" cy="747720"/>
              <a:chOff x="9524880" y="4343400"/>
              <a:chExt cx="8778960" cy="74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9524880" y="434340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9524880" y="4343400"/>
                <a:ext cx="8778960" cy="747720"/>
                <a:chOff x="9524880" y="4343400"/>
                <a:chExt cx="8778960" cy="747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除夕放烟花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9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 </a:t>
            </a:r>
            <a:r>
              <a:rPr b="0" lang="zh-CN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放烟花是很平常的事，为什么作者会觉得那么有滋有味呢？你能找出具体语句说说他品尝到了哪些滋味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1680" y="3276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华文新魏"/>
              </a:rPr>
              <a:t>买烟花时的犹豫不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98640" y="3933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买到烟花时兴奋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00160" y="4572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a7f32"/>
                </a:solidFill>
                <a:latin typeface="Arial"/>
                <a:ea typeface="华文新魏"/>
              </a:rPr>
              <a:t>等着放烟花时焦急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7120" y="530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Arial"/>
                <a:ea typeface="华文新魏"/>
              </a:rPr>
              <a:t>放烟花时欢乐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24360" y="378936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16200" y="10808"/>
                  <a:pt x="21600" y="10808"/>
                </a:cubicBezTo>
                <a:cubicBezTo>
                  <a:pt x="162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24640" y="4292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难忘的滋味</a:t>
            </a:r>
            <a:endParaRPr b="0" lang="en-US" sz="4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6093000"/>
            <a:ext cx="544320" cy="485640"/>
          </a:xfrm>
          <a:prstGeom prst="leftArrow">
            <a:avLst>
              <a:gd name="adj1" fmla="val 50000"/>
              <a:gd name="adj2" fmla="val 2802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     </a:t>
            </a:r>
            <a:r>
              <a:rPr b="0" lang="zh-CN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你生活中有没有类似“吃到了盼望以久的某种好东西，却发现自己对此毫无感觉”的事呢？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260280"/>
            <a:ext cx="4392720" cy="1152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想   一    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71640" y="220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是怎样焦急地等待放烟花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最能引起你共鸣的语句，体会作者的感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44720" y="3141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根据文中的相关语句，想象我放烟花的动作、神态，体会我的心理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909720"/>
            <a:ext cx="6696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③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副词的特殊作用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447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可惜”——“终于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6920" y="4166280"/>
            <a:ext cx="38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899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终于”写出了度日如年的心情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　　　突然得以释放的兴奋</a:t>
            </a:r>
            <a:r>
              <a:rPr b="0" lang="zh-CN" sz="3200" spc="-1" strike="noStrike">
                <a:solidFill>
                  <a:srgbClr val="402000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18920" y="909360"/>
            <a:ext cx="5954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④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天真幼稚的内心世界。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  “</a:t>
            </a: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我下决心……让他们大吃一惊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恨不得马上把它点着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整天心神不定，魂不守舍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总算熬到……，草草吃几口，……溜……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甚至觉得天已经快要亮了。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”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总 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388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品味到生活的滋味，关键在于：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方正隶书简体"/>
              </a:rPr>
              <a:t>关注过程，细心体验。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08000" y="836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Arial"/>
              </a:rPr>
              <a:t>张抗抗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62864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当代女作家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浙江杭州人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5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生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3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考入杭州一中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9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中学毕业后在农场劳动八年，当过农工，工人，通讯员，创作员等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72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发表第一篇短篇小说《灯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75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版长篇小说《分界线》，作品《夏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8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获全国优秀短篇小说奖。《淡淡的晨雾》获第一届全国优秀中篇小说奖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她具有良好的艺术感觉和艺术素至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。她以女性的温柔和细腻探索青年一代的追求与痛苦，揭示人的心灵，作品中洋溢着青春的朝气和纯洁的诗意；她的作品还包含着更多的理性思考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984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6160" y="170172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、朦胧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”是指“眼睛看东西模糊”。因此，表示“视物不清”一类意思的词语中的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ménglóng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，应当写成“蒙眬”。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朦胧”是指客观景物、语言表达的意思，或者人的主观意识“模糊”、“不清楚”。因此，在汉语中说到暮色、月色等客观景物模糊，话语等表达的意思不清晰以及主观意识不清楚的时候，都要用“朦胧”。例如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1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在朦胧的暮色中，他回到家里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2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街上月色朦胧，他匆匆赶路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字  词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92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半夜吃杨梅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437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除夕放烟花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299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Arial"/>
                <a:ea typeface="方正行楷简体"/>
              </a:rPr>
              <a:t>没有吃出滋味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4292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高兴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24120" y="170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文章写了哪几件事？各有什么感觉？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读  一   读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0000" y="54936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br>
              <a:rPr sz="3600"/>
            </a:br>
            <a:endParaRPr b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9640" y="1917720"/>
            <a:ext cx="79138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  </a:t>
            </a: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杨梅是我最喜欢吃的，为什么作者却感觉毫无滋味？文章有没有语句写出他没有尝到什么滋味？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是差不多被</a:t>
            </a:r>
            <a:r>
              <a:rPr b="0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爸爸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抱起来放在椅子上的……还在打着瞌睡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舌头是硬的，牙齿是木的，嘴巴机械的蠕动着咀嚼着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喉咙也好象堵塞了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40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我仍然十分努力的吃着杨梅……如果放到明天就变味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465300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大家齐心协力</a:t>
            </a:r>
            <a:r>
              <a:rPr b="0" lang="en-US" sz="2400" spc="-1" strike="noStrike">
                <a:solidFill>
                  <a:srgbClr val="009999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终于把杨梅吃光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5373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--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把吃杨梅变成完成任务，当然没有滋味！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8080" y="3070080"/>
            <a:ext cx="34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--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不清醒，没有尝出什么滋味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5" name=""/>
          <p:cNvSpPr/>
          <p:nvPr/>
        </p:nvSpPr>
        <p:spPr>
          <a:xfrm>
            <a:off x="973080" y="2349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怎样吃杨梅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相关语句，品读重点词句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37180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表达我感悟的句子，理解做者的感悟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师生共同探究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5986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2720" y="20534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形容词作动词用，写出从一个孩子的眼中看出杨梅逐渐变少的动态。 很形象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7296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滚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78000" y="363744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快地从脑海中闪过去的意思。这个词一方面与前文“一个个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又圆又大，红里透黑”的外形特点一致，另一方面也形象地表明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对头天吃过这样的杨梅，一下子记起来了，但又实在没有很深的印象。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0360" y="484164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举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33160" y="565992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突出了我焦急等待的心情以及大家也急于看放烟花的心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“亮”起来，表明在“我”看来，大家也和我一样欣喜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并且都关切地盯着烟花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729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塞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40920" y="2700720"/>
            <a:ext cx="4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往嘴里放、填，而没有咀嚼、品味的过程，很形象地描绘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当时在半睡半醒、睡眼迷蒙的状态下，想吃又实在睁不开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的吃相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37840" y="46454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高高地擎着。是高兴，仿佛要让所有的人都看到，也是因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爱民，怕不小心碰到什么弄坏了，作者用这个词，充分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传达出“我”内心抑制不住的兴奋、狂喜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60360" y="580536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17080" y="14119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动词的妙用。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57610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②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对比的鲜明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没吃到杨梅写杨梅的诱人。　　吃杨梅时的贪婪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吃完杨梅后的无味感觉。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9:29:2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