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4BD-0662-4352-B545-CD2267EC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E3E-FDC6-4009-BED6-8D166EAD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487-91DC-4BDA-B538-A9C96FFC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D59-88C5-4156-8CEC-756B70B3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1D93-A084-470A-8BE1-49539117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8AD0-D7DF-4A89-82E7-5B42123A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7045-EAA6-47DA-B4B5-9B4637AF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F474-D53F-4722-9A19-3E36E312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5A40-B89C-4A8B-A791-8B056732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F673-D7D7-499F-BEDE-C45AB25D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060E-8B07-4D47-9953-1A06796B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290-ABFD-404F-A999-B2C77DF3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DFE5-8E8F-4116-8696-5F9BD527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AD87-79AF-4357-9871-A3DEDCEB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9E0A-D820-486F-AE85-BBB8E275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A966-BF9F-47DA-94B4-2235DEE5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BF42-0286-46BA-B322-CB63AE9E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AEFE5-A473-479E-98FF-B2DF5EB7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2A23-4B92-44EA-A0C6-15A2CC4D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F4A15-44D6-49B9-AE56-88ECA682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62C5A-4E13-4F57-9BAB-4320B8E5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ADEB7-DDF7-46A2-B584-E0CB731F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CDA-4074-4860-9B02-1B567EB2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24E27-C61A-4D15-A924-881B6C6A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FCC9C-456E-46B3-BC1F-CF53C7FD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1596A-5551-4EB3-B765-8A296BE7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2F860-9D05-4C6D-B38D-3D4F43D0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FEE9-F41B-4562-91CE-283A6F2D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7471C-B2C1-4C9D-931A-3FA607E6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EE2F3-FCAA-4367-9132-E5FCDB32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3A20F-E5D1-4DB6-A9E2-983AC02F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F2840-27CB-4CAB-94C5-E70BAB88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1629-996F-41F5-BAA9-2E301851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419-58DD-4AE8-8C6A-003975DC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C10AB-EDF0-461B-8FA4-516807B9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CE29D-71A9-418E-A20C-C871CB7A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8BC1-07BE-438A-A4D5-D3202F8A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A5AD-E33D-43A1-A78C-2A951AB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CE61-BD97-452E-A894-A345B226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DA533-94E2-4B2A-87BD-E4B43D82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0A99-AD5F-4801-B861-27C8D7F7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AD5CF-E48D-4DD1-9BD0-4855DA8E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83822-3255-400D-8703-4FE72F79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F5CFC-3589-4751-B5BB-43EC6762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A14-C417-47D9-A0D8-B9239AE9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E223D-5ED7-4E69-A675-45308D66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4DFE6-B281-44BD-B957-9A0FB022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8B835-506A-4AAA-8986-E3298379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DC4D1-8829-497A-86C1-C9FC5382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8991A-F7E9-442A-892C-E9D0F997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0567C-5EAB-48B6-A364-09BCD95D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08771-3D16-4A76-9074-491C6CF3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53375-A737-416C-9399-8ACA0D44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0CA5D-4A81-4D89-9C6C-9656BEED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A0022-6CE7-43ED-A741-A2292E7D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E2A-0D81-4244-9611-6DF6B490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E38F5-8288-49A1-873F-1E0BF4FF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5D60B-8D87-4027-9B95-1F8FCA3E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DEFAA-475A-4099-9C6D-EEA49BAA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0157C-EC6F-4D18-BB1B-C2F1ABB8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3B953-6CCB-4444-AB2C-D104182F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A0A3F-CDB9-48F3-AEA4-1FF33B55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EBE18-21D6-4BE4-877D-7000B6AA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96FC7-19D9-46DE-8B48-6C715C69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7EF08-8869-4D46-8CDD-9C771AEB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DD2C7-45AF-4095-8C06-933F3CE4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69E-922A-4870-B991-AB3F17C1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8EBAA-E9D2-4C51-BDC9-56B24718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9B3BB-90CE-4C93-9279-ACC96D3D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B94AB-B04A-4124-8D74-81088A8E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DE2-FA45-4D5D-9D75-EE6DDF3E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CCD-AADC-4C8F-A933-0ABD40F1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984A-FB42-4860-904A-68D22A962756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40C1-B49E-48D6-86E0-7C84B93ECFAC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E995-19D9-4BEA-9734-04350B8555FC}" type="slidenum">
              <a:rPr b="0" lang="en-US" sz="18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31AF-F6C4-46C8-9C21-C8D86C6BFC55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80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13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14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D55F-2201-4979-A8B4-76AB2AEC9CDD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225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F57B-86D6-4D81-AF9B-2FD663392E53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fofireworks.com/NewsDetails.asp?Id=5152" TargetMode="External"/><Relationship Id="rId2" Type="http://schemas.openxmlformats.org/officeDocument/2006/relationships/hyperlink" Target="http://www.infofireworks.com/NewsDetails.asp?Id=5152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infofireworks.com/NewsDetails.asp?Id=5153" TargetMode="External"/><Relationship Id="rId5" Type="http://schemas.openxmlformats.org/officeDocument/2006/relationships/hyperlink" Target="http://www.infofireworks.com/NewsDetails.asp?Id=5153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infofireworks.com/NewsDetails.asp?Id=5157" TargetMode="External"/><Relationship Id="rId8" Type="http://schemas.openxmlformats.org/officeDocument/2006/relationships/hyperlink" Target="http://www.infofireworks.com/NewsDetails.asp?Id=5157" TargetMode="External"/><Relationship Id="rId9" Type="http://schemas.openxmlformats.org/officeDocument/2006/relationships/hyperlink" Target="http://www.infofireworks.com/NewsDetails.asp?Id=5157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www.infofireworks.com/NewsDetails.asp?Id=5155" TargetMode="External"/><Relationship Id="rId12" Type="http://schemas.openxmlformats.org/officeDocument/2006/relationships/hyperlink" Target="http://www.infofireworks.com/NewsDetails.asp?Id=5155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681120" y="-452520"/>
            <a:ext cx="9825120" cy="7310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013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6680" y="914400"/>
            <a:ext cx="60962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滋味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小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 </a:t>
            </a:r>
            <a:r>
              <a:rPr b="0" lang="zh-CN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做一件事如果只是应付、只是完成任务，当然不会品尝到其中的滋味，更不会品味到其中的乐趣</a:t>
            </a: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!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31760" y="1189080"/>
            <a:ext cx="8880480" cy="4343400"/>
            <a:chOff x="131760" y="1189080"/>
            <a:chExt cx="8880480" cy="4343400"/>
          </a:xfrm>
        </p:grpSpPr>
        <p:sp>
          <p:nvSpPr>
            <p:cNvPr id="314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27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16" name="" descr="500×3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131760" y="835200"/>
            <a:ext cx="8880480" cy="5029200"/>
            <a:chOff x="131760" y="835200"/>
            <a:chExt cx="8880480" cy="5029200"/>
          </a:xfrm>
        </p:grpSpPr>
        <p:sp>
          <p:nvSpPr>
            <p:cNvPr id="318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324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20" name="" descr="760×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182520" y="3056040"/>
            <a:ext cx="8778960" cy="747720"/>
            <a:chOff x="182520" y="3056040"/>
            <a:chExt cx="8778960" cy="747720"/>
          </a:xfrm>
        </p:grpSpPr>
        <p:sp>
          <p:nvSpPr>
            <p:cNvPr id="322" name=""/>
            <p:cNvSpPr/>
            <p:nvPr/>
          </p:nvSpPr>
          <p:spPr>
            <a:xfrm>
              <a:off x="182520" y="305604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182520" y="3056040"/>
              <a:ext cx="8778960" cy="747720"/>
              <a:chOff x="182520" y="3056040"/>
              <a:chExt cx="8778960" cy="74772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520" y="305604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182520" y="3056040"/>
                <a:ext cx="8778960" cy="747720"/>
                <a:chOff x="182520" y="3056040"/>
                <a:chExt cx="8778960" cy="747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3886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961120" y="3056040"/>
            <a:ext cx="182520" cy="747720"/>
            <a:chOff x="8961120" y="3056040"/>
            <a:chExt cx="182520" cy="747720"/>
          </a:xfrm>
        </p:grpSpPr>
        <p:sp>
          <p:nvSpPr>
            <p:cNvPr id="330" name=""/>
            <p:cNvSpPr/>
            <p:nvPr/>
          </p:nvSpPr>
          <p:spPr>
            <a:xfrm flipH="1">
              <a:off x="8993160" y="3056040"/>
              <a:ext cx="150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8961120" y="3056040"/>
              <a:ext cx="182520" cy="747720"/>
              <a:chOff x="8961120" y="3056040"/>
              <a:chExt cx="182520" cy="7477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9094680" y="3056040"/>
                <a:ext cx="48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8961120" y="3056040"/>
                <a:ext cx="182520" cy="747720"/>
                <a:chOff x="8961120" y="3056040"/>
                <a:chExt cx="182520" cy="74772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4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3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9448560" y="3048120"/>
            <a:ext cx="152280" cy="747720"/>
            <a:chOff x="9448560" y="3048120"/>
            <a:chExt cx="152280" cy="747720"/>
          </a:xfrm>
        </p:grpSpPr>
        <p:sp>
          <p:nvSpPr>
            <p:cNvPr id="338" name=""/>
            <p:cNvSpPr/>
            <p:nvPr/>
          </p:nvSpPr>
          <p:spPr>
            <a:xfrm flipH="1">
              <a:off x="9474840" y="304812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9448560" y="3048120"/>
              <a:ext cx="152280" cy="747720"/>
              <a:chOff x="9448560" y="3048120"/>
              <a:chExt cx="152280" cy="7477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9559800" y="3048120"/>
                <a:ext cx="406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9448560" y="3048120"/>
                <a:ext cx="152280" cy="747720"/>
                <a:chOff x="9448560" y="3048120"/>
                <a:chExt cx="152280" cy="747720"/>
              </a:xfrm>
            </p:grpSpPr>
            <p:sp>
              <p:nvSpPr>
                <p:cNvPr id="342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7"/>
                    </a:rPr>
                    <a:t>  </a:t>
                  </a: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8"/>
                    </a:rPr>
                    <a:t>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05320"/>
            <a:ext cx="455616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9524880" y="4343400"/>
            <a:ext cx="8778960" cy="747720"/>
            <a:chOff x="9524880" y="4343400"/>
            <a:chExt cx="8778960" cy="747720"/>
          </a:xfrm>
        </p:grpSpPr>
        <p:sp>
          <p:nvSpPr>
            <p:cNvPr id="346" name=""/>
            <p:cNvSpPr/>
            <p:nvPr/>
          </p:nvSpPr>
          <p:spPr>
            <a:xfrm>
              <a:off x="9524880" y="434340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9524880" y="4343400"/>
              <a:ext cx="8778960" cy="747720"/>
              <a:chOff x="9524880" y="4343400"/>
              <a:chExt cx="8778960" cy="747720"/>
            </a:xfrm>
          </p:grpSpPr>
          <p:sp>
            <p:nvSpPr>
              <p:cNvPr id="348" name=""/>
              <p:cNvSpPr/>
              <p:nvPr/>
            </p:nvSpPr>
            <p:spPr>
              <a:xfrm>
                <a:off x="9524880" y="434340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9524880" y="4343400"/>
                <a:ext cx="8778960" cy="747720"/>
                <a:chOff x="9524880" y="4343400"/>
                <a:chExt cx="8778960" cy="747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5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除夕放烟花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9200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 </a:t>
            </a:r>
            <a:r>
              <a:rPr b="0" lang="zh-CN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放烟花是很平常的事，为什么作者会觉得那么有滋有味呢？你能找出具体语句说说他品尝到了哪些滋味？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01680" y="3276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华文新魏"/>
              </a:rPr>
              <a:t>买烟花时的犹豫不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98640" y="3933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买到烟花时兴奋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00160" y="4572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a7f32"/>
                </a:solidFill>
                <a:latin typeface="Arial"/>
                <a:ea typeface="华文新魏"/>
              </a:rPr>
              <a:t>等着放烟花时焦急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7120" y="530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33"/>
                </a:solidFill>
                <a:latin typeface="Arial"/>
                <a:ea typeface="华文新魏"/>
              </a:rPr>
              <a:t>放烟花时欢乐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24360" y="3789360"/>
            <a:ext cx="216000" cy="2087640"/>
          </a:xfrm>
          <a:custGeom>
            <a:avLst/>
            <a:gdLst>
              <a:gd name="textAreaLeft" fmla="*/ 0 w 216000"/>
              <a:gd name="textAreaRight" fmla="*/ 7812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16200" y="10808"/>
                  <a:pt x="21600" y="10808"/>
                </a:cubicBezTo>
                <a:cubicBezTo>
                  <a:pt x="162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24640" y="4292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难忘的滋味</a:t>
            </a:r>
            <a:endParaRPr b="0" lang="en-US" sz="4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56720" y="6093000"/>
            <a:ext cx="544320" cy="485640"/>
          </a:xfrm>
          <a:prstGeom prst="leftArrow">
            <a:avLst>
              <a:gd name="adj1" fmla="val 50000"/>
              <a:gd name="adj2" fmla="val 28021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       </a:t>
            </a:r>
            <a:r>
              <a:rPr b="0" lang="zh-CN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你生活中有没有类似“吃到了盼望以久的某种好东西，却发现自己对此毫无感觉”的事呢？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260280"/>
            <a:ext cx="4392720" cy="1152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想   一    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71640" y="220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是怎样焦急地等待放烟花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最能引起你共鸣的语句，体会作者的感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44720" y="31417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根据文中的相关语句，想象我放烟花的动作、神态，体会我的心理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6000" y="909720"/>
            <a:ext cx="6696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③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副词的特殊作用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447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可惜”——“终于”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76920" y="4166280"/>
            <a:ext cx="3853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899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终于”写出了度日如年的心情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　　　突然得以释放的兴奋</a:t>
            </a:r>
            <a:r>
              <a:rPr b="0" lang="zh-CN" sz="3200" spc="-1" strike="noStrike">
                <a:solidFill>
                  <a:srgbClr val="402000"/>
                </a:solidFill>
                <a:latin typeface="Arial"/>
              </a:rPr>
              <a:t>。</a:t>
            </a:r>
            <a:r>
              <a:rPr b="0" lang="en-US" sz="18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18920" y="909360"/>
            <a:ext cx="5954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④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天真幼稚的内心世界。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  “</a:t>
            </a: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我下决心……让他们大吃一惊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恨不得马上把它点着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整天心神不定，魂不守舍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总算熬到……，草草吃几口，……溜……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甚至觉得天已经快要亮了。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”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总 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388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品味到生活的滋味，关键在于：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方正隶书简体"/>
              </a:rPr>
              <a:t>关注过程，细心体验。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08000" y="836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Arial"/>
              </a:rPr>
              <a:t>张抗抗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628640"/>
            <a:ext cx="352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黑体"/>
                <a:ea typeface="黑体"/>
              </a:rPr>
              <a:t>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当代女作家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浙江杭州人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5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生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3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考入杭州一中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9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中学毕业后在农场劳动八年，当过农工，工人，通讯员，创作员等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72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发表第一篇短篇小说《灯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75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版长篇小说《分界线》，作品《夏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8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获全国优秀短篇小说奖。《淡淡的晨雾》获第一届全国优秀中篇小说奖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她具有良好的艺术感觉和艺术素至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8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。她以女性的温柔和细腻探索青年一代的追求与痛苦，揭示人的心灵，作品中洋溢着青春的朝气和纯洁的诗意；她的作品还包含着更多的理性思考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3984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6160" y="170172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、朦胧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”是指“眼睛看东西模糊”。因此，表示“视物不清”一类意思的词语中的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ménglóng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，应当写成“蒙眬”。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朦胧”是指客观景物、语言表达的意思，或者人的主观意识“模糊”、“不清楚”。因此，在汉语中说到暮色、月色等客观景物模糊，话语等表达的意思不清晰以及主观意识不清楚的时候，都要用“朦胧”。例如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1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在朦胧的暮色中，他回到家里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2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街上月色朦胧，他匆匆赶路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字  词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292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半夜吃杨梅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4437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除夕放烟花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299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Arial"/>
                <a:ea typeface="方正行楷简体"/>
              </a:rPr>
              <a:t>没有吃出滋味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32360" y="42926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高兴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24120" y="170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文章写了哪几件事？各有什么感觉？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读  一   读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0000" y="54936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br>
              <a:rPr sz="3600"/>
            </a:br>
            <a:endParaRPr b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99640" y="1917720"/>
            <a:ext cx="79138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  </a:t>
            </a: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杨梅是我最喜欢吃的，为什么作者却感觉毫无滋味？文章有没有语句写出他没有尝到什么滋味？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是差不多被</a:t>
            </a:r>
            <a:r>
              <a:rPr b="0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爸爸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抱起来放在椅子上的……还在打着瞌睡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舌头是硬的，牙齿是木的，嘴巴机械的蠕动着咀嚼着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喉咙也好象堵塞了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8720" y="4005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我仍然十分努力的吃着杨梅……如果放到明天就变味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4653000"/>
            <a:ext cx="63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大家齐心协力</a:t>
            </a:r>
            <a:r>
              <a:rPr b="0" lang="en-US" sz="2400" spc="-1" strike="noStrike">
                <a:solidFill>
                  <a:srgbClr val="009999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终于把杨梅吃光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6000" y="5373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         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--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把吃杨梅变成完成任务，当然没有滋味！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88080" y="3070080"/>
            <a:ext cx="34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--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不清醒，没有尝出什么滋味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95" name=""/>
          <p:cNvSpPr/>
          <p:nvPr/>
        </p:nvSpPr>
        <p:spPr>
          <a:xfrm>
            <a:off x="973080" y="2349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怎样吃杨梅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相关语句，品读重点词句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3718080"/>
            <a:ext cx="82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表达我感悟的句子，理解做者的感悟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师生共同探究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5986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浅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2720" y="20534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形容词作动词用，写出从一个孩子的眼中看出杨梅逐渐变少的动态。 很形象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72960" y="3833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滚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78000" y="3637440"/>
            <a:ext cx="33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快地从脑海中闪过去的意思。这个词一方面与前文“一个个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又圆又大，红里透黑”的外形特点一致，另一方面也形象地表明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对头天吃过这样的杨梅，一下子记起来了，但又实在没有很深的印象。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60360" y="484164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举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33160" y="565992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突出了我焦急等待的心情以及大家也急于看放烟花的心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“亮”起来，表明在“我”看来，大家也和我一样欣喜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并且都关切地盯着烟花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729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塞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40920" y="2700720"/>
            <a:ext cx="40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往嘴里放、填，而没有咀嚼、品味的过程，很形象地描绘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当时在半睡半醒、睡眼迷蒙的状态下，想吃又实在睁不开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的吃相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37840" y="464544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高高地擎着。是高兴，仿佛要让所有的人都看到，也是因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爱民，怕不小心碰到什么弄坏了，作者用这个词，充分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传达出“我”内心抑制不住的兴奋、狂喜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60360" y="580536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17080" y="1411920"/>
            <a:ext cx="7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动词的妙用。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18920" y="691920"/>
            <a:ext cx="57610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②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对比的鲜明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没吃到杨梅写杨梅的诱人。　　吃杨梅时的贪婪。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吃完杨梅后的无味感觉。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9:29:29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