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6B9A-EE84-4AA1-8CB6-DBA5E86F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DCF-218D-40A7-B119-10F9ABE8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A2C-8BA7-4328-A167-FFEB0C74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E44-A988-4C83-8133-AC772EC4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3341-4B9E-47C8-9567-C4B6F232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2A56-6407-453A-A0FC-7FFBFFA5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3A95-933B-4277-A47C-450B2911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0FCA-BDF2-428A-9CA2-7695A9FE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772A-D09B-4093-AED9-D2A9E790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1D5A-1845-4782-B19A-03120D5D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46FA-3232-4AB7-B584-2DA2A04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3E0-A4F8-41C3-91EF-113D20C1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E8D7-8EC7-4037-86DB-71569F46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2323-6A70-4ACB-83FE-DE69C049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09F6-75C7-475C-A401-438DE7C7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921A-1CF7-46C8-84EA-7DE9A04F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2AF1-D456-42E2-9876-D3CBEFB9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1EA7-CF1D-4683-B5A1-9930911D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5649-474B-4EC0-8817-84C6667F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2C90-08C7-4916-9282-3BDDD65C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A22B-74B2-4A27-A5A7-986440E9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F2560-EB3D-4E76-BB2A-12D6F945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F87-2D1B-4B85-8577-65D9E1E9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E58F-A847-4D00-9B30-71988C00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4477-86D0-4A43-8A9B-F2B2AAD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D970-EFC4-443F-B2F3-86DB004C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399D-42E5-470D-9B24-51E21DE4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E251-BF67-41DA-B2D0-DEE6F416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2802C-94AE-4346-BA42-EB032AFC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D86DE-98C2-4247-9C96-5749FF1D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0E31-7936-4327-B114-EE50E841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9954-066B-4AA0-8767-C38001D7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B7F1C-BC7F-46FB-9572-CF98271D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8EA-E566-48FF-A131-1CE2DE89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06DFA-A651-46E8-926A-B1D52A6C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D2785-9084-445B-AA29-92C32F4E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83A2F-0A23-4811-8F70-413C4ABE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BE1C-B828-42C3-B00E-4081D215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CD87-A14A-4C96-84E0-E21841D4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47621-10E0-4922-8307-479D255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4F3F9-D6D8-4EA0-95F9-C4C58588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117DF-8631-4D8F-A1BE-BC7B07D5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E04C1-5E9D-437C-945D-D406FCE2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7F817-92E9-4E52-93E7-197D2852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D54-20C9-4AB1-A9F9-842FCB99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2AFF-6B42-48E9-9CEF-676CC990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AB5C4-89F4-4051-8CDC-523B9BF0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3BF5-1947-438E-9E0F-94BB01B8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CE88B-E599-4F55-91D4-BF1D7DE7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F5CBE-132E-4722-ABD2-FDFEFC0F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EA5A2-F10C-4FF0-B485-3C9ACEF5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D9760-4938-45BC-98BB-42E6E67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2DC24-98BD-46D7-959F-30F73EB1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63DF7-1B0B-4C34-82BF-4886645A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E078-A5FF-478F-9FF5-0BFB0D6B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DA6-CEE4-4EB4-808E-158AC6A1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558D0-47A7-4470-B9CC-E2928DF0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99445-5510-4FE4-81FF-63F5AB17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39A7C-384F-4D33-B04F-7CDBA77F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C74D9-8862-4B8F-9718-50DFDFDD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0E82F-F1B8-4941-ABFC-9BE3D44F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43116-74C7-45D6-8CF0-B14DAB84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B38FF-E341-4092-ABBF-2663A3D6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440D-BC54-40D1-A7A7-C0EE4A8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3A85C-D57A-4CF2-A199-3A5D8A6B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DF1DA-5FAF-4BF1-8062-42D96BA4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8D1-ED91-41C6-A73B-A73049AD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9205-9386-4BDE-AB17-97E98C98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F8E4-01AD-4B63-9515-0432C7A4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6B49B-4ED0-4056-906A-E8625E37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451-D35A-4C16-97FD-4D1A3907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91A-4E88-4F6D-A4D8-9145AB11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2F23-74D3-4D66-B288-E8E322A37E37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B79F-F7A4-4916-9D70-EAD8D0FB1DCA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481B-FDDB-4724-A17E-F7DEB21C08B9}" type="slidenum">
              <a:rPr b="0" lang="en-US" sz="18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55EC-CFBD-487A-9BFC-56E4D34C767A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80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1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1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80E2-86F6-45EB-9DC6-8826F3CE178B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25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7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8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268D-949D-48FE-B2CB-F0BC8E8EAEF0}" type="slidenum">
              <a:rPr b="0" lang="en-US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fofireworks.com/NewsDetails.asp?Id=5152" TargetMode="External"/><Relationship Id="rId2" Type="http://schemas.openxmlformats.org/officeDocument/2006/relationships/hyperlink" Target="http://www.infofireworks.com/NewsDetails.asp?Id=5152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infofireworks.com/NewsDetails.asp?Id=5153" TargetMode="External"/><Relationship Id="rId5" Type="http://schemas.openxmlformats.org/officeDocument/2006/relationships/hyperlink" Target="http://www.infofireworks.com/NewsDetails.asp?Id=5153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infofireworks.com/NewsDetails.asp?Id=5157" TargetMode="External"/><Relationship Id="rId8" Type="http://schemas.openxmlformats.org/officeDocument/2006/relationships/hyperlink" Target="http://www.infofireworks.com/NewsDetails.asp?Id=5157" TargetMode="External"/><Relationship Id="rId9" Type="http://schemas.openxmlformats.org/officeDocument/2006/relationships/hyperlink" Target="http://www.infofireworks.com/NewsDetails.asp?Id=5157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www.infofireworks.com/NewsDetails.asp?Id=5155" TargetMode="External"/><Relationship Id="rId12" Type="http://schemas.openxmlformats.org/officeDocument/2006/relationships/hyperlink" Target="http://www.infofireworks.com/NewsDetails.asp?Id=5155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681120" y="-452520"/>
            <a:ext cx="9825120" cy="73105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0133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66680" y="914400"/>
            <a:ext cx="60962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滋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小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 </a:t>
            </a:r>
            <a:r>
              <a:rPr b="0" lang="zh-CN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做一件事如果只是应付、只是完成任务，当然不会品尝到其中的滋味，更不会品味到其中的乐趣</a:t>
            </a:r>
            <a:r>
              <a:rPr b="0" lang="en-US" sz="6000" spc="-1" strike="noStrike">
                <a:solidFill>
                  <a:srgbClr val="402000"/>
                </a:solidFill>
                <a:latin typeface="方正康体简体"/>
                <a:ea typeface="方正康体简体"/>
              </a:rPr>
              <a:t>!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31760" y="1189080"/>
            <a:ext cx="8880480" cy="4343400"/>
            <a:chOff x="131760" y="1189080"/>
            <a:chExt cx="8880480" cy="4343400"/>
          </a:xfrm>
        </p:grpSpPr>
        <p:sp>
          <p:nvSpPr>
            <p:cNvPr id="314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760" y="1189080"/>
              <a:ext cx="8880480" cy="43434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27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16" name="" descr="500×3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31760" y="835200"/>
            <a:ext cx="8880480" cy="5029200"/>
            <a:chOff x="131760" y="835200"/>
            <a:chExt cx="8880480" cy="5029200"/>
          </a:xfrm>
        </p:grpSpPr>
        <p:sp>
          <p:nvSpPr>
            <p:cNvPr id="318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760" y="835200"/>
              <a:ext cx="8880480" cy="50292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  </a:t>
              </a:r>
              <a:r>
                <a:rPr b="0" lang="en-US" sz="324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</a:t>
              </a: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pic>
        <p:nvPicPr>
          <p:cNvPr id="320" name="" descr="760×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182520" y="3056040"/>
            <a:ext cx="8778960" cy="747720"/>
            <a:chOff x="182520" y="3056040"/>
            <a:chExt cx="8778960" cy="747720"/>
          </a:xfrm>
        </p:grpSpPr>
        <p:sp>
          <p:nvSpPr>
            <p:cNvPr id="322" name=""/>
            <p:cNvSpPr/>
            <p:nvPr/>
          </p:nvSpPr>
          <p:spPr>
            <a:xfrm>
              <a:off x="182520" y="305604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82520" y="3056040"/>
              <a:ext cx="8778960" cy="747720"/>
              <a:chOff x="182520" y="3056040"/>
              <a:chExt cx="8778960" cy="74772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520" y="305604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182520" y="3056040"/>
                <a:ext cx="8778960" cy="747720"/>
                <a:chOff x="182520" y="3056040"/>
                <a:chExt cx="8778960" cy="747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82520" y="305604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961120" y="3056040"/>
            <a:ext cx="182520" cy="747720"/>
            <a:chOff x="8961120" y="3056040"/>
            <a:chExt cx="182520" cy="747720"/>
          </a:xfrm>
        </p:grpSpPr>
        <p:sp>
          <p:nvSpPr>
            <p:cNvPr id="330" name=""/>
            <p:cNvSpPr/>
            <p:nvPr/>
          </p:nvSpPr>
          <p:spPr>
            <a:xfrm flipH="1">
              <a:off x="8993160" y="3056040"/>
              <a:ext cx="150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8961120" y="3056040"/>
              <a:ext cx="182520" cy="747720"/>
              <a:chOff x="8961120" y="3056040"/>
              <a:chExt cx="182520" cy="7477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9094680" y="3056040"/>
                <a:ext cx="486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8961120" y="3056040"/>
                <a:ext cx="182520" cy="747720"/>
                <a:chOff x="8961120" y="3056040"/>
                <a:chExt cx="182520" cy="74772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8960760" y="3056040"/>
                  <a:ext cx="18252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4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3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9448560" y="3048120"/>
            <a:ext cx="152280" cy="747720"/>
            <a:chOff x="9448560" y="3048120"/>
            <a:chExt cx="152280" cy="747720"/>
          </a:xfrm>
        </p:grpSpPr>
        <p:sp>
          <p:nvSpPr>
            <p:cNvPr id="338" name=""/>
            <p:cNvSpPr/>
            <p:nvPr/>
          </p:nvSpPr>
          <p:spPr>
            <a:xfrm flipH="1">
              <a:off x="9474840" y="304812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9448560" y="3048120"/>
              <a:ext cx="152280" cy="747720"/>
              <a:chOff x="9448560" y="3048120"/>
              <a:chExt cx="152280" cy="7477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9559800" y="3048120"/>
                <a:ext cx="406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9448560" y="3048120"/>
                <a:ext cx="152280" cy="747720"/>
                <a:chOff x="9448560" y="3048120"/>
                <a:chExt cx="152280" cy="747720"/>
              </a:xfrm>
            </p:grpSpPr>
            <p:sp>
              <p:nvSpPr>
                <p:cNvPr id="342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9448200" y="3048120"/>
                  <a:ext cx="15228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7"/>
                    </a:rPr>
                    <a:t>  </a:t>
                  </a: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8"/>
                    </a:rPr>
                    <a:t>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05320"/>
            <a:ext cx="4556160" cy="33526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9524880" y="4343400"/>
            <a:ext cx="8778960" cy="747720"/>
            <a:chOff x="9524880" y="4343400"/>
            <a:chExt cx="8778960" cy="747720"/>
          </a:xfrm>
        </p:grpSpPr>
        <p:sp>
          <p:nvSpPr>
            <p:cNvPr id="346" name=""/>
            <p:cNvSpPr/>
            <p:nvPr/>
          </p:nvSpPr>
          <p:spPr>
            <a:xfrm>
              <a:off x="9524880" y="4343400"/>
              <a:ext cx="723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9524880" y="4343400"/>
              <a:ext cx="8778960" cy="747720"/>
              <a:chOff x="9524880" y="4343400"/>
              <a:chExt cx="8778960" cy="747720"/>
            </a:xfrm>
          </p:grpSpPr>
          <p:sp>
            <p:nvSpPr>
              <p:cNvPr id="348" name=""/>
              <p:cNvSpPr/>
              <p:nvPr/>
            </p:nvSpPr>
            <p:spPr>
              <a:xfrm>
                <a:off x="9524880" y="4343400"/>
                <a:ext cx="2343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9524880" y="4343400"/>
                <a:ext cx="8778960" cy="747720"/>
                <a:chOff x="9524880" y="4343400"/>
                <a:chExt cx="8778960" cy="747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9524880" y="4343400"/>
                  <a:ext cx="8778960" cy="747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 u="sng">
                      <a:solidFill>
                        <a:srgbClr val="b0ae6a"/>
                      </a:solidFill>
                      <a:uFillTx/>
                      <a:latin typeface="Arial"/>
                      <a:ea typeface="_x000b__x000c_"/>
                      <a:hlinkClick r:id="rId11"/>
                    </a:rPr>
                    <a:t>  </a:t>
                  </a:r>
                  <a:r>
                    <a:rPr b="0" lang="en-US" sz="43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</a:t>
                  </a:r>
                  <a:r>
                    <a:rPr b="0" lang="en-US" sz="900" spc="-1" strike="noStrike">
                      <a:solidFill>
                        <a:srgbClr val="402000"/>
                      </a:solidFill>
                      <a:latin typeface="Arial"/>
                      <a:ea typeface="_x000b__x000c_"/>
                    </a:rPr>
                    <a:t>                       </a:t>
                  </a:r>
                  <a:endParaRPr b="0" lang="en-US" sz="900" spc="-1" strike="noStrike">
                    <a:solidFill>
                      <a:srgbClr val="402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5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除夕放烟花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920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 </a:t>
            </a:r>
            <a:r>
              <a:rPr b="0" lang="zh-CN" sz="3600" spc="-1" strike="noStrike">
                <a:solidFill>
                  <a:srgbClr val="339933"/>
                </a:solidFill>
                <a:latin typeface="方正行楷简体"/>
                <a:ea typeface="方正行楷简体"/>
              </a:rPr>
              <a:t>放烟花是很平常的事，为什么作者会觉得那么有滋有味呢？你能找出具体语句说说他品尝到了哪些滋味？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01680" y="3276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华文新魏"/>
              </a:rPr>
              <a:t>买烟花时的犹豫不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98640" y="3933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买到烟花时兴奋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00160" y="4572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a7f32"/>
                </a:solidFill>
                <a:latin typeface="Arial"/>
                <a:ea typeface="华文新魏"/>
              </a:rPr>
              <a:t>等着放烟花时焦急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7120" y="530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Arial"/>
                <a:ea typeface="华文新魏"/>
              </a:rPr>
              <a:t>放烟花时欢乐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24360" y="3789360"/>
            <a:ext cx="216000" cy="2087640"/>
          </a:xfrm>
          <a:custGeom>
            <a:avLst/>
            <a:gdLst>
              <a:gd name="textAreaLeft" fmla="*/ 0 w 216000"/>
              <a:gd name="textAreaRight" fmla="*/ 7812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16200" y="10808"/>
                  <a:pt x="21600" y="10808"/>
                </a:cubicBezTo>
                <a:cubicBezTo>
                  <a:pt x="162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24640" y="4292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难忘的滋味</a:t>
            </a:r>
            <a:endParaRPr b="0" lang="en-US" sz="4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56720" y="6093000"/>
            <a:ext cx="544320" cy="485640"/>
          </a:xfrm>
          <a:prstGeom prst="leftArrow">
            <a:avLst>
              <a:gd name="adj1" fmla="val 50000"/>
              <a:gd name="adj2" fmla="val 28021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       </a:t>
            </a:r>
            <a:r>
              <a:rPr b="0" lang="zh-CN" sz="6000" spc="-1" strike="noStrike">
                <a:solidFill>
                  <a:srgbClr val="3333ff"/>
                </a:solidFill>
                <a:latin typeface="华文行楷"/>
                <a:ea typeface="华文行楷"/>
              </a:rPr>
              <a:t>你生活中有没有类似“吃到了盼望以久的某种好东西，却发现自己对此毫无感觉”的事呢？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260280"/>
            <a:ext cx="4392720" cy="11527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想   一    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71640" y="220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是怎样焦急地等待放烟花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最能引起你共鸣的语句，体会作者的感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44720" y="31417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根据文中的相关语句，想象我放烟花的动作、神态，体会我的心理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6000" y="909720"/>
            <a:ext cx="6696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③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副词的特殊作用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447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可惜”——“终于”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76920" y="4166280"/>
            <a:ext cx="385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8996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终于”写出了度日如年的心情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e8996"/>
                </a:solidFill>
                <a:latin typeface="Arial"/>
              </a:rPr>
              <a:t>　　　突然得以释放的兴奋</a:t>
            </a:r>
            <a:r>
              <a:rPr b="0" lang="zh-CN" sz="3200" spc="-1" strike="noStrike">
                <a:solidFill>
                  <a:srgbClr val="402000"/>
                </a:solidFill>
                <a:latin typeface="Arial"/>
              </a:rPr>
              <a:t>。</a:t>
            </a: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18920" y="909360"/>
            <a:ext cx="59547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④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天真幼稚的内心世界。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  “</a:t>
            </a: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我下决心……让他们大吃一惊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恨不得马上把它点着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整天心神不定，魂不守舍。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总算熬到……，草草吃几口，……溜……” </a:t>
            </a:r>
            <a:br>
              <a:rPr sz="3600"/>
            </a:br>
            <a:r>
              <a:rPr b="1" lang="zh-CN" sz="3600" spc="-1" strike="noStrike">
                <a:solidFill>
                  <a:srgbClr val="402000"/>
                </a:solidFill>
                <a:latin typeface="隶书"/>
                <a:ea typeface="隶书"/>
              </a:rPr>
              <a:t>“我甚至觉得天已经快要亮了。</a:t>
            </a:r>
            <a:r>
              <a:rPr b="1" lang="zh-CN" sz="2800" spc="-1" strike="noStrike">
                <a:solidFill>
                  <a:srgbClr val="402000"/>
                </a:solidFill>
                <a:latin typeface="Times New Roman"/>
              </a:rPr>
              <a:t>”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总   结</a:t>
            </a:r>
            <a:endParaRPr b="1" lang="en-US" sz="8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388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品味到生活的滋味，关键在于：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  <a:ea typeface="方正隶书简体"/>
              </a:rPr>
              <a:t> 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方正隶书简体"/>
              </a:rPr>
              <a:t>关注过程，细心体验。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08000" y="836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Arial"/>
              </a:rPr>
              <a:t>张抗抗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628640"/>
            <a:ext cx="352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黑体"/>
                <a:ea typeface="黑体"/>
              </a:rPr>
              <a:t>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当代女作家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浙江杭州人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5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生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3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考入杭州一中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69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中学毕业后在农场劳动八年，当过农工，工人，通讯员，创作员等。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72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发表第一篇短篇小说《灯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,1975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出版长篇小说《分界线》，作品《夏》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1980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年获全国优秀短篇小说奖。《淡淡的晨雾》获第一届全国优秀中篇小说奖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    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她具有良好的艺术感觉和艺术素至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8</a:t>
            </a:r>
            <a:r>
              <a:rPr b="0" lang="zh-CN" sz="1800" spc="-1" strike="noStrike">
                <a:solidFill>
                  <a:srgbClr val="402000"/>
                </a:solidFill>
                <a:latin typeface="黑体"/>
                <a:ea typeface="黑体"/>
              </a:rPr>
              <a:t>。她以女性的温柔和细腻探索青年一代的追求与痛苦，揭示人的心灵，作品中洋溢着青春的朝气和纯洁的诗意；她的作品还包含着更多的理性思考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3984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6160" y="170172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、朦胧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蒙眬”是指“眼睛看东西模糊”。因此，表示“视物不清”一类意思的词语中的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ménglóng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，应当写成“蒙眬”。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朦胧”是指客观景物、语言表达的意思，或者人的主观意识“模糊”、“不清楚”。因此，在汉语中说到暮色、月色等客观景物模糊，话语等表达的意思不清晰以及主观意识不清楚的时候，都要用“朦胧”。例如：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1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在朦胧的暮色中，他回到家里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(2)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行楷"/>
              </a:rPr>
              <a:t>街上月色朦胧，他匆匆赶路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字  词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987640" y="260280"/>
            <a:ext cx="3960720" cy="1081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1160" y="1627200"/>
            <a:ext cx="72993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92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半夜吃杨梅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4437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除夕放烟花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299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Arial"/>
                <a:ea typeface="方正行楷简体"/>
              </a:rPr>
              <a:t>没有吃出滋味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32360" y="4292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高兴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24120" y="170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文章写了哪几件事？各有什么感觉？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读  一   读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0000" y="54936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br>
              <a:rPr sz="3600"/>
            </a:br>
            <a:endParaRPr b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9640" y="1917720"/>
            <a:ext cx="79138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  </a:t>
            </a:r>
            <a:r>
              <a:rPr b="0" lang="zh-CN" sz="5400" spc="-1" strike="noStrike">
                <a:solidFill>
                  <a:srgbClr val="402000"/>
                </a:solidFill>
                <a:latin typeface="Times New Roman"/>
                <a:ea typeface="方正楷体简体"/>
              </a:rPr>
              <a:t>杨梅是我最喜欢吃的，为什么作者却感觉毫无滋味？文章有没有语句写出他没有尝到什么滋味？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半夜吃杨梅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我是差不多被</a:t>
            </a:r>
            <a:r>
              <a:rPr b="0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爸爸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抱起来放在椅子上的……还在打着瞌睡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舌头是硬的，牙齿是木的，嘴巴机械的蠕动着咀嚼着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喉咙也好象堵塞了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8720" y="4005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我仍然十分努力的吃着杨梅……如果放到明天就变味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4653000"/>
            <a:ext cx="63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大家齐心协力</a:t>
            </a:r>
            <a:r>
              <a:rPr b="0" lang="en-US" sz="2400" spc="-1" strike="noStrike">
                <a:solidFill>
                  <a:srgbClr val="009999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终于把杨梅吃光了。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5373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         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--</a:t>
            </a:r>
            <a:r>
              <a:rPr b="0" lang="zh-CN" sz="3600" spc="-1" strike="noStrike">
                <a:solidFill>
                  <a:srgbClr val="009999"/>
                </a:solidFill>
                <a:latin typeface="华文行楷"/>
                <a:ea typeface="华文行楷"/>
              </a:rPr>
              <a:t>把吃杨梅变成完成任务，当然没有滋味！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88080" y="3070080"/>
            <a:ext cx="34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--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不清醒，没有尝出什么滋味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1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076720" y="333360"/>
            <a:ext cx="352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读文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5" name=""/>
          <p:cNvSpPr/>
          <p:nvPr/>
        </p:nvSpPr>
        <p:spPr>
          <a:xfrm>
            <a:off x="973080" y="2349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我怎样吃杨梅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相关语句，品读重点词句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371808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画出表达我感悟的句子，理解做者的感悟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师生共同探究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5986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浅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2720" y="20534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形容词作动词用，写出从一个孩子的眼中看出杨梅逐渐变少的动态。 很形象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72960" y="3833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滚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78000" y="363744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快地从脑海中闪过去的意思。这个词一方面与前文“一个个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又圆又大，红里透黑”的外形特点一致，另一方面也形象地表明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对头天吃过这样的杨梅，一下子记起来了，但又实在没有很深的印象。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60360" y="484164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举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33160" y="565992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突出了我焦急等待的心情以及大家也急于看放烟花的心情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“亮”起来，表明在“我”看来，大家也和我一样欣喜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并且都关切地盯着烟花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729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塞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40920" y="2700720"/>
            <a:ext cx="40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往嘴里放、填，而没有咀嚼、品味的过程，很形象地描绘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当时在半睡半醒、睡眼迷蒙的状态下，想吃又实在睁不开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眼睛的吃相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37840" y="464544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高高地擎着。是高兴，仿佛要让所有的人都看到，也是因为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很爱民，怕不小心碰到什么弄坏了，作者用这个词，充分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传达出“我”内心抑制不住的兴奋、狂喜。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60360" y="580536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涌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17080" y="1411920"/>
            <a:ext cx="7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动词的妙用。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18920" y="691920"/>
            <a:ext cx="57610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②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对比的鲜明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没吃到杨梅写杨梅的诱人。　　吃杨梅时的贪婪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e8996"/>
                </a:solidFill>
                <a:latin typeface="Times New Roman"/>
                <a:ea typeface="隶书"/>
              </a:rPr>
              <a:t>　吃完杨梅后的无味感觉。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9:29:29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