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FE2C-72BD-4A25-8CDD-E184600D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C2F-94F2-408C-BB82-D5DC57EE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7B5-7D30-4F02-ACF5-CCE49E0C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2234-B278-491D-A6CE-7F6714F8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7A8B-C79A-479D-A461-0191FD79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920F-9DC8-4AC8-84BB-2BFE4D8C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AE13-B245-43C3-AB90-0179399D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AD96-86C5-4C12-AA98-AE086487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6817-C8D8-4778-81D0-B4C1F3CC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8ECC-7127-465D-882B-310048BE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CDBA-BDE3-4708-8551-276E1FC9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5BC7-FA5C-44D8-92CD-2C6515D8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6DCD-0191-4DCC-849D-C27C7E40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03DB-57CF-40B2-9200-92F0D980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70DA-48D5-4FF3-8871-0866E621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DDF1-1FCF-4ED1-82F2-E31D1B25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924E-C357-4F60-931D-EAAA6FA5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B6B-878E-4E49-9EC2-92AF1ADB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CDF-6622-43F9-9858-6C334793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AE6-C3AE-4DDC-A80A-6A09FF6D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CCA-171B-4606-B1B6-759FF28E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8F8-3556-4B86-8505-B2AE429C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15E-F17D-406B-8D73-F7419F6D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6BD0-E041-48C8-9F6E-E8788FA8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46AD-97DB-4B87-B471-9845FF00834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2BD9-0AFE-4244-8B98-AFD5D6C5315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蜘蛛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奥利佛•哥尔斯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写作特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用类似的手段，作者又让读者逐渐得知：雌蜘蛛比雄蜘蛛体大，蜘蛛如何用网将卵包起，偶遇外侵，为了保护后代，不惜牺牲生命；小蜘蛛在长大以后，自己织网，能够在三四天不得食物之时还能继续长大，但是在老了以后，失去捕食能力，往往就死于饥饿。所有这些知识，之所以有趣，就是因为它与人类的经验相异，对于习惯于以自己的经验来想象生命的人来说，都是一种知识、想象和智慧的开拓。从这里也可以看出作者的用心，凡是与人类相异者均津津乐道，而不是像文学性散文那样把人类的感情赋予动物。作者的行文原则是，凡与人类相类者大抵省略了。读文章，不但要注意其重点表述的地方，而且要想象出作者省略了的地方。这样才能化被动为主动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《蜘蛛》与 《辛劳的蚂蚁》比较阅读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两篇都写作者观察到的小动物的活动。《蜘蛛》一文记叙了蜘蛛捕食、结网、产卵、争斗等一系列活动。以说明为主，叙述描写也多，清晰生动；说明蜘蛛是最聪明的动物之一，具有顽强的生存能力。而《辛劳的蚂蚁》一文则是一篇幽默小品文，意在借蚂蚁的愚蠢嘲讽现实中那些盲目劳作，缺乏思考的人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438280" y="2514600"/>
            <a:ext cx="41148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知识与能力：①积累词语，并学会运用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          ②朗读文章，感知内容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过程与方法：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①学习本文说明性文字与叙述描写文字各占一半，文风清晰生动的特点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②品味科学小品的特点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感、态度与价值观：理解课文运用夸张描写的笔调体现生命的顽强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检查预习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给下列加点的字注音：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甲胄（　　）　　颈（　　）脊（　　）　　消耗殆（　　）尽　　寒颤（　　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逃遁（　　）　讪（　　）笑　　掸（　　）帚（　　）　　炮（　　）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根据拼音写出汉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yōng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肿　　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mó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z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zhòu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（　　）　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yù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fù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予　　玩弄于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g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掌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èi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觉欢欣　　关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èi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至　　人才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èi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　　）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初读课文，回答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课文内容填空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在我观察过的独居的            中，蜘蛛最        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然的生理机能还赋予这种动物以一种         ，使之能拉出粗细均匀的丝。蜘蛛就是靠这些丝来         捕捉                的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当一只蜘蛛随着年龄的增长而变得         时，它就不可能         到俘获物，最后将死于          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聪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8880" y="29718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胶质液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织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猎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僵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5105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捕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饿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学法指导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这一篇也是写小动物的，学习时要注意文体的特点，它显然和前面几篇有根本的不同。前几篇都是文学性的散文，作者独特的情感同化了对象，用人的心理来代替虫子。这当然是不科学的，但却是很艺术、很动人的。而这一篇则不同，是比较客观地写蜘蛛的，而不是借之来写人的。虽然有些感性，用了许多情感性的话语，但对于蜘蛛的描述，却是客观的、科学的，至少没有为了审美情感牺牲太多的客观性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文章思路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文章开头的五个自然段，就和文学性散文的写法不同，不是抒情和描写，而是说明其躯  体的特点，其身体就是为了战斗，不是为了和异类，而是和它自己的同类。文章相当系统  地说明，它的头覆盖着坚硬的甲胄，躯体裹着柔韧的皮壳，腿末的强壮可与龙爪相比，脚爪  之长如同长矛，它的眼睛、嘴巴都带有武器的特点。接下去作家就以记叙为主了。他看到蜘蛛织一张网要花三天工夫，这是很科学的。又发现另一只没有自己的网的大蜘蛛前来霸占，两只蜘蛛之间发生了搏斗，这也为读者提供了知识：并不是每一只蜘蛛都是自己织网的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课文主旨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者通过长期观察，详细记述了蜘蛛捕食、结网、产卵、争斗等一系列活动。说明蜘蛛是最聪明的动物之一，具有顽强的生存能力，有许多值得研究探讨的方面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写作特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文章用感性的乃至略带夸张的语言，表现蜘蛛之间的残忍争斗，但是观察到蜘蛛网到黄蜂，却没有当作美餐，作者的洞察是蜘蛛的“量力的原则”，对于不能制服的对手，就干脆释放，而且把破损了的网放弃。所有形象的、略带夸张的描写，都是为了这一点相当客观的发现服务。吸引读者的主要不是作者的情感，而是作者对蜘蛛生存策略的发现。每一发现，都是一种智力的胜利。读者在这样的文章里所享受的，不同于文学性文体的情感的审美，而是心智的聪慧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写作特点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作者的行文，带领着读者，经历了几个阶段的发现。蜘蛛一次又一次地重新做网，其体内的资源并不是无穷无尽的，到一定的时候就枯竭了，它的生存就不再依靠网，而是依靠隐藏和突然袭击，有时则是依靠霸占其他蜘蛛的网。霸占和反霸占的斗争有时长达三天之久，有相当形象的描写，但这种描写，是服从于说明耗尽体内储存的蜘蛛的生存策略。在文学与非文学的交织中，读者兴味被调动起来，继续获得动物科学知识：蜘蛛善于保存体能，当苍蝇落入罗网时，它并不急于吞食，而等待苍蝇挣扎到精疲力竭之时，才去捕获。这其间所用的词语，诸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避免引起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苍蝇更大的惊惧”、“俘虏奋力逃走”、“耐心等待”、“俘虏的无效挣扎”、“精疲力竭”、“玩弄于股掌”、“胜利品”等，其功能，都不过使过程更为有趣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08T01:23:5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