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HOOSH.WAV" ContentType="audio/x-wav"/>
  <Override PartName="/ppt/media/image16.wmf" ContentType="image/x-wmf"/>
  <Override PartName="/ppt/media/image9.wmf" ContentType="image/x-wmf"/>
  <Override PartName="/ppt/media/image8.gif" ContentType="image/gif"/>
  <Override PartName="/ppt/media/image19.wmf" ContentType="image/x-wmf"/>
  <Override PartName="/ppt/media/image21.wmf" ContentType="image/x-wmf"/>
  <Override PartName="/ppt/media/image7.gif" ContentType="image/gif"/>
  <Override PartName="/ppt/media/image18.wmf" ContentType="image/x-wmf"/>
  <Override PartName="/ppt/media/image20.wmf" ContentType="image/x-wmf"/>
  <Override PartName="/ppt/media/chimes.wav" ContentType="audio/x-wav"/>
  <Override PartName="/ppt/media/image10.wmf" ContentType="image/x-wmf"/>
  <Override PartName="/ppt/media/image5.wmf" ContentType="image/x-wmf"/>
  <Override PartName="/ppt/media/image4.wmf" ContentType="image/x-wmf"/>
  <Override PartName="/ppt/media/image11.wmf" ContentType="image/x-wmf"/>
  <Override PartName="/ppt/media/image26.png" ContentType="image/png"/>
  <Override PartName="/ppt/media/image6.wmf" ContentType="image/x-wmf"/>
  <Override PartName="/ppt/media/image24.png" ContentType="image/png"/>
  <Override PartName="/ppt/media/image23.wmf" ContentType="image/x-wmf"/>
  <Override PartName="/ppt/media/image22.wmf" ContentType="image/x-wmf"/>
  <Override PartName="/ppt/media/image17.wmf" ContentType="image/x-wmf"/>
  <Override PartName="/ppt/media/image15.gif" ContentType="image/gif"/>
  <Override PartName="/ppt/media/image25.gif" ContentType="image/gif"/>
  <Override PartName="/ppt/media/image13.wmf" ContentType="image/x-wmf"/>
  <Override PartName="/ppt/media/image3.gif" ContentType="image/gif"/>
  <Override PartName="/ppt/media/image14.wmf" ContentType="image/x-wmf"/>
  <Override PartName="/ppt/media/image27.png" ContentType="image/png"/>
  <Override PartName="/ppt/media/image12.wmf" ContentType="image/x-wmf"/>
  <Override PartName="/ppt/media/image1.wmf" ContentType="image/x-wmf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761760" y="380880"/>
            <a:ext cx="7794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761760" y="380880"/>
            <a:ext cx="7794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317520"/>
            <a:ext cx="7794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010280" y="6521400"/>
            <a:ext cx="161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Times New Roman"/>
              </a:rPr>
              <a:t>拥有积极心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219320" y="6705720"/>
            <a:ext cx="6019560" cy="0"/>
          </a:xfrm>
          <a:prstGeom prst="line">
            <a:avLst/>
          </a:prstGeom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182080" y="6477120"/>
            <a:ext cx="961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26A02-5E1B-488D-92D7-1D51F1CBF60F}" type="slidenum"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0"/>
            <a:ext cx="990000" cy="744120"/>
            <a:chOff x="0" y="0"/>
            <a:chExt cx="990000" cy="744120"/>
          </a:xfrm>
        </p:grpSpPr>
        <p:grpSp>
          <p:nvGrpSpPr>
            <p:cNvPr id="4" name=""/>
            <p:cNvGrpSpPr/>
            <p:nvPr/>
          </p:nvGrpSpPr>
          <p:grpSpPr>
            <a:xfrm>
              <a:off x="249480" y="0"/>
              <a:ext cx="610920" cy="393840"/>
              <a:chOff x="249480" y="0"/>
              <a:chExt cx="610920" cy="393840"/>
            </a:xfrm>
          </p:grpSpPr>
          <p:sp>
            <p:nvSpPr>
              <p:cNvPr id="5" name=""/>
              <p:cNvSpPr/>
              <p:nvPr/>
            </p:nvSpPr>
            <p:spPr>
              <a:xfrm>
                <a:off x="249480" y="0"/>
                <a:ext cx="375840" cy="393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78520" y="0"/>
                <a:ext cx="281880" cy="393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356040" y="350280"/>
              <a:ext cx="633960" cy="393840"/>
              <a:chOff x="356040" y="350280"/>
              <a:chExt cx="633960" cy="393840"/>
            </a:xfrm>
          </p:grpSpPr>
          <p:sp>
            <p:nvSpPr>
              <p:cNvPr id="8" name=""/>
              <p:cNvSpPr/>
              <p:nvPr/>
            </p:nvSpPr>
            <p:spPr>
              <a:xfrm>
                <a:off x="356040" y="350280"/>
                <a:ext cx="362520" cy="393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72840" y="350280"/>
                <a:ext cx="317160" cy="393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" name=""/>
            <p:cNvSpPr/>
            <p:nvPr/>
          </p:nvSpPr>
          <p:spPr>
            <a:xfrm>
              <a:off x="0" y="289800"/>
              <a:ext cx="481680" cy="350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 flipV="1">
            <a:off x="457200" y="303840"/>
            <a:ext cx="7904160" cy="75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7162920" y="152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Times New Roman"/>
              </a:rPr>
              <a:t>员工素质提升训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2546280"/>
            <a:ext cx="1152000" cy="897120"/>
            <a:chOff x="0" y="2546280"/>
            <a:chExt cx="1152000" cy="897120"/>
          </a:xfrm>
        </p:grpSpPr>
        <p:grpSp>
          <p:nvGrpSpPr>
            <p:cNvPr id="52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6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16080" y="3260520"/>
            <a:ext cx="8692920" cy="55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hyperlink" Target="file://SAMSUNG/SYS/0%20&#22521;&#35757;&#28216;&#25103;/&#24773;&#20026;&#20309;&#29289;.exe" TargetMode="External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99"/>
                </a:solidFill>
                <a:latin typeface="Tahoma"/>
              </a:rPr>
              <a:t>拥有积极心态</a:t>
            </a:r>
            <a:endParaRPr b="1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365760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《职员素质提升训练》之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6400800" y="152280"/>
            <a:ext cx="2590560" cy="808920"/>
            <a:chOff x="6400800" y="152280"/>
            <a:chExt cx="2590560" cy="808920"/>
          </a:xfrm>
        </p:grpSpPr>
        <p:pic>
          <p:nvPicPr>
            <p:cNvPr id="102" name="图片 1" descr=""/>
            <p:cNvPicPr/>
            <p:nvPr/>
          </p:nvPicPr>
          <p:blipFill>
            <a:blip r:embed="rId1"/>
            <a:stretch/>
          </p:blipFill>
          <p:spPr>
            <a:xfrm>
              <a:off x="6400800" y="152280"/>
              <a:ext cx="200412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7965000" y="592920"/>
              <a:ext cx="102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Tahoma"/>
                  <a:ea typeface="PMingLiU"/>
                </a:rPr>
                <a:t>CHI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80880" y="990720"/>
            <a:ext cx="82296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1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态度很差，能力很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这类人只能用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人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形容，因为他们最容易成为裁员的对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态度与能力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2209680"/>
            <a:ext cx="82296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2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态度很好，能力很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这类人可称之为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人材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，给老板的感觉是：将就用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0880" y="3352680"/>
            <a:ext cx="82296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3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能力很强，态度很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他们对企业不认同。他们是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刚才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的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才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。对这类人才，老板很难用他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4876920"/>
            <a:ext cx="82296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4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能力很强，态度很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他们认同企业。这类人是给企业带来财富的人，用财富的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财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字来形容他。他是老板最喜欢的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80880" y="990720"/>
            <a:ext cx="8229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企业喜欢的人才是能给企业带来财富的人。他们能力强，态度也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态度与能力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828800" y="2438280"/>
          <a:ext cx="5638680" cy="3353040"/>
        </p:xfrm>
        <a:graphic>
          <a:graphicData uri="http://schemas.openxmlformats.org/drawingml/2006/table">
            <a:tbl>
              <a:tblPr/>
              <a:tblGrid>
                <a:gridCol w="2819520"/>
                <a:gridCol w="2819160"/>
              </a:tblGrid>
              <a:tr h="169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人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态度不错，就是干不了事。将就用吧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cf01"/>
                          </a:solidFill>
                          <a:latin typeface="Tahoma"/>
                        </a:rPr>
                        <a:t>人财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cf01"/>
                          </a:solidFill>
                          <a:latin typeface="Tahoma"/>
                        </a:rPr>
                        <a:t>态度好，又有能力。真是公司的财源呀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65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人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没有能力，态度又差。裁掉算了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人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能力挺强，就是态度太差。真是难用呀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e4a8"/>
                    </a:solidFill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 flipV="1">
            <a:off x="1295280" y="2209680"/>
            <a:ext cx="0" cy="3657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371600" y="6248520"/>
            <a:ext cx="6248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25146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态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96080" y="579132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能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838080" y="5029200"/>
            <a:ext cx="8305920" cy="5335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95280" y="914400"/>
            <a:ext cx="595440" cy="5943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838080"/>
            <a:ext cx="83059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有位秀才第三次进京赶考，住在一个经常住的店里。考试前两天他做了三个梦，第一个梦是梦到自己在墙上种白菜，第二个梦是下雨天，他戴了斗笠还打伞，第三个梦是梦到跟心爱的表妹脱光了衣服躺在一起，但是背靠着背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这三个梦似乎有些深意，秀才第二天就赶紧去找算命的解梦。算命的一听，连拍大腿说：“ 你还是回家吧。你想想，高墙上种菜不是白费劲吗？戴斗笠打雨伞不是多此一举 吗？跟表妹都脱光了躺在一张床上了，却背靠背，不是没戏吗？”秀才一听，心灰意冷，回店收拾包袱准备回家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店老板非常奇怪，问：“不是明天才考试吗，今天你怎么就回乡了？”秀才如此这般说了一番，店老板乐了：“哟，我也会解梦的。我倒觉得，你这次一定要留下来。你想想…………。秀才一听，更有道理，于是精神振奋地参加考试，居然中了个探花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8080" y="5029200"/>
            <a:ext cx="83059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墙上种菜不是高中吗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戴斗笠打伞不是说明你这次有备无患吗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跟你表妹脱光了背靠背躺在床上，不是说明你翻身的时候就要到了吗？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故事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-</a:t>
            </a: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赶考 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09480" y="1143000"/>
            <a:ext cx="6594480" cy="52056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305c7"/>
                </a:solidFill>
                <a:latin typeface="Tahoma"/>
                <a:ea typeface="黑体"/>
              </a:rPr>
              <a:t>对交提案的看法，不同态度不同结果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态度决定一切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1905120"/>
            <a:ext cx="7848720" cy="324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主管：这是一个好机会，本部门的意见有正式渠道能够向公司反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主管：有意见当面跟上司讲都不接纳，还提什么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主管：不要被别人利用提案攻击才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员工：上司能重视我们的意见，我一家务事要提出好的意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员工：科长要求提案数量，交差就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员工：又有新的花样，我打赌会不了了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3200" y="409320"/>
            <a:ext cx="77929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态度决定一切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7" name="AG00313_" descr=""/>
          <p:cNvPicPr/>
          <p:nvPr/>
        </p:nvPicPr>
        <p:blipFill>
          <a:blip r:embed="rId1"/>
          <a:stretch/>
        </p:blipFill>
        <p:spPr>
          <a:xfrm>
            <a:off x="533520" y="4114800"/>
            <a:ext cx="1225440" cy="17524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286000" y="2514600"/>
            <a:ext cx="5334120" cy="3581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2057040" y="4724280"/>
            <a:ext cx="30492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2057040" y="3733560"/>
            <a:ext cx="304920" cy="152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3581280" y="2514240"/>
            <a:ext cx="0" cy="2895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4343400" y="2514240"/>
            <a:ext cx="0" cy="2895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733920" y="4191120"/>
            <a:ext cx="1904760" cy="1904400"/>
            <a:chOff x="3733920" y="4191120"/>
            <a:chExt cx="1904760" cy="1904400"/>
          </a:xfrm>
        </p:grpSpPr>
        <p:sp>
          <p:nvSpPr>
            <p:cNvPr id="174" name=""/>
            <p:cNvSpPr/>
            <p:nvPr/>
          </p:nvSpPr>
          <p:spPr>
            <a:xfrm>
              <a:off x="3733920" y="4191120"/>
              <a:ext cx="533160" cy="11912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无文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419720" y="5486400"/>
              <a:ext cx="114300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有文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5638680" y="5486040"/>
              <a:ext cx="0" cy="609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010280" y="2590920"/>
            <a:ext cx="609840" cy="2425680"/>
            <a:chOff x="7010280" y="2590920"/>
            <a:chExt cx="609840" cy="2425680"/>
          </a:xfrm>
        </p:grpSpPr>
        <p:sp>
          <p:nvSpPr>
            <p:cNvPr id="178" name=""/>
            <p:cNvSpPr/>
            <p:nvPr/>
          </p:nvSpPr>
          <p:spPr>
            <a:xfrm>
              <a:off x="7010280" y="2590920"/>
              <a:ext cx="609840" cy="82548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无儿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010280" y="4191120"/>
              <a:ext cx="609840" cy="82548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有儿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2362320" y="3352680"/>
            <a:ext cx="1143000" cy="1983960"/>
            <a:chOff x="2362320" y="3352680"/>
            <a:chExt cx="1143000" cy="1983960"/>
          </a:xfrm>
        </p:grpSpPr>
        <p:sp>
          <p:nvSpPr>
            <p:cNvPr id="181" name=""/>
            <p:cNvSpPr/>
            <p:nvPr/>
          </p:nvSpPr>
          <p:spPr>
            <a:xfrm>
              <a:off x="2362320" y="4876920"/>
              <a:ext cx="11430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有房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62320" y="3352680"/>
              <a:ext cx="11430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无房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4419720" y="3733920"/>
            <a:ext cx="1904760" cy="2361600"/>
            <a:chOff x="4419720" y="3733920"/>
            <a:chExt cx="1904760" cy="2361600"/>
          </a:xfrm>
        </p:grpSpPr>
        <p:sp>
          <p:nvSpPr>
            <p:cNvPr id="184" name=""/>
            <p:cNvSpPr/>
            <p:nvPr/>
          </p:nvSpPr>
          <p:spPr>
            <a:xfrm>
              <a:off x="4419720" y="3733920"/>
              <a:ext cx="1143000" cy="45972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有车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638680" y="4267080"/>
              <a:ext cx="609840" cy="82548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无车子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6324480" y="4190760"/>
              <a:ext cx="0" cy="1904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5638680" y="3733920"/>
              <a:ext cx="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5638680" y="4191120"/>
            <a:ext cx="1295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4419720" y="2514600"/>
            <a:ext cx="2057400" cy="840600"/>
            <a:chOff x="4419720" y="2514600"/>
            <a:chExt cx="2057400" cy="840600"/>
          </a:xfrm>
        </p:grpSpPr>
        <p:sp>
          <p:nvSpPr>
            <p:cNvPr id="190" name=""/>
            <p:cNvSpPr/>
            <p:nvPr/>
          </p:nvSpPr>
          <p:spPr>
            <a:xfrm>
              <a:off x="5867280" y="2895480"/>
              <a:ext cx="609840" cy="45972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有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419720" y="2590920"/>
              <a:ext cx="1143000" cy="45972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c1c1c"/>
                  </a:solidFill>
                  <a:latin typeface="Times New Roman"/>
                </a:rPr>
                <a:t>无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5638680" y="2514600"/>
              <a:ext cx="0" cy="533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1295280" y="2514600"/>
            <a:ext cx="533520" cy="11912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  <a:effectLst>
            <a:outerShdw dist="107932" dir="135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Times New Roman"/>
              </a:rPr>
              <a:t>婚介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7543440" y="1143000"/>
            <a:ext cx="1322640" cy="5181480"/>
            <a:chOff x="7543440" y="1143000"/>
            <a:chExt cx="1322640" cy="5181480"/>
          </a:xfrm>
        </p:grpSpPr>
        <p:sp>
          <p:nvSpPr>
            <p:cNvPr id="195" name=""/>
            <p:cNvSpPr/>
            <p:nvPr/>
          </p:nvSpPr>
          <p:spPr>
            <a:xfrm flipH="1">
              <a:off x="7543440" y="2743200"/>
              <a:ext cx="30492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 flipV="1">
              <a:off x="7543440" y="3352320"/>
              <a:ext cx="30492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848720" y="1143000"/>
              <a:ext cx="990360" cy="5181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8" name="BD07196_" descr=""/>
            <p:cNvPicPr/>
            <p:nvPr/>
          </p:nvPicPr>
          <p:blipFill>
            <a:blip r:embed="rId2"/>
            <a:stretch/>
          </p:blipFill>
          <p:spPr>
            <a:xfrm>
              <a:off x="7696080" y="2438280"/>
              <a:ext cx="1170000" cy="133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BD06912_" descr=""/>
            <p:cNvPicPr/>
            <p:nvPr/>
          </p:nvPicPr>
          <p:blipFill>
            <a:blip r:embed="rId3"/>
            <a:stretch/>
          </p:blipFill>
          <p:spPr>
            <a:xfrm>
              <a:off x="8001000" y="4952880"/>
              <a:ext cx="762120" cy="571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0" name=""/>
          <p:cNvSpPr/>
          <p:nvPr/>
        </p:nvSpPr>
        <p:spPr>
          <a:xfrm>
            <a:off x="2743200" y="4343400"/>
            <a:ext cx="380880" cy="53352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38480" y="5410080"/>
            <a:ext cx="381240" cy="53352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724280" y="4191120"/>
            <a:ext cx="381240" cy="53316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486400" y="3048120"/>
            <a:ext cx="380880" cy="53316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629400" y="3048120"/>
            <a:ext cx="380880" cy="53316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20120" y="2819520"/>
            <a:ext cx="380880" cy="533160"/>
          </a:xfrm>
          <a:prstGeom prst="smileyFace">
            <a:avLst>
              <a:gd name="adj" fmla="val -4652"/>
            </a:avLst>
          </a:prstGeom>
          <a:solidFill>
            <a:srgbClr val="ffff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62920" y="533520"/>
            <a:ext cx="1447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情为何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26360" y="15238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操之在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5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态度决定一切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" y="1219320"/>
            <a:ext cx="8077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假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=1,  B=2,  C=3,  D=4,  E=5,  ******,  X=24,  Y=25,  Z=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3520" y="2819520"/>
            <a:ext cx="50292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Knowledge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知识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ard work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努力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ttitude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态度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410080" y="2819520"/>
            <a:ext cx="10670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9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5562720"/>
            <a:ext cx="67816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讨论：五次敲开微软之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WHOOSH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态度决定一切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533520" y="1600200"/>
            <a:ext cx="6705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情绪理论            创始人：艾利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主要内容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NTECEDEN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前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ELIE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信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ONSEQUENC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后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    论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事物本身并不影响人，人们只受对事物看法的影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5867280" y="2666880"/>
            <a:ext cx="2633400" cy="3103560"/>
            <a:chOff x="5867280" y="2666880"/>
            <a:chExt cx="2633400" cy="3103560"/>
          </a:xfrm>
        </p:grpSpPr>
        <p:pic>
          <p:nvPicPr>
            <p:cNvPr id="216" name="SY00452_" descr=""/>
            <p:cNvPicPr/>
            <p:nvPr/>
          </p:nvPicPr>
          <p:blipFill>
            <a:blip r:embed="rId1"/>
            <a:stretch/>
          </p:blipFill>
          <p:spPr>
            <a:xfrm>
              <a:off x="7391160" y="2895480"/>
              <a:ext cx="880920" cy="104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SY00453_" descr=""/>
            <p:cNvPicPr/>
            <p:nvPr/>
          </p:nvPicPr>
          <p:blipFill>
            <a:blip r:embed="rId2"/>
            <a:stretch/>
          </p:blipFill>
          <p:spPr>
            <a:xfrm>
              <a:off x="7619760" y="4724280"/>
              <a:ext cx="880920" cy="104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SY00451_" descr=""/>
            <p:cNvPicPr/>
            <p:nvPr/>
          </p:nvPicPr>
          <p:blipFill>
            <a:blip r:embed="rId3"/>
            <a:stretch/>
          </p:blipFill>
          <p:spPr>
            <a:xfrm>
              <a:off x="5867280" y="2666880"/>
              <a:ext cx="880920" cy="104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6629040" y="3657600"/>
              <a:ext cx="914400" cy="1066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建立自信心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990720" y="533412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坐在会场最前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90720" y="106668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大方开朗的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066680" y="28195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步子加快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0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66680" y="19051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注视对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E03557_" descr=""/>
          <p:cNvPicPr/>
          <p:nvPr/>
        </p:nvPicPr>
        <p:blipFill>
          <a:blip r:embed="rId1"/>
          <a:stretch/>
        </p:blipFill>
        <p:spPr>
          <a:xfrm>
            <a:off x="5257800" y="1676520"/>
            <a:ext cx="3276720" cy="30780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219320" y="449568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抢先发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14400" y="365760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大声说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90360" y="380880"/>
            <a:ext cx="7489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建立自信心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"/>
          <p:cNvSpPr/>
          <p:nvPr/>
        </p:nvSpPr>
        <p:spPr>
          <a:xfrm>
            <a:off x="1219320" y="2332440"/>
            <a:ext cx="4038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我是最棒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我是最优秀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我是成功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248520" y="1295280"/>
            <a:ext cx="2286000" cy="16002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" y="1981080"/>
            <a:ext cx="4724280" cy="3505320"/>
          </a:xfrm>
          <a:prstGeom prst="wedgeEllipseCallout">
            <a:avLst>
              <a:gd name="adj1" fmla="val 75972"/>
              <a:gd name="adj2" fmla="val 1639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Ag00010_" descr=""/>
          <p:cNvPicPr/>
          <p:nvPr/>
        </p:nvPicPr>
        <p:blipFill>
          <a:blip r:embed="rId1"/>
          <a:stretch/>
        </p:blipFill>
        <p:spPr>
          <a:xfrm>
            <a:off x="6248520" y="3886200"/>
            <a:ext cx="2361960" cy="22478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3276720" y="91440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自我暗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阳光思维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" y="1066680"/>
            <a:ext cx="8077320" cy="246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客观条件受制于人，并不足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重要的是，我们有选择的自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可以对现实环境积极回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为生命负责，为自己创造有利的机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BD05548_" descr=""/>
          <p:cNvPicPr/>
          <p:nvPr/>
        </p:nvPicPr>
        <p:blipFill>
          <a:blip r:embed="rId1"/>
          <a:stretch/>
        </p:blipFill>
        <p:spPr>
          <a:xfrm>
            <a:off x="5867280" y="2819520"/>
            <a:ext cx="2768760" cy="34653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6698160" y="1647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主动积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课程大纲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7238880" y="609480"/>
            <a:ext cx="1625400" cy="1586880"/>
            <a:chOff x="7238880" y="609480"/>
            <a:chExt cx="1625400" cy="1586880"/>
          </a:xfrm>
        </p:grpSpPr>
        <p:pic>
          <p:nvPicPr>
            <p:cNvPr id="106" name="BD05629_" descr=""/>
            <p:cNvPicPr/>
            <p:nvPr/>
          </p:nvPicPr>
          <p:blipFill>
            <a:blip r:embed="rId1">
              <a:lum contrast="18000"/>
            </a:blip>
            <a:stretch/>
          </p:blipFill>
          <p:spPr>
            <a:xfrm>
              <a:off x="7238880" y="609480"/>
              <a:ext cx="1625400" cy="124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7478640" y="1797480"/>
              <a:ext cx="127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ahoma"/>
                </a:rPr>
                <a:t>课程内容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685800" y="1219320"/>
            <a:ext cx="4648320" cy="379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态度与能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态度决定一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建立自信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阳光思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胸怀感恩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七大成功信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实践计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457200" y="1066680"/>
            <a:ext cx="8305920" cy="50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寻找每个人身上最好的东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你眼睛盯住什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你肯定就能看到什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寻找别人身上最好的东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能促使他们努力做到最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并且创造出一个积极的、卓有成效的环境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BD07218_" descr=""/>
          <p:cNvPicPr/>
          <p:nvPr/>
        </p:nvPicPr>
        <p:blipFill>
          <a:blip r:embed="rId1"/>
          <a:stretch/>
        </p:blipFill>
        <p:spPr>
          <a:xfrm>
            <a:off x="6172200" y="2209680"/>
            <a:ext cx="2286000" cy="259236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阳光思维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3200" y="409320"/>
            <a:ext cx="77929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阳光思维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42" name="BD07160_" descr=""/>
          <p:cNvPicPr/>
          <p:nvPr/>
        </p:nvPicPr>
        <p:blipFill>
          <a:blip r:embed="rId1"/>
          <a:stretch/>
        </p:blipFill>
        <p:spPr>
          <a:xfrm>
            <a:off x="5334120" y="3289320"/>
            <a:ext cx="3047760" cy="291456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685800" y="1676520"/>
            <a:ext cx="5867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华文行楷"/>
                <a:ea typeface="华文行楷"/>
              </a:rPr>
              <a:t>找出对方  </a:t>
            </a:r>
            <a:r>
              <a:rPr b="1" lang="zh-CN" sz="3600" spc="-1" strike="noStrike">
                <a:solidFill>
                  <a:srgbClr val="cc0000"/>
                </a:solidFill>
                <a:latin typeface="华文行楷"/>
                <a:ea typeface="华文行楷"/>
              </a:rPr>
              <a:t>10</a:t>
            </a:r>
            <a:r>
              <a:rPr b="1" lang="zh-CN" sz="3600" spc="-1" strike="noStrike">
                <a:solidFill>
                  <a:srgbClr val="cc0000"/>
                </a:solidFill>
                <a:latin typeface="华文行楷"/>
                <a:ea typeface="华文行楷"/>
              </a:rPr>
              <a:t>个  优点</a:t>
            </a:r>
            <a:r>
              <a:rPr b="1" lang="zh-CN" sz="3600" spc="-1" strike="noStrike">
                <a:solidFill>
                  <a:srgbClr val="cc0000"/>
                </a:solidFill>
                <a:latin typeface="华文行楷"/>
                <a:ea typeface="华文行楷"/>
              </a:rPr>
              <a:t>/</a:t>
            </a:r>
            <a:r>
              <a:rPr b="1" lang="zh-CN" sz="3600" spc="-1" strike="noStrike">
                <a:solidFill>
                  <a:srgbClr val="cc0000"/>
                </a:solidFill>
                <a:latin typeface="华文行楷"/>
                <a:ea typeface="华文行楷"/>
              </a:rPr>
              <a:t>缺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华文行楷"/>
                <a:ea typeface="华文行楷"/>
              </a:rPr>
              <a:t>学员演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阳光思维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1752480"/>
            <a:ext cx="7848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把解决难题和完成目标当成一种乐趣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解决问题，不要成为问题的一部分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好的环境是一种磨练，能使自己将来独当一面时更成熟更有经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9480" y="4267080"/>
            <a:ext cx="5105520" cy="17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积极的人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不会把行为归咎于环境或他人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不会选择受制于“环境”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BS02044_" descr=""/>
          <p:cNvPicPr/>
          <p:nvPr/>
        </p:nvPicPr>
        <p:blipFill>
          <a:blip r:embed="rId1"/>
          <a:stretch/>
        </p:blipFill>
        <p:spPr>
          <a:xfrm>
            <a:off x="6705720" y="3657600"/>
            <a:ext cx="1909800" cy="274464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4877640" y="73512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楷体_GB2312"/>
              </a:rPr>
              <a:t>视困难为乐趣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3200" y="409320"/>
            <a:ext cx="77929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阳光思维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0" name=""/>
          <p:cNvSpPr/>
          <p:nvPr/>
        </p:nvSpPr>
        <p:spPr>
          <a:xfrm>
            <a:off x="685800" y="1600200"/>
            <a:ext cx="693432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太棒了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这样的事情竟然发生在我的身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又给了我一次成长的机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凡事的发生必有其因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必有助于我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PE06995_" descr=""/>
          <p:cNvPicPr/>
          <p:nvPr/>
        </p:nvPicPr>
        <p:blipFill>
          <a:blip r:embed="rId1"/>
          <a:stretch/>
        </p:blipFill>
        <p:spPr>
          <a:xfrm>
            <a:off x="6095880" y="3733920"/>
            <a:ext cx="2743200" cy="24732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3962520" y="914400"/>
            <a:ext cx="4343400" cy="7034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故事：牛仔大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685800" y="1447920"/>
            <a:ext cx="5334120" cy="175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lvl="1" marL="457200"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对人生、对大自然的一切东西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心存感激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人生就会美好许多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629400" y="2438280"/>
            <a:ext cx="1676520" cy="147708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珍视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拥有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BD05546_" descr=""/>
          <p:cNvPicPr/>
          <p:nvPr/>
        </p:nvPicPr>
        <p:blipFill>
          <a:blip r:embed="rId1"/>
          <a:stretch/>
        </p:blipFill>
        <p:spPr>
          <a:xfrm>
            <a:off x="4038480" y="3886200"/>
            <a:ext cx="2532240" cy="255276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胸怀感恩心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E03488_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439040" y="4343400"/>
            <a:ext cx="1704960" cy="20574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533520" y="1143000"/>
            <a:ext cx="7315200" cy="441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恩伤害我的人，因为他磨练了我的心志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恩绊倒我的人，因为他强化了我的双腿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恩欺骗我的人，因为他增进了我的智慧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恩蔑视我的人，因为他醒觉了我的自尊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恩遗弃我的人，因为他培养了我的自立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……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永远心存感恩， 感恩一切使我成长的人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胸怀感恩心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 spd="slow">
    <p:random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457200" y="1523880"/>
            <a:ext cx="4267080" cy="2128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来自偶然，象一颗尘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谁看出我的脆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来自何方，我情归何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谁在下一刻呼唤我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105520" y="3581280"/>
            <a:ext cx="3733560" cy="2128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感恩的心，感谢有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伴我一生，让我有勇气做我自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感恩的心，感谢命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花开花落，我一样会珍惜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" y="4038480"/>
            <a:ext cx="4267080" cy="2128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地虽宽，这条路却难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看遍这人间坎坷辛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还有多少爱，我还有多少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要苍天知道，我不认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AN01629_" descr=""/>
          <p:cNvPicPr/>
          <p:nvPr/>
        </p:nvPicPr>
        <p:blipFill>
          <a:blip r:embed="rId1"/>
          <a:stretch/>
        </p:blipFill>
        <p:spPr>
          <a:xfrm>
            <a:off x="5334120" y="914400"/>
            <a:ext cx="3458880" cy="13860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5029200" y="2743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胸怀感恩心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"/>
          <p:cNvSpPr/>
          <p:nvPr/>
        </p:nvSpPr>
        <p:spPr>
          <a:xfrm>
            <a:off x="6488280" y="2538360"/>
            <a:ext cx="79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《感恩的心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762120" y="1219320"/>
            <a:ext cx="7848360" cy="379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每件事的发生，必有其原因，皆有利于我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没有失败，只有结果；过去并不代表未来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每个人都有无限的潜力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我是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100%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负责任的人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我热爱自己的工作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每天进步一点点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立即行动，全力以赴，坚持到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七大成功信念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Q&amp;A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" name=""/>
          <p:cNvSpPr/>
          <p:nvPr/>
        </p:nvSpPr>
        <p:spPr>
          <a:xfrm>
            <a:off x="352440" y="14479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52440" y="19051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52440" y="23623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52440" y="28195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52440" y="32767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52440" y="37339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52440" y="41911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52440" y="46483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52440" y="51055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52440" y="55627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52440" y="6019920"/>
            <a:ext cx="815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7391520" y="533520"/>
            <a:ext cx="1600200" cy="1454400"/>
            <a:chOff x="7391520" y="533520"/>
            <a:chExt cx="1600200" cy="1454400"/>
          </a:xfrm>
        </p:grpSpPr>
        <p:pic>
          <p:nvPicPr>
            <p:cNvPr id="282" name="j0283248" descr=""/>
            <p:cNvPicPr/>
            <p:nvPr/>
          </p:nvPicPr>
          <p:blipFill>
            <a:blip r:embed="rId1">
              <a:lum contrast="42000"/>
            </a:blip>
            <a:stretch/>
          </p:blipFill>
          <p:spPr>
            <a:xfrm>
              <a:off x="7391520" y="533520"/>
              <a:ext cx="1600200" cy="11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7471080" y="1589040"/>
              <a:ext cx="1360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ahoma"/>
                </a:rPr>
                <a:t>要点整理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7315200" y="2133720"/>
            <a:ext cx="1600200" cy="1618200"/>
            <a:chOff x="7315200" y="2133720"/>
            <a:chExt cx="1600200" cy="1618200"/>
          </a:xfrm>
        </p:grpSpPr>
        <p:pic>
          <p:nvPicPr>
            <p:cNvPr id="285" name="BD07161_" descr=""/>
            <p:cNvPicPr/>
            <p:nvPr/>
          </p:nvPicPr>
          <p:blipFill>
            <a:blip r:embed="rId2"/>
            <a:stretch/>
          </p:blipFill>
          <p:spPr>
            <a:xfrm>
              <a:off x="7315200" y="2133720"/>
              <a:ext cx="152388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7315200" y="335304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ahoma"/>
                </a:rPr>
                <a:t>三人学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实践计划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7315200" y="685800"/>
            <a:ext cx="1676520" cy="1541520"/>
            <a:chOff x="7315200" y="685800"/>
            <a:chExt cx="1676520" cy="1541520"/>
          </a:xfrm>
        </p:grpSpPr>
        <p:graphicFrame>
          <p:nvGraphicFramePr>
            <p:cNvPr id="289" name=""/>
            <p:cNvGraphicFramePr/>
            <p:nvPr/>
          </p:nvGraphicFramePr>
          <p:xfrm>
            <a:off x="7315200" y="685800"/>
            <a:ext cx="1676520" cy="1180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9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315200" y="685800"/>
                      <a:ext cx="1676520" cy="118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1" name=""/>
            <p:cNvSpPr/>
            <p:nvPr/>
          </p:nvSpPr>
          <p:spPr>
            <a:xfrm>
              <a:off x="7391520" y="1828440"/>
              <a:ext cx="1257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ahoma"/>
                </a:rPr>
                <a:t>实践计划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457200" y="990720"/>
            <a:ext cx="6629400" cy="157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本课程我感触最深的地方是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57200" y="2666880"/>
            <a:ext cx="6629400" cy="379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我将在自己的工作（生活）中改变如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315200" y="2666880"/>
            <a:ext cx="1447920" cy="379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预计期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1447920"/>
            <a:ext cx="7694640" cy="34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Times New Roman"/>
              </a:rPr>
              <a:t>尚维强的信念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Times New Roman"/>
              </a:rPr>
              <a:t>尚维强的价值观变迁过程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9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Times New Roman"/>
              </a:rPr>
              <a:t>我的启发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影片欣赏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1" name="movie1" descr=""/>
          <p:cNvPicPr/>
          <p:nvPr/>
        </p:nvPicPr>
        <p:blipFill>
          <a:blip r:embed="rId1"/>
          <a:stretch/>
        </p:blipFill>
        <p:spPr>
          <a:xfrm>
            <a:off x="6781680" y="2743200"/>
            <a:ext cx="1708200" cy="19810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248520" y="1981080"/>
            <a:ext cx="2514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组总结后发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219320" y="1828800"/>
            <a:ext cx="7238880" cy="30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第一个推销员：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失望地放弃努力，失败沮丧而回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另一个推销员：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宋体"/>
              </a:rPr>
              <a:t>惊喜万分，最后发大财而归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故事：两个皮鞋推销员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33520" y="990720"/>
            <a:ext cx="7696080" cy="323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E05779_" descr=""/>
          <p:cNvPicPr/>
          <p:nvPr/>
        </p:nvPicPr>
        <p:blipFill>
          <a:blip r:embed="rId1"/>
          <a:stretch/>
        </p:blipFill>
        <p:spPr>
          <a:xfrm>
            <a:off x="5105520" y="3276720"/>
            <a:ext cx="3504960" cy="29271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讨论：成功是因为什么？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609480" y="1752480"/>
            <a:ext cx="8229600" cy="4572000"/>
            <a:chOff x="609480" y="1752480"/>
            <a:chExt cx="8229600" cy="4572000"/>
          </a:xfrm>
        </p:grpSpPr>
        <p:sp>
          <p:nvSpPr>
            <p:cNvPr id="119" name=""/>
            <p:cNvSpPr/>
            <p:nvPr/>
          </p:nvSpPr>
          <p:spPr>
            <a:xfrm>
              <a:off x="685800" y="1752480"/>
              <a:ext cx="2741760" cy="56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193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100" spc="-1" strike="noStrike">
                  <a:solidFill>
                    <a:srgbClr val="000000"/>
                  </a:solidFill>
                  <a:latin typeface="Times New Roman"/>
                </a:rPr>
                <a:t>成功是因为：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0" name=""/>
            <p:cNvGraphicFramePr/>
            <p:nvPr/>
          </p:nvGraphicFramePr>
          <p:xfrm>
            <a:off x="1143000" y="2057400"/>
            <a:ext cx="7238880" cy="4267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43000" y="2057400"/>
                      <a:ext cx="7238880" cy="426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2" name=""/>
            <p:cNvSpPr/>
            <p:nvPr/>
          </p:nvSpPr>
          <p:spPr>
            <a:xfrm>
              <a:off x="6858000" y="2209680"/>
              <a:ext cx="1828800" cy="3796920"/>
            </a:xfrm>
            <a:prstGeom prst="rect">
              <a:avLst/>
            </a:prstGeom>
            <a:solidFill>
              <a:srgbClr val="ff99ff"/>
            </a:solidFill>
            <a:ln w="0">
              <a:noFill/>
            </a:ln>
            <a:effectLst>
              <a:outerShdw dist="107932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态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技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其它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696080" y="3809880"/>
              <a:ext cx="1143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13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96080" y="487692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c0000"/>
                  </a:solidFill>
                  <a:latin typeface="Times New Roman"/>
                </a:rPr>
                <a:t>7%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5" name="PE02947_" descr=""/>
            <p:cNvPicPr/>
            <p:nvPr/>
          </p:nvPicPr>
          <p:blipFill>
            <a:blip r:embed="rId3"/>
            <a:stretch/>
          </p:blipFill>
          <p:spPr>
            <a:xfrm>
              <a:off x="609480" y="3733920"/>
              <a:ext cx="2124360" cy="224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" name=""/>
          <p:cNvSpPr/>
          <p:nvPr/>
        </p:nvSpPr>
        <p:spPr>
          <a:xfrm>
            <a:off x="7772400" y="26668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8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讨论：成功是因为什么？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4191120" y="1143000"/>
            <a:ext cx="441936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讨论：把信带给加西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4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" y="1219320"/>
            <a:ext cx="8229600" cy="363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 Unicode MS"/>
              </a:rPr>
              <a:t>愤世嫉俗，认为人性丑恶，与人不和；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 Unicode MS"/>
              </a:rPr>
              <a:t>没有目标， 缺乏动力，不思进取；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 Unicode MS"/>
              </a:rPr>
              <a:t>缺乏恒心，经常为自己寻找借口和合理化的理由；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 Unicode MS"/>
              </a:rPr>
              <a:t>心存侥幸，不愿付出；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 Unicode MS"/>
              </a:rPr>
              <a:t>固执己见，不能宽容人；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 Unicode MS"/>
              </a:rPr>
              <a:t>自卑懦弱，无所事事；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437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Arial Unicode MS"/>
              </a:rPr>
              <a:t>自高自大， 清高虚荣，不守信用，等等。</a:t>
            </a:r>
            <a:r>
              <a:rPr b="1" lang="zh-CN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81680" y="4495680"/>
            <a:ext cx="1676520" cy="1752840"/>
          </a:xfrm>
          <a:prstGeom prst="smileyFace">
            <a:avLst>
              <a:gd name="adj" fmla="val -4652"/>
            </a:avLst>
          </a:prstGeom>
          <a:solidFill>
            <a:srgbClr val="0066ff"/>
          </a:solidFill>
          <a:ln w="7632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消极心态的人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 spd="slow">
    <p:random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762120" y="1371600"/>
            <a:ext cx="4876560" cy="3631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687"/>
              </a:spcBef>
              <a:buClr>
                <a:srgbClr val="cc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c0000"/>
                </a:solidFill>
                <a:latin typeface="Arial Unicode MS"/>
              </a:rPr>
              <a:t>有必胜的信念；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687"/>
              </a:spcBef>
              <a:buClr>
                <a:srgbClr val="cc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c0000"/>
                </a:solidFill>
                <a:latin typeface="Arial Unicode MS"/>
              </a:rPr>
              <a:t>善于称赞别人；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687"/>
              </a:spcBef>
              <a:buClr>
                <a:srgbClr val="cc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c0000"/>
                </a:solidFill>
                <a:latin typeface="Arial Unicode MS"/>
              </a:rPr>
              <a:t>乐于助人，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687"/>
              </a:spcBef>
              <a:buClr>
                <a:srgbClr val="cc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c0000"/>
                </a:solidFill>
                <a:latin typeface="Arial Unicode MS"/>
              </a:rPr>
              <a:t>具有奉献精神；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687"/>
              </a:spcBef>
              <a:buClr>
                <a:srgbClr val="cc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c0000"/>
                </a:solidFill>
                <a:latin typeface="Arial Unicode MS"/>
              </a:rPr>
              <a:t>微笑常在，乐观自信；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687"/>
              </a:spcBef>
              <a:buClr>
                <a:srgbClr val="cc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c0000"/>
                </a:solidFill>
                <a:latin typeface="Arial Unicode MS"/>
              </a:rPr>
              <a:t>能使别人感到你的重要。</a:t>
            </a:r>
            <a:r>
              <a:rPr b="1" lang="zh-CN" sz="27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Ag00433_" descr=""/>
          <p:cNvPicPr/>
          <p:nvPr/>
        </p:nvPicPr>
        <p:blipFill>
          <a:blip r:embed="rId1"/>
          <a:stretch/>
        </p:blipFill>
        <p:spPr>
          <a:xfrm>
            <a:off x="5486400" y="1752480"/>
            <a:ext cx="3048120" cy="24037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积极心态的人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 spd="slow">
    <p:random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04920" y="6553080"/>
            <a:ext cx="8686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48120" y="3429000"/>
            <a:ext cx="3047760" cy="3048120"/>
          </a:xfrm>
          <a:custGeom>
            <a:avLst/>
            <a:gdLst>
              <a:gd name="textAreaLeft" fmla="*/ 528120 w 3047760"/>
              <a:gd name="textAreaRight" fmla="*/ 2519640 w 3047760"/>
              <a:gd name="textAreaTop" fmla="*/ 528120 h 3048120"/>
              <a:gd name="textAreaBottom" fmla="*/ 2520000 h 3048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60" y="11670"/>
                </a:lnTo>
                <a:lnTo>
                  <a:pt x="198" y="12861"/>
                </a:lnTo>
                <a:lnTo>
                  <a:pt x="1209" y="13550"/>
                </a:lnTo>
                <a:lnTo>
                  <a:pt x="786" y="14846"/>
                </a:lnTo>
                <a:lnTo>
                  <a:pt x="1990" y="15484"/>
                </a:lnTo>
                <a:lnTo>
                  <a:pt x="1742" y="16682"/>
                </a:lnTo>
                <a:lnTo>
                  <a:pt x="3046" y="17079"/>
                </a:lnTo>
                <a:lnTo>
                  <a:pt x="3163" y="18437"/>
                </a:lnTo>
                <a:lnTo>
                  <a:pt x="4386" y="18444"/>
                </a:lnTo>
                <a:lnTo>
                  <a:pt x="4761" y="19754"/>
                </a:lnTo>
                <a:lnTo>
                  <a:pt x="5963" y="19527"/>
                </a:lnTo>
                <a:lnTo>
                  <a:pt x="6580" y="20741"/>
                </a:lnTo>
                <a:lnTo>
                  <a:pt x="7883" y="20342"/>
                </a:lnTo>
                <a:lnTo>
                  <a:pt x="8555" y="21364"/>
                </a:lnTo>
                <a:lnTo>
                  <a:pt x="9757" y="20723"/>
                </a:lnTo>
                <a:lnTo>
                  <a:pt x="10800" y="21600"/>
                </a:lnTo>
                <a:lnTo>
                  <a:pt x="11670" y="20740"/>
                </a:lnTo>
                <a:lnTo>
                  <a:pt x="12861" y="21402"/>
                </a:lnTo>
                <a:lnTo>
                  <a:pt x="13550" y="20391"/>
                </a:lnTo>
                <a:lnTo>
                  <a:pt x="14846" y="20814"/>
                </a:lnTo>
                <a:lnTo>
                  <a:pt x="15484" y="19610"/>
                </a:lnTo>
                <a:lnTo>
                  <a:pt x="16682" y="19858"/>
                </a:lnTo>
                <a:lnTo>
                  <a:pt x="17079" y="18554"/>
                </a:lnTo>
                <a:lnTo>
                  <a:pt x="18437" y="18437"/>
                </a:lnTo>
                <a:lnTo>
                  <a:pt x="18444" y="17214"/>
                </a:lnTo>
                <a:lnTo>
                  <a:pt x="19754" y="16839"/>
                </a:lnTo>
                <a:lnTo>
                  <a:pt x="19527" y="15637"/>
                </a:lnTo>
                <a:lnTo>
                  <a:pt x="20741" y="15020"/>
                </a:lnTo>
                <a:lnTo>
                  <a:pt x="20342" y="13717"/>
                </a:lnTo>
                <a:lnTo>
                  <a:pt x="21364" y="13045"/>
                </a:lnTo>
                <a:lnTo>
                  <a:pt x="20723" y="11843"/>
                </a:lnTo>
                <a:lnTo>
                  <a:pt x="21600" y="10800"/>
                </a:lnTo>
                <a:lnTo>
                  <a:pt x="20740" y="9930"/>
                </a:lnTo>
                <a:lnTo>
                  <a:pt x="21402" y="8739"/>
                </a:lnTo>
                <a:lnTo>
                  <a:pt x="20391" y="8050"/>
                </a:lnTo>
                <a:lnTo>
                  <a:pt x="20814" y="6754"/>
                </a:lnTo>
                <a:lnTo>
                  <a:pt x="19610" y="6116"/>
                </a:lnTo>
                <a:lnTo>
                  <a:pt x="19858" y="4918"/>
                </a:lnTo>
                <a:lnTo>
                  <a:pt x="18554" y="4521"/>
                </a:lnTo>
                <a:lnTo>
                  <a:pt x="18437" y="3163"/>
                </a:lnTo>
                <a:lnTo>
                  <a:pt x="17214" y="3156"/>
                </a:lnTo>
                <a:lnTo>
                  <a:pt x="16839" y="1846"/>
                </a:lnTo>
                <a:lnTo>
                  <a:pt x="15637" y="2073"/>
                </a:lnTo>
                <a:lnTo>
                  <a:pt x="15020" y="859"/>
                </a:lnTo>
                <a:lnTo>
                  <a:pt x="13717" y="1258"/>
                </a:lnTo>
                <a:lnTo>
                  <a:pt x="13045" y="236"/>
                </a:lnTo>
                <a:lnTo>
                  <a:pt x="11843" y="877"/>
                </a:lnTo>
                <a:lnTo>
                  <a:pt x="10800" y="0"/>
                </a:lnTo>
                <a:lnTo>
                  <a:pt x="9930" y="860"/>
                </a:lnTo>
                <a:lnTo>
                  <a:pt x="8739" y="198"/>
                </a:lnTo>
                <a:lnTo>
                  <a:pt x="8050" y="1209"/>
                </a:lnTo>
                <a:lnTo>
                  <a:pt x="6754" y="786"/>
                </a:lnTo>
                <a:lnTo>
                  <a:pt x="6116" y="1990"/>
                </a:lnTo>
                <a:lnTo>
                  <a:pt x="4918" y="1742"/>
                </a:lnTo>
                <a:lnTo>
                  <a:pt x="4521" y="3046"/>
                </a:lnTo>
                <a:lnTo>
                  <a:pt x="3163" y="3163"/>
                </a:lnTo>
                <a:lnTo>
                  <a:pt x="3156" y="4386"/>
                </a:lnTo>
                <a:lnTo>
                  <a:pt x="1846" y="4761"/>
                </a:lnTo>
                <a:lnTo>
                  <a:pt x="2073" y="5963"/>
                </a:lnTo>
                <a:lnTo>
                  <a:pt x="859" y="6580"/>
                </a:lnTo>
                <a:lnTo>
                  <a:pt x="1258" y="7883"/>
                </a:lnTo>
                <a:lnTo>
                  <a:pt x="236" y="8555"/>
                </a:lnTo>
                <a:lnTo>
                  <a:pt x="877" y="9757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28800" y="3429000"/>
            <a:ext cx="1447920" cy="1447920"/>
          </a:xfrm>
          <a:custGeom>
            <a:avLst/>
            <a:gdLst>
              <a:gd name="textAreaLeft" fmla="*/ 250920 w 1447920"/>
              <a:gd name="textAreaRight" fmla="*/ 1197000 w 1447920"/>
              <a:gd name="textAreaTop" fmla="*/ 250920 h 1447920"/>
              <a:gd name="textAreaBottom" fmla="*/ 119700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60" y="11670"/>
                </a:lnTo>
                <a:lnTo>
                  <a:pt x="198" y="12861"/>
                </a:lnTo>
                <a:lnTo>
                  <a:pt x="1209" y="13550"/>
                </a:lnTo>
                <a:lnTo>
                  <a:pt x="786" y="14846"/>
                </a:lnTo>
                <a:lnTo>
                  <a:pt x="1990" y="15484"/>
                </a:lnTo>
                <a:lnTo>
                  <a:pt x="1742" y="16682"/>
                </a:lnTo>
                <a:lnTo>
                  <a:pt x="3046" y="17079"/>
                </a:lnTo>
                <a:lnTo>
                  <a:pt x="3163" y="18437"/>
                </a:lnTo>
                <a:lnTo>
                  <a:pt x="4386" y="18444"/>
                </a:lnTo>
                <a:lnTo>
                  <a:pt x="4761" y="19754"/>
                </a:lnTo>
                <a:lnTo>
                  <a:pt x="5963" y="19527"/>
                </a:lnTo>
                <a:lnTo>
                  <a:pt x="6580" y="20741"/>
                </a:lnTo>
                <a:lnTo>
                  <a:pt x="7883" y="20342"/>
                </a:lnTo>
                <a:lnTo>
                  <a:pt x="8555" y="21364"/>
                </a:lnTo>
                <a:lnTo>
                  <a:pt x="9757" y="20723"/>
                </a:lnTo>
                <a:lnTo>
                  <a:pt x="10800" y="21600"/>
                </a:lnTo>
                <a:lnTo>
                  <a:pt x="11670" y="20740"/>
                </a:lnTo>
                <a:lnTo>
                  <a:pt x="12861" y="21402"/>
                </a:lnTo>
                <a:lnTo>
                  <a:pt x="13550" y="20391"/>
                </a:lnTo>
                <a:lnTo>
                  <a:pt x="14846" y="20814"/>
                </a:lnTo>
                <a:lnTo>
                  <a:pt x="15484" y="19610"/>
                </a:lnTo>
                <a:lnTo>
                  <a:pt x="16682" y="19858"/>
                </a:lnTo>
                <a:lnTo>
                  <a:pt x="17079" y="18554"/>
                </a:lnTo>
                <a:lnTo>
                  <a:pt x="18437" y="18437"/>
                </a:lnTo>
                <a:lnTo>
                  <a:pt x="18444" y="17214"/>
                </a:lnTo>
                <a:lnTo>
                  <a:pt x="19754" y="16839"/>
                </a:lnTo>
                <a:lnTo>
                  <a:pt x="19527" y="15637"/>
                </a:lnTo>
                <a:lnTo>
                  <a:pt x="20741" y="15020"/>
                </a:lnTo>
                <a:lnTo>
                  <a:pt x="20342" y="13717"/>
                </a:lnTo>
                <a:lnTo>
                  <a:pt x="21364" y="13045"/>
                </a:lnTo>
                <a:lnTo>
                  <a:pt x="20723" y="11843"/>
                </a:lnTo>
                <a:lnTo>
                  <a:pt x="21600" y="10800"/>
                </a:lnTo>
                <a:lnTo>
                  <a:pt x="20740" y="9930"/>
                </a:lnTo>
                <a:lnTo>
                  <a:pt x="21402" y="8739"/>
                </a:lnTo>
                <a:lnTo>
                  <a:pt x="20391" y="8050"/>
                </a:lnTo>
                <a:lnTo>
                  <a:pt x="20814" y="6754"/>
                </a:lnTo>
                <a:lnTo>
                  <a:pt x="19610" y="6116"/>
                </a:lnTo>
                <a:lnTo>
                  <a:pt x="19858" y="4918"/>
                </a:lnTo>
                <a:lnTo>
                  <a:pt x="18554" y="4521"/>
                </a:lnTo>
                <a:lnTo>
                  <a:pt x="18437" y="3163"/>
                </a:lnTo>
                <a:lnTo>
                  <a:pt x="17214" y="3156"/>
                </a:lnTo>
                <a:lnTo>
                  <a:pt x="16839" y="1846"/>
                </a:lnTo>
                <a:lnTo>
                  <a:pt x="15637" y="2073"/>
                </a:lnTo>
                <a:lnTo>
                  <a:pt x="15020" y="859"/>
                </a:lnTo>
                <a:lnTo>
                  <a:pt x="13717" y="1258"/>
                </a:lnTo>
                <a:lnTo>
                  <a:pt x="13045" y="236"/>
                </a:lnTo>
                <a:lnTo>
                  <a:pt x="11843" y="877"/>
                </a:lnTo>
                <a:lnTo>
                  <a:pt x="10800" y="0"/>
                </a:lnTo>
                <a:lnTo>
                  <a:pt x="9930" y="860"/>
                </a:lnTo>
                <a:lnTo>
                  <a:pt x="8739" y="198"/>
                </a:lnTo>
                <a:lnTo>
                  <a:pt x="8050" y="1209"/>
                </a:lnTo>
                <a:lnTo>
                  <a:pt x="6754" y="786"/>
                </a:lnTo>
                <a:lnTo>
                  <a:pt x="6116" y="1990"/>
                </a:lnTo>
                <a:lnTo>
                  <a:pt x="4918" y="1742"/>
                </a:lnTo>
                <a:lnTo>
                  <a:pt x="4521" y="3046"/>
                </a:lnTo>
                <a:lnTo>
                  <a:pt x="3163" y="3163"/>
                </a:lnTo>
                <a:lnTo>
                  <a:pt x="3156" y="4386"/>
                </a:lnTo>
                <a:lnTo>
                  <a:pt x="1846" y="4761"/>
                </a:lnTo>
                <a:lnTo>
                  <a:pt x="2073" y="5963"/>
                </a:lnTo>
                <a:lnTo>
                  <a:pt x="859" y="6580"/>
                </a:lnTo>
                <a:lnTo>
                  <a:pt x="1258" y="7883"/>
                </a:lnTo>
                <a:lnTo>
                  <a:pt x="236" y="8555"/>
                </a:lnTo>
                <a:lnTo>
                  <a:pt x="877" y="9757"/>
                </a:lnTo>
                <a:lnTo>
                  <a:pt x="0" y="10800"/>
                </a:lnTo>
                <a:close/>
              </a:path>
            </a:pathLst>
          </a:custGeom>
          <a:solidFill>
            <a:srgbClr val="1305c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ahoma"/>
                <a:ea typeface="黑体"/>
              </a:rPr>
              <a:t>知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91320" y="2971800"/>
            <a:ext cx="1981080" cy="1981080"/>
          </a:xfrm>
          <a:custGeom>
            <a:avLst/>
            <a:gdLst>
              <a:gd name="textAreaLeft" fmla="*/ 343440 w 1981080"/>
              <a:gd name="textAreaRight" fmla="*/ 1637640 w 1981080"/>
              <a:gd name="textAreaTop" fmla="*/ 343440 h 1981080"/>
              <a:gd name="textAreaBottom" fmla="*/ 163764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60" y="11670"/>
                </a:lnTo>
                <a:lnTo>
                  <a:pt x="198" y="12861"/>
                </a:lnTo>
                <a:lnTo>
                  <a:pt x="1209" y="13550"/>
                </a:lnTo>
                <a:lnTo>
                  <a:pt x="786" y="14846"/>
                </a:lnTo>
                <a:lnTo>
                  <a:pt x="1990" y="15484"/>
                </a:lnTo>
                <a:lnTo>
                  <a:pt x="1742" y="16682"/>
                </a:lnTo>
                <a:lnTo>
                  <a:pt x="3046" y="17079"/>
                </a:lnTo>
                <a:lnTo>
                  <a:pt x="3163" y="18437"/>
                </a:lnTo>
                <a:lnTo>
                  <a:pt x="4386" y="18444"/>
                </a:lnTo>
                <a:lnTo>
                  <a:pt x="4761" y="19754"/>
                </a:lnTo>
                <a:lnTo>
                  <a:pt x="5963" y="19527"/>
                </a:lnTo>
                <a:lnTo>
                  <a:pt x="6580" y="20741"/>
                </a:lnTo>
                <a:lnTo>
                  <a:pt x="7883" y="20342"/>
                </a:lnTo>
                <a:lnTo>
                  <a:pt x="8555" y="21364"/>
                </a:lnTo>
                <a:lnTo>
                  <a:pt x="9757" y="20723"/>
                </a:lnTo>
                <a:lnTo>
                  <a:pt x="10800" y="21600"/>
                </a:lnTo>
                <a:lnTo>
                  <a:pt x="11670" y="20740"/>
                </a:lnTo>
                <a:lnTo>
                  <a:pt x="12861" y="21402"/>
                </a:lnTo>
                <a:lnTo>
                  <a:pt x="13550" y="20391"/>
                </a:lnTo>
                <a:lnTo>
                  <a:pt x="14846" y="20814"/>
                </a:lnTo>
                <a:lnTo>
                  <a:pt x="15484" y="19610"/>
                </a:lnTo>
                <a:lnTo>
                  <a:pt x="16682" y="19858"/>
                </a:lnTo>
                <a:lnTo>
                  <a:pt x="17079" y="18554"/>
                </a:lnTo>
                <a:lnTo>
                  <a:pt x="18437" y="18437"/>
                </a:lnTo>
                <a:lnTo>
                  <a:pt x="18444" y="17214"/>
                </a:lnTo>
                <a:lnTo>
                  <a:pt x="19754" y="16839"/>
                </a:lnTo>
                <a:lnTo>
                  <a:pt x="19527" y="15637"/>
                </a:lnTo>
                <a:lnTo>
                  <a:pt x="20741" y="15020"/>
                </a:lnTo>
                <a:lnTo>
                  <a:pt x="20342" y="13717"/>
                </a:lnTo>
                <a:lnTo>
                  <a:pt x="21364" y="13045"/>
                </a:lnTo>
                <a:lnTo>
                  <a:pt x="20723" y="11843"/>
                </a:lnTo>
                <a:lnTo>
                  <a:pt x="21600" y="10800"/>
                </a:lnTo>
                <a:lnTo>
                  <a:pt x="20740" y="9930"/>
                </a:lnTo>
                <a:lnTo>
                  <a:pt x="21402" y="8739"/>
                </a:lnTo>
                <a:lnTo>
                  <a:pt x="20391" y="8050"/>
                </a:lnTo>
                <a:lnTo>
                  <a:pt x="20814" y="6754"/>
                </a:lnTo>
                <a:lnTo>
                  <a:pt x="19610" y="6116"/>
                </a:lnTo>
                <a:lnTo>
                  <a:pt x="19858" y="4918"/>
                </a:lnTo>
                <a:lnTo>
                  <a:pt x="18554" y="4521"/>
                </a:lnTo>
                <a:lnTo>
                  <a:pt x="18437" y="3163"/>
                </a:lnTo>
                <a:lnTo>
                  <a:pt x="17214" y="3156"/>
                </a:lnTo>
                <a:lnTo>
                  <a:pt x="16839" y="1846"/>
                </a:lnTo>
                <a:lnTo>
                  <a:pt x="15637" y="2073"/>
                </a:lnTo>
                <a:lnTo>
                  <a:pt x="15020" y="859"/>
                </a:lnTo>
                <a:lnTo>
                  <a:pt x="13717" y="1258"/>
                </a:lnTo>
                <a:lnTo>
                  <a:pt x="13045" y="236"/>
                </a:lnTo>
                <a:lnTo>
                  <a:pt x="11843" y="877"/>
                </a:lnTo>
                <a:lnTo>
                  <a:pt x="10800" y="0"/>
                </a:lnTo>
                <a:lnTo>
                  <a:pt x="9930" y="860"/>
                </a:lnTo>
                <a:lnTo>
                  <a:pt x="8739" y="198"/>
                </a:lnTo>
                <a:lnTo>
                  <a:pt x="8050" y="1209"/>
                </a:lnTo>
                <a:lnTo>
                  <a:pt x="6754" y="786"/>
                </a:lnTo>
                <a:lnTo>
                  <a:pt x="6116" y="1990"/>
                </a:lnTo>
                <a:lnTo>
                  <a:pt x="4918" y="1742"/>
                </a:lnTo>
                <a:lnTo>
                  <a:pt x="4521" y="3046"/>
                </a:lnTo>
                <a:lnTo>
                  <a:pt x="3163" y="3163"/>
                </a:lnTo>
                <a:lnTo>
                  <a:pt x="3156" y="4386"/>
                </a:lnTo>
                <a:lnTo>
                  <a:pt x="1846" y="4761"/>
                </a:lnTo>
                <a:lnTo>
                  <a:pt x="2073" y="5963"/>
                </a:lnTo>
                <a:lnTo>
                  <a:pt x="859" y="6580"/>
                </a:lnTo>
                <a:lnTo>
                  <a:pt x="1258" y="7883"/>
                </a:lnTo>
                <a:lnTo>
                  <a:pt x="236" y="8555"/>
                </a:lnTo>
                <a:lnTo>
                  <a:pt x="877" y="9757"/>
                </a:lnTo>
                <a:lnTo>
                  <a:pt x="0" y="10800"/>
                </a:lnTo>
                <a:close/>
              </a:path>
            </a:pathLst>
          </a:custGeom>
          <a:solidFill>
            <a:srgbClr val="29c9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ahoma"/>
                <a:ea typeface="黑体"/>
              </a:rPr>
              <a:t>技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24440" y="434340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Tahoma"/>
                <a:ea typeface="黑体"/>
              </a:rPr>
              <a:t>态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0440" y="4464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是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32880" y="45957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怎么干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29120" y="59151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愿意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794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ahoma"/>
              </a:rPr>
              <a:t>态度与能力</a:t>
            </a:r>
            <a:endParaRPr b="1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990720"/>
            <a:ext cx="83818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知识、技巧、态度是影响工作进行的三个重要因素，其中态度尤其扮演着带动的角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28800" y="251460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知识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技巧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能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8T04:19:36Z</dcterms:created>
  <dc:creator>xiazhen</dc:creator>
  <dc:description/>
  <dc:language>en-US</dc:language>
  <cp:lastModifiedBy>a</cp:lastModifiedBy>
  <dcterms:modified xsi:type="dcterms:W3CDTF">2003-04-07T02:40:47Z</dcterms:modified>
  <cp:revision>92</cp:revision>
  <dc:subject/>
  <dc:title>成功信念与 积极的心态</dc:title>
</cp:coreProperties>
</file>