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6.wmf" ContentType="image/x-wmf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chimes.wav" ContentType="audio/x-wav"/>
  <Override PartName="/ppt/media/image10.wmf" ContentType="image/x-wmf"/>
  <Override PartName="/ppt/media/image5.wmf" ContentType="image/x-wmf"/>
  <Override PartName="/ppt/media/image4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7.wmf" ContentType="image/x-wmf"/>
  <Override PartName="/ppt/media/image15.gif" ContentType="image/gif"/>
  <Override PartName="/ppt/media/image25.gif" ContentType="image/gif"/>
  <Override PartName="/ppt/media/image13.wmf" ContentType="image/x-wmf"/>
  <Override PartName="/ppt/media/image3.gif" ContentType="image/gif"/>
  <Override PartName="/ppt/media/image14.wmf" ContentType="image/x-wmf"/>
  <Override PartName="/ppt/media/image27.png" ContentType="image/png"/>
  <Override PartName="/ppt/media/image12.wmf" ContentType="image/x-wmf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10280" y="652140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拥有积极心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19320" y="6705720"/>
            <a:ext cx="60195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82080" y="647712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253E-9DA2-44FD-9D25-C516398126E4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90000" cy="744120"/>
            <a:chOff x="0" y="0"/>
            <a:chExt cx="990000" cy="744120"/>
          </a:xfrm>
        </p:grpSpPr>
        <p:grpSp>
          <p:nvGrpSpPr>
            <p:cNvPr id="4" name=""/>
            <p:cNvGrpSpPr/>
            <p:nvPr/>
          </p:nvGrpSpPr>
          <p:grpSpPr>
            <a:xfrm>
              <a:off x="249480" y="0"/>
              <a:ext cx="610920" cy="393840"/>
              <a:chOff x="249480" y="0"/>
              <a:chExt cx="610920" cy="393840"/>
            </a:xfrm>
          </p:grpSpPr>
          <p:sp>
            <p:nvSpPr>
              <p:cNvPr id="5" name=""/>
              <p:cNvSpPr/>
              <p:nvPr/>
            </p:nvSpPr>
            <p:spPr>
              <a:xfrm>
                <a:off x="249480" y="0"/>
                <a:ext cx="375840" cy="393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78520" y="0"/>
                <a:ext cx="28188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56040" y="350280"/>
              <a:ext cx="633960" cy="393840"/>
              <a:chOff x="356040" y="350280"/>
              <a:chExt cx="633960" cy="393840"/>
            </a:xfrm>
          </p:grpSpPr>
          <p:sp>
            <p:nvSpPr>
              <p:cNvPr id="8" name=""/>
              <p:cNvSpPr/>
              <p:nvPr/>
            </p:nvSpPr>
            <p:spPr>
              <a:xfrm>
                <a:off x="356040" y="350280"/>
                <a:ext cx="362520" cy="393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2840" y="350280"/>
                <a:ext cx="31716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0" y="289800"/>
              <a:ext cx="481680" cy="350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 flipV="1">
            <a:off x="457200" y="303840"/>
            <a:ext cx="790416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162920" y="152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员工素质提升训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546280"/>
            <a:ext cx="1152000" cy="897120"/>
            <a:chOff x="0" y="2546280"/>
            <a:chExt cx="1152000" cy="89712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hyperlink" Target="file://SAMSUNG/SYS/0%20&#22521;&#35757;&#28216;&#25103;/&#24773;&#20026;&#20309;&#29289;.exe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拥有积极心态</a:t>
            </a:r>
            <a:endParaRPr b="1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6576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《职员素质提升训练》之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400800" y="152280"/>
            <a:ext cx="2590560" cy="808920"/>
            <a:chOff x="6400800" y="152280"/>
            <a:chExt cx="2590560" cy="808920"/>
          </a:xfrm>
        </p:grpSpPr>
        <p:pic>
          <p:nvPicPr>
            <p:cNvPr id="102" name="图片 1" descr=""/>
            <p:cNvPicPr/>
            <p:nvPr/>
          </p:nvPicPr>
          <p:blipFill>
            <a:blip r:embed="rId1"/>
            <a:stretch/>
          </p:blipFill>
          <p:spPr>
            <a:xfrm>
              <a:off x="6400800" y="152280"/>
              <a:ext cx="2004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965000" y="592920"/>
              <a:ext cx="10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  <a:ea typeface="PMingLiU"/>
                </a:rPr>
                <a:t>CH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9907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差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只能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形容，因为他们最容易成为裁员的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09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好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可称之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材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给老板的感觉是：将就用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352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对企业不认同。他们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刚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对这类人才，老板很难用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认同企业。这类人是给企业带来财富的人，用财富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字来形容他。他是老板最喜欢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企业喜欢的人才是能给企业带来财富的人。他们能力强，态度也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28800" y="2438280"/>
          <a:ext cx="563868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态度不错，就是干不了事。将就用吧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人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态度好，又有能力。真是公司的财源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没有能力，态度又差。裁掉算了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力挺强，就是态度太差。真是难用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V="1">
            <a:off x="1295280" y="22096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6248520"/>
            <a:ext cx="6248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514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5791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5029200"/>
            <a:ext cx="830592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14400"/>
            <a:ext cx="595440" cy="5943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83808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位秀才第三次进京赶考，住在一个经常住的店里。考试前两天他做了三个梦，第一个梦是梦到自己在墙上种白菜，第二个梦是下雨天，他戴了斗笠还打伞，第三个梦是梦到跟心爱的表妹脱光了衣服躺在一起，但是背靠着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三个梦似乎有些深意，秀才第二天就赶紧去找算命的解梦。算命的一听，连拍大腿说：“ 你还是回家吧。你想想，高墙上种菜不是白费劲吗？戴斗笠打雨伞不是多此一举 吗？跟表妹都脱光了躺在一张床上了，却背靠背，不是没戏吗？”秀才一听，心灰意冷，回店收拾包袱准备回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店老板非常奇怪，问：“不是明天才考试吗，今天你怎么就回乡了？”秀才如此这般说了一番，店老板乐了：“哟，我也会解梦的。我倒觉得，你这次一定要留下来。你想想…………。秀才一听，更有道理，于是精神振奋地参加考试，居然中了个探花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02920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墙上种菜不是高中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戴斗笠打伞不是说明你这次有备无患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跟你表妹脱光了背靠背躺在床上，不是说明你翻身的时候就要到了吗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赶考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1143000"/>
            <a:ext cx="6594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5c7"/>
                </a:solidFill>
                <a:latin typeface="Tahoma"/>
                <a:ea typeface="黑体"/>
              </a:rPr>
              <a:t>对交提案的看法，不同态度不同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05120"/>
            <a:ext cx="784872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这是一个好机会，本部门的意见有正式渠道能够向公司反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有意见当面跟上司讲都不接纳，还提什么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不要被别人利用提案攻击才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上司能重视我们的意见，我一家务事要提出好的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科长要求提案数量，交差就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又有新的花样，我打赌会不了了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AG00313_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122544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2514600"/>
            <a:ext cx="533412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7040" y="472428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057040" y="37335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8128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4340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733920" y="4191120"/>
            <a:ext cx="1904760" cy="1904400"/>
            <a:chOff x="3733920" y="4191120"/>
            <a:chExt cx="1904760" cy="1904400"/>
          </a:xfrm>
        </p:grpSpPr>
        <p:sp>
          <p:nvSpPr>
            <p:cNvPr id="174" name=""/>
            <p:cNvSpPr/>
            <p:nvPr/>
          </p:nvSpPr>
          <p:spPr>
            <a:xfrm>
              <a:off x="3733920" y="4191120"/>
              <a:ext cx="533160" cy="119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5486400"/>
              <a:ext cx="1143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638680" y="548604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010280" y="2590920"/>
            <a:ext cx="609840" cy="2425680"/>
            <a:chOff x="7010280" y="2590920"/>
            <a:chExt cx="609840" cy="2425680"/>
          </a:xfrm>
        </p:grpSpPr>
        <p:sp>
          <p:nvSpPr>
            <p:cNvPr id="178" name=""/>
            <p:cNvSpPr/>
            <p:nvPr/>
          </p:nvSpPr>
          <p:spPr>
            <a:xfrm>
              <a:off x="7010280" y="25909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41911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362320" y="3352680"/>
            <a:ext cx="1143000" cy="1983960"/>
            <a:chOff x="2362320" y="3352680"/>
            <a:chExt cx="1143000" cy="1983960"/>
          </a:xfrm>
        </p:grpSpPr>
        <p:sp>
          <p:nvSpPr>
            <p:cNvPr id="181" name=""/>
            <p:cNvSpPr/>
            <p:nvPr/>
          </p:nvSpPr>
          <p:spPr>
            <a:xfrm>
              <a:off x="2362320" y="487692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5268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19720" y="3733920"/>
            <a:ext cx="1904760" cy="2361600"/>
            <a:chOff x="4419720" y="3733920"/>
            <a:chExt cx="1904760" cy="2361600"/>
          </a:xfrm>
        </p:grpSpPr>
        <p:sp>
          <p:nvSpPr>
            <p:cNvPr id="184" name=""/>
            <p:cNvSpPr/>
            <p:nvPr/>
          </p:nvSpPr>
          <p:spPr>
            <a:xfrm>
              <a:off x="4419720" y="3733920"/>
              <a:ext cx="1143000" cy="459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8680" y="4267080"/>
              <a:ext cx="609840" cy="8254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324480" y="4190760"/>
              <a:ext cx="0" cy="190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638680" y="37339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638680" y="419112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419720" y="2514600"/>
            <a:ext cx="2057400" cy="840600"/>
            <a:chOff x="4419720" y="2514600"/>
            <a:chExt cx="2057400" cy="840600"/>
          </a:xfrm>
        </p:grpSpPr>
        <p:sp>
          <p:nvSpPr>
            <p:cNvPr id="190" name=""/>
            <p:cNvSpPr/>
            <p:nvPr/>
          </p:nvSpPr>
          <p:spPr>
            <a:xfrm>
              <a:off x="5867280" y="2895480"/>
              <a:ext cx="60984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2590920"/>
              <a:ext cx="114300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6386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95280" y="2514600"/>
            <a:ext cx="53352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婚介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43440" y="1143000"/>
            <a:ext cx="1322640" cy="5181480"/>
            <a:chOff x="7543440" y="1143000"/>
            <a:chExt cx="1322640" cy="5181480"/>
          </a:xfrm>
        </p:grpSpPr>
        <p:sp>
          <p:nvSpPr>
            <p:cNvPr id="195" name=""/>
            <p:cNvSpPr/>
            <p:nvPr/>
          </p:nvSpPr>
          <p:spPr>
            <a:xfrm flipH="1">
              <a:off x="7543440" y="274320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7543440" y="335232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48720" y="1143000"/>
              <a:ext cx="990360" cy="5181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BD07196_" descr=""/>
            <p:cNvPicPr/>
            <p:nvPr/>
          </p:nvPicPr>
          <p:blipFill>
            <a:blip r:embed="rId2"/>
            <a:stretch/>
          </p:blipFill>
          <p:spPr>
            <a:xfrm>
              <a:off x="7696080" y="2438280"/>
              <a:ext cx="117000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BD06912_" descr=""/>
            <p:cNvPicPr/>
            <p:nvPr/>
          </p:nvPicPr>
          <p:blipFill>
            <a:blip r:embed="rId3"/>
            <a:stretch/>
          </p:blipFill>
          <p:spPr>
            <a:xfrm>
              <a:off x="8001000" y="4952880"/>
              <a:ext cx="76212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743200" y="4343400"/>
            <a:ext cx="38088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5410080"/>
            <a:ext cx="38124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191120"/>
            <a:ext cx="38124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2819520"/>
            <a:ext cx="380880" cy="53316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53352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情为何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26360" y="1523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操之在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193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=1,  B=2,  C=3,  D=4,  E=5,  ******,  X=24,  Y=25,  Z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819520"/>
            <a:ext cx="502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ledg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知识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rd work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努力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titude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态度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1067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562720"/>
            <a:ext cx="6781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讨论：五次敲开微软之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600200"/>
            <a:ext cx="6705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绪理论            创始人：艾利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TECED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前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LI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信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NSEQUE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后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    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事物本身并不影响人，人们只受对事物看法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867280" y="2666880"/>
            <a:ext cx="2633400" cy="3103560"/>
            <a:chOff x="5867280" y="2666880"/>
            <a:chExt cx="2633400" cy="3103560"/>
          </a:xfrm>
        </p:grpSpPr>
        <p:pic>
          <p:nvPicPr>
            <p:cNvPr id="216" name="SY00452_" descr=""/>
            <p:cNvPicPr/>
            <p:nvPr/>
          </p:nvPicPr>
          <p:blipFill>
            <a:blip r:embed="rId1"/>
            <a:stretch/>
          </p:blipFill>
          <p:spPr>
            <a:xfrm>
              <a:off x="7391160" y="28954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SY00453_" descr=""/>
            <p:cNvPicPr/>
            <p:nvPr/>
          </p:nvPicPr>
          <p:blipFill>
            <a:blip r:embed="rId2"/>
            <a:stretch/>
          </p:blipFill>
          <p:spPr>
            <a:xfrm>
              <a:off x="7619760" y="47242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SY00451_" descr=""/>
            <p:cNvPicPr/>
            <p:nvPr/>
          </p:nvPicPr>
          <p:blipFill>
            <a:blip r:embed="rId3"/>
            <a:stretch/>
          </p:blipFill>
          <p:spPr>
            <a:xfrm>
              <a:off x="5867280" y="26668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29040" y="3657600"/>
              <a:ext cx="91440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3341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坐在会场最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066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方开朗的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步子加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05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视对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E03557_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76720" cy="307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219320" y="4495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抢先发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657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8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33244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棒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优秀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成功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1295280"/>
            <a:ext cx="2286000" cy="1600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981080"/>
            <a:ext cx="4724280" cy="3505320"/>
          </a:xfrm>
          <a:prstGeom prst="wedgeEllipseCallout">
            <a:avLst>
              <a:gd name="adj1" fmla="val 75972"/>
              <a:gd name="adj2" fmla="val 163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Ag00010_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247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76720" y="914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我暗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066680"/>
            <a:ext cx="807732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客观条件受制于人，并不足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要的是，我们有选择的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以对现实环境积极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生命负责，为自己创造有利的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BD05548_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768760" cy="3465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698160" y="164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主动积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课程大纲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609480"/>
            <a:ext cx="1625400" cy="1586880"/>
            <a:chOff x="7238880" y="609480"/>
            <a:chExt cx="1625400" cy="1586880"/>
          </a:xfrm>
        </p:grpSpPr>
        <p:pic>
          <p:nvPicPr>
            <p:cNvPr id="106" name="BD05629_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7238880" y="609480"/>
              <a:ext cx="1625400" cy="12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478640" y="1797480"/>
              <a:ext cx="127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课程内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85800" y="1219320"/>
            <a:ext cx="46483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与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决定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建立自信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阳光思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胸怀感恩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七大成功信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实践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1066680"/>
            <a:ext cx="830592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寻找每个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眼睛盯住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肯定就能看到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寻找别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使他们努力做到最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并且创造出一个积极的、卓有成效的环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BD07218_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BD07160_" descr=""/>
          <p:cNvPicPr/>
          <p:nvPr/>
        </p:nvPicPr>
        <p:blipFill>
          <a:blip r:embed="rId1"/>
          <a:stretch/>
        </p:blipFill>
        <p:spPr>
          <a:xfrm>
            <a:off x="5334120" y="3289320"/>
            <a:ext cx="3047760" cy="2914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5800" y="1676520"/>
            <a:ext cx="586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找出对方  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个  优点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/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学员演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75248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解决难题和完成目标当成一种乐趣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解决问题，不要成为问题的一部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好的环境是一种磨练，能使自己将来独当一面时更成熟更有经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267080"/>
            <a:ext cx="51055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积极的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把行为归咎于环境或他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选择受制于“环境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BS02044_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1909800" cy="2744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877640" y="7351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视困难为乐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600200"/>
            <a:ext cx="69343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太棒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这样的事情竟然发生在我的身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又给了我一次成长的机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凡事的发生必有其因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必有助于我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E06995_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743200" cy="2473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962520" y="914400"/>
            <a:ext cx="43434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故事：牛仔大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447920"/>
            <a:ext cx="5334120" cy="17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人生、对大自然的一切东西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心存感激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人生就会美好许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438280"/>
            <a:ext cx="1676520" cy="1477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珍视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拥有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D05546_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2532240" cy="2552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E03488_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439040" y="4343400"/>
            <a:ext cx="1704960" cy="2057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33520" y="1143000"/>
            <a:ext cx="7315200" cy="44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伤害我的人，因为他磨练了我的心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绊倒我的人，因为他强化了我的双腿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欺骗我的人，因为他增进了我的智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蔑视我的人，因为他醒觉了我的自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遗弃我的人，因为他培养了我的自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永远心存感恩， 感恩一切使我成长的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15238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偶然，象一颗尘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谁看出我的脆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何方，我情归何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在下一刻呼唤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581280"/>
            <a:ext cx="373356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有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伴我一生，让我有勇气做我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花开花落，我一样会珍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40384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地虽宽，这条路却难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看遍这人间坎坷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还有多少爱，我还有多少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苍天知道，我不认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AN01629_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458880" cy="138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488280" y="253836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《感恩的心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1219320"/>
            <a:ext cx="784836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件事的发生，必有其原因，皆有利于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没有失败，只有结果；过去并不代表未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个人都有无限的潜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负责任的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热爱自己的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天进步一点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立即行动，全力以赴，坚持到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七大成功信念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Q&amp;A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52440" y="1447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440" y="1905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2440" y="2362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2440" y="2819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2440" y="3276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2440" y="3733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2440" y="4191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2440" y="4648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2440" y="5105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2440" y="5562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2440" y="6019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391520" y="533520"/>
            <a:ext cx="1600200" cy="1454400"/>
            <a:chOff x="7391520" y="533520"/>
            <a:chExt cx="1600200" cy="1454400"/>
          </a:xfrm>
        </p:grpSpPr>
        <p:pic>
          <p:nvPicPr>
            <p:cNvPr id="282" name="j0283248" descr="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7391520" y="533520"/>
              <a:ext cx="16002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471080" y="158904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要点整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315200" y="2133720"/>
            <a:ext cx="1600200" cy="1618200"/>
            <a:chOff x="7315200" y="2133720"/>
            <a:chExt cx="1600200" cy="1618200"/>
          </a:xfrm>
        </p:grpSpPr>
        <p:pic>
          <p:nvPicPr>
            <p:cNvPr id="285" name="BD07161_" descr=""/>
            <p:cNvPicPr/>
            <p:nvPr/>
          </p:nvPicPr>
          <p:blipFill>
            <a:blip r:embed="rId2"/>
            <a:stretch/>
          </p:blipFill>
          <p:spPr>
            <a:xfrm>
              <a:off x="7315200" y="2133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315200" y="335304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三人学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践计划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315200" y="685800"/>
            <a:ext cx="1676520" cy="1541520"/>
            <a:chOff x="7315200" y="685800"/>
            <a:chExt cx="1676520" cy="1541520"/>
          </a:xfrm>
        </p:grpSpPr>
        <p:graphicFrame>
          <p:nvGraphicFramePr>
            <p:cNvPr id="289" name=""/>
            <p:cNvGraphicFramePr/>
            <p:nvPr/>
          </p:nvGraphicFramePr>
          <p:xfrm>
            <a:off x="7315200" y="685800"/>
            <a:ext cx="1676520" cy="118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5200" y="685800"/>
                      <a:ext cx="1676520" cy="11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"/>
            <p:cNvSpPr/>
            <p:nvPr/>
          </p:nvSpPr>
          <p:spPr>
            <a:xfrm>
              <a:off x="7391520" y="182844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实践计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7200" y="990720"/>
            <a:ext cx="6629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本课程我感触最深的地方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666880"/>
            <a:ext cx="662940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将在自己的工作（生活）中改变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2666880"/>
            <a:ext cx="14479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预计期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1447920"/>
            <a:ext cx="769464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信念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价值观变迁过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我的启发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影片欣赏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movie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0820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198108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组总结后发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1828800"/>
            <a:ext cx="723888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第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失望地放弃努力，失败沮丧而回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另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惊喜万分，最后发大财而归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：两个皮鞋推销员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990720"/>
            <a:ext cx="7696080" cy="32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E05779_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3504960" cy="2927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09480" y="1752480"/>
            <a:ext cx="8229600" cy="4572000"/>
            <a:chOff x="609480" y="1752480"/>
            <a:chExt cx="8229600" cy="4572000"/>
          </a:xfrm>
        </p:grpSpPr>
        <p:sp>
          <p:nvSpPr>
            <p:cNvPr id="119" name=""/>
            <p:cNvSpPr/>
            <p:nvPr/>
          </p:nvSpPr>
          <p:spPr>
            <a:xfrm>
              <a:off x="685800" y="1752480"/>
              <a:ext cx="27417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Times New Roman"/>
                </a:rPr>
                <a:t>成功是因为：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1143000" y="2057400"/>
            <a:ext cx="7238880" cy="42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2057400"/>
                      <a:ext cx="723888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6858000" y="2209680"/>
              <a:ext cx="1828800" cy="37969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态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技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080" y="38098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1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960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E02947_" descr=""/>
            <p:cNvPicPr/>
            <p:nvPr/>
          </p:nvPicPr>
          <p:blipFill>
            <a:blip r:embed="rId3"/>
            <a:stretch/>
          </p:blipFill>
          <p:spPr>
            <a:xfrm>
              <a:off x="609480" y="3733920"/>
              <a:ext cx="2124360" cy="22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777240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143000"/>
            <a:ext cx="4419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讨论：把信带给加西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19320"/>
            <a:ext cx="8229600" cy="363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愤世嫉俗，认为人性丑恶，与人不和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没有目标， 缺乏动力，不思进取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缺乏恒心，经常为自己寻找借口和合理化的理由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心存侥幸，不愿付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固执己见，不能宽容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卑懦弱，无所事事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高自大， 清高虚荣，不守信用，等等。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495680"/>
            <a:ext cx="1676520" cy="1752840"/>
          </a:xfrm>
          <a:prstGeom prst="smileyFace">
            <a:avLst>
              <a:gd name="adj" fmla="val -4652"/>
            </a:avLst>
          </a:prstGeom>
          <a:solidFill>
            <a:srgbClr val="0066ff"/>
          </a:solidFill>
          <a:ln w="7632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消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371600"/>
            <a:ext cx="4876560" cy="363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有必胜的信念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善于称赞别人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乐于助人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具有奉献精神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微笑常在，乐观自信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能使别人感到你的重要。</a:t>
            </a:r>
            <a:r>
              <a:rPr b="1" lang="zh-CN" sz="2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Ag00433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048120" cy="2403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积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6553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429000"/>
            <a:ext cx="3047760" cy="3048120"/>
          </a:xfrm>
          <a:custGeom>
            <a:avLst/>
            <a:gdLst>
              <a:gd name="textAreaLeft" fmla="*/ 528120 w 3047760"/>
              <a:gd name="textAreaRight" fmla="*/ 2519640 w 3047760"/>
              <a:gd name="textAreaTop" fmla="*/ 528120 h 3048120"/>
              <a:gd name="textAreaBottom" fmla="*/ 252000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429000"/>
            <a:ext cx="1447920" cy="1447920"/>
          </a:xfrm>
          <a:custGeom>
            <a:avLst/>
            <a:gdLst>
              <a:gd name="textAreaLeft" fmla="*/ 250920 w 1447920"/>
              <a:gd name="textAreaRight" fmla="*/ 1197000 w 1447920"/>
              <a:gd name="textAreaTop" fmla="*/ 250920 h 1447920"/>
              <a:gd name="textAreaBottom" fmla="*/ 11970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1305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  <a:ea typeface="黑体"/>
              </a:rPr>
              <a:t>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2971800"/>
            <a:ext cx="1981080" cy="1981080"/>
          </a:xfrm>
          <a:custGeom>
            <a:avLst/>
            <a:gdLst>
              <a:gd name="textAreaLeft" fmla="*/ 343440 w 1981080"/>
              <a:gd name="textAreaRight" fmla="*/ 1637640 w 1981080"/>
              <a:gd name="textAreaTop" fmla="*/ 343440 h 1981080"/>
              <a:gd name="textAreaBottom" fmla="*/ 1637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29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4440" y="4343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态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440" y="4464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32880" y="4595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怎么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29120" y="591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愿意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990720"/>
            <a:ext cx="8381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、技巧、态度是影响工作进行的三个重要因素，其中态度尤其扮演着带动的角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技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04:19:36Z</dcterms:created>
  <dc:creator>xiazhen</dc:creator>
  <dc:description/>
  <dc:language>en-US</dc:language>
  <cp:lastModifiedBy>a</cp:lastModifiedBy>
  <dcterms:modified xsi:type="dcterms:W3CDTF">2003-04-07T02:40:47Z</dcterms:modified>
  <cp:revision>92</cp:revision>
  <dc:subject/>
  <dc:title>成功信念与 积极的心态</dc:title>
</cp:coreProperties>
</file>