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6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9.wmf" ContentType="image/x-wmf"/>
  <Override PartName="/ppt/media/CAMERA.WAV" ContentType="audio/x-wav"/>
  <Override PartName="/ppt/media/image5.jpeg" ContentType="image/jpeg"/>
  <Override PartName="/ppt/media/image7.gif" ContentType="image/gif"/>
  <Override PartName="/ppt/media/image8.png" ContentType="image/png"/>
  <Override PartName="/ppt/media/chimes.wav" ContentType="audio/x-wav"/>
  <Override PartName="/ppt/media/image10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10799763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148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7"/>
          </p:nvPr>
        </p:nvSpPr>
        <p:spPr>
          <a:xfrm>
            <a:off x="5506920" y="0"/>
            <a:ext cx="42148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2836800" y="512280"/>
            <a:ext cx="4051440" cy="25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646"/>
                </a:solidFill>
                <a:latin typeface="华文楷体"/>
              </a:rPr>
              <a:t>Click to move the slide</a:t>
            </a: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971640" y="3257640"/>
            <a:ext cx="77803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8"/>
          </p:nvPr>
        </p:nvSpPr>
        <p:spPr>
          <a:xfrm>
            <a:off x="0" y="6513480"/>
            <a:ext cx="42148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9"/>
          </p:nvPr>
        </p:nvSpPr>
        <p:spPr>
          <a:xfrm>
            <a:off x="5506920" y="6513480"/>
            <a:ext cx="42148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5070-ED32-462E-9752-6443FA57C1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836800" y="512640"/>
            <a:ext cx="4051440" cy="25736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71640" y="3257640"/>
            <a:ext cx="7780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21" name="灯片编号占位符 3"/>
          <p:cNvSpPr/>
          <p:nvPr/>
        </p:nvSpPr>
        <p:spPr>
          <a:xfrm>
            <a:off x="5506920" y="6513480"/>
            <a:ext cx="42148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BBFF-5697-4AD8-B0A6-E0384422A7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836800" y="512640"/>
            <a:ext cx="4051440" cy="25736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71640" y="3257640"/>
            <a:ext cx="7780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5506920" y="6513480"/>
            <a:ext cx="42148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D111-79B8-4BE5-9B9A-1844105315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7760" y="382464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776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944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4920" y="14605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12080" y="14605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7760" y="382464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4920" y="382464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12080" y="382464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37760" y="146052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5040" y="109440"/>
            <a:ext cx="9721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76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7760" y="146052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41944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7760" y="382464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7760" y="382464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3776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41944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24920" y="14605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012080" y="14605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37760" y="382464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24920" y="382464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012080" y="382464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37760" y="146052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5040" y="109440"/>
            <a:ext cx="9721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776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41944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37760" y="382464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7760" y="382464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3776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41944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724920" y="14605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012080" y="14605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7760" y="382464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724920" y="382464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7012080" y="382464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37760" y="146052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95040" y="109440"/>
            <a:ext cx="9721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3776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41944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37760" y="382464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7760" y="382464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3776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41944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724920" y="14605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012080" y="14605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37760" y="382464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724920" y="382464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012080" y="382464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E841-F741-4847-8025-9F0CA65D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37760" y="146052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EF7-A24C-45D2-96F9-A8B975F5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21B-CD97-46D1-BB59-C9A3C279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F9A-5230-49A8-8D6F-4EBAEDAD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3D6-6EA5-45FD-8AD2-8407FA40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5040" y="109440"/>
            <a:ext cx="9721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620-FB2C-4F90-8B81-B61EB844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776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7C68-ACD3-4570-BEA5-89CC05BA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41944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DBC-E521-4C83-8B47-0705CC57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37760" y="382464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C821-6A0D-49D3-BC30-E97A1627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37760" y="382464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AAC9-C847-4DB2-9F55-43B1DA79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3776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41944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5C7-1A2A-4D6E-BF0D-12077731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5040" y="109440"/>
            <a:ext cx="9721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724920" y="14605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012080" y="14605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37760" y="382464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724920" y="382464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012080" y="382464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14C-7918-453C-9C1F-F3D8E33B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B4F1-1FDA-4A0B-A8CD-DF53D1E1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37760" y="146052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AE9B-1759-4999-9D30-ECB595B7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1BEA-CDC4-4302-B78A-20C82B98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6129-1F74-422D-BEEB-59DEDBF2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B6FD-7BB4-4E35-8B35-94765E8F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5040" y="109440"/>
            <a:ext cx="9721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9B91-33B4-48D3-9EBC-E7B270E6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3776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EBF8-8677-443E-8520-FEACFA75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1944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8958-DFBB-40A0-86CB-5D7D5EEF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37760" y="382464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6895-6EA3-4F65-B69E-D37F13F6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776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7760" y="382464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6CEF-D6AB-4A13-9889-DF6CE4B6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3776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41944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AA2A-AA8B-4197-A811-7DD2272C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724920" y="14605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012080" y="14605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37760" y="382464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724920" y="382464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012080" y="382464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3903-0C27-48ED-BB88-9612E3F2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9440" y="382464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776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9440" y="14605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7760" y="382464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646"/>
                </a:solidFill>
                <a:latin typeface="华文楷体"/>
              </a:rPr>
              <a:t>Click to edit the title text format</a:t>
            </a: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7760" y="146052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85000"/>
              <a:buFont typeface="华文楷体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4" marL="2057400" indent="-228600">
              <a:spcBef>
                <a:spcPts val="799"/>
              </a:spcBef>
              <a:buClr>
                <a:srgbClr val="fe96ff"/>
              </a:buClr>
              <a:buSzPct val="85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pic>
        <p:nvPicPr>
          <p:cNvPr id="2" name="Picture 12" descr="中空logo"/>
          <p:cNvPicPr/>
          <p:nvPr/>
        </p:nvPicPr>
        <p:blipFill>
          <a:blip r:embed="rId2"/>
          <a:srcRect l="30728" t="20519" r="24436" b="33707"/>
          <a:stretch/>
        </p:blipFill>
        <p:spPr>
          <a:xfrm>
            <a:off x="9864720" y="115920"/>
            <a:ext cx="816120" cy="793800"/>
          </a:xfrm>
          <a:prstGeom prst="rect">
            <a:avLst/>
          </a:prstGeom>
          <a:ln w="0">
            <a:noFill/>
          </a:ln>
        </p:spPr>
      </p:pic>
      <p:pic>
        <p:nvPicPr>
          <p:cNvPr id="3" name="图片 8" descr="2.jpg"/>
          <p:cNvPicPr/>
          <p:nvPr/>
        </p:nvPicPr>
        <p:blipFill>
          <a:blip r:embed="rId3"/>
          <a:stretch/>
        </p:blipFill>
        <p:spPr>
          <a:xfrm>
            <a:off x="0" y="6337440"/>
            <a:ext cx="10801440" cy="520560"/>
          </a:xfrm>
          <a:prstGeom prst="rect">
            <a:avLst/>
          </a:prstGeom>
          <a:ln w="0">
            <a:noFill/>
          </a:ln>
        </p:spPr>
      </p:pic>
      <p:sp>
        <p:nvSpPr>
          <p:cNvPr id="4" name="Line 5"/>
          <p:cNvSpPr/>
          <p:nvPr/>
        </p:nvSpPr>
        <p:spPr>
          <a:xfrm>
            <a:off x="492120" y="1141560"/>
            <a:ext cx="9756720" cy="0"/>
          </a:xfrm>
          <a:prstGeom prst="line">
            <a:avLst/>
          </a:prstGeom>
          <a:ln w="28440">
            <a:solidFill>
              <a:srgbClr val="a400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中空logo"/>
          <p:cNvPicPr/>
          <p:nvPr/>
        </p:nvPicPr>
        <p:blipFill>
          <a:blip r:embed="rId2"/>
          <a:srcRect l="30728" t="20519" r="24436" b="33707"/>
          <a:stretch/>
        </p:blipFill>
        <p:spPr>
          <a:xfrm>
            <a:off x="9864720" y="115920"/>
            <a:ext cx="816120" cy="7938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8" descr="2.jpg"/>
          <p:cNvPicPr/>
          <p:nvPr/>
        </p:nvPicPr>
        <p:blipFill>
          <a:blip r:embed="rId3"/>
          <a:stretch/>
        </p:blipFill>
        <p:spPr>
          <a:xfrm>
            <a:off x="0" y="6337440"/>
            <a:ext cx="10801440" cy="520560"/>
          </a:xfrm>
          <a:prstGeom prst="rect">
            <a:avLst/>
          </a:prstGeom>
          <a:ln w="0">
            <a:noFill/>
          </a:ln>
        </p:spPr>
      </p:pic>
      <p:sp>
        <p:nvSpPr>
          <p:cNvPr id="43" name="Line 5"/>
          <p:cNvSpPr/>
          <p:nvPr/>
        </p:nvSpPr>
        <p:spPr>
          <a:xfrm>
            <a:off x="492120" y="1141560"/>
            <a:ext cx="9756720" cy="0"/>
          </a:xfrm>
          <a:prstGeom prst="line">
            <a:avLst/>
          </a:prstGeom>
          <a:ln w="28440">
            <a:solidFill>
              <a:srgbClr val="a400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25"/>
          <p:cNvGrpSpPr/>
          <p:nvPr/>
        </p:nvGrpSpPr>
        <p:grpSpPr>
          <a:xfrm>
            <a:off x="0" y="0"/>
            <a:ext cx="11160000" cy="6858000"/>
            <a:chOff x="0" y="0"/>
            <a:chExt cx="11160000" cy="6858000"/>
          </a:xfrm>
        </p:grpSpPr>
        <p:pic>
          <p:nvPicPr>
            <p:cNvPr id="45" name="Picture 6" descr="E:\PPT制作中\Desktop\高压线\2.png"/>
            <p:cNvPicPr/>
            <p:nvPr/>
          </p:nvPicPr>
          <p:blipFill>
            <a:blip r:embed="rId4"/>
            <a:stretch/>
          </p:blipFill>
          <p:spPr>
            <a:xfrm>
              <a:off x="8763120" y="5675400"/>
              <a:ext cx="154296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矩形 18"/>
            <p:cNvSpPr/>
            <p:nvPr/>
          </p:nvSpPr>
          <p:spPr>
            <a:xfrm>
              <a:off x="0" y="2649600"/>
              <a:ext cx="10801440" cy="1430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55"/>
            <p:cNvSpPr/>
            <p:nvPr/>
          </p:nvSpPr>
          <p:spPr>
            <a:xfrm flipV="1" rot="10800000">
              <a:off x="358560" y="6788880"/>
              <a:ext cx="10801440" cy="68040"/>
            </a:xfrm>
            <a:prstGeom prst="rect">
              <a:avLst/>
            </a:prstGeom>
            <a:gradFill rotWithShape="0">
              <a:gsLst>
                <a:gs pos="0">
                  <a:srgbClr val="141d0c">
                    <a:alpha val="0"/>
                  </a:srgbClr>
                </a:gs>
                <a:gs pos="100000">
                  <a:srgbClr val="141d0c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8" descr="E:\PPT制作中\Desktop\高压线\7.png"/>
            <p:cNvPicPr/>
            <p:nvPr/>
          </p:nvPicPr>
          <p:blipFill>
            <a:blip r:embed="rId5"/>
            <a:stretch/>
          </p:blipFill>
          <p:spPr>
            <a:xfrm>
              <a:off x="6072120" y="2343240"/>
              <a:ext cx="251280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13" descr="年度冲刺.jpg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801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13"/>
            <p:cNvSpPr/>
            <p:nvPr/>
          </p:nvSpPr>
          <p:spPr>
            <a:xfrm>
              <a:off x="0" y="0"/>
              <a:ext cx="10801440" cy="1008000"/>
            </a:xfrm>
            <a:prstGeom prst="rect">
              <a:avLst/>
            </a:pr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4"/>
            <p:cNvSpPr/>
            <p:nvPr/>
          </p:nvSpPr>
          <p:spPr>
            <a:xfrm>
              <a:off x="0" y="4226040"/>
              <a:ext cx="10801440" cy="2590920"/>
            </a:xfrm>
            <a:prstGeom prst="rect">
              <a:avLst/>
            </a:prstGeom>
            <a:solidFill>
              <a:srgbClr val="a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2" descr="中空logo"/>
            <p:cNvPicPr/>
            <p:nvPr/>
          </p:nvPicPr>
          <p:blipFill>
            <a:blip r:embed="rId7"/>
            <a:srcRect l="30728" t="20519" r="24436" b="33707"/>
            <a:stretch/>
          </p:blipFill>
          <p:spPr>
            <a:xfrm>
              <a:off x="9701640" y="94320"/>
              <a:ext cx="815760" cy="79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646"/>
                </a:solidFill>
                <a:latin typeface="华文楷体"/>
              </a:rPr>
              <a:t>Click to edit the title text format</a:t>
            </a: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37760" y="146052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85000"/>
              <a:buFont typeface="华文楷体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4" marL="2057400" indent="-228600">
              <a:spcBef>
                <a:spcPts val="799"/>
              </a:spcBef>
              <a:buClr>
                <a:srgbClr val="fe96ff"/>
              </a:buClr>
              <a:buSzPct val="85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2" descr="中空logo"/>
          <p:cNvPicPr/>
          <p:nvPr/>
        </p:nvPicPr>
        <p:blipFill>
          <a:blip r:embed="rId2"/>
          <a:srcRect l="30728" t="20519" r="24436" b="33707"/>
          <a:stretch/>
        </p:blipFill>
        <p:spPr>
          <a:xfrm>
            <a:off x="9864720" y="115920"/>
            <a:ext cx="816120" cy="7938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8" descr="2.jpg"/>
          <p:cNvPicPr/>
          <p:nvPr/>
        </p:nvPicPr>
        <p:blipFill>
          <a:blip r:embed="rId3"/>
          <a:stretch/>
        </p:blipFill>
        <p:spPr>
          <a:xfrm>
            <a:off x="0" y="6337440"/>
            <a:ext cx="10801440" cy="520560"/>
          </a:xfrm>
          <a:prstGeom prst="rect">
            <a:avLst/>
          </a:prstGeom>
          <a:ln w="0">
            <a:noFill/>
          </a:ln>
        </p:spPr>
      </p:pic>
      <p:sp>
        <p:nvSpPr>
          <p:cNvPr id="93" name="Line 5"/>
          <p:cNvSpPr/>
          <p:nvPr/>
        </p:nvSpPr>
        <p:spPr>
          <a:xfrm>
            <a:off x="492120" y="1141560"/>
            <a:ext cx="9756720" cy="0"/>
          </a:xfrm>
          <a:prstGeom prst="line">
            <a:avLst/>
          </a:prstGeom>
          <a:ln w="28440">
            <a:solidFill>
              <a:srgbClr val="a400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中空logo"/>
          <p:cNvPicPr/>
          <p:nvPr/>
        </p:nvPicPr>
        <p:blipFill>
          <a:blip r:embed="rId4"/>
          <a:srcRect l="30728" t="20519" r="24436" b="33707"/>
          <a:stretch/>
        </p:blipFill>
        <p:spPr>
          <a:xfrm>
            <a:off x="9864720" y="115920"/>
            <a:ext cx="816120" cy="793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646"/>
                </a:solidFill>
                <a:latin typeface="华文楷体"/>
              </a:rPr>
              <a:t>Click to edit the title text format</a:t>
            </a: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37760" y="146052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85000"/>
              <a:buFont typeface="华文楷体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4" marL="2057400" indent="-228600">
              <a:spcBef>
                <a:spcPts val="799"/>
              </a:spcBef>
              <a:buClr>
                <a:srgbClr val="fe96ff"/>
              </a:buClr>
              <a:buSzPct val="85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2" descr="中空logo"/>
          <p:cNvPicPr/>
          <p:nvPr/>
        </p:nvPicPr>
        <p:blipFill>
          <a:blip r:embed="rId2"/>
          <a:srcRect l="30728" t="20519" r="24436" b="33707"/>
          <a:stretch/>
        </p:blipFill>
        <p:spPr>
          <a:xfrm>
            <a:off x="9864720" y="115920"/>
            <a:ext cx="816120" cy="7938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8" descr="2.jpg"/>
          <p:cNvPicPr/>
          <p:nvPr/>
        </p:nvPicPr>
        <p:blipFill>
          <a:blip r:embed="rId3"/>
          <a:stretch/>
        </p:blipFill>
        <p:spPr>
          <a:xfrm>
            <a:off x="0" y="6337440"/>
            <a:ext cx="10801440" cy="520560"/>
          </a:xfrm>
          <a:prstGeom prst="rect">
            <a:avLst/>
          </a:prstGeom>
          <a:ln w="0">
            <a:noFill/>
          </a:ln>
        </p:spPr>
      </p:pic>
      <p:sp>
        <p:nvSpPr>
          <p:cNvPr id="135" name="Line 5"/>
          <p:cNvSpPr/>
          <p:nvPr/>
        </p:nvSpPr>
        <p:spPr>
          <a:xfrm>
            <a:off x="492120" y="1141560"/>
            <a:ext cx="9756720" cy="0"/>
          </a:xfrm>
          <a:prstGeom prst="line">
            <a:avLst/>
          </a:prstGeom>
          <a:ln w="28440">
            <a:solidFill>
              <a:srgbClr val="a400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中空logo"/>
          <p:cNvPicPr/>
          <p:nvPr/>
        </p:nvPicPr>
        <p:blipFill>
          <a:blip r:embed="rId4"/>
          <a:srcRect l="30728" t="20519" r="24436" b="33707"/>
          <a:stretch/>
        </p:blipFill>
        <p:spPr>
          <a:xfrm>
            <a:off x="9864720" y="115920"/>
            <a:ext cx="816120" cy="7938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646"/>
                </a:solidFill>
                <a:latin typeface="华文楷体"/>
              </a:rPr>
              <a:t>Click to edit the title text format</a:t>
            </a: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37760" y="146052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85000"/>
              <a:buFont typeface="华文楷体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4" marL="2057400" indent="-228600">
              <a:spcBef>
                <a:spcPts val="799"/>
              </a:spcBef>
              <a:buClr>
                <a:srgbClr val="fe96ff"/>
              </a:buClr>
              <a:buSzPct val="85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2" descr="中空logo"/>
          <p:cNvPicPr/>
          <p:nvPr/>
        </p:nvPicPr>
        <p:blipFill>
          <a:blip r:embed="rId2"/>
          <a:srcRect l="30728" t="20519" r="24436" b="33707"/>
          <a:stretch/>
        </p:blipFill>
        <p:spPr>
          <a:xfrm>
            <a:off x="9864720" y="115920"/>
            <a:ext cx="816120" cy="79380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8" descr="2.jpg"/>
          <p:cNvPicPr/>
          <p:nvPr/>
        </p:nvPicPr>
        <p:blipFill>
          <a:blip r:embed="rId3"/>
          <a:stretch/>
        </p:blipFill>
        <p:spPr>
          <a:xfrm>
            <a:off x="0" y="6337440"/>
            <a:ext cx="10801440" cy="520560"/>
          </a:xfrm>
          <a:prstGeom prst="rect">
            <a:avLst/>
          </a:prstGeom>
          <a:ln w="0">
            <a:noFill/>
          </a:ln>
        </p:spPr>
      </p:pic>
      <p:sp>
        <p:nvSpPr>
          <p:cNvPr id="177" name="Line 5"/>
          <p:cNvSpPr/>
          <p:nvPr/>
        </p:nvSpPr>
        <p:spPr>
          <a:xfrm>
            <a:off x="492120" y="1141560"/>
            <a:ext cx="9756720" cy="0"/>
          </a:xfrm>
          <a:prstGeom prst="line">
            <a:avLst/>
          </a:prstGeom>
          <a:ln w="28440">
            <a:solidFill>
              <a:srgbClr val="a400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646"/>
                </a:solidFill>
                <a:latin typeface="华文楷体"/>
              </a:rPr>
              <a:t>Click to edit the title text format</a:t>
            </a: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37760" y="146052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85000"/>
              <a:buFont typeface="华文楷体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4" marL="2057400" indent="-228600">
              <a:spcBef>
                <a:spcPts val="799"/>
              </a:spcBef>
              <a:buClr>
                <a:srgbClr val="fe96ff"/>
              </a:buClr>
              <a:buSzPct val="85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"/>
          </p:nvPr>
        </p:nvSpPr>
        <p:spPr>
          <a:xfrm>
            <a:off x="809280" y="624852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2"/>
          </p:nvPr>
        </p:nvSpPr>
        <p:spPr>
          <a:xfrm>
            <a:off x="3691080" y="6248520"/>
            <a:ext cx="3419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3"/>
          </p:nvPr>
        </p:nvSpPr>
        <p:spPr>
          <a:xfrm>
            <a:off x="7740360" y="624852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C527-D130-411A-9D5C-8371E0F999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2" descr="中空logo"/>
          <p:cNvPicPr/>
          <p:nvPr/>
        </p:nvPicPr>
        <p:blipFill>
          <a:blip r:embed="rId2"/>
          <a:srcRect l="30728" t="20519" r="24436" b="33707"/>
          <a:stretch/>
        </p:blipFill>
        <p:spPr>
          <a:xfrm>
            <a:off x="9864720" y="115920"/>
            <a:ext cx="816120" cy="7938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8" descr="2.jpg"/>
          <p:cNvPicPr/>
          <p:nvPr/>
        </p:nvPicPr>
        <p:blipFill>
          <a:blip r:embed="rId3"/>
          <a:stretch/>
        </p:blipFill>
        <p:spPr>
          <a:xfrm>
            <a:off x="0" y="6337440"/>
            <a:ext cx="10801440" cy="520560"/>
          </a:xfrm>
          <a:prstGeom prst="rect">
            <a:avLst/>
          </a:prstGeom>
          <a:ln w="0">
            <a:noFill/>
          </a:ln>
        </p:spPr>
      </p:pic>
      <p:sp>
        <p:nvSpPr>
          <p:cNvPr id="221" name="Line 5"/>
          <p:cNvSpPr/>
          <p:nvPr/>
        </p:nvSpPr>
        <p:spPr>
          <a:xfrm>
            <a:off x="492120" y="1141560"/>
            <a:ext cx="9756720" cy="0"/>
          </a:xfrm>
          <a:prstGeom prst="line">
            <a:avLst/>
          </a:prstGeom>
          <a:ln w="28440">
            <a:solidFill>
              <a:srgbClr val="a400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646"/>
                </a:solidFill>
                <a:latin typeface="华文楷体"/>
              </a:rPr>
              <a:t>Click to edit the title text format</a:t>
            </a: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37760" y="146052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85000"/>
              <a:buFont typeface="华文楷体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4" marL="2057400" indent="-228600">
              <a:spcBef>
                <a:spcPts val="799"/>
              </a:spcBef>
              <a:buClr>
                <a:srgbClr val="fe96ff"/>
              </a:buClr>
              <a:buSzPct val="85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4"/>
          </p:nvPr>
        </p:nvSpPr>
        <p:spPr>
          <a:xfrm>
            <a:off x="809280" y="624852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5"/>
          </p:nvPr>
        </p:nvSpPr>
        <p:spPr>
          <a:xfrm>
            <a:off x="3691080" y="6248520"/>
            <a:ext cx="3419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6"/>
          </p:nvPr>
        </p:nvSpPr>
        <p:spPr>
          <a:xfrm>
            <a:off x="7740360" y="624852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2807-4DCD-4802-A933-D58B728A84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2124000" y="1380960"/>
            <a:ext cx="72151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方正少儿_GBK"/>
              </a:rPr>
              <a:t>心态决定一切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方正少儿_GBK"/>
              <a:ea typeface="方正少儿_GB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二、学习的心态 </a:t>
            </a:r>
            <a:endParaRPr b="1" lang="en-US" sz="48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1449360" y="1279080"/>
            <a:ext cx="77407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、空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、谦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、创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空杯</a:t>
            </a: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808200" y="4574880"/>
            <a:ext cx="941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历代表过去，只有学习力才能代表将来。要能容人，装下新的知识和东西，要吸收别人的优点和先进的东西才能让自己提高的更快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966960" y="1882080"/>
            <a:ext cx="88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样的两个杯子，一个是空杯，一个装有半杯子，如果再加水，请问哪个杯子可以加入更多的水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833560" y="3122640"/>
            <a:ext cx="416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答案：空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、谦虚</a:t>
            </a:r>
            <a:endParaRPr b="1" lang="en-US" sz="48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063800" y="2492280"/>
            <a:ext cx="89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任何事情都要谦虚，葡萄不熟才酸，人无知才傲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4"/>
          <p:cNvSpPr/>
          <p:nvPr/>
        </p:nvSpPr>
        <p:spPr>
          <a:xfrm>
            <a:off x="420840" y="2509920"/>
            <a:ext cx="98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古时候一个佛学造诣很深的修行者，听说某个寺庙里有位德高望重的老禅师，便去拜访。老禅师的徒弟接待他时，他态度傲慢，心想：我是佛学造诣很深的人，你算老几？后来老禅师十分恭敬地接待了他，并为他沏茶。可在倒水时，明明杯子已经满了，老禅师还不停地倒。他不解地问：“大师，为什么杯子已经满了，还要往里倒？”禅师说：“是呀，既然已满了，干吗？还倒呢？”禅师的意思是，既然你已经很有学问了，为什么还要到我这里求教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2"/>
          <p:cNvSpPr txBox="1"/>
          <p:nvPr/>
        </p:nvSpPr>
        <p:spPr>
          <a:xfrm>
            <a:off x="650880" y="196920"/>
            <a:ext cx="45576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心有空余，才能装物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512640" y="4835520"/>
            <a:ext cx="99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老禅师无疑是个智者，他看出修行者过于自满，未必能从自己这里学到真东西。我们每个人都一样，若太过骄傲，就无法虚心向别人学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、创新</a:t>
            </a:r>
            <a:endParaRPr b="1" lang="en-US" sz="48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08200" y="1989000"/>
            <a:ext cx="55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计划永远赶不上变化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5436360" y="307080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变着通，通则达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382680" y="4581360"/>
            <a:ext cx="824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创新的基础是知识，是见识。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4"/>
          <p:cNvSpPr txBox="1"/>
          <p:nvPr/>
        </p:nvSpPr>
        <p:spPr>
          <a:xfrm>
            <a:off x="884160" y="193680"/>
            <a:ext cx="3240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小故事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466560" y="2753640"/>
            <a:ext cx="982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老张和老李一人出一百块钱买了一个蛋糕，老张说我来切，老李怕他切得不公平，就找了三个朋友，第一个是搞政治思想工作的，他对老张说，你要提高你的道德素质，不可以权谋私。第二个是搞技术的，老李，你好好把这个面积测定一下，再考虑这个蛋糕做得均匀度，好好算好，通过优化计算，选择切入的面。第三个是制度经济学的，不用费事，老张你切，切完以后，老李先挑，保证它会尽量切得公平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三、付出的心态 </a:t>
            </a:r>
            <a:endParaRPr b="1" lang="en-US" sz="4800" spc="-1" strike="noStrike">
              <a:solidFill>
                <a:srgbClr val="004646"/>
              </a:solidFill>
              <a:latin typeface="华文楷体"/>
            </a:endParaRPr>
          </a:p>
        </p:txBody>
      </p:sp>
      <p:pic>
        <p:nvPicPr>
          <p:cNvPr id="328" name="WordArt 5" descr=""/>
          <p:cNvPicPr/>
          <p:nvPr/>
        </p:nvPicPr>
        <p:blipFill>
          <a:blip r:embed="rId1"/>
          <a:stretch/>
        </p:blipFill>
        <p:spPr>
          <a:xfrm>
            <a:off x="2206800" y="2730600"/>
            <a:ext cx="661320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480960" y="2256120"/>
            <a:ext cx="969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年他十六岁，由于电击昏倒。当他醒来的时候发现自己的两条胳膊，一条腿全部没有了，后来由于一次意外，又让他失去了一只眼睛，在她妈妈的鼓励下，他开始用嘴咬着画笔画画。二十八年后的今天。他成为了台湾口足画家协会的主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别人问他：谢先生，你认为什么样的人生才是最有价值的人生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说：能够为别人服务的人生才是最有价值的人生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563400" y="5079960"/>
            <a:ext cx="96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们一直都在期待生命中有贵人的出现，其实我们自己就是别人生命当中的贵人。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WordArt 4"/>
          <p:cNvSpPr txBox="1"/>
          <p:nvPr/>
        </p:nvSpPr>
        <p:spPr>
          <a:xfrm>
            <a:off x="441360" y="179280"/>
            <a:ext cx="400536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谢坤的小故事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0160" y="-360"/>
            <a:ext cx="918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四、老板的心态 </a:t>
            </a:r>
            <a:endParaRPr b="1" lang="en-US" sz="4800" spc="-1" strike="noStrike">
              <a:solidFill>
                <a:srgbClr val="004646"/>
              </a:solidFill>
              <a:latin typeface="华文楷体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90600" y="1233360"/>
          <a:ext cx="5303880" cy="5002200"/>
        </p:xfrm>
        <a:graphic>
          <a:graphicData uri="http://schemas.openxmlformats.org/drawingml/2006/table">
            <a:tbl>
              <a:tblPr/>
              <a:tblGrid>
                <a:gridCol w="1060200"/>
                <a:gridCol w="4243680"/>
              </a:tblGrid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华文楷体"/>
                        </a:rPr>
                        <a:t>　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老板心态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眼光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关注企业的战略与长远发展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0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责任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承担责任，信守承诺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效率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日事日毕，绝不拖延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成本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精打细算，多快好省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质量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精益求精，产品等于人品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失败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吸取教训，总结经验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团队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群策群力，分享共赢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结果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结果论英雄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事业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把企业当成自己的事业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5665680" y="1233360"/>
          <a:ext cx="4870440" cy="5002200"/>
        </p:xfrm>
        <a:graphic>
          <a:graphicData uri="http://schemas.openxmlformats.org/drawingml/2006/table">
            <a:tbl>
              <a:tblPr/>
              <a:tblGrid>
                <a:gridCol w="4870440"/>
              </a:tblGrid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打工心态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保住眼前的工资和饭碗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0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漫不经心，得过且过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懒惰拖拉，消极应付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大手大脚，花公司的钱不心疼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差不多就行了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寻找借口，竭力为自己辩护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单枪匹马，个人英雄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没有功劳也有苦劳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把企业当成别人的事业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e7e7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5"/>
          <p:cNvSpPr/>
          <p:nvPr/>
        </p:nvSpPr>
        <p:spPr>
          <a:xfrm>
            <a:off x="415800" y="5038560"/>
            <a:ext cx="1004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们要警惕“打工的心态”，工作不尽全力，结果反受其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做得对的是工作，做得好的是事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WordArt 4"/>
          <p:cNvSpPr txBox="1"/>
          <p:nvPr/>
        </p:nvSpPr>
        <p:spPr>
          <a:xfrm>
            <a:off x="316080" y="0"/>
            <a:ext cx="40068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小故事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37" name="TextBox 6"/>
          <p:cNvSpPr/>
          <p:nvPr/>
        </p:nvSpPr>
        <p:spPr>
          <a:xfrm>
            <a:off x="498600" y="1316160"/>
            <a:ext cx="955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位上了年纪的建筑工人准备退休了，老板很感激他这么多年勤勤恳恳地工作，就问他是否愿意帮自己再建最后一栋房子。老建筑工人答应了。可是，他的心思早不在工作上了，干活马马虎虎，偷工减料，用劣质的材料随随便便地盖了一栋房子。谁知道完工以后，老板拍拍老建筑工人的肩膀，诚恳地说：“这是你新手建造的房子，我反它送给你，表达我对你这么多年工作的感激之情。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建筑工人惊呆了，如果当初他知道是在为自己建房子，他一定会用最优质的建材，最高明的技术，然而，现在呢，却建成了“豆腐渣工程”！但是一切都已经来不及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11120" y="1758960"/>
            <a:ext cx="1039032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的一生不可能背负起自己所遇到的一切，也不可能得到自己想要的一切。人生成功、幸福与否，关键取决于一个人是否具备接纳自我、正视磨难、感悟人生的好心态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个人的心态可以决定他的命运。</a:t>
            </a:r>
            <a:endParaRPr b="1" lang="en-US" sz="36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五、合作的心态 </a:t>
            </a:r>
            <a:endParaRPr b="1" lang="en-US" sz="48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1193760" y="14558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为什么要合作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942840" y="2195640"/>
            <a:ext cx="69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成功靠自己，大成功靠团队。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623880" y="4037040"/>
            <a:ext cx="705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希望自己值多少钱，就要让自己具备多少价值。与人合作共赢的基础就是你有多少能给别人的价值。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7"/>
          <p:cNvGrpSpPr/>
          <p:nvPr/>
        </p:nvGrpSpPr>
        <p:grpSpPr>
          <a:xfrm>
            <a:off x="7697880" y="3500280"/>
            <a:ext cx="2126520" cy="2423520"/>
            <a:chOff x="7697880" y="3500280"/>
            <a:chExt cx="2126520" cy="2423520"/>
          </a:xfrm>
        </p:grpSpPr>
        <p:sp>
          <p:nvSpPr>
            <p:cNvPr id="343" name="Oval 8"/>
            <p:cNvSpPr/>
            <p:nvPr/>
          </p:nvSpPr>
          <p:spPr>
            <a:xfrm>
              <a:off x="7697880" y="5250600"/>
              <a:ext cx="74376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7727400" y="5250600"/>
              <a:ext cx="68472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0"/>
            <p:cNvSpPr/>
            <p:nvPr/>
          </p:nvSpPr>
          <p:spPr>
            <a:xfrm>
              <a:off x="7919280" y="4709520"/>
              <a:ext cx="74232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11"/>
            <p:cNvSpPr/>
            <p:nvPr/>
          </p:nvSpPr>
          <p:spPr>
            <a:xfrm>
              <a:off x="7947000" y="4723920"/>
              <a:ext cx="68688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12"/>
            <p:cNvSpPr/>
            <p:nvPr/>
          </p:nvSpPr>
          <p:spPr>
            <a:xfrm>
              <a:off x="7830360" y="4568040"/>
              <a:ext cx="74448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3"/>
            <p:cNvSpPr/>
            <p:nvPr/>
          </p:nvSpPr>
          <p:spPr>
            <a:xfrm>
              <a:off x="7860240" y="4582080"/>
              <a:ext cx="68652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14"/>
            <p:cNvSpPr/>
            <p:nvPr/>
          </p:nvSpPr>
          <p:spPr>
            <a:xfrm>
              <a:off x="7959960" y="4517280"/>
              <a:ext cx="74376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5"/>
            <p:cNvSpPr/>
            <p:nvPr/>
          </p:nvSpPr>
          <p:spPr>
            <a:xfrm>
              <a:off x="7987320" y="4532040"/>
              <a:ext cx="686880" cy="39132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6"/>
            <p:cNvSpPr/>
            <p:nvPr/>
          </p:nvSpPr>
          <p:spPr>
            <a:xfrm>
              <a:off x="7884000" y="4324680"/>
              <a:ext cx="74376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17"/>
            <p:cNvSpPr/>
            <p:nvPr/>
          </p:nvSpPr>
          <p:spPr>
            <a:xfrm>
              <a:off x="7911720" y="4339440"/>
              <a:ext cx="68688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8"/>
            <p:cNvSpPr/>
            <p:nvPr/>
          </p:nvSpPr>
          <p:spPr>
            <a:xfrm>
              <a:off x="7865640" y="4190040"/>
              <a:ext cx="74376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9"/>
            <p:cNvSpPr/>
            <p:nvPr/>
          </p:nvSpPr>
          <p:spPr>
            <a:xfrm>
              <a:off x="7895520" y="4204800"/>
              <a:ext cx="68472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0"/>
            <p:cNvSpPr/>
            <p:nvPr/>
          </p:nvSpPr>
          <p:spPr>
            <a:xfrm>
              <a:off x="7884000" y="4026960"/>
              <a:ext cx="74376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21"/>
            <p:cNvSpPr/>
            <p:nvPr/>
          </p:nvSpPr>
          <p:spPr>
            <a:xfrm>
              <a:off x="7911720" y="4041000"/>
              <a:ext cx="68688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22"/>
            <p:cNvSpPr/>
            <p:nvPr/>
          </p:nvSpPr>
          <p:spPr>
            <a:xfrm>
              <a:off x="7947000" y="3855600"/>
              <a:ext cx="74376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23"/>
            <p:cNvSpPr/>
            <p:nvPr/>
          </p:nvSpPr>
          <p:spPr>
            <a:xfrm>
              <a:off x="7976520" y="3870360"/>
              <a:ext cx="68472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24"/>
            <p:cNvSpPr/>
            <p:nvPr/>
          </p:nvSpPr>
          <p:spPr>
            <a:xfrm>
              <a:off x="8028000" y="3699720"/>
              <a:ext cx="74376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25"/>
            <p:cNvSpPr/>
            <p:nvPr/>
          </p:nvSpPr>
          <p:spPr>
            <a:xfrm>
              <a:off x="8057880" y="3699720"/>
              <a:ext cx="68652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26"/>
            <p:cNvSpPr/>
            <p:nvPr/>
          </p:nvSpPr>
          <p:spPr>
            <a:xfrm>
              <a:off x="9080640" y="4837320"/>
              <a:ext cx="743760" cy="50688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27"/>
            <p:cNvSpPr/>
            <p:nvPr/>
          </p:nvSpPr>
          <p:spPr>
            <a:xfrm>
              <a:off x="9110160" y="4851360"/>
              <a:ext cx="68472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28"/>
            <p:cNvSpPr/>
            <p:nvPr/>
          </p:nvSpPr>
          <p:spPr>
            <a:xfrm>
              <a:off x="9010440" y="4673520"/>
              <a:ext cx="74376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29"/>
            <p:cNvSpPr/>
            <p:nvPr/>
          </p:nvSpPr>
          <p:spPr>
            <a:xfrm>
              <a:off x="9040320" y="4687920"/>
              <a:ext cx="68472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30"/>
            <p:cNvSpPr/>
            <p:nvPr/>
          </p:nvSpPr>
          <p:spPr>
            <a:xfrm>
              <a:off x="9080640" y="4510080"/>
              <a:ext cx="74376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31"/>
            <p:cNvSpPr/>
            <p:nvPr/>
          </p:nvSpPr>
          <p:spPr>
            <a:xfrm>
              <a:off x="9110160" y="4524120"/>
              <a:ext cx="68472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32"/>
            <p:cNvSpPr/>
            <p:nvPr/>
          </p:nvSpPr>
          <p:spPr>
            <a:xfrm>
              <a:off x="9075240" y="4375440"/>
              <a:ext cx="74376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33"/>
            <p:cNvSpPr/>
            <p:nvPr/>
          </p:nvSpPr>
          <p:spPr>
            <a:xfrm>
              <a:off x="9104760" y="4389480"/>
              <a:ext cx="68472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34"/>
            <p:cNvSpPr/>
            <p:nvPr/>
          </p:nvSpPr>
          <p:spPr>
            <a:xfrm>
              <a:off x="9028800" y="4233600"/>
              <a:ext cx="74376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35"/>
            <p:cNvSpPr/>
            <p:nvPr/>
          </p:nvSpPr>
          <p:spPr>
            <a:xfrm>
              <a:off x="9058680" y="4247640"/>
              <a:ext cx="68472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6"/>
            <p:cNvSpPr/>
            <p:nvPr/>
          </p:nvSpPr>
          <p:spPr>
            <a:xfrm>
              <a:off x="8999640" y="4098960"/>
              <a:ext cx="74376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7"/>
            <p:cNvSpPr/>
            <p:nvPr/>
          </p:nvSpPr>
          <p:spPr>
            <a:xfrm>
              <a:off x="9028800" y="4113000"/>
              <a:ext cx="684720" cy="38988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8"/>
            <p:cNvSpPr/>
            <p:nvPr/>
          </p:nvSpPr>
          <p:spPr>
            <a:xfrm>
              <a:off x="8958960" y="3935160"/>
              <a:ext cx="74376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39"/>
            <p:cNvSpPr/>
            <p:nvPr/>
          </p:nvSpPr>
          <p:spPr>
            <a:xfrm>
              <a:off x="8988120" y="3947400"/>
              <a:ext cx="68472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40"/>
            <p:cNvSpPr/>
            <p:nvPr/>
          </p:nvSpPr>
          <p:spPr>
            <a:xfrm>
              <a:off x="8982720" y="3769560"/>
              <a:ext cx="742320" cy="50688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41"/>
            <p:cNvSpPr/>
            <p:nvPr/>
          </p:nvSpPr>
          <p:spPr>
            <a:xfrm>
              <a:off x="9010440" y="3783600"/>
              <a:ext cx="68688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42"/>
            <p:cNvSpPr/>
            <p:nvPr/>
          </p:nvSpPr>
          <p:spPr>
            <a:xfrm>
              <a:off x="9023400" y="3620160"/>
              <a:ext cx="74376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43"/>
            <p:cNvSpPr/>
            <p:nvPr/>
          </p:nvSpPr>
          <p:spPr>
            <a:xfrm>
              <a:off x="9051120" y="3634920"/>
              <a:ext cx="68688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4"/>
            <p:cNvSpPr/>
            <p:nvPr/>
          </p:nvSpPr>
          <p:spPr>
            <a:xfrm>
              <a:off x="8934480" y="3500280"/>
              <a:ext cx="74448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45"/>
            <p:cNvSpPr/>
            <p:nvPr/>
          </p:nvSpPr>
          <p:spPr>
            <a:xfrm>
              <a:off x="8964360" y="3500280"/>
              <a:ext cx="68652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6"/>
            <p:cNvSpPr/>
            <p:nvPr/>
          </p:nvSpPr>
          <p:spPr>
            <a:xfrm>
              <a:off x="8390160" y="4996080"/>
              <a:ext cx="74196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47"/>
            <p:cNvSpPr/>
            <p:nvPr/>
          </p:nvSpPr>
          <p:spPr>
            <a:xfrm>
              <a:off x="8417880" y="5007960"/>
              <a:ext cx="686520" cy="39132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48"/>
            <p:cNvSpPr/>
            <p:nvPr/>
          </p:nvSpPr>
          <p:spPr>
            <a:xfrm>
              <a:off x="8453160" y="4837320"/>
              <a:ext cx="743760" cy="50688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49"/>
            <p:cNvSpPr/>
            <p:nvPr/>
          </p:nvSpPr>
          <p:spPr>
            <a:xfrm>
              <a:off x="8482320" y="4851360"/>
              <a:ext cx="68472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50"/>
            <p:cNvSpPr/>
            <p:nvPr/>
          </p:nvSpPr>
          <p:spPr>
            <a:xfrm>
              <a:off x="8355240" y="4651920"/>
              <a:ext cx="743760" cy="50688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51"/>
            <p:cNvSpPr/>
            <p:nvPr/>
          </p:nvSpPr>
          <p:spPr>
            <a:xfrm>
              <a:off x="8382600" y="4665960"/>
              <a:ext cx="68652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52"/>
            <p:cNvSpPr/>
            <p:nvPr/>
          </p:nvSpPr>
          <p:spPr>
            <a:xfrm>
              <a:off x="8360640" y="4481280"/>
              <a:ext cx="743760" cy="50688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53"/>
            <p:cNvSpPr/>
            <p:nvPr/>
          </p:nvSpPr>
          <p:spPr>
            <a:xfrm>
              <a:off x="8390160" y="4495320"/>
              <a:ext cx="68472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54"/>
            <p:cNvSpPr/>
            <p:nvPr/>
          </p:nvSpPr>
          <p:spPr>
            <a:xfrm>
              <a:off x="8307000" y="4332240"/>
              <a:ext cx="74376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55"/>
            <p:cNvSpPr/>
            <p:nvPr/>
          </p:nvSpPr>
          <p:spPr>
            <a:xfrm>
              <a:off x="8336520" y="4332240"/>
              <a:ext cx="686520" cy="39132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56"/>
            <p:cNvSpPr/>
            <p:nvPr/>
          </p:nvSpPr>
          <p:spPr>
            <a:xfrm>
              <a:off x="8894160" y="5419080"/>
              <a:ext cx="744480" cy="504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57"/>
            <p:cNvSpPr/>
            <p:nvPr/>
          </p:nvSpPr>
          <p:spPr>
            <a:xfrm>
              <a:off x="8923680" y="5419080"/>
              <a:ext cx="684720" cy="392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58"/>
          <p:cNvSpPr/>
          <p:nvPr/>
        </p:nvSpPr>
        <p:spPr>
          <a:xfrm>
            <a:off x="1012680" y="3071880"/>
            <a:ext cx="700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狼的伟大在于团队合作精神 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18960" y="1374480"/>
            <a:ext cx="1005696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次小孩吃饭，不小心碰掉了一根筷子，懒于去拿，他便试着用一支筷子吃饭。结果，看似普通的筷子，少了一只使用起来却是超出想象的困难。</a:t>
            </a:r>
            <a:endParaRPr b="1" lang="en-US" sz="28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title"/>
          </p:nvPr>
        </p:nvSpPr>
        <p:spPr>
          <a:xfrm>
            <a:off x="826560" y="-36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生活感悟</a:t>
            </a:r>
            <a:endParaRPr b="1" lang="en-US" sz="48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387360" y="3463920"/>
            <a:ext cx="1001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从理论上来说用一支筷子吃饭，应该能够吃到正常餐量的一半，但事实并非如此，假如一双筷子的功能是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话，那么当它们一起用的时候，每一支筷子的功能就是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而当它们少了一支的话，那么，它们的效率不是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而是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六、责任的心态 </a:t>
            </a:r>
            <a:endParaRPr b="1" lang="en-US" sz="48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93800" y="2897280"/>
            <a:ext cx="929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首先应该清楚自己做些什么。只有做好自己分内的工作，才有可能再做一些别的什么。工作无小事，认真对待每一件事都算是大事，固守自己的本分和岗位，就是做出了最好的贡献。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722160" y="2113200"/>
            <a:ext cx="972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只要你的努力是持之以恒的。即使你的职业是平庸的，如果你处处抱着尽职尽责的态度去工作，也能获得个人极大的成功。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 rot="207600">
            <a:off x="1740960" y="3798720"/>
            <a:ext cx="6866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成功者是责任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失败者是受害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4"/>
          <p:cNvSpPr txBox="1"/>
          <p:nvPr/>
        </p:nvSpPr>
        <p:spPr>
          <a:xfrm>
            <a:off x="879480" y="210960"/>
            <a:ext cx="31464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小故事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338040" y="1693440"/>
            <a:ext cx="9866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岁的汉克和爸爸妈妈哥哥一起到森林干活，突然间下起雨来，可是他们只带了一件雨披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爸爸将雨披给了妈妈，妈妈给了哥哥，哥哥又给了汉克．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汉克问道：”为什么爸爸给了妈妈，妈妈给了哥哥，哥哥又给了我呢？”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爸爸回答道：”因为爸爸比妈妈强大，妈妈比哥哥强大，哥哥又比你强大呀．我们都会保护比较弱小的人．”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汉克左右看了看，跑过去将雨披撑开来挡在了一朵风雨中飘摇的娇弱的小花上面．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"/>
          <p:cNvSpPr/>
          <p:nvPr/>
        </p:nvSpPr>
        <p:spPr>
          <a:xfrm>
            <a:off x="374760" y="5264280"/>
            <a:ext cx="100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这个故事告诉我们，真正的强者不一定是多有力或者多有钱的人，而是他对别人多有帮助．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5040" y="109440"/>
            <a:ext cx="97218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七、全力以赴的心态 </a:t>
            </a:r>
            <a:endParaRPr b="1" lang="en-US" sz="48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919080" y="1579680"/>
            <a:ext cx="93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成功是建立在失败之上，成功者永不放弃，放弃者永不成功，成功一定有方法，失败一定有原因 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4"/>
          <p:cNvSpPr txBox="1"/>
          <p:nvPr/>
        </p:nvSpPr>
        <p:spPr>
          <a:xfrm>
            <a:off x="808200" y="235080"/>
            <a:ext cx="2552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小故事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704880" y="2259360"/>
            <a:ext cx="9699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只野狗在追一只小兔子，野狗使劲追，小兔子使劲跑，但最终野狗也没追上小兔子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小兔子回到家，对其母说：“今天有一只野狗追我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妈妈问：“追上了吗？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小兔子回答：“肯定没追上了，它怎么能追上我呢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那只狗只是为了一顿饭在追我，而我却是为了一条命在跑啊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374760" y="2886120"/>
            <a:ext cx="645624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感恩是对生命过程的一种珍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感恩是对人生苦难的一种感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感恩是一种得到的付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7207200" y="2300400"/>
            <a:ext cx="2352600" cy="1477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e1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珍视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拥有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BD05546_"/>
          <p:cNvPicPr/>
          <p:nvPr/>
        </p:nvPicPr>
        <p:blipFill>
          <a:blip r:embed="rId1"/>
          <a:stretch/>
        </p:blipFill>
        <p:spPr>
          <a:xfrm>
            <a:off x="6267600" y="3774960"/>
            <a:ext cx="2990880" cy="25527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44320" y="192240"/>
            <a:ext cx="9181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八、感恩的心态</a:t>
            </a:r>
            <a:endParaRPr b="1" lang="en-US" sz="48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412" name="TextBox 5"/>
          <p:cNvSpPr/>
          <p:nvPr/>
        </p:nvSpPr>
        <p:spPr>
          <a:xfrm>
            <a:off x="527040" y="1260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们常说：懂得感恩的人会懂得珍惜，就容易得到幸福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3"/>
          <p:cNvSpPr/>
          <p:nvPr/>
        </p:nvSpPr>
        <p:spPr>
          <a:xfrm>
            <a:off x="826920" y="1163520"/>
            <a:ext cx="8940960" cy="5646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感恩伤害，因为它磨练了我的心智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感恩摔倒，因为它强化了我的双腿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感恩欺骗，因为它增进了我的智慧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感恩鞭打，因为它强化了你的意志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感恩遗弃，因为它教导了我的自立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感恩嘲笑，因为它坚定了我的信念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感恩挫折，因为它强化了我的意志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感恩嫉妒，因为它肯定了我的成就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永远心存感恩， 感恩一切使我成长的人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24280" y="380880"/>
            <a:ext cx="56246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在苦难中学会感恩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1" lang="en-US" sz="48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415" name="WordArt 5"/>
          <p:cNvSpPr txBox="1"/>
          <p:nvPr/>
        </p:nvSpPr>
        <p:spPr>
          <a:xfrm>
            <a:off x="369720" y="0"/>
            <a:ext cx="300996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学会长大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16" name="Picture 2" descr="PE03488_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8786880" y="4343400"/>
            <a:ext cx="201456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4"/>
          <p:cNvSpPr txBox="1"/>
          <p:nvPr/>
        </p:nvSpPr>
        <p:spPr>
          <a:xfrm>
            <a:off x="771480" y="2106720"/>
            <a:ext cx="9272520" cy="20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境由心生，心造幸福！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5"/>
          <p:cNvSpPr/>
          <p:nvPr/>
        </p:nvSpPr>
        <p:spPr>
          <a:xfrm>
            <a:off x="361800" y="1239840"/>
            <a:ext cx="1002996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从成败得失来分，人分为两种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387360" y="4152960"/>
            <a:ext cx="1000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两种人的在本质上并没有什么区别，只是他们在日常生活中拥有的心情不同，准确地说，是他们控制自己心情的能力有所不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1328760" y="2500200"/>
            <a:ext cx="79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成功的人和失败的人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WordArt 4"/>
          <p:cNvSpPr txBox="1"/>
          <p:nvPr/>
        </p:nvSpPr>
        <p:spPr>
          <a:xfrm>
            <a:off x="2422440" y="2492280"/>
            <a:ext cx="63788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谢谢聆听！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650880" y="196920"/>
            <a:ext cx="38149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小故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4920" y="2386800"/>
            <a:ext cx="1026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经有两个人一起在沙漠的黑夜中行走，水壶中的水早就喝完了，两个人又累又饿，体力渐渐不支了。在休息的时候，其中一个人问另一个人：“现在你能看到什么？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被问的那个人回答道：“我现在似乎看到了死亡，似乎看到死神在一步一步地靠近。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过发问的这个人却微微一笑，说：“我现在看到的是满天的星星和我的妻子、儿女等待我回家的脸庞。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最后，那个说看到死神的人真的死了，就在快要走出沙漠的时候，他用刀子匆匆结束了自己的生命，而另一个说看见星星和自己妻子、儿女脸庞的人，靠着星星的方位指示成功地走出了沙漠，并成为人们心目中的英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360360" y="5251320"/>
            <a:ext cx="102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这两个人并没有根本的区别，仅仅是当时各自的心态有所不同，但他们最后却演绎了两种截然不同的命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8960" y="-360"/>
            <a:ext cx="918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成功者应该具备的八种心态</a:t>
            </a:r>
            <a:endParaRPr b="1" lang="en-US" sz="48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96680" y="1521000"/>
            <a:ext cx="450036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积极的心态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的心态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力以赴的心态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付出的心态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03680" y="1531440"/>
            <a:ext cx="450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板的心态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的心态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责任的心态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恩的心态</a:t>
            </a: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楷体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93720" y="-360"/>
            <a:ext cx="935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一、积极的心态 </a:t>
            </a:r>
            <a:endParaRPr b="1" lang="en-US" sz="48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82" name="WordArt 3"/>
          <p:cNvSpPr txBox="1"/>
          <p:nvPr/>
        </p:nvSpPr>
        <p:spPr>
          <a:xfrm>
            <a:off x="1019160" y="1417680"/>
            <a:ext cx="31305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华文行楷"/>
              </a:rPr>
              <a:t>积极的心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83" name="WordArt 4"/>
          <p:cNvSpPr txBox="1"/>
          <p:nvPr/>
        </p:nvSpPr>
        <p:spPr>
          <a:xfrm>
            <a:off x="6081840" y="1500120"/>
            <a:ext cx="35607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消极的心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104480" y="3141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赢得信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3060000" y="3141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强自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04480" y="39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互帮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2763720" y="393372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激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1104480" y="4797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获得友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3189600" y="4700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成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8076240" y="314172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悲观、恐惧、依赖、忧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8160120" y="38894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心浮气澡，难以成事、嫉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6654240" y="4641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失去信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6"/>
          <p:cNvSpPr/>
          <p:nvPr/>
        </p:nvSpPr>
        <p:spPr>
          <a:xfrm>
            <a:off x="9271440" y="4613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失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93480" y="285840"/>
            <a:ext cx="65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建立自信心</a:t>
            </a: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170000" y="5334120"/>
            <a:ext cx="42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坐在会场最前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573200" y="119700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大方开朗的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1260360" y="281952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步子加快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30%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260360" y="190512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注视对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PE03557_"/>
          <p:cNvPicPr/>
          <p:nvPr/>
        </p:nvPicPr>
        <p:blipFill>
          <a:blip r:embed="rId1"/>
          <a:stretch/>
        </p:blipFill>
        <p:spPr>
          <a:xfrm>
            <a:off x="6210360" y="1676520"/>
            <a:ext cx="3870360" cy="30780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8"/>
          <p:cNvSpPr/>
          <p:nvPr/>
        </p:nvSpPr>
        <p:spPr>
          <a:xfrm>
            <a:off x="1440000" y="449568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抢先发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1079640" y="3657600"/>
            <a:ext cx="38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大声说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796920" y="285480"/>
            <a:ext cx="595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建立自信心</a:t>
            </a:r>
            <a:endParaRPr b="1" lang="en-US" sz="4000" spc="-1" strike="noStrike">
              <a:solidFill>
                <a:srgbClr val="004646"/>
              </a:solidFill>
              <a:latin typeface="华文楷体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440000" y="2344320"/>
            <a:ext cx="477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我是最棒的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我是最优秀的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我是成功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7380360" y="1295280"/>
            <a:ext cx="2700360" cy="1600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809640" y="1981080"/>
            <a:ext cx="5581800" cy="3505320"/>
          </a:xfrm>
          <a:prstGeom prst="wedgeEllipseCallout">
            <a:avLst>
              <a:gd name="adj1" fmla="val 75972"/>
              <a:gd name="adj2" fmla="val 163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Ag00010_"/>
          <p:cNvPicPr/>
          <p:nvPr/>
        </p:nvPicPr>
        <p:blipFill>
          <a:blip r:embed="rId1"/>
          <a:stretch/>
        </p:blipFill>
        <p:spPr>
          <a:xfrm>
            <a:off x="7380360" y="3886200"/>
            <a:ext cx="2790720" cy="224784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434880" y="1316160"/>
            <a:ext cx="289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我暗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2"/>
          <p:cNvSpPr txBox="1"/>
          <p:nvPr/>
        </p:nvSpPr>
        <p:spPr>
          <a:xfrm>
            <a:off x="650880" y="196920"/>
            <a:ext cx="38149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哲理小故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382680" y="3311640"/>
            <a:ext cx="98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个秀才去赶考，做一怪梦，梦到他在墙上种白菜、下雨天他戴着斗笠还打着伞、他和他心爱的女孩躺在床上，赤裸着身体但是背对着背。秀才于是请人解梦，先生说你在墙上种白菜不是白费劲么，带着斗笠还打伞那是多此一举啊，你和那女孩背对着背，那不是没戏么。秀才一听于是回去收拾东西要回家，店主说大考在即，怎么要走啊，秀才于是把此梦说给店主。店主说，我也懂点此道，我给你解解看，你在墙上种白菜那不是高中么，有斗笠还打伞那是有备无患啊，你和那女孩光着身子背对着背，那不是暗示你翻身了么。秀才一听，信心大增，于是安心付考，后得中探花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5:55:55Z</dcterms:created>
  <dc:creator>luym</dc:creator>
  <dc:description/>
  <dc:language>en-US</dc:language>
  <cp:lastModifiedBy>life</cp:lastModifiedBy>
  <cp:lastPrinted>1899-12-30T00:00:00Z</cp:lastPrinted>
  <dcterms:modified xsi:type="dcterms:W3CDTF">2011-12-11T18:16:26Z</dcterms:modified>
  <cp:revision>12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855</vt:lpwstr>
  </property>
</Properties>
</file>