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4720" y="213336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4720" y="213336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4720" y="213336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戏剧与戏剧鉴赏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希腊戏剧的全盛时期在公元前五世纪。有古希腊三大悲剧诗人之称的</a:t>
            </a:r>
            <a:r>
              <a:rPr b="1" lang="en-US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埃斯库罗斯、索福克勒斯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公元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96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元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6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和</a:t>
            </a:r>
            <a:r>
              <a:rPr b="1" lang="en-US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欧里庇得斯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公元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85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元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6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都是在这个世纪里展现了他们的戏剧才华，他们的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剧作主要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希腊神话、英雄史诗为素材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历史上的三大古典戏剧──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希腊戏剧、印度梵语戏剧和中国古典戏剧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都是在各自的民族文化土壤上生成的，因此也带有各自的民族文化心理特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东方戏剧的产生要晚于西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印度，公元前一世纪以前的民间迎神赛会上的表演，被看作是民族戏剧的萌芽。到二世纪，第一部戏剧理论著作《舞论》的出现，被确认为戏剧艺术臻于成熟的标志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日本，古代人借助面具装扮成天神或恶魔，祈求丰收和生殖后代，有人把这种原始艺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术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视为民族戏剧的胚胎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同西方戏剧的起源相比，中国戏剧的起源是一个比较复杂的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中国戏剧也是起源于民间，由于它形式特殊，包括说、唱、念、打等因素，是更为综合的艺术，因而是多源的，寻起“根”来，不像西方戏剧那么“单一”和明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戏剧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歌舞成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很浓，在这方面，它的源头可以溯到原始时代的歌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戏剧中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剧基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特别发达，而那种借助语言、动作，诙谐笑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u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插科打诨的喜剧传统，主要是来自古代的优人，所以古优也是中国戏剧的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戏剧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种艺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综合，有歌、舞、乐以及诙谐嘲笑等因素，也有杂技、武术和故事表演的因素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品经济发展的迟缓与早期叙事文学发育不完全，都是造成中国戏曲晚熟的重要原因。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尽管如此，中国戏曲还是与希腊悲剧、梵语戏剧构成了世界的三大古典戏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戏曲为世人所知是在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75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，这一年法国作家伏尔泰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694—177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把纪君祥的元杂剧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赵氏孤儿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编成了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孤儿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把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赵氏孤儿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“搜孤救孤”的情节，放进了法国古典主义悲剧的理智与感情的戏剧性冲突的框架之中。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89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，中国导演林兆华别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心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裁，把纪君祥的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赵氏孤儿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伏尔泰的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孤儿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放在同一个剧场里同时演出，显示了中西方两种文化的对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4835520" cy="24494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斯坦尼斯拉夫斯基体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布莱希特体系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梅兰芳体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807160" y="1486080"/>
            <a:ext cx="2422440" cy="1738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戏剧表演的三大体系</a:t>
            </a:r>
            <a:br>
              <a:rPr sz="28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796000" y="3718080"/>
            <a:ext cx="3097080" cy="31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195640" y="4508640"/>
            <a:ext cx="2273040" cy="216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rcRect l="0" t="2855" r="47829" b="4285"/>
          <a:stretch/>
        </p:blipFill>
        <p:spPr>
          <a:xfrm>
            <a:off x="533520" y="4005360"/>
            <a:ext cx="1676160" cy="2624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49800" y="3286080"/>
            <a:ext cx="39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斯坦尼斯拉夫斯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梅兰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3640" y="508464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布莱希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67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67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67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67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三、中国戏剧简史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戏曲，起源于原始歌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汉代，在民间出现了具有表演成分的“角抵戏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rcRect l="11670" t="19484" r="8333" b="10391"/>
          <a:stretch/>
        </p:blipFill>
        <p:spPr>
          <a:xfrm>
            <a:off x="4925880" y="1484280"/>
            <a:ext cx="3481560" cy="4641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06960" y="623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95bb"/>
                </a:solidFill>
                <a:latin typeface="Arial"/>
                <a:ea typeface="宋体"/>
              </a:rPr>
              <a:t>角抵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4860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南北朝时期，民间出现了歌舞与表演相结合的“歌舞戏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唐代，出现了由先秦时期的优伶表演发展来的以滑稽表演为特点的“参军戏”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宋代，出现了“宋杂剧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金代，在宋杂剧基础上，北方出现了“金院本”，南方出现了“南戏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788000" cy="5373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代，北方形成“北杂剧”，南方南戏进一步发展成熟，戏曲形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代是中国戏曲史的一个重要时期，它以其元曲闻名于世，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曲中影响最著者，唯北杂剧（亦称元杂剧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北杂剧之文学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质朴自然胜，后世戏曲文学无有出其右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76640" y="1584360"/>
            <a:ext cx="3380040" cy="4441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演特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   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综合性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唱、念、做、打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写意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舞台布置的写意─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桌二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物化妆的写意─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戏曲脸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物服饰的写意─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袖善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舞台行动的写意─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话则长，无话则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程式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程式动作表现生活──生活动作的舞蹈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虚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空间、对周边环境、对时间、对动作对象的虚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8496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一、戏剧的基本知识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定义及其特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戏剧是由演员扮演角色，在舞台上当众表演故事情节的一种艺术。戏剧是一种综合的舞台艺术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借助文学、音乐、舞蹈、美术等艺术手段塑造舞台艺术形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揭示社会矛盾，反映现实生活。是文学体裁的一种。戏剧离不开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戏剧冲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表现在人物性格的冲突上，具体表现为一系列的动作。戏剧的基本要素是矛盾冲突，通过具体的舞台形象再现社会的斗争生活，能激起观众强烈的情感反映，达到社会教育的目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27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契诃夫去世之后三年，易卜生去世之后一年，也就是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07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的初春，一群在日本留学的中国学生组织春柳社首演《茶花女》，主演茶花女的是李息霜，就是后来的弘一法师李叔同。中国的戏剧史家一般都把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07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作为中国话剧运动的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开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始，但中国话剧的真正成熟是在五四运动之后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中国刊物上刊登的中国人自己写的第一个剧本是胡适的《终身大事》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《新青年》第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卷第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期发表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3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曹禺发表《雷雨》，标志着中国话剧从此拥有了自己的世界水准的经典作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新中国成立后，中国话剧界有“南黄北焦”之说。“南黄”指上海人民艺术剧院的导演黄佐临，“北焦”指北京人民艺术剧院的导演焦菊隐。他们都以各自的艺术风格为话剧界的中国化作出了最为重要的贡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《茶馆》走出国门，到欧洲巡回演出，标志着中国话剧已经可以和世界戏剧比肩而立，平等对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四、戏剧欣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戏剧文学欣赏有两大技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c3453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一善于领会巧妙的戏剧冲突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戏剧冲突或表现在人物与自然力量之间，或表现在人物与人物之间，或表现在人物与社会力量之间，或表现为人物内心世界中的两种矛盾力量之间的斗争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c3453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二善于分析鲜明的人物形象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应善于体会人物语言和潜台词，善于观察人物外部动作即舞台说明和分析人物内部动作。剧本的语言是每个人性格、身份、教养的身份证。如果我们注意人物的语言，那就比较容易了解人物在剧中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99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799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99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799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（一）备考建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了解戏剧的一般知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阅读戏剧剧本应把握的重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欣赏人物形象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戏剧中的一切因素，都集中在人物身上；一出戏的成功与否，关键在于人物能否在舞台上站立起来。这就要求人物形象必须具有典型性——个性和共性的统一，只有这样，人物才能栩栩如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⑵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把握尖锐、集中的矛盾冲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①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高度集中；②紧凑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⑶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品味鲜明、生动的语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①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个性化语言；②动作化语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五、备考指导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仿宋_GB2312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三）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备考建议：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应该了解的中外著名戏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现代：郭沫若《屈原》、老舍《茶馆》、曹禺《雷雨》、《原野》、《日出》、《北京人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外国：（英）莎士比亚的名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法）莫里哀《吝啬鬼》、《伪君子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挪威）易卜生《玩偶之家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古希腊）索福克勒斯《俄狄浦斯王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俄）契诃夫《三姐妹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爱尔兰）贝克特《等待戈多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古代：元：关汉卿《窦娥冤》、王实甫《西厢记》、马致远《汉宫秋》、白朴《梧桐雨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明：汤显祖《牡丹亭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清：孔尚任《桃花扇》、洪昇《长生殿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52892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备考建议：阅读鉴赏戏剧的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了解主要矛盾冲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理清矛盾冲突的线索（如何产生矛盾冲突——产生了何种性质的矛盾冲突——矛盾冲突发展进程如何），就完整地鉴赏了戏剧文学的主要情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鉴赏戏剧语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戏剧语言是构建剧本的基础。主要包括人物语言和舞台说明。人物语言也称台词，包括对话、独白、旁白等，这是人物心理活动与行为动作的外观，由此展开戏剧冲突，塑造人物形象，揭示戏剧主题；舞台说明是一种叙述性质的语言，主要用来说明人物的动作、心理、剧情发展的布景、环境、人物之间的关系等，能直接展示人物的性格和戏剧的情节。尽管舞台说明是戏剧文学中不可或缺的组成部分，但同人物语言相比，它起辅助说明的作用，因此，鉴赏戏剧文学，更要紧的是品味人物语言。品味人物语言，应关注以下三方面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）品味个性化的人物语言，因为个性化的语言能准确表达人物的思想感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所谓个性化，是指受人物的年龄、身份、经历、教养、环境等影响而形成的个性特点。戏剧文学中人物语言的个性化尤其重要。优秀的戏剧人物语言往往三言两语就能把人物个性展示出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）品味富有动作性的人物语言，即戏剧冲突中人物之间的动作冲突或人物内心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们常说的“行由心指”“言为心声”，就是说人物的内心世界必定通过言、行表达出来，这种显示动作性的语言，出自人物内心，因而能展示人物丰富的心理境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）品味人物语言中蕴涵的丰富的潜台词，也就是“言外之意”“话外之音”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是话语字面意思以外的一种深层意义。优秀的台词往往意蕴丰富，耐人寻味，给人以深广的想像空间，能起到一石多鸟之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分析人物形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）关注人物的主要性格特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同一个人物的性格是多侧面的，不同的人物有不同的性格特征，因此，在欣赏人物形象时，首要的是抓住其主要性格特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）揣摩人物的语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戏剧中人物的语言是刻画人物形象的重要手段，是塑造人物形象的最重要载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）要顺着剧情发展的线索，理清人物性格发展变化的心路历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理清人物性格发展变化的心路历程，才称得上对戏剧人物形象比较全面的鉴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（四）其他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很多经典剧作都有改版的电视剧或电影，建议各位同学有时间找出来看一看，以加深对剧作的了解；有条件的不妨把原剧本找出来读读看，比较原作与改编后的作品，说不定会有新的收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戏剧是由演员在舞台上表演的艺术，因而它要受舞台的制约，要适合演出的需要。这就决定了它的一些特征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，更典型、更集中地表现社会生活的冲突和斗争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，故事情节发生的时间和地点往往很集中，登场人物也有一定数量的限制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，人物性格和故事情节主要是通过登场人物的语言来表现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，故事情节的发展往往分幕分场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几个名词术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戏剧的几大要素：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包括舞台说明、戏剧冲突、人物台词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舞台说明：是帮助导演和演员掌握剧情，为演出提示的一些注意之点的有关说明。说明的内容有关于时间、地点、人物、布景的，有关于登场人物的动作、表情的，有关于登场人物上场、下场的，有关于“效果”的，有关于开幕、闭幕的等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冲突：是矛盾斗争的一种表现形式。主要通过人与人之间的冲突表现先进与落后、进步与保守等的矛盾冲突。戏剧冲突应比生活矛盾更强烈，更典型，更集中，更富于戏剧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几个名词术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戏剧的几大要素：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包括舞台说明、戏剧冲突、人物台词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台词：是剧中人物的语言。它是性格化的，是富有动作性的，即人物的语言是同他的行动联系在一起的。台词的表现形式有：对话、独白、旁白（登场人物离开其他人物而向观众说话）、内白（在后台说话）、潜台词（即是言中有言，意中有意，弦外有音。它实际上是语言的多意现象）等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)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幕和场：幕，即拉开舞台大幕一次，一幕就是戏剧一个较完整的段落。场，即拉开舞台二道幕一次，它是戏剧中较小的段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165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戏剧分类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表现形式分：话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雷雨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歌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白毛女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舞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丝路花雨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哑剧等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剧情繁简和结构分：独幕剧、多幕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雷雨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题材所反映的时代分：历史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屈原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现代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雷雨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矛盾冲突的性质分：悲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屈原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喜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威尼斯商人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《白毛女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演出场合分：舞台剧、广播剧、电视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电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二、戏剧的产生和发展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3898800" cy="1512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戏剧起源于民间歌舞和祭祀礼仪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08560" y="1917720"/>
            <a:ext cx="4221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传古代希腊的农民在收获葡萄的时节，要举行歌舞狂欢活动，把酒神狄俄尼索斯当作丰收之神加以崇拜，称作“酒神颂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81400" y="1541520"/>
            <a:ext cx="4424400" cy="4192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08720" y="595008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浮雕“酒神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373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格意义上的戏剧，普遍认为是从埃斯库罗斯（公元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25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元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5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开始的。因为他把演员人数增加到两个，逐渐减少了歌舞叙事的因素，增加了戏剧因素，有了两个演员，就有了真正的舞台交流，戏剧作为一种独立的艺术样式至此成型。因此后人把埃斯库罗斯称为“悲剧之父”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resentation Helper</dc:creator>
  <dc:description/>
  <cp:keywords/>
  <dc:language>en-US</dc:language>
  <cp:lastModifiedBy>微软用户</cp:lastModifiedBy>
  <cp:lastPrinted>1899-12-30T00:00:00Z</cp:lastPrinted>
  <dcterms:modified xsi:type="dcterms:W3CDTF">2014-03-01T15:06:46Z</dcterms:modified>
  <cp:revision>55</cp:revision>
  <dc:subject/>
  <dc:title>Corporate 1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