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9DE88-90EF-4BE8-B2EF-FF14E52B8C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98BF1-9800-4D35-B548-09F6D4A3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D3D96-CBC2-449F-AC16-60759938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3A894-564C-4648-B14C-9F36264E42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4728D4-4C06-42FB-A7FE-473BFE4B1F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D2D4F-6AB4-4DD8-BF92-70F7F880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34A8F-9BD8-4D0B-80C0-B5F53A9B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4AB18-01B0-444C-B2DF-8935AE48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FDEF2-46C3-4BE6-9B5D-331641F11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A14E9-A565-4E9F-B84F-11227BD9D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252B8-EB4C-4401-9305-7AE60538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AFADE-F323-4A64-A0E7-3A3ED5A7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9C05F-7AB7-4D97-9B92-6CD81C1E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7C73E-2882-41FB-B373-BD91B76C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22A46-3583-4C75-96D6-20677EF7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72599-0757-4DF3-8B38-D9CC75F6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89ED6-DD67-44F6-99DF-BD02E350EA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A9CB1-FD8C-4A3F-8E5E-B259D80D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A9D67-D768-4031-8A20-3BDB3BFB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04B61-D160-4AE0-9E7D-F2580BEA5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15B41-25BF-4D8C-A641-07C376F94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BE186-96E2-4AE5-8FEB-DC6B4AF9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A60F5-8B44-478D-BE24-667D5CF9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AE7A9-ADE7-4E3F-AD8A-16C52E63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32720" y="6381720"/>
            <a:ext cx="2133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1892-C73B-4F9D-9275-5299E17A28AE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BCBC-F518-4000-86E8-15A4A22DA580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微软雅黑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89080" y="2060640"/>
            <a:ext cx="68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我有一个梦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——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马丁路德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21040" y="5402160"/>
            <a:ext cx="45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庞大集团中等专业学校 任课教师 刘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343400" y="0"/>
            <a:ext cx="4800600" cy="36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29—196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神学博士，牧师，美国黑人民权运动的领袖。一生曾三次被捕，三次被行刺。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6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被种族主义分子枪杀。终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岁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毕生致力于为黑人争取自由民主权利， 其政治主张的核心 是“ 非暴力主义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获诺贝尔和平奖。他将全部奖金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,6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美元）献给了自由运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的第三个星期一为美国的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纪念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是联合国确定的全世界人民纪念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的日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042920" y="234936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75440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89000"/>
            <a:ext cx="914400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文鼎香肠体"/>
                <a:ea typeface="文鼎香肠体"/>
              </a:rPr>
              <a:t>　　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1963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年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月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2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日，华盛顿特区组织了一次二十五万人的集会，要求种族平等。马丁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路德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金向成千上万的黑人发表了这篇演说词，立即举世闻名。他讲话没有讲话稿，他把自已对前途的看法，用充满激情的语言告诉了云集的听众，这就是“我有一个梦想”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0" y="0"/>
            <a:ext cx="4648320" cy="5816520"/>
            <a:chOff x="0" y="0"/>
            <a:chExt cx="4648320" cy="5816520"/>
          </a:xfrm>
        </p:grpSpPr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64832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6320" y="4800600"/>
              <a:ext cx="4572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遇害时，他正准备帮助孟菲斯黑人清洁工人组织罢工。当时他在旅馆阳台上与同伴们谈话，被刺客詹姆斯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厄尔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雷用枪击中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724280" y="1371600"/>
            <a:ext cx="4419720" cy="4064040"/>
            <a:chOff x="4724280" y="1371600"/>
            <a:chExt cx="4419720" cy="4064040"/>
          </a:xfrm>
        </p:grpSpPr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4724280" y="1371600"/>
              <a:ext cx="4419720" cy="20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952880" y="4419720"/>
              <a:ext cx="4191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马丁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路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金在旅馆的阳台上遇害。他的同事们急忙呼救，并一起向打枪的方向指去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-88920"/>
            <a:ext cx="9144000" cy="7048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3726000" cy="4190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429080" y="2924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孩子们向父亲的遗体告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朗读课文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272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重点朗读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17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到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26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段，并理解马丁路德金的梦想是什么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29080" y="1989000"/>
            <a:ext cx="43084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4572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背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447920"/>
            <a:ext cx="441972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1861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的内战，虽然解放了黑奴，但美国的种族隔离仍然持续，尤其在南部，黑人不能入读白人学校、不能在招待白人的餐厅进食、不能乘坐同一辆公共汽车、或必须让座给白人。北部情况较佳，但黑人的待遇仍然很差。</a:t>
            </a:r>
            <a:r>
              <a:rPr b="0" lang="zh-CN" sz="32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572000" y="304920"/>
            <a:ext cx="430848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8600" y="3962520"/>
            <a:ext cx="8458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的黑人在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世纪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代，展开争取民权的运动。南部一名黑人妇女拒绝让座给白人而被捕的事件，激起持续的抗议行动。当时在教会当传道人的马丁路德金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Martin Luther King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），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亦投入争取黑人民权运动的行列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76520" y="228600"/>
            <a:ext cx="57150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33520" y="685800"/>
            <a:ext cx="3809880" cy="5689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724280" y="304920"/>
            <a:ext cx="4114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，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人响应马丁路德金的号召，在美国首都华盛顿游行，争取立法保障黑人的权利。马丁路德金在林肯纪念馆前的石阶，对群众发表著名的「我有一个梦想」（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I have a Dream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演说，希望白人和黑人有一天可平等地生活在一起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2000" y="45720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在华盛顿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黑人的集会上发表演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809880" y="3276720"/>
            <a:ext cx="5334120" cy="3581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0" y="533520"/>
            <a:ext cx="449568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0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0880" y="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课文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723960"/>
            <a:ext cx="79246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是针对什么人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的时间、地点、场合各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1295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主要是针对美国黑人，同时也包括美国政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458136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这一次演讲的时间是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月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日； 地点是在华盛顿广场；场合是在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5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万人的集会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想达到什么目的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方正舒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要求自由和种族的平等。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</a:rPr>
              <a:t>黑人和白人能和睦共处，亲如兄弟。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涉及哪些内容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-291960" y="0"/>
            <a:ext cx="943596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98560" y="63036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3808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4</a:t>
            </a: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、内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12952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黑人悲惨的现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205740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诺言没有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29718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提醒美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61722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41148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44792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集会的原因和目的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1—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1447920"/>
            <a:ext cx="76320" cy="2057400"/>
          </a:xfrm>
          <a:custGeom>
            <a:avLst/>
            <a:gdLst>
              <a:gd name="textAreaLeft" fmla="*/ 48960 w 76320"/>
              <a:gd name="textAreaRight" fmla="*/ 76320 w 763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3789360"/>
            <a:ext cx="137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方式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7—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388620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38782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非暴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47242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与白人合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5486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60958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梦想和信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90720" y="9144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2811600"/>
            <a:ext cx="647712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       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文章层次清晰，结构严谨，增强了演讲词的说服力和感染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974880" y="477720"/>
            <a:ext cx="352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38088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语言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3809880"/>
            <a:ext cx="152280" cy="198144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3276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排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39625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反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46483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比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5410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对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5238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三多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2590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整句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短句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呼唤语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修辞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4419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修辞手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38080" y="20574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紧密的逻辑结构和富于变换、含义深刻的语言相结合呈现出一篇及具说服力和感染力的演讲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762120"/>
            <a:ext cx="381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　　无论一国家、一民族、一团体还是个人，只有在政治上确立了自己地位，才能拥有讨论正义和自由的权利，只有在偌大的社会中推行正义和自由的思想，才能从思想上消除歧视思想，只有消除了歧视，才能真正出现黑人和白人和睦共处的局面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076720" y="189000"/>
            <a:ext cx="35989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人生而平等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宪  法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给予所有的人以生存、自由和追求幸福的 不可剥夺的权利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独立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公元一千八百六十三年一月一日起，任何一州内指定地区仍蓄有奴隶，当地人们将视为反叛合众国政府。一切被蓄为奴的人应该获得自由，并永享自由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解放黑奴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333360"/>
            <a:ext cx="9144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文鼎习字体"/>
                <a:ea typeface="文鼎习字体"/>
              </a:rPr>
              <a:t>在马丁逝世后的今天，你认为在美国，马丁的梦想实现了吗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284640"/>
            <a:ext cx="914400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美国第一夫人劳拉称金“毕生致力于和平和改革事业”。她说：“我们难以想象没有金的美国历史，他代表真理，他遵照上帝的旨意让美国变得更公平。” </a:t>
            </a:r>
            <a:br>
              <a:rPr sz="3200"/>
            </a:b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作业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先列出提纲在写作文正文</a:t>
            </a: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题目自拟，内容自拟，写一篇作文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。（大于２００）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作业 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字词带拼音各写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遍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000" y="1701720"/>
            <a:ext cx="907416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</a:rPr>
              <a:t>镣铐    枷锁    压榨     邮戳 义愤填膺     心急如焚   蜕变  野蛮     迫害        息息相关 折磨     摇摇欲坠        赎罪 销声匿迹  坎坷   祈祷   缔造 </a:t>
            </a:r>
            <a:endParaRPr b="0" lang="en-US" sz="5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-749160"/>
            <a:ext cx="9144000" cy="76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-673200"/>
            <a:ext cx="9144000" cy="798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38080" y="9907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be0e3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ff5050"/>
                </a:solidFill>
                <a:latin typeface="Times New Roman"/>
              </a:rPr>
              <a:t>我有一个梦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2096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马丁 路德 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85800" y="3352680"/>
            <a:ext cx="76960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3:40:25Z</dcterms:created>
  <dc:creator>zg</dc:creator>
  <dc:description/>
  <dc:language>en-US</dc:language>
  <cp:lastModifiedBy>MC SYSTEM</cp:lastModifiedBy>
  <dcterms:modified xsi:type="dcterms:W3CDTF">2012-11-28T01:26:46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