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13.png" ContentType="image/png"/>
  <Override PartName="/ppt/media/image6.jpeg" ContentType="image/jpeg"/>
  <Override PartName="/ppt/media/image5.jpeg" ContentType="image/jpeg"/>
  <Override PartName="/ppt/media/image23.png" ContentType="image/png"/>
  <Override PartName="/ppt/media/image21.jpeg" ContentType="image/jpeg"/>
  <Override PartName="/ppt/media/image16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E27625-8C7B-4369-9763-C7A39FAEB43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800244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10920" y="4095000"/>
            <a:ext cx="800244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8368DE-0948-4791-8E93-F21F91C46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11320" y="198864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10920" y="409500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11320" y="409500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7DA0B1-718F-45C4-8053-68887FEAA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25765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6680" y="1988640"/>
            <a:ext cx="25765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440" y="1988640"/>
            <a:ext cx="25765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10920" y="4095000"/>
            <a:ext cx="25765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6680" y="4095000"/>
            <a:ext cx="25765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440" y="4095000"/>
            <a:ext cx="25765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092109-204E-432B-B8D0-4989FC4D7D6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6A97B6-FFD2-46B2-A3D0-A05AB82E14A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10920" y="1988640"/>
            <a:ext cx="8002440" cy="40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AF2A03-76EF-4AE7-86A1-C531479A4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800244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DA6C7A-2CF8-4828-B4AC-B5AAE1AD2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390492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711320" y="1988640"/>
            <a:ext cx="390492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20B76B-6A07-4985-BE1C-C5F3661D4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1F5A94-D426-403A-8F77-9F4941D2E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971280" y="333360"/>
            <a:ext cx="7715160" cy="50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CEF566-E8F3-4776-AEBD-1888D5FBA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11320" y="1988640"/>
            <a:ext cx="390492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10920" y="409500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B9CB08-5865-452F-900A-B43CA202A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10920" y="1988640"/>
            <a:ext cx="8002440" cy="40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173684-21D8-47B6-8983-106E04A2C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390492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11320" y="198864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11320" y="409500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B9F301-471B-4DD2-8D4C-1E2600393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11320" y="198864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0920" y="4095000"/>
            <a:ext cx="800244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F1BE00-F14C-47E6-8528-1396798A6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800244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10920" y="4095000"/>
            <a:ext cx="800244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8E47B5-E466-4F5A-A46E-A6D32B11C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11320" y="198864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10920" y="409500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711320" y="409500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E6CB5B-DD8D-4EEF-8A86-667BB6C39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25765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6680" y="1988640"/>
            <a:ext cx="25765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440" y="1988640"/>
            <a:ext cx="25765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10920" y="4095000"/>
            <a:ext cx="25765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6680" y="4095000"/>
            <a:ext cx="25765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440" y="4095000"/>
            <a:ext cx="25765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C5524D-1ADF-4A01-8F95-AF635FED1BA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800244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435781-B8A4-4F99-A124-4A6F58B86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390492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11320" y="1988640"/>
            <a:ext cx="390492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6930B7-942F-4178-B747-BD1BCE531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03BEBD-D5DF-4C78-8791-A99F927F0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971280" y="333360"/>
            <a:ext cx="7715160" cy="50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AC9152-2A28-4E6F-8BFA-DF055D2DB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1320" y="1988640"/>
            <a:ext cx="390492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10920" y="409500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6D5312-662E-45E2-B884-8ED84E956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390492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11320" y="198864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11320" y="409500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10C459-BA80-43F6-8E8C-C9E79D61B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11320" y="198864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10920" y="4095000"/>
            <a:ext cx="800244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76D790-0AD5-42C6-81D9-A48200E99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0920" y="1988640"/>
            <a:ext cx="800244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微软雅黑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微软雅黑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微软雅黑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微软雅黑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微软雅黑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81720"/>
            <a:ext cx="213372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 Unicode MS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732720" y="6381720"/>
            <a:ext cx="213336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 Unicode MS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0AF58-9635-43D0-9943-83BA45D205F2}" type="slidenum">
              <a:rPr b="0" lang="zh-CN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 Unicode MS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 Unicode MS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EDAE5-C877-443A-ACA4-D77A9ED0EBC0}" type="slidenum">
              <a:rPr b="0" lang="zh-CN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微软雅黑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微软雅黑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微软雅黑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微软雅黑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微软雅黑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189080" y="2060640"/>
            <a:ext cx="6840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ff"/>
                </a:solidFill>
                <a:latin typeface="Arial"/>
              </a:rPr>
              <a:t>我有一个梦想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zh-CN" sz="3600" spc="-1" strike="noStrike">
                <a:solidFill>
                  <a:srgbClr val="0000ff"/>
                </a:solidFill>
                <a:latin typeface="Arial"/>
              </a:rPr>
              <a:t>  ——</a:t>
            </a:r>
            <a:r>
              <a:rPr b="0" lang="zh-CN" sz="3600" spc="-1" strike="noStrike">
                <a:solidFill>
                  <a:srgbClr val="0000ff"/>
                </a:solidFill>
                <a:latin typeface="Arial"/>
              </a:rPr>
              <a:t>马丁路德金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921040" y="5402160"/>
            <a:ext cx="453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庞大集团中等专业学校 任课教师 刘芳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356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4343400" y="0"/>
            <a:ext cx="4800600" cy="360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929—196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神学博士，牧师，美国黑人民权运动的领袖。一生曾三次被捕，三次被行刺。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968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年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月被种族主义分子枪杀。终年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岁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他毕生致力于为黑人争取自由民主权利， 其政治主张的核心 是“ 非暴力主义”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96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年获诺贝尔和平奖。他将全部奖金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4,60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美元）献给了自由运动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每年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月的第三个星期一为美国的马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路德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金纪念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每年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日，是联合国确定的全世界人民纪念马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路德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金的日子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-977760" y="54000"/>
            <a:ext cx="10121760" cy="68040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1042920" y="2349360"/>
            <a:ext cx="1800360" cy="180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7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" dur="75440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189000"/>
            <a:ext cx="9144000" cy="2239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文鼎香肠体"/>
                <a:ea typeface="文鼎香肠体"/>
              </a:rPr>
              <a:t>　　</a:t>
            </a:r>
            <a:r>
              <a:rPr b="0" lang="en-US" sz="4000" spc="-1" strike="noStrike">
                <a:solidFill>
                  <a:srgbClr val="000000"/>
                </a:solidFill>
                <a:latin typeface="文鼎习字体"/>
                <a:ea typeface="文鼎习字体"/>
              </a:rPr>
              <a:t>1963</a:t>
            </a:r>
            <a:r>
              <a:rPr b="0" lang="zh-CN" sz="4000" spc="-1" strike="noStrike">
                <a:solidFill>
                  <a:srgbClr val="000000"/>
                </a:solidFill>
                <a:latin typeface="文鼎习字体"/>
                <a:ea typeface="文鼎习字体"/>
              </a:rPr>
              <a:t>年</a:t>
            </a:r>
            <a:r>
              <a:rPr b="0" lang="en-US" sz="4000" spc="-1" strike="noStrike">
                <a:solidFill>
                  <a:srgbClr val="000000"/>
                </a:solidFill>
                <a:latin typeface="文鼎习字体"/>
                <a:ea typeface="文鼎习字体"/>
              </a:rPr>
              <a:t>8</a:t>
            </a:r>
            <a:r>
              <a:rPr b="0" lang="zh-CN" sz="4000" spc="-1" strike="noStrike">
                <a:solidFill>
                  <a:srgbClr val="000000"/>
                </a:solidFill>
                <a:latin typeface="文鼎习字体"/>
                <a:ea typeface="文鼎习字体"/>
              </a:rPr>
              <a:t>月</a:t>
            </a:r>
            <a:r>
              <a:rPr b="0" lang="en-US" sz="4000" spc="-1" strike="noStrike">
                <a:solidFill>
                  <a:srgbClr val="000000"/>
                </a:solidFill>
                <a:latin typeface="文鼎习字体"/>
                <a:ea typeface="文鼎习字体"/>
              </a:rPr>
              <a:t>28</a:t>
            </a:r>
            <a:r>
              <a:rPr b="0" lang="zh-CN" sz="4000" spc="-1" strike="noStrike">
                <a:solidFill>
                  <a:srgbClr val="000000"/>
                </a:solidFill>
                <a:latin typeface="文鼎习字体"/>
                <a:ea typeface="文鼎习字体"/>
              </a:rPr>
              <a:t>日，华盛顿特区组织了一次二十五万人的集会，要求种族平等。马丁</a:t>
            </a:r>
            <a:r>
              <a:rPr b="0" lang="en-US" sz="4000" spc="-1" strike="noStrike">
                <a:solidFill>
                  <a:srgbClr val="000000"/>
                </a:solidFill>
                <a:latin typeface="文鼎习字体"/>
                <a:ea typeface="文鼎习字体"/>
              </a:rPr>
              <a:t>·</a:t>
            </a:r>
            <a:r>
              <a:rPr b="0" lang="zh-CN" sz="4000" spc="-1" strike="noStrike">
                <a:solidFill>
                  <a:srgbClr val="000000"/>
                </a:solidFill>
                <a:latin typeface="文鼎习字体"/>
                <a:ea typeface="文鼎习字体"/>
              </a:rPr>
              <a:t>路德</a:t>
            </a:r>
            <a:r>
              <a:rPr b="0" lang="en-US" sz="4000" spc="-1" strike="noStrike">
                <a:solidFill>
                  <a:srgbClr val="000000"/>
                </a:solidFill>
                <a:latin typeface="文鼎习字体"/>
                <a:ea typeface="文鼎习字体"/>
              </a:rPr>
              <a:t>·</a:t>
            </a:r>
            <a:r>
              <a:rPr b="0" lang="zh-CN" sz="4000" spc="-1" strike="noStrike">
                <a:solidFill>
                  <a:srgbClr val="000000"/>
                </a:solidFill>
                <a:latin typeface="文鼎习字体"/>
                <a:ea typeface="文鼎习字体"/>
              </a:rPr>
              <a:t>金向成千上万的黑人发表了这篇演说词，立即举世闻名。他讲话没有讲话稿，他把自已对前途的看法，用充满激情的语言告诉了云集的听众，这就是“我有一个梦想”。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0" name=""/>
          <p:cNvGrpSpPr/>
          <p:nvPr/>
        </p:nvGrpSpPr>
        <p:grpSpPr>
          <a:xfrm>
            <a:off x="0" y="0"/>
            <a:ext cx="4648320" cy="5816520"/>
            <a:chOff x="0" y="0"/>
            <a:chExt cx="4648320" cy="5816520"/>
          </a:xfrm>
        </p:grpSpPr>
        <p:pic>
          <p:nvPicPr>
            <p:cNvPr id="101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464832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76320" y="4800600"/>
              <a:ext cx="457200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lang="zh-CN" sz="2400" spc="-1" strike="noStrike">
                  <a:solidFill>
                    <a:srgbClr val="333399"/>
                  </a:solidFill>
                  <a:latin typeface="Times New Roman"/>
                </a:rPr>
                <a:t>遇害时，他正准备帮助孟菲斯黑人清洁工人组织罢工。当时他在旅馆阳台上与同伴们谈话，被刺客詹姆斯</a:t>
              </a:r>
              <a:r>
                <a:rPr b="1" lang="zh-CN" sz="2400" spc="-1" strike="noStrike">
                  <a:solidFill>
                    <a:srgbClr val="333399"/>
                  </a:solidFill>
                  <a:latin typeface="Times New Roman"/>
                </a:rPr>
                <a:t>·</a:t>
              </a:r>
              <a:r>
                <a:rPr b="1" lang="zh-CN" sz="2400" spc="-1" strike="noStrike">
                  <a:solidFill>
                    <a:srgbClr val="333399"/>
                  </a:solidFill>
                  <a:latin typeface="Times New Roman"/>
                </a:rPr>
                <a:t>厄尔</a:t>
              </a:r>
              <a:r>
                <a:rPr b="1" lang="zh-CN" sz="2400" spc="-1" strike="noStrike">
                  <a:solidFill>
                    <a:srgbClr val="333399"/>
                  </a:solidFill>
                  <a:latin typeface="Times New Roman"/>
                </a:rPr>
                <a:t>·</a:t>
              </a:r>
              <a:r>
                <a:rPr b="1" lang="zh-CN" sz="2400" spc="-1" strike="noStrike">
                  <a:solidFill>
                    <a:srgbClr val="333399"/>
                  </a:solidFill>
                  <a:latin typeface="Times New Roman"/>
                </a:rPr>
                <a:t>雷用枪击中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4724280" y="1371600"/>
            <a:ext cx="4419720" cy="4064040"/>
            <a:chOff x="4724280" y="1371600"/>
            <a:chExt cx="4419720" cy="4064040"/>
          </a:xfrm>
        </p:grpSpPr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4724280" y="1371600"/>
              <a:ext cx="4419720" cy="203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4952880" y="4419720"/>
              <a:ext cx="419112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99"/>
                  </a:solidFill>
                  <a:latin typeface="Times New Roman"/>
                </a:rPr>
                <a:t>马丁</a:t>
              </a:r>
              <a:r>
                <a:rPr b="1" lang="zh-CN" sz="2400" spc="-1" strike="noStrike">
                  <a:solidFill>
                    <a:srgbClr val="333399"/>
                  </a:solidFill>
                  <a:latin typeface="Times New Roman"/>
                </a:rPr>
                <a:t>·</a:t>
              </a:r>
              <a:r>
                <a:rPr b="1" lang="zh-CN" sz="2400" spc="-1" strike="noStrike">
                  <a:solidFill>
                    <a:srgbClr val="333399"/>
                  </a:solidFill>
                  <a:latin typeface="Times New Roman"/>
                </a:rPr>
                <a:t>路德</a:t>
              </a:r>
              <a:r>
                <a:rPr b="1" lang="zh-CN" sz="2400" spc="-1" strike="noStrike">
                  <a:solidFill>
                    <a:srgbClr val="333399"/>
                  </a:solidFill>
                  <a:latin typeface="Times New Roman"/>
                </a:rPr>
                <a:t>·</a:t>
              </a:r>
              <a:r>
                <a:rPr b="1" lang="zh-CN" sz="2400" spc="-1" strike="noStrike">
                  <a:solidFill>
                    <a:srgbClr val="333399"/>
                  </a:solidFill>
                  <a:latin typeface="Times New Roman"/>
                </a:rPr>
                <a:t>金在旅馆的阳台上遇害。他的同事们急忙呼救，并一起向打枪的方向指去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0" y="-88920"/>
            <a:ext cx="9144000" cy="704844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380880" y="1219320"/>
            <a:ext cx="3726000" cy="41907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4429080" y="292428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孩子们向父亲的遗体告别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微软雅黑"/>
              </a:rPr>
              <a:t>朗读课文</a:t>
            </a: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392724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</a:rPr>
              <a:t>重点朗读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</a:rPr>
              <a:t>17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</a:rPr>
              <a:t>到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</a:rPr>
              <a:t>26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</a:rPr>
              <a:t>段，并理解马丁路德金的梦想是什么？</a:t>
            </a:r>
            <a:endParaRPr b="0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4429080" y="1989000"/>
            <a:ext cx="4308480" cy="38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514920" y="609480"/>
            <a:ext cx="19429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80880" y="457200"/>
            <a:ext cx="457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背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1447920"/>
            <a:ext cx="4419720" cy="171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美国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1861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年的内战，虽然解放了黑奴，但美国的种族隔离仍然持续，尤其在南部，黑人不能入读白人学校、不能在招待白人的餐厅进食、不能乘坐同一辆公共汽车、或必须让座给白人。北部情况较佳，但黑人的待遇仍然很差。</a:t>
            </a:r>
            <a:r>
              <a:rPr b="0" lang="zh-CN" sz="3200" spc="-1" strike="noStrike">
                <a:solidFill>
                  <a:srgbClr val="33669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4572000" y="304920"/>
            <a:ext cx="4308480" cy="62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514920" y="609480"/>
            <a:ext cx="19429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68000" y="43920"/>
            <a:ext cx="606276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228600" y="3962520"/>
            <a:ext cx="8458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美国的黑人在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20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世纪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50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年代，展开争取民权的运动。南部一名黑人妇女拒绝让座给白人而被捕的事件，激起持续的抗议行动。当时在教会当传道人的马丁路德金（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Martin Luther King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），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亦投入争取黑人民权运动的行列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1676520" y="228600"/>
            <a:ext cx="5715000" cy="35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514920" y="609480"/>
            <a:ext cx="19429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8000" y="43920"/>
            <a:ext cx="606276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533520" y="685800"/>
            <a:ext cx="3809880" cy="568944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4724280" y="304920"/>
            <a:ext cx="411480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1963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年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8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月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28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日， 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25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万人响应马丁路德金的号召，在美国首都华盛顿游行，争取立法保障黑人的权利。马丁路德金在林肯纪念馆前的石阶，对群众发表著名的「我有一个梦想」（</a:t>
            </a:r>
            <a:r>
              <a:rPr b="1" lang="en-US" sz="3200" spc="-1" strike="noStrike">
                <a:solidFill>
                  <a:srgbClr val="333399"/>
                </a:solidFill>
                <a:latin typeface="宋体"/>
              </a:rPr>
              <a:t>I have a Dream</a:t>
            </a:r>
            <a:r>
              <a:rPr b="1" lang="en-US" sz="3200" spc="-1" strike="noStrike">
                <a:solidFill>
                  <a:srgbClr val="333399"/>
                </a:solidFill>
                <a:latin typeface="宋体"/>
              </a:rPr>
              <a:t>）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演说，希望白人和黑人有一天可平等地生活在一起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514920" y="609480"/>
            <a:ext cx="19429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68000" y="43920"/>
            <a:ext cx="606276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4572000" y="457200"/>
            <a:ext cx="4114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1963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年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8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月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28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日在华盛顿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25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万黑人的集会上发表演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3809880" y="3276720"/>
            <a:ext cx="5334120" cy="35812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4"/>
          <a:stretch/>
        </p:blipFill>
        <p:spPr>
          <a:xfrm>
            <a:off x="0" y="533520"/>
            <a:ext cx="4495680" cy="35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7108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380880" y="0"/>
            <a:ext cx="5029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课文分析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85800" y="723960"/>
            <a:ext cx="792468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1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、这次演讲是针对什么人的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2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、这次演讲的时间、地点、场合各是什么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62120" y="129528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方正舒体"/>
                <a:ea typeface="方正舒体"/>
              </a:rPr>
              <a:t>1</a:t>
            </a:r>
            <a:r>
              <a:rPr b="0" lang="zh-CN" sz="3200" spc="-1" strike="noStrike">
                <a:solidFill>
                  <a:srgbClr val="0000ff"/>
                </a:solidFill>
                <a:latin typeface="方正舒体"/>
                <a:ea typeface="方正舒体"/>
              </a:rPr>
              <a:t>、主要是针对美国黑人，同时也包括美国政府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11280" y="4581360"/>
            <a:ext cx="784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方正舒体"/>
                <a:ea typeface="方正舒体"/>
              </a:rPr>
              <a:t>2</a:t>
            </a:r>
            <a:r>
              <a:rPr b="0" lang="zh-CN" sz="3200" spc="-1" strike="noStrike">
                <a:solidFill>
                  <a:srgbClr val="0000ff"/>
                </a:solidFill>
                <a:latin typeface="方正舒体"/>
                <a:ea typeface="方正舒体"/>
              </a:rPr>
              <a:t>、这一次演讲的时间是</a:t>
            </a:r>
            <a:r>
              <a:rPr b="0" lang="zh-CN" sz="3200" spc="-1" strike="noStrike">
                <a:solidFill>
                  <a:srgbClr val="0000ff"/>
                </a:solidFill>
                <a:latin typeface="方正舒体"/>
                <a:ea typeface="方正舒体"/>
              </a:rPr>
              <a:t>8</a:t>
            </a:r>
            <a:r>
              <a:rPr b="0" lang="zh-CN" sz="3200" spc="-1" strike="noStrike">
                <a:solidFill>
                  <a:srgbClr val="0000ff"/>
                </a:solidFill>
                <a:latin typeface="方正舒体"/>
                <a:ea typeface="方正舒体"/>
              </a:rPr>
              <a:t>月</a:t>
            </a:r>
            <a:r>
              <a:rPr b="0" lang="zh-CN" sz="3200" spc="-1" strike="noStrike">
                <a:solidFill>
                  <a:srgbClr val="0000ff"/>
                </a:solidFill>
                <a:latin typeface="方正舒体"/>
                <a:ea typeface="方正舒体"/>
              </a:rPr>
              <a:t>28</a:t>
            </a:r>
            <a:r>
              <a:rPr b="0" lang="zh-CN" sz="3200" spc="-1" strike="noStrike">
                <a:solidFill>
                  <a:srgbClr val="0000ff"/>
                </a:solidFill>
                <a:latin typeface="方正舒体"/>
                <a:ea typeface="方正舒体"/>
              </a:rPr>
              <a:t>日； 地点是在华盛顿广场；场合是在</a:t>
            </a:r>
            <a:r>
              <a:rPr b="0" lang="zh-CN" sz="3200" spc="-1" strike="noStrike">
                <a:solidFill>
                  <a:srgbClr val="0000ff"/>
                </a:solidFill>
                <a:latin typeface="方正舒体"/>
                <a:ea typeface="方正舒体"/>
              </a:rPr>
              <a:t>25</a:t>
            </a:r>
            <a:r>
              <a:rPr b="0" lang="zh-CN" sz="3200" spc="-1" strike="noStrike">
                <a:solidFill>
                  <a:srgbClr val="0000ff"/>
                </a:solidFill>
                <a:latin typeface="方正舒体"/>
                <a:ea typeface="方正舒体"/>
              </a:rPr>
              <a:t>万人的集会上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610920" y="1988640"/>
            <a:ext cx="800244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0000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3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、这次演讲想达到什么目的？</a:t>
            </a:r>
            <a:endParaRPr b="0" lang="en-US" sz="3600" spc="-1" strike="noStrike">
              <a:solidFill>
                <a:srgbClr val="000000"/>
              </a:solidFill>
              <a:latin typeface="微软雅黑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ff"/>
              </a:buClr>
              <a:buFont typeface="方正舒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方正舒体"/>
                <a:ea typeface="方正舒体"/>
              </a:rPr>
              <a:t>要求自由和种族的平等。</a:t>
            </a:r>
            <a:r>
              <a:rPr b="0" lang="zh-CN" sz="3200" spc="-1" strike="noStrike">
                <a:solidFill>
                  <a:srgbClr val="0000ff"/>
                </a:solidFill>
                <a:latin typeface="微软雅黑"/>
              </a:rPr>
              <a:t>黑人和白人能和睦共处，亲如兄弟。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0000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4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、这次演讲涉及哪些内容？</a:t>
            </a:r>
            <a:endParaRPr b="0" lang="en-US" sz="3600" spc="-1" strike="noStrike">
              <a:solidFill>
                <a:srgbClr val="000000"/>
              </a:solidFill>
              <a:latin typeface="微软雅黑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514920" y="609480"/>
            <a:ext cx="19429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68000" y="43920"/>
            <a:ext cx="606276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-291960" y="0"/>
            <a:ext cx="9435960" cy="68580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898560" y="630360"/>
            <a:ext cx="275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4920" y="380880"/>
            <a:ext cx="365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66ff"/>
                </a:solidFill>
                <a:latin typeface="方正舒体"/>
                <a:ea typeface="方正舒体"/>
              </a:rPr>
              <a:t>4</a:t>
            </a:r>
            <a:r>
              <a:rPr b="0" lang="zh-CN" sz="4000" spc="-1" strike="noStrike">
                <a:solidFill>
                  <a:srgbClr val="3366ff"/>
                </a:solidFill>
                <a:latin typeface="方正舒体"/>
                <a:ea typeface="方正舒体"/>
              </a:rPr>
              <a:t>、内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19520" y="129528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黑人悲惨的现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819520" y="2057400"/>
            <a:ext cx="441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诺言没有兑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895480" y="2971800"/>
            <a:ext cx="396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提醒美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962520" y="6172200"/>
            <a:ext cx="3733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743200" y="411480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57200" y="1447920"/>
            <a:ext cx="1752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集会的原因和目的</a:t>
            </a: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1—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209680" y="1447920"/>
            <a:ext cx="76320" cy="2057400"/>
          </a:xfrm>
          <a:custGeom>
            <a:avLst/>
            <a:gdLst>
              <a:gd name="textAreaLeft" fmla="*/ 48960 w 76320"/>
              <a:gd name="textAreaRight" fmla="*/ 76320 w 7632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39640" y="3789360"/>
            <a:ext cx="1371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斗争方式</a:t>
            </a: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7—1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209680" y="3886200"/>
            <a:ext cx="76320" cy="1371600"/>
          </a:xfrm>
          <a:custGeom>
            <a:avLst/>
            <a:gdLst>
              <a:gd name="textAreaLeft" fmla="*/ 48960 w 76320"/>
              <a:gd name="textAreaRight" fmla="*/ 76320 w 7632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666880" y="387828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非暴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514600" y="4724280"/>
            <a:ext cx="32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与白人合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57200" y="5486400"/>
            <a:ext cx="31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斗争目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80880" y="6095880"/>
            <a:ext cx="289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梦想和信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514920" y="609480"/>
            <a:ext cx="19429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68000" y="43920"/>
            <a:ext cx="606276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990720" y="914400"/>
            <a:ext cx="2895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66ff"/>
                </a:solidFill>
                <a:latin typeface="Times New Roman"/>
                <a:ea typeface="幼圆"/>
              </a:rPr>
              <a:t>总结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295280" y="2811600"/>
            <a:ext cx="6477120" cy="20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        </a:t>
            </a:r>
            <a:r>
              <a:rPr b="0" lang="zh-CN" sz="36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文章层次清晰，结构严谨，增强了演讲词的说服力和感染力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18108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974880" y="477720"/>
            <a:ext cx="352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838080" y="380880"/>
            <a:ext cx="2895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语言特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733920" y="3809880"/>
            <a:ext cx="152280" cy="1981440"/>
          </a:xfrm>
          <a:custGeom>
            <a:avLst/>
            <a:gdLst>
              <a:gd name="textAreaLeft" fmla="*/ 97200 w 152280"/>
              <a:gd name="textAreaRight" fmla="*/ 152640 w 152280"/>
              <a:gd name="textAreaTop" fmla="*/ 51480 h 1981440"/>
              <a:gd name="textAreaBottom" fmla="*/ 1929960 h 1981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191120" y="327672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排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191120" y="3962520"/>
            <a:ext cx="144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反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191120" y="4648320"/>
            <a:ext cx="144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比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191120" y="54100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对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066680" y="1523880"/>
            <a:ext cx="2895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三多</a:t>
            </a:r>
            <a:r>
              <a:rPr b="1" lang="zh-CN" sz="40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914400" y="2590920"/>
            <a:ext cx="647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整句多</a:t>
            </a:r>
            <a:r>
              <a:rPr b="1" lang="zh-CN" sz="36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短句</a:t>
            </a:r>
            <a:r>
              <a:rPr b="1" lang="zh-CN" sz="36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(</a:t>
            </a:r>
            <a:r>
              <a:rPr b="1" lang="zh-CN" sz="36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呼唤语</a:t>
            </a:r>
            <a:r>
              <a:rPr b="1" lang="zh-CN" sz="36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)</a:t>
            </a:r>
            <a:r>
              <a:rPr b="1" lang="zh-CN" sz="36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多</a:t>
            </a:r>
            <a:r>
              <a:rPr b="1" lang="zh-CN" sz="36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修辞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676520" y="441972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修辞手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514920" y="609480"/>
            <a:ext cx="19429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68000" y="43920"/>
            <a:ext cx="606276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838080" y="2057400"/>
            <a:ext cx="7620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紧密的逻辑结构和富于变换、含义深刻的语言相结合呈现出一篇及具说服力和感染力的演讲词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80880" y="762120"/>
            <a:ext cx="3810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66ff"/>
                </a:solidFill>
                <a:latin typeface="Times New Roman"/>
                <a:ea typeface="幼圆"/>
              </a:rPr>
              <a:t>总结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0" y="2707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微软雅黑"/>
              </a:rPr>
              <a:t>　　无论一国家、一民族、一团体还是个人，只有在政治上确立了自己地位，才能拥有讨论正义和自由的权利，只有在偌大的社会中推行正义和自由的思想，才能从思想上消除歧视思想，只有消除了歧视，才能真正出现黑人和白人和睦共处的局面 </a:t>
            </a: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87692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5076720" y="189000"/>
            <a:ext cx="359892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人人生而平等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      ——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《宪  法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给予所有的人以生存、自由和追求幸福的 不可剥夺的权利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       ——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《独立宣言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自公元一千八百六十三年一月一日起，任何一州内指定地区仍蓄有奴隶，当地人们将视为反叛合众国政府。一切被蓄为奴的人应该获得自由，并永享自由。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       ——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《解放黑奴宣言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0" y="333360"/>
            <a:ext cx="914400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ff"/>
                </a:solidFill>
                <a:latin typeface="文鼎习字体"/>
                <a:ea typeface="文鼎习字体"/>
              </a:rPr>
              <a:t>在马丁逝世后的今天，你认为在美国，马丁的梦想实现了吗？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3284640"/>
            <a:ext cx="9144000" cy="21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文鼎习字体"/>
                <a:ea typeface="文鼎习字体"/>
              </a:rPr>
              <a:t>美国第一夫人劳拉称金“毕生致力于和平和改革事业”。她说：“我们难以想象没有金的美国历史，他代表真理，他遵照上帝的旨意让美国变得更公平。” </a:t>
            </a:r>
            <a:br>
              <a:rPr sz="3200"/>
            </a:br>
            <a:br>
              <a:rPr sz="3200"/>
            </a:br>
            <a:br>
              <a:rPr sz="18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微软雅黑"/>
              </a:rPr>
              <a:t>作业</a:t>
            </a: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800244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微软雅黑"/>
            </a:endParaRPr>
          </a:p>
          <a:p>
            <a:pPr marL="343080" indent="-343080">
              <a:lnSpc>
                <a:spcPct val="100000"/>
              </a:lnSpc>
              <a:spcBef>
                <a:spcPts val="2999"/>
              </a:spcBef>
              <a:buClr>
                <a:srgbClr val="ff0000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隶书"/>
                <a:ea typeface="隶书"/>
              </a:rPr>
              <a:t>先列出提纲在写作文正文</a:t>
            </a:r>
            <a:endParaRPr b="0" lang="en-US" sz="4800" spc="-1" strike="noStrike">
              <a:solidFill>
                <a:srgbClr val="000000"/>
              </a:solidFill>
              <a:latin typeface="微软雅黑"/>
            </a:endParaRPr>
          </a:p>
          <a:p>
            <a:pPr marL="343080" indent="-343080">
              <a:lnSpc>
                <a:spcPct val="100000"/>
              </a:lnSpc>
              <a:spcBef>
                <a:spcPts val="2500"/>
              </a:spcBef>
              <a:buClr>
                <a:srgbClr val="ff0000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隶书"/>
                <a:ea typeface="隶书"/>
              </a:rPr>
              <a:t>题目自拟，内容自拟，写一篇作文</a:t>
            </a:r>
            <a:r>
              <a:rPr b="0" lang="zh-CN" sz="4000" spc="-1" strike="noStrike">
                <a:solidFill>
                  <a:srgbClr val="ff0000"/>
                </a:solidFill>
                <a:latin typeface="隶书"/>
                <a:ea typeface="隶书"/>
              </a:rPr>
              <a:t>。（大于２００）</a:t>
            </a:r>
            <a:endParaRPr b="0" lang="en-US" sz="40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81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微软雅黑"/>
              </a:rPr>
              <a:t>作业 </a:t>
            </a:r>
            <a:r>
              <a:rPr b="1" lang="zh-CN" sz="3600" spc="-1" strike="noStrike">
                <a:solidFill>
                  <a:srgbClr val="ff3300"/>
                </a:solidFill>
                <a:latin typeface="微软雅黑"/>
              </a:rPr>
              <a:t>字词带拼音各写</a:t>
            </a:r>
            <a:r>
              <a:rPr b="1" lang="zh-CN" sz="3600" spc="-1" strike="noStrike">
                <a:solidFill>
                  <a:srgbClr val="ff3300"/>
                </a:solidFill>
                <a:latin typeface="微软雅黑"/>
              </a:rPr>
              <a:t>3</a:t>
            </a:r>
            <a:r>
              <a:rPr b="1" lang="zh-CN" sz="3600" spc="-1" strike="noStrike">
                <a:solidFill>
                  <a:srgbClr val="ff3300"/>
                </a:solidFill>
                <a:latin typeface="微软雅黑"/>
              </a:rPr>
              <a:t>遍</a:t>
            </a: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8000" y="1701720"/>
            <a:ext cx="9074160" cy="50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微软雅黑"/>
              </a:rPr>
              <a:t>镣铐    枷锁    压榨     邮戳 义愤填膺     心急如焚   蜕变  野蛮     迫害        息息相关 折磨     摇摇欲坠        赎罪 销声匿迹  坎坷   祈祷   缔造 </a:t>
            </a:r>
            <a:endParaRPr b="0" lang="en-US" sz="54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-977760" y="54000"/>
            <a:ext cx="10121760" cy="680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0" y="-749160"/>
            <a:ext cx="9144000" cy="760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2203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0" y="-673200"/>
            <a:ext cx="9144000" cy="798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-38160"/>
            <a:ext cx="9144000" cy="689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838080" y="990720"/>
            <a:ext cx="5715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bbe0e3"/>
                </a:solidFill>
                <a:latin typeface="Times New Roman"/>
              </a:rPr>
              <a:t>      </a:t>
            </a:r>
            <a:r>
              <a:rPr b="1" lang="zh-CN" sz="6000" spc="-1" strike="noStrike">
                <a:solidFill>
                  <a:srgbClr val="ff5050"/>
                </a:solidFill>
                <a:latin typeface="Times New Roman"/>
              </a:rPr>
              <a:t>我有一个梦想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209680"/>
            <a:ext cx="33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5050"/>
                </a:solidFill>
                <a:latin typeface="楷体_GB2312"/>
                <a:ea typeface="楷体_GB2312"/>
              </a:rPr>
              <a:t>马丁 路德 金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685800" y="3352680"/>
            <a:ext cx="7696080" cy="22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6T13:40:25Z</dcterms:created>
  <dc:creator>zg</dc:creator>
  <dc:description/>
  <dc:language>en-US</dc:language>
  <cp:lastModifiedBy>MC SYSTEM</cp:lastModifiedBy>
  <dcterms:modified xsi:type="dcterms:W3CDTF">2012-11-28T01:26:46Z</dcterms:modified>
  <cp:revision>17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483</vt:lpwstr>
  </property>
</Properties>
</file>