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E8CD3-2800-444F-AF3F-AF7BA48B7D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9365C-7AA8-41C0-8B65-70C8B5E7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A9A96-CC25-4E9D-9640-780F3E47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E933D-BE7E-453E-B0D0-6B4AA5E143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9A292-78AA-4F38-A674-8AC150A0D1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57512-A043-4C86-98A5-67CD2AA1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A04B8-5DF2-4B1F-8532-33F3F4FD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5798D-8D57-4F20-9085-E5556234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79927-E046-41D6-81EF-18E51261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BCDBD-DBDE-402E-A938-EB948DC8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721FF-972B-405C-A7C0-F58286FE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722E7-F37A-4FFD-9C86-8D213706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FB4C2-7D27-40CD-8719-28DCBA6E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CC287-8FEC-4D8D-AED7-AD0045A9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1BC81-8E82-4462-A2E4-848AA08A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B18AF-4698-47BD-BA08-CFEB92D0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8C04F-92ED-4140-970D-B554142883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1D179-22CA-46F8-B643-61B5BA9F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2F060-B136-406E-8A8B-002EBCF2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CEE1E-D3A5-412C-928E-7FEB7B0C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988E0-A89C-4025-9D61-D239CB6C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62B2E-8589-4702-B745-35B34CC0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1E6A8-AB20-4307-B1D3-30CF8499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5D412-CF11-46C0-971A-781EF40F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DACB-AFB0-4BD0-A1C5-D5D9D19C1C04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20FD-01F8-4CA8-AF7D-76B41DB6A46A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9080" y="206064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我有一个梦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——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马丁路德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5402160"/>
            <a:ext cx="45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庞大集团中等专业学校 任课教师 刘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43400" y="0"/>
            <a:ext cx="480060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9—19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学博士，牧师，美国黑人民权运动的领袖。一生曾三次被捕，三次被行刺。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被种族主义分子枪杀。终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毕生致力于为黑人争取自由民主权利， 其政治主张的核心 是“ 非暴力主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获诺贝尔和平奖。他将全部奖金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,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元）献给了自由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三个星期一为美国的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纪念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是联合国确定的全世界人民纪念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的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544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90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1963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2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日，华盛顿特区组织了一次二十五万人的集会，要求种族平等。马丁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路德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金向成千上万的黑人发表了这篇演说词，立即举世闻名。他讲话没有讲话稿，他把自已对前途的看法，用充满激情的语言告诉了云集的听众，这就是“我有一个梦想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0" y="0"/>
            <a:ext cx="4648320" cy="5816520"/>
            <a:chOff x="0" y="0"/>
            <a:chExt cx="4648320" cy="581652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6483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6320" y="480060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遇害时，他正准备帮助孟菲斯黑人清洁工人组织罢工。当时他在旅馆阳台上与同伴们谈话，被刺客詹姆斯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厄尔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雷用枪击中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4280" y="1371600"/>
            <a:ext cx="4419720" cy="4064040"/>
            <a:chOff x="4724280" y="1371600"/>
            <a:chExt cx="4419720" cy="406404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724280" y="1371600"/>
              <a:ext cx="441972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952880" y="4419720"/>
              <a:ext cx="4191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马丁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路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金在旅馆的阳台上遇害。他的同事们急忙呼救，并一起向打枪的方向指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726000" cy="419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29080" y="29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孩子们向父亲的遗体告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朗读课文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2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重点朗读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到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段，并理解马丁路德金的梦想是什么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9080" y="1989000"/>
            <a:ext cx="4308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457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4419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的内战，虽然解放了黑奴，但美国的种族隔离仍然持续，尤其在南部，黑人不能入读白人学校、不能在招待白人的餐厅进食、不能乘坐同一辆公共汽车、或必须让座给白人。北部情况较佳，但黑人的待遇仍然很差。</a:t>
            </a:r>
            <a:r>
              <a:rPr b="0" lang="zh-CN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304920"/>
            <a:ext cx="43084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9625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的黑人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代，展开争取民权的运动。南部一名黑人妇女拒绝让座给白人而被捕的事件，激起持续的抗议行动。当时在教会当传道人的马丁路德金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rtin Luther King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亦投入争取黑人民权运动的行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5715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09880" cy="568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24280" y="304920"/>
            <a:ext cx="4114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，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人响应马丁路德金的号召，在美国首都华盛顿游行，争取立法保障黑人的权利。马丁路德金在林肯纪念馆前的石阶，对群众发表著名的「我有一个梦想」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I have a Dream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演说，希望白人和黑人有一天可平等地生活在一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0" y="457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在华盛顿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黑人的集会上发表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44956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72396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是针对什么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的时间、地点、场合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主要是针对美国黑人，同时也包括美国政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581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这一次演讲的时间是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月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日； 地点是在华盛顿广场；场合是在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5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万人的集会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想达到什么目的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要求自由和种族的平等。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</a:rPr>
              <a:t>黑人和白人能和睦共处，亲如兄弟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涉及哪些内容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91960" y="0"/>
            <a:ext cx="94359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8560" y="6303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4</a:t>
            </a: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黑人悲惨的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057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诺言没有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提醒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114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4479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集会的原因和目的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1—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447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78936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方式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7—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862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87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非暴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与白人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486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095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梦想和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914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811600"/>
            <a:ext cx="64771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文章层次清晰，结构严谨，增强了演讲词的说服力和感染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74880" y="47772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08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语言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38098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962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反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三多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整句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短句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呼唤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修辞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419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修辞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2057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紧密的逻辑结构和富于变换、含义深刻的语言相结合呈现出一篇及具说服力和感染力的演讲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7621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　　无论一国家、一民族、一团体还是个人，只有在政治上确立了自己地位，才能拥有讨论正义和自由的权利，只有在偌大的社会中推行正义和自由的思想，才能从思想上消除歧视思想，只有消除了歧视，才能真正出现黑人和白人和睦共处的局面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6720" y="189000"/>
            <a:ext cx="3598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人生而平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宪  法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给予所有的人以生存、自由和追求幸福的 不可剥夺的权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独立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公元一千八百六十三年一月一日起，任何一州内指定地区仍蓄有奴隶，当地人们将视为反叛合众国政府。一切被蓄为奴的人应该获得自由，并永享自由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解放黑奴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文鼎习字体"/>
                <a:ea typeface="文鼎习字体"/>
              </a:rPr>
              <a:t>在马丁逝世后的今天，你认为在美国，马丁的梦想实现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464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美国第一夫人劳拉称金“毕生致力于和平和改革事业”。她说：“我们难以想象没有金的美国历史，他代表真理，他遵照上帝的旨意让美国变得更公平。” </a:t>
            </a:r>
            <a:br>
              <a:rPr sz="3200"/>
            </a:b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作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先列出提纲在写作文正文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题目自拟，内容自拟，写一篇作文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（大于２００）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作业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字词带拼音各写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遍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701720"/>
            <a:ext cx="9074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</a:rPr>
              <a:t>镣铐    枷锁    压榨     邮戳 义愤填膺     心急如焚   蜕变  野蛮     迫害        息息相关 折磨     摇摇欲坠        赎罪 销声匿迹  坎坷   祈祷   缔造 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673200"/>
            <a:ext cx="9144000" cy="79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9907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5050"/>
                </a:solidFill>
                <a:latin typeface="Times New Roman"/>
              </a:rPr>
              <a:t>我有一个梦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209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马丁 路德 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0:25Z</dcterms:created>
  <dc:creator>zg</dc:creator>
  <dc:description/>
  <dc:language>en-US</dc:language>
  <cp:lastModifiedBy>MC SYSTEM</cp:lastModifiedBy>
  <dcterms:modified xsi:type="dcterms:W3CDTF">2012-11-28T01:26:4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