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8E11F-C10B-48FB-AB05-CE788D43BA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4BDD9E-4759-471D-8895-09553480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25933-9182-4F1C-A744-425E6F63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A12C0-6D81-44A0-A33A-90DD5D1199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09A9D8-4FE2-45E8-8711-C85A123C2DC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F9A42F-E95A-49A8-992A-C7B7C93D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99C7FB-2CFC-4D4A-9C91-97B84C840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92427E-F45A-4D92-8441-48F9214A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52262-183F-4FBD-8289-80BF65C43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DD9A4-FCDF-40EC-BBAB-78B19D76C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135F7E-A9CC-449C-81E9-36873685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462D1E-8685-46ED-B4B9-B5F1C8CBC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25DEA-876B-491B-AEE3-740C712C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C019B8-697E-4299-B7A2-542E67E8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E7C0E-999A-417C-B22B-C342353AD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DC7595-5D9A-4D24-BDC7-9D12D068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9B948-1356-4D82-8E18-85A6694311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8F800-44C4-46C7-B3EF-63DE8B31F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CE362-F9AA-4CD9-BC30-F0183238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076FA-B61E-41CD-9318-CD0625A5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0725E-6660-4B16-9E82-852D20F8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7CBEE-0615-47F1-BDFB-326F34908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73A50-25F1-49A8-8151-32BFE1920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17845-481D-4F78-8554-C25448AF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2720" y="638172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E784-10A8-4EDC-8F47-4CEF126AB105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92217-BB10-41B1-933A-28D8AF7A2A19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89080" y="206064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我有一个梦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——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马丁路德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21040" y="5402160"/>
            <a:ext cx="45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庞大集团中等专业学校 任课教师 刘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343400" y="0"/>
            <a:ext cx="4800600" cy="36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29—19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神学博士，牧师，美国黑人民权运动的领袖。一生曾三次被捕，三次被行刺。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6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被种族主义分子枪杀。终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毕生致力于为黑人争取自由民主权利， 其政治主张的核心 是“ 非暴力主义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获诺贝尔和平奖。他将全部奖金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,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元）献给了自由运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的第三个星期一为美国的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纪念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是联合国确定的全世界人民纪念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的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042920" y="234936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75440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9000"/>
            <a:ext cx="914400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文鼎香肠体"/>
                <a:ea typeface="文鼎香肠体"/>
              </a:rPr>
              <a:t>　　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1963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2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日，华盛顿特区组织了一次二十五万人的集会，要求种族平等。马丁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路德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金向成千上万的黑人发表了这篇演说词，立即举世闻名。他讲话没有讲话稿，他把自已对前途的看法，用充满激情的语言告诉了云集的听众，这就是“我有一个梦想”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0" y="0"/>
            <a:ext cx="4648320" cy="5816520"/>
            <a:chOff x="0" y="0"/>
            <a:chExt cx="4648320" cy="5816520"/>
          </a:xfrm>
        </p:grpSpPr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64832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6320" y="4800600"/>
              <a:ext cx="457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遇害时，他正准备帮助孟菲斯黑人清洁工人组织罢工。当时他在旅馆阳台上与同伴们谈话，被刺客詹姆斯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厄尔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雷用枪击中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724280" y="1371600"/>
            <a:ext cx="4419720" cy="4064040"/>
            <a:chOff x="4724280" y="1371600"/>
            <a:chExt cx="4419720" cy="4064040"/>
          </a:xfrm>
        </p:grpSpPr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4724280" y="1371600"/>
              <a:ext cx="4419720" cy="20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952880" y="4419720"/>
              <a:ext cx="4191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马丁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路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金在旅馆的阳台上遇害。他的同事们急忙呼救，并一起向打枪的方向指去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-88920"/>
            <a:ext cx="9144000" cy="7048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3726000" cy="4190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429080" y="2924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孩子们向父亲的遗体告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朗读课文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272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重点朗读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17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到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26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段，并理解马丁路德金的梦想是什么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29080" y="1989000"/>
            <a:ext cx="43084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4572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447920"/>
            <a:ext cx="441972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186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的内战，虽然解放了黑奴，但美国的种族隔离仍然持续，尤其在南部，黑人不能入读白人学校、不能在招待白人的餐厅进食、不能乘坐同一辆公共汽车、或必须让座给白人。北部情况较佳，但黑人的待遇仍然很差。</a:t>
            </a:r>
            <a:r>
              <a:rPr b="0" lang="zh-CN" sz="32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72000" y="304920"/>
            <a:ext cx="430848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" y="396252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的黑人在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世纪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代，展开争取民权的运动。南部一名黑人妇女拒绝让座给白人而被捕的事件，激起持续的抗议行动。当时在教会当传道人的马丁路德金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artin Luther King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），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亦投入争取黑人民权运动的行列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76520" y="228600"/>
            <a:ext cx="57150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3520" y="685800"/>
            <a:ext cx="3809880" cy="5689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24280" y="304920"/>
            <a:ext cx="4114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，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人响应马丁路德金的号召，在美国首都华盛顿游行，争取立法保障黑人的权利。马丁路德金在林肯纪念馆前的石阶，对群众发表著名的「我有一个梦想」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I have a Dream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演说，希望白人和黑人有一天可平等地生活在一起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0" y="45720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在华盛顿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黑人的集会上发表演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809880" y="3276720"/>
            <a:ext cx="5334120" cy="358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533520"/>
            <a:ext cx="44956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0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课文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723960"/>
            <a:ext cx="79246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是针对什么人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的时间、地点、场合各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主要是针对美国黑人，同时也包括美国政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458136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这一次演讲的时间是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月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日； 地点是在华盛顿广场；场合是在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5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万人的集会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想达到什么目的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方正舒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要求自由和种族的平等。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</a:rPr>
              <a:t>黑人和白人能和睦共处，亲如兄弟。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涉及哪些内容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-291960" y="0"/>
            <a:ext cx="943596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98560" y="6303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808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4</a:t>
            </a: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、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1295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黑人悲惨的现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20574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诺言没有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971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提醒美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61722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4114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44792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集会的原因和目的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1—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1447920"/>
            <a:ext cx="76320" cy="2057400"/>
          </a:xfrm>
          <a:custGeom>
            <a:avLst/>
            <a:gdLst>
              <a:gd name="textAreaLeft" fmla="*/ 48960 w 76320"/>
              <a:gd name="textAreaRight" fmla="*/ 76320 w 763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378936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方式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7—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38862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878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非暴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4724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与白人合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486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6095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梦想和信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90720" y="9144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2811600"/>
            <a:ext cx="647712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    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文章层次清晰，结构严谨，增强了演讲词的说服力和感染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974880" y="477720"/>
            <a:ext cx="352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3808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语言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3809880"/>
            <a:ext cx="152280" cy="198144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排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39625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反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4648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对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5238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三多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590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整句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短句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呼唤语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修辞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4419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修辞手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38080" y="20574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紧密的逻辑结构和富于变换、含义深刻的语言相结合呈现出一篇及具说服力和感染力的演讲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76212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　　无论一国家、一民族、一团体还是个人，只有在政治上确立了自己地位，才能拥有讨论正义和自由的权利，只有在偌大的社会中推行正义和自由的思想，才能从思想上消除歧视思想，只有消除了歧视，才能真正出现黑人和白人和睦共处的局面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76720" y="189000"/>
            <a:ext cx="35989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人生而平等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宪  法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给予所有的人以生存、自由和追求幸福的 不可剥夺的权利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独立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公元一千八百六十三年一月一日起，任何一州内指定地区仍蓄有奴隶，当地人们将视为反叛合众国政府。一切被蓄为奴的人应该获得自由，并永享自由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解放黑奴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33336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文鼎习字体"/>
                <a:ea typeface="文鼎习字体"/>
              </a:rPr>
              <a:t>在马丁逝世后的今天，你认为在美国，马丁的梦想实现了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84640"/>
            <a:ext cx="91440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美国第一夫人劳拉称金“毕生致力于和平和改革事业”。她说：“我们难以想象没有金的美国历史，他代表真理，他遵照上帝的旨意让美国变得更公平。” </a:t>
            </a:r>
            <a:br>
              <a:rPr sz="3200"/>
            </a:b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作业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先列出提纲在写作文正文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题目自拟，内容自拟，写一篇作文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。（大于２００）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作业 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字词带拼音各写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遍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000" y="1701720"/>
            <a:ext cx="907416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</a:rPr>
              <a:t>镣铐    枷锁    压榨     邮戳 义愤填膺     心急如焚   蜕变  野蛮     迫害        息息相关 折磨     摇摇欲坠        赎罪 销声匿迹  坎坷   祈祷   缔造 </a:t>
            </a:r>
            <a:endParaRPr b="0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-749160"/>
            <a:ext cx="9144000" cy="76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673200"/>
            <a:ext cx="9144000" cy="798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9907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be0e3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ff5050"/>
                </a:solidFill>
                <a:latin typeface="Times New Roman"/>
              </a:rPr>
              <a:t>我有一个梦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209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马丁 路德 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7696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40:25Z</dcterms:created>
  <dc:creator>zg</dc:creator>
  <dc:description/>
  <dc:language>en-US</dc:language>
  <cp:lastModifiedBy>MC SYSTEM</cp:lastModifiedBy>
  <dcterms:modified xsi:type="dcterms:W3CDTF">2012-11-28T01:26:46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