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13.png" ContentType="image/png"/>
  <Override PartName="/ppt/media/image6.jpeg" ContentType="image/jpeg"/>
  <Override PartName="/ppt/media/image5.jpeg" ContentType="image/jpeg"/>
  <Override PartName="/ppt/media/image23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BEC9A-F6BA-4082-9C30-FC560D6AF1E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D1D45-4646-4F09-82BB-A294D3699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7A560-9A32-4A30-9000-3729990BA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7D90D-AC46-405D-BE1A-1CB72D8C2B4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8481C1-B5AD-4149-B133-5B7F1AB8AA8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C56AB4-301A-478B-9B57-6B0CF37C6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E83E0-EC85-43A6-B9D9-32185E763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42D21-ABF6-4024-B8CE-E512CFE65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2C0A9F-5DFC-4DEC-99CB-14F7FF3AE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28845F-25C9-4FDA-98FF-AC9E8951C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68F72-AF97-477A-B593-90611F97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83D34-391E-42B1-B3DD-4156D26C0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10A739-B924-4D30-A4D2-330DD0123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3AEB0C-5D66-4A74-BD9F-1509CB40B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18C56F-4CDB-4604-A35B-B7DD15C01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046F13-E89F-4FB4-A81C-010974DF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668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440" y="198864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1092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668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440" y="4095000"/>
            <a:ext cx="25765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EF0A0F-C418-499E-A139-5B150A236CF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C4033D-F5D0-46EA-9079-FC2FD99DF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A21C0-FEF9-4E6B-B456-7AA21B5F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C80E9B-F26C-4BCC-96F2-96E25AEB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71280" y="333360"/>
            <a:ext cx="7715160" cy="50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B9F39-0BF3-4505-B14E-6E2141278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E34057-61B0-49FA-82AC-B8499087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11320" y="409500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132D2-34FF-470B-85B3-938014CF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1320" y="1988640"/>
            <a:ext cx="390492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10920" y="4095000"/>
            <a:ext cx="8002440" cy="192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CCA55-653D-4F2E-9BFD-4952930B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81720"/>
            <a:ext cx="213372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732720" y="6381720"/>
            <a:ext cx="21333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C1910-72F2-404F-A6C3-5502C4030240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C3F5C-C3B1-4652-9371-1D7AB3AD718E}" type="slidenum">
              <a:rPr b="0" lang="zh-CN" sz="1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微软雅黑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微软雅黑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微软雅黑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微软雅黑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微软雅黑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89080" y="2060640"/>
            <a:ext cx="684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</a:rPr>
              <a:t>我有一个梦想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  ——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马丁路德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921040" y="5402160"/>
            <a:ext cx="453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庞大集团中等专业学校 任课教师 刘芳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356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0"/>
            <a:ext cx="4800600" cy="360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29—196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神学博士，牧师，美国黑人民权运动的领袖。一生曾三次被捕，三次被行刺。  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68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被种族主义分子枪杀。终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4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岁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他毕生致力于为黑人争取自由民主权利， 其政治主张的核心 是“ 非暴力主义”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96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年获诺贝尔和平奖。他将全部奖金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4,60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美元）献给了自由运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的第三个星期一为美国的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纪念日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年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日，是联合国确定的全世界人民纪念马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路德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金的日子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1042920" y="2349360"/>
            <a:ext cx="1800360" cy="180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75440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89000"/>
            <a:ext cx="9144000" cy="22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文鼎香肠体"/>
                <a:ea typeface="文鼎香肠体"/>
              </a:rPr>
              <a:t>　　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1963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年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月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28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日，华盛顿特区组织了一次二十五万人的集会，要求种族平等。马丁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路德</a:t>
            </a:r>
            <a:r>
              <a:rPr b="0" lang="en-US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·</a:t>
            </a:r>
            <a:r>
              <a:rPr b="0" lang="zh-CN" sz="40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金向成千上万的黑人发表了这篇演说词，立即举世闻名。他讲话没有讲话稿，他把自已对前途的看法，用充满激情的语言告诉了云集的听众，这就是“我有一个梦想”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0" y="0"/>
            <a:ext cx="4648320" cy="5816520"/>
            <a:chOff x="0" y="0"/>
            <a:chExt cx="4648320" cy="5816520"/>
          </a:xfrm>
        </p:grpSpPr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464832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76320" y="4800600"/>
              <a:ext cx="457200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遇害时，他正准备帮助孟菲斯黑人清洁工人组织罢工。当时他在旅馆阳台上与同伴们谈话，被刺客詹姆斯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厄尔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雷用枪击中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4724280" y="1371600"/>
            <a:ext cx="4419720" cy="4064040"/>
            <a:chOff x="4724280" y="1371600"/>
            <a:chExt cx="4419720" cy="4064040"/>
          </a:xfrm>
        </p:grpSpPr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4724280" y="1371600"/>
              <a:ext cx="4419720" cy="203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952880" y="4419720"/>
              <a:ext cx="41911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马丁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路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·</a:t>
              </a:r>
              <a:r>
                <a:rPr b="1" lang="zh-CN" sz="2400" spc="-1" strike="noStrike">
                  <a:solidFill>
                    <a:srgbClr val="333399"/>
                  </a:solidFill>
                  <a:latin typeface="Times New Roman"/>
                </a:rPr>
                <a:t>金在旅馆的阳台上遇害。他的同事们急忙呼救，并一起向打枪的方向指去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-88920"/>
            <a:ext cx="9144000" cy="70484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80880" y="1219320"/>
            <a:ext cx="3726000" cy="4190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429080" y="2924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宋体"/>
              </a:rPr>
              <a:t>孩子们向父亲的遗体告别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朗读课文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39272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重点朗读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17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到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26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</a:rPr>
              <a:t>段，并理解马丁路德金的梦想是什么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429080" y="1989000"/>
            <a:ext cx="43084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80880" y="457200"/>
            <a:ext cx="457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背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447920"/>
            <a:ext cx="441972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1861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的内战，虽然解放了黑奴，但美国的种族隔离仍然持续，尤其在南部，黑人不能入读白人学校、不能在招待白人的餐厅进食、不能乘坐同一辆公共汽车、或必须让座给白人。北部情况较佳，但黑人的待遇仍然很差。</a:t>
            </a:r>
            <a:r>
              <a:rPr b="0" lang="zh-CN" sz="3200" spc="-1" strike="noStrike">
                <a:solidFill>
                  <a:srgbClr val="3366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4572000" y="304920"/>
            <a:ext cx="4308480" cy="62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28600" y="3962520"/>
            <a:ext cx="8458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美国的黑人在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年代，展开争取民权的运动。南部一名黑人妇女拒绝让座给白人而被捕的事件，激起持续的抗议行动。当时在教会当传道人的马丁路德金（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Martin Luther King</a:t>
            </a:r>
            <a:r>
              <a:rPr b="1" lang="en-US" sz="3200" spc="-1" strike="noStrike">
                <a:solidFill>
                  <a:srgbClr val="333399"/>
                </a:solidFill>
                <a:latin typeface="Times New Roman"/>
              </a:rPr>
              <a:t>），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亦投入争取黑人民权运动的行列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1676520" y="228600"/>
            <a:ext cx="571500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685800"/>
            <a:ext cx="3809880" cy="56894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24280" y="304920"/>
            <a:ext cx="41148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， 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人响应马丁路德金的号召，在美国首都华盛顿游行，争取立法保障黑人的权利。马丁路德金在林肯纪念馆前的石阶，对群众发表著名的「我有一个梦想」（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I have a Dream</a:t>
            </a:r>
            <a:r>
              <a:rPr b="1" lang="en-US" sz="3200" spc="-1" strike="noStrike">
                <a:solidFill>
                  <a:srgbClr val="333399"/>
                </a:solidFill>
                <a:latin typeface="宋体"/>
              </a:rPr>
              <a:t>）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演说，希望白人和黑人有一天可平等地生活在一起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572000" y="457200"/>
            <a:ext cx="4114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196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8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日在华盛顿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万黑人的集会上发表演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0" y="533520"/>
            <a:ext cx="449568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10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80880" y="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课文分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723960"/>
            <a:ext cx="79246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是针对什么人的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的时间、地点、场合各是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62120" y="129528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1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主要是针对美国黑人，同时也包括美国政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1280" y="458136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、这一次演讲的时间是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月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8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日； 地点是在华盛顿广场；场合是在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25</a:t>
            </a: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万人的集会上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想达到什么目的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ff"/>
              </a:buClr>
              <a:buFont typeface="方正舒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要求自由和种族的平等。</a:t>
            </a:r>
            <a:r>
              <a:rPr b="0" lang="zh-CN" sz="3200" spc="-1" strike="noStrike">
                <a:solidFill>
                  <a:srgbClr val="0000ff"/>
                </a:solidFill>
                <a:latin typeface="微软雅黑"/>
              </a:rPr>
              <a:t>黑人和白人能和睦共处，亲如兄弟。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ff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、这次演讲涉及哪些内容？</a:t>
            </a: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-291960" y="0"/>
            <a:ext cx="943596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898560" y="63036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380880"/>
            <a:ext cx="36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4</a:t>
            </a:r>
            <a:r>
              <a:rPr b="0" lang="zh-CN" sz="4000" spc="-1" strike="noStrike">
                <a:solidFill>
                  <a:srgbClr val="3366ff"/>
                </a:solidFill>
                <a:latin typeface="方正舒体"/>
                <a:ea typeface="方正舒体"/>
              </a:rPr>
              <a:t>、内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19520" y="12952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黑人悲惨的现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2057400"/>
            <a:ext cx="44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诺言没有兑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297180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提醒美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61722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411480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" y="1447920"/>
            <a:ext cx="1752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集会的原因和目的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1—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09680" y="1447920"/>
            <a:ext cx="76320" cy="2057400"/>
          </a:xfrm>
          <a:custGeom>
            <a:avLst/>
            <a:gdLst>
              <a:gd name="textAreaLeft" fmla="*/ 48960 w 76320"/>
              <a:gd name="textAreaRight" fmla="*/ 76320 w 7632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3789360"/>
            <a:ext cx="1371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方式</a:t>
            </a: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7—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3886200"/>
            <a:ext cx="76320" cy="1371600"/>
          </a:xfrm>
          <a:custGeom>
            <a:avLst/>
            <a:gdLst>
              <a:gd name="textAreaLeft" fmla="*/ 48960 w 76320"/>
              <a:gd name="textAreaRight" fmla="*/ 76320 w 7632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666880" y="38782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非暴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472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与白人合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548640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斗争目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609588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梦想和信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990720" y="914400"/>
            <a:ext cx="2895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2811600"/>
            <a:ext cx="6477120" cy="20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        </a:t>
            </a:r>
            <a:r>
              <a:rPr b="0" lang="zh-CN" sz="36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文章层次清晰，结构严谨，增强了演讲词的说服力和感染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181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974880" y="477720"/>
            <a:ext cx="3520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380880"/>
            <a:ext cx="289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语言特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33920" y="3809880"/>
            <a:ext cx="152280" cy="1981440"/>
          </a:xfrm>
          <a:custGeom>
            <a:avLst/>
            <a:gdLst>
              <a:gd name="textAreaLeft" fmla="*/ 97200 w 152280"/>
              <a:gd name="textAreaRight" fmla="*/ 152640 w 1522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91120" y="32767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排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91120" y="39625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反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91120" y="46483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91120" y="5410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对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523880"/>
            <a:ext cx="289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三多</a:t>
            </a:r>
            <a:r>
              <a:rPr b="1" lang="zh-CN" sz="40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914400" y="2590920"/>
            <a:ext cx="64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整句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短句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(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呼唤语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)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多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3366ff"/>
                </a:solidFill>
                <a:latin typeface="Times New Roman"/>
                <a:ea typeface="楷体_GB2312"/>
              </a:rPr>
              <a:t>修辞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6520" y="441972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修辞手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514920" y="609480"/>
            <a:ext cx="19429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 vert="eaVer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000" y="43920"/>
            <a:ext cx="60627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838080" y="2057400"/>
            <a:ext cx="762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Times New Roman"/>
                <a:ea typeface="方正舒体"/>
              </a:rPr>
              <a:t>紧密的逻辑结构和富于变换、含义深刻的语言相结合呈现出一篇及具说服力和感染力的演讲词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762120"/>
            <a:ext cx="38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Times New Roman"/>
                <a:ea typeface="幼圆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</a:rPr>
              <a:t>　　无论一国家、一民族、一团体还是个人，只有在政治上确立了自己地位，才能拥有讨论正义和自由的权利，只有在偌大的社会中推行正义和自由的思想，才能从思想上消除歧视思想，只有消除了歧视，才能真正出现黑人和白人和睦共处的局面 </a:t>
            </a: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5076720" y="189000"/>
            <a:ext cx="35989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人人生而平等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宪  法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给予所有的人以生存、自由和追求幸福的 不可剥夺的权利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独立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公元一千八百六十三年一月一日起，任何一州内指定地区仍蓄有奴隶，当地人们将视为反叛合众国政府。一切被蓄为奴的人应该获得自由，并永享自由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     —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《解放黑奴宣言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333360"/>
            <a:ext cx="914400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文鼎习字体"/>
                <a:ea typeface="文鼎习字体"/>
              </a:rPr>
              <a:t>在马丁逝世后的今天，你认为在美国，马丁的梦想实现了吗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3284640"/>
            <a:ext cx="91440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文鼎习字体"/>
                <a:ea typeface="文鼎习字体"/>
              </a:rPr>
              <a:t>美国第一夫人劳拉称金“毕生致力于和平和改革事业”。她说：“我们难以想象没有金的美国历史，他代表真理，他遵照上帝的旨意让美国变得更公平。” </a:t>
            </a:r>
            <a:br>
              <a:rPr sz="3200"/>
            </a:br>
            <a:br>
              <a:rPr sz="3200"/>
            </a:br>
            <a:br>
              <a:rPr sz="18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微软雅黑"/>
              </a:rPr>
              <a:t>作业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10920" y="1988640"/>
            <a:ext cx="80024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999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先列出提纲在写作文正文</a:t>
            </a:r>
            <a:endParaRPr b="0" lang="en-US" sz="4800" spc="-1" strike="noStrike">
              <a:solidFill>
                <a:srgbClr val="000000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2500"/>
              </a:spcBef>
              <a:buClr>
                <a:srgbClr val="ff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隶书"/>
                <a:ea typeface="隶书"/>
              </a:rPr>
              <a:t>题目自拟，内容自拟，写一篇作文</a:t>
            </a:r>
            <a:r>
              <a:rPr b="0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。（大于２００）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71280" y="333360"/>
            <a:ext cx="771516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作业 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字词带拼音各写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3</a:t>
            </a:r>
            <a:r>
              <a:rPr b="1" lang="zh-CN" sz="3600" spc="-1" strike="noStrike">
                <a:solidFill>
                  <a:srgbClr val="ff3300"/>
                </a:solidFill>
                <a:latin typeface="微软雅黑"/>
              </a:rPr>
              <a:t>遍</a:t>
            </a:r>
            <a:endParaRPr b="1" lang="en-US" sz="3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8000" y="1701720"/>
            <a:ext cx="907416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微软雅黑"/>
              </a:rPr>
              <a:t>镣铐    枷锁    压榨     邮戳 义愤填膺     心急如焚   蜕变  野蛮     迫害        息息相关 折磨     摇摇欲坠        赎罪 销声匿迹  坎坷   祈祷   缔造 </a:t>
            </a: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-977760" y="54000"/>
            <a:ext cx="10121760" cy="680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-749160"/>
            <a:ext cx="9144000" cy="760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22032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-673200"/>
            <a:ext cx="9144000" cy="798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-38160"/>
            <a:ext cx="9144000" cy="689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838080" y="990720"/>
            <a:ext cx="5715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be0e3"/>
                </a:solidFill>
                <a:latin typeface="Times New Roman"/>
              </a:rPr>
              <a:t>      </a:t>
            </a:r>
            <a:r>
              <a:rPr b="1" lang="zh-CN" sz="6000" spc="-1" strike="noStrike">
                <a:solidFill>
                  <a:srgbClr val="ff5050"/>
                </a:solidFill>
                <a:latin typeface="Times New Roman"/>
              </a:rPr>
              <a:t>我有一个梦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20968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马丁 路德 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5800" y="3352680"/>
            <a:ext cx="7696080" cy="22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3:40:25Z</dcterms:created>
  <dc:creator>zg</dc:creator>
  <dc:description/>
  <dc:language>en-US</dc:language>
  <cp:lastModifiedBy>MC SYSTEM</cp:lastModifiedBy>
  <dcterms:modified xsi:type="dcterms:W3CDTF">2012-11-28T01:26:46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