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61BA-9A45-4728-94FB-127D4D78C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71AA-1A02-4828-936F-A8702F154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AD43-2421-44A2-80B2-8684D3416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5859-A888-41DE-ACB3-7970776FC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0514-E56D-4AAA-B217-1135286F3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977E-D498-4B0B-984A-BE65E5E0A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444C-25B8-4410-9995-C2E809AC8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3488-0923-4BE5-B250-CCCFC967B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F8CF-2CE3-4C42-8443-E988614D7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DB79-C4AD-4672-9D4D-965D0362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7D44-508D-40E9-8F1A-F70470F7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D468-2A14-4FF9-9463-9A5E8130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071C0-0BEC-4B10-858A-9A4C5464F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14360" y="1341360"/>
            <a:ext cx="831528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我是文明小学生</a:t>
            </a:r>
            <a:endParaRPr b="1" lang="en-US" sz="72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" name=""/>
          <p:cNvSpPr/>
          <p:nvPr/>
        </p:nvSpPr>
        <p:spPr>
          <a:xfrm>
            <a:off x="5580000" y="4869000"/>
            <a:ext cx="27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二年级二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187280" y="2492280"/>
            <a:ext cx="68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每天上学家里人都知道，所以可以不跟家里人打招呼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56360" y="3933720"/>
            <a:ext cx="216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Arial"/>
              </a:rPr>
              <a:t>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835280" y="476280"/>
            <a:ext cx="5473440" cy="30290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619280" y="3357720"/>
            <a:ext cx="68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图中的两位小朋友谁做得对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050920" y="0"/>
            <a:ext cx="5616720" cy="35002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187280" y="3500280"/>
            <a:ext cx="68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如果是你正坐在公交车上，这时你应该怎样做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826920" y="0"/>
            <a:ext cx="6912000" cy="39607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32000" y="3933720"/>
            <a:ext cx="68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坐三轮车比客车方便，所以我们可以坐三轮车上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195640" y="333360"/>
            <a:ext cx="3333600" cy="30862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835280" y="3213000"/>
            <a:ext cx="604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请问图中的这位叔叔在做什么？他做得对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763640" y="333360"/>
            <a:ext cx="5329440" cy="3610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547640" y="4005360"/>
            <a:ext cx="605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图中的小朋友在做什么？他们做得对吗？应该怎样做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050920" y="3524400"/>
            <a:ext cx="51832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我们上下楼梯一定要做到什么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6720" y="4869000"/>
            <a:ext cx="48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Arial"/>
              </a:rPr>
              <a:t>轻声、慢步、靠右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195640" y="333360"/>
            <a:ext cx="5113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835280" y="115920"/>
            <a:ext cx="5616360" cy="34495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763640" y="3429000"/>
            <a:ext cx="605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过马路要走人行道，在麻烦了，我们就从这里翻过去吧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148360" y="5300640"/>
            <a:ext cx="216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Arial"/>
              </a:rPr>
              <a:t>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747160" y="227664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礼貌用语十个字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39640" y="836640"/>
            <a:ext cx="20876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抢答</a:t>
            </a:r>
            <a:endParaRPr b="1" i="1" lang="en-US" sz="4800" spc="-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" name=""/>
          <p:cNvSpPr/>
          <p:nvPr/>
        </p:nvSpPr>
        <p:spPr>
          <a:xfrm>
            <a:off x="1763640" y="3738240"/>
            <a:ext cx="633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99"/>
                </a:solidFill>
                <a:latin typeface="Arial"/>
              </a:rPr>
              <a:t>“</a:t>
            </a:r>
            <a:r>
              <a:rPr b="1" lang="zh-CN" sz="4800" spc="-1" strike="noStrike">
                <a:solidFill>
                  <a:srgbClr val="cc0099"/>
                </a:solidFill>
                <a:latin typeface="Arial"/>
              </a:rPr>
              <a:t>您好”、“请”、“谢谢”、“对不起”、“再见”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11280" y="1268280"/>
            <a:ext cx="727236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文明用语，微笑待人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文明休息，文明坐行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不懂就问，勤于思考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勤俭节约，计划用钱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自己的事情自己做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258920" y="620640"/>
            <a:ext cx="5257800" cy="820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迷你简平和"/>
              </a:rPr>
              <a:t>十个道德好习惯</a:t>
            </a:r>
            <a:endParaRPr b="0" lang="en-US" sz="1800" spc="-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迷你简平和"/>
              <a:ea typeface="迷你简平和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52360" y="541440"/>
            <a:ext cx="8712360" cy="63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说了就要努力去做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及时感谢别人的帮助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用过的东西放回原处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9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集体的事情一起干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干干净净迎接每一天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4360" y="836640"/>
            <a:ext cx="2087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抢答</a:t>
            </a:r>
            <a:endParaRPr b="1" i="1" lang="en-US" sz="4800" spc="-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" name=""/>
          <p:cNvSpPr/>
          <p:nvPr/>
        </p:nvSpPr>
        <p:spPr>
          <a:xfrm>
            <a:off x="1116000" y="2205000"/>
            <a:ext cx="675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上课时老师提问，同学们可以在座位上不经老师同意自由回答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56360" y="3716280"/>
            <a:ext cx="216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Arial"/>
              </a:rPr>
              <a:t>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187280" y="2133720"/>
            <a:ext cx="69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学生进办公室应该经得老师同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39640" y="260280"/>
            <a:ext cx="208764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抢答</a:t>
            </a:r>
            <a:endParaRPr b="1" i="1" lang="en-US" sz="4800" spc="-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8" name=""/>
          <p:cNvSpPr/>
          <p:nvPr/>
        </p:nvSpPr>
        <p:spPr>
          <a:xfrm>
            <a:off x="6732720" y="3429000"/>
            <a:ext cx="216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Arial"/>
              </a:rPr>
              <a:t>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187280" y="220500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预备铃声响后不是正式上课时间，所以可以随便离开坐位和讲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39640" y="836640"/>
            <a:ext cx="20876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抢答</a:t>
            </a:r>
            <a:endParaRPr b="1" i="1" lang="en-US" sz="4800" spc="-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" name=""/>
          <p:cNvSpPr/>
          <p:nvPr/>
        </p:nvSpPr>
        <p:spPr>
          <a:xfrm>
            <a:off x="5148360" y="4149720"/>
            <a:ext cx="216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Arial"/>
              </a:rPr>
              <a:t>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908000" y="333360"/>
            <a:ext cx="5256360" cy="3255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403280" y="3860640"/>
            <a:ext cx="605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下课了，我们可以在校园里追打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76720" y="5157720"/>
            <a:ext cx="216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Arial"/>
              </a:rPr>
              <a:t>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116000" y="2205000"/>
            <a:ext cx="684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进入别人的房间应先怎么做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8360" y="765000"/>
            <a:ext cx="208764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抢答</a:t>
            </a:r>
            <a:endParaRPr b="1" i="1" lang="en-US" sz="4800" spc="-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" name=""/>
          <p:cNvSpPr/>
          <p:nvPr/>
        </p:nvSpPr>
        <p:spPr>
          <a:xfrm>
            <a:off x="5148360" y="3141720"/>
            <a:ext cx="216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Arial"/>
              </a:rPr>
              <a:t>先敲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187280" y="2492280"/>
            <a:ext cx="68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迟到的同学在教室门口，应先停下脚步，讲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39640" y="836640"/>
            <a:ext cx="20876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抢答</a:t>
            </a:r>
            <a:endParaRPr b="1" i="1" lang="en-US" sz="4800" spc="-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0" name=""/>
          <p:cNvSpPr/>
          <p:nvPr/>
        </p:nvSpPr>
        <p:spPr>
          <a:xfrm>
            <a:off x="5580000" y="4005360"/>
            <a:ext cx="17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Arial"/>
              </a:rPr>
              <a:t>报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476360" y="2796120"/>
            <a:ext cx="602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无论要求别人做什么，都应该先讲什么字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39640" y="836640"/>
            <a:ext cx="20876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抢答</a:t>
            </a:r>
            <a:endParaRPr b="1" i="1" lang="en-US" sz="4800" spc="-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3" name=""/>
          <p:cNvSpPr/>
          <p:nvPr/>
        </p:nvSpPr>
        <p:spPr>
          <a:xfrm>
            <a:off x="5580000" y="4005360"/>
            <a:ext cx="17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Arial"/>
              </a:rPr>
              <a:t>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8T10:18:11Z</dcterms:created>
  <dc:creator>微软用户</dc:creator>
  <dc:description/>
  <cp:keywords/>
  <dc:language>en-US</dc:language>
  <cp:lastModifiedBy>Sky123.Org</cp:lastModifiedBy>
  <dcterms:modified xsi:type="dcterms:W3CDTF">2015-09-14T03:41:45Z</dcterms:modified>
  <cp:revision>1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369</vt:lpwstr>
  </property>
</Properties>
</file>