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CA0-8C53-42BB-9748-A62F2198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475-C759-4F49-9CFE-C433D4EF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D3C-C9AD-4BD0-B90B-94C03D1D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EAC-E2D7-4B0D-A34E-FE76F21A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D19-8FBB-4ECB-B179-4F828631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6EA-6961-4495-94FD-17554941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89F-60F9-435E-A7B3-CC98E6DB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47B-AF23-4EB5-83AB-594A192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F11-9333-4AF6-B0D0-AB60C686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B97-A7AE-4F1E-8C89-660BE3A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1F0-22B0-4797-AD54-B5485728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345-73DC-4E0E-9D2C-48263BC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0921-9A15-4EBC-8FE1-843D75DD8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14360" y="1341360"/>
            <a:ext cx="8315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是文明小学生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869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年级二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每天上学家里人都知道，所以可以不跟家里人打招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9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47344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19280" y="3357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两位小朋友谁做得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616720" cy="35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350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果是你正坐在公交车上，这时你应该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691200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3933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坐三轮车比客车方便，所以我们可以坐三轮车上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3333600" cy="308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35280" y="321300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问图中的这位叔叔在做什么？他做得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61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47640" y="4005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小朋友在做什么？他们做得对吗？应该怎样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0920" y="3524400"/>
            <a:ext cx="5183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上下楼梯一定要做到什么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86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轻声、慢步、靠右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11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115920"/>
            <a:ext cx="5616360" cy="344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342900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过马路要走人行道，在麻烦了，我们就从这里翻过去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53006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7160" y="22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礼貌用语十个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373824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您好”、“请”、“谢谢”、“对不起”、“再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268280"/>
            <a:ext cx="7272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用语，微笑待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休息，文明坐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不懂就问，勤于思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勤俭节约，计划用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自己的事情自己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58920" y="620640"/>
            <a:ext cx="5257800" cy="82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迷你简平和"/>
              </a:rPr>
              <a:t>十个道德好习惯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迷你简平和"/>
              <a:ea typeface="迷你简平和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2360" y="541440"/>
            <a:ext cx="871236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说了就要努力去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及时感谢别人的帮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过的东西放回原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集体的事情一起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干干净净迎接每一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836640"/>
            <a:ext cx="2087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2205000"/>
            <a:ext cx="67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课时老师提问，同学们可以在座位上不经老师同意自由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371628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2133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进办公室应该经得老师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6028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34290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205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预备铃声响后不是正式上课时间，所以可以随便离开坐位和讲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4149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256360" cy="325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386064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课了，我们可以在校园里追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157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20500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进入别人的房间应先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76500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141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先敲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迟到的同学在教室门口，应先停下脚步，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76360" y="2796120"/>
            <a:ext cx="602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无论要求别人做什么，都应该先讲什么字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18:11Z</dcterms:created>
  <dc:creator>微软用户</dc:creator>
  <dc:description/>
  <cp:keywords/>
  <dc:language>en-US</dc:language>
  <cp:lastModifiedBy>Sky123.Org</cp:lastModifiedBy>
  <dcterms:modified xsi:type="dcterms:W3CDTF">2015-09-14T03:41:4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