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A3C-E17D-4EE3-95CE-A8B54EB6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13E-DD08-4B3B-BEFC-2DC02370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2E7-C8DF-43F8-BF7B-3AA7ED19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43A-4804-4BD7-8F04-5BF73042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3CA-A652-431E-A026-D6CABAC5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E55-4392-485D-9CA6-324BE706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4E8-6E78-4562-B440-E85782E5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434-EBAA-4687-9499-3BC69D63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81F-741B-49E1-811E-B94EF2BA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1DE-D8FB-4F57-ADCD-091C6080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770-98EF-4E58-BFFD-1111CA15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492-1BB7-4829-9F36-4FD45EB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FF63-5429-42F2-8F86-0596EA34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14360" y="1341360"/>
            <a:ext cx="8315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是文明小学生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4869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年级二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每天上学家里人都知道，所以可以不跟家里人打招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9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47344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19280" y="3357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两位小朋友谁做得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616720" cy="35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350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果是你正坐在公交车上，这时你应该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691200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3933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坐三轮车比客车方便，所以我们可以坐三轮车上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3333600" cy="308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35280" y="321300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问图中的这位叔叔在做什么？他做得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3610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47640" y="400536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小朋友在做什么？他们做得对吗？应该怎样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0920" y="3524400"/>
            <a:ext cx="5183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上下楼梯一定要做到什么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869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轻声、慢步、靠右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11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115920"/>
            <a:ext cx="5616360" cy="3449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342900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过马路要走人行道，在麻烦了，我们就从这里翻过去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530064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7160" y="22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礼貌用语十个字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373824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您好”、“请”、“谢谢”、“对不起”、“再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268280"/>
            <a:ext cx="7272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用语，微笑待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休息，文明坐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不懂就问，勤于思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勤俭节约，计划用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自己的事情自己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58920" y="620640"/>
            <a:ext cx="5257800" cy="82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迷你简平和"/>
              </a:rPr>
              <a:t>十个道德好习惯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迷你简平和"/>
              <a:ea typeface="迷你简平和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2360" y="541440"/>
            <a:ext cx="871236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说了就要努力去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及时感谢别人的帮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用过的东西放回原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集体的事情一起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干干净净迎接每一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836640"/>
            <a:ext cx="2087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2205000"/>
            <a:ext cx="67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上课时老师提问，同学们可以在座位上不经老师同意自由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371628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2133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进办公室应该经得老师同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26028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34290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205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预备铃声响后不是正式上课时间，所以可以随便离开坐位和讲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4149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5256360" cy="325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03280" y="386064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下课了，我们可以在校园里追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157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20500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进入别人的房间应先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76500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141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先敲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迟到的同学在教室门口，应先停下脚步，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76360" y="2796120"/>
            <a:ext cx="602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无论要求别人做什么，都应该先讲什么字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18:11Z</dcterms:created>
  <dc:creator>微软用户</dc:creator>
  <dc:description/>
  <cp:keywords/>
  <dc:language>en-US</dc:language>
  <cp:lastModifiedBy>Sky123.Org</cp:lastModifiedBy>
  <dcterms:modified xsi:type="dcterms:W3CDTF">2015-09-14T03:41:45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