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5ED-F718-4E8C-A241-295B18C8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0A7-8783-4C36-9799-536DD6A2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607-3968-445C-BE01-172BA6AB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A1E-1B10-4153-9EB5-6AE4D90A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13D-F9EF-40ED-B086-8F1E4C6C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78E-6733-4F4C-AC4D-C31525B0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279-C4AD-4F0B-B36E-8D78A34D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C02-F28F-4B10-92B9-F0102491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76C-332B-4D63-B64A-C2AC6210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3B4-B3F1-44D6-A22A-1032C556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A86-4EC9-4A8E-942B-4C6D06F5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927-F28B-486E-8F75-4CFE074D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C643-9A5D-427E-B27B-5BBBD8F6B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14360" y="1341360"/>
            <a:ext cx="83152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是文明小学生</a:t>
            </a:r>
            <a:endParaRPr b="1" lang="en-US" sz="72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5580000" y="48690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年级二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87280" y="2492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每天上学家里人都知道，所以可以不跟家里人打招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3933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5473440" cy="3029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19280" y="335772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图中的两位小朋友谁做得对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616720" cy="350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350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如果是你正坐在公交车上，这时你应该怎样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6912000" cy="3960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32000" y="393372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坐三轮车比客车方便，所以我们可以坐三轮车上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3333600" cy="308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35280" y="321300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请问图中的这位叔叔在做什么？他做得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329440" cy="3610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47640" y="400536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图中的小朋友在做什么？他们做得对吗？应该怎样做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0920" y="3524400"/>
            <a:ext cx="5183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们上下楼梯一定要做到什么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86900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轻声、慢步、靠右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5113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35280" y="115920"/>
            <a:ext cx="5616360" cy="3449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63640" y="342900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过马路要走人行道，在麻烦了，我们就从这里翻过去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530064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47160" y="2276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礼貌用语十个字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3738240"/>
            <a:ext cx="63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您好”、“请”、“谢谢”、“对不起”、“再见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268280"/>
            <a:ext cx="7272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明用语，微笑待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明休息，文明坐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不懂就问，勤于思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勤俭节约，计划用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自己的事情自己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58920" y="620640"/>
            <a:ext cx="5257800" cy="820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迷你简平和"/>
              </a:rPr>
              <a:t>十个道德好习惯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迷你简平和"/>
              <a:ea typeface="迷你简平和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2360" y="541440"/>
            <a:ext cx="871236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说了就要努力去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及时感谢别人的帮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用过的东西放回原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集体的事情一起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干干净净迎接每一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4360" y="836640"/>
            <a:ext cx="2087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2205000"/>
            <a:ext cx="67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上课时老师提问，同学们可以在座位上不经老师同意自由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371628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213372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生进办公室应该经得老师同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260280"/>
            <a:ext cx="2087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342900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7280" y="2205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预备铃声响后不是正式上课时间，所以可以随便离开坐位和讲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414972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5256360" cy="3255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03280" y="386064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下课了，我们可以在校园里追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5157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20500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进入别人的房间应先怎么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765000"/>
            <a:ext cx="2087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314172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先敲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87280" y="2492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迟到的同学在教室门口，应先停下脚步，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400536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报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76360" y="2796120"/>
            <a:ext cx="602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无论要求别人做什么，都应该先讲什么字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400536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0:18:11Z</dcterms:created>
  <dc:creator>微软用户</dc:creator>
  <dc:description/>
  <cp:keywords/>
  <dc:language>en-US</dc:language>
  <cp:lastModifiedBy>Sky123.Org</cp:lastModifiedBy>
  <dcterms:modified xsi:type="dcterms:W3CDTF">2015-09-14T03:41:45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