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arrow.wav" ContentType="audio/x-wav"/>
  <Override PartName="/ppt/media/image18.gif" ContentType="image/gif"/>
  <Override PartName="/ppt/media/image5.jpeg" ContentType="image/jpeg"/>
  <Override PartName="/ppt/media/image15.gif" ContentType="image/gif"/>
  <Override PartName="/ppt/media/image7.jpeg" ContentType="image/jpeg"/>
  <Override PartName="/ppt/media/image6.jpeg" ContentType="image/jpeg"/>
  <Override PartName="/ppt/media/image25.jpeg" ContentType="image/jpeg"/>
  <Override PartName="/ppt/media/image4.jpeg" ContentType="image/jpeg"/>
  <Override PartName="/ppt/media/image10.wmf" ContentType="image/x-wmf"/>
  <Override PartName="/ppt/media/image19.jpeg" ContentType="image/jpeg"/>
  <Override PartName="/ppt/media/image11.png" ContentType="image/png"/>
  <Override PartName="/ppt/media/image9.jpeg" ContentType="image/jpeg"/>
  <Override PartName="/ppt/media/image8.jpeg" ContentType="image/jpeg"/>
  <Override PartName="/ppt/media/image12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28.jpeg" ContentType="image/jpeg"/>
  <Override PartName="/ppt/media/image27.gif" ContentType="image/gif"/>
  <Override PartName="/ppt/media/image13.gif" ContentType="image/gif"/>
  <Override PartName="/ppt/media/image16.gif" ContentType="image/gif"/>
  <Override PartName="/ppt/media/image17.jpeg" ContentType="image/jpeg"/>
  <Override PartName="/ppt/media/image23.gif" ContentType="image/gif"/>
  <Override PartName="/ppt/media/image14.png" ContentType="image/png"/>
  <Override PartName="/ppt/media/image21.gif" ContentType="image/gif"/>
  <Override PartName="/ppt/media/image26.gif" ContentType="image/gif"/>
  <Override PartName="/ppt/media/image2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EF92-212D-4456-BEA1-94F56152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89DA-6A97-44B6-98DA-DBD34704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E0944-9AAC-4E72-BB86-CC179144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1441B-6D89-4ABC-ADF1-EC5C82A5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36373-1BF5-476F-8F8D-E614B8A1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A2679-F182-4F86-8B72-A7B321B0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8EC76-359E-4C8B-A4A9-7D3CCC60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74CFA-6AD3-47A7-9B1F-00F99DF6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8E0DB-AB7C-4249-9524-B39195EE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40EF8-6A70-42AC-80BF-BC3E00A6A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EF0C0-0372-427C-9C33-369DAF999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2B77B-1CEF-4609-B119-C3FB7155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BDA8-60D5-427E-BED1-8908B618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3D8DD-7899-4FF9-9BFB-CF2171B5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13802-4E63-4CBC-94D2-CFFC596F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A25FF-8B6C-42A6-920A-0116DE67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82C8D0-68AC-4C47-AD8D-931D57AE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0FC578-5CB4-4E10-8F11-15383F45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799FF7-325D-4318-8B17-09E49123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7479F-15BF-4118-8F08-C8D9A7A1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09215C-1DF4-411A-AC09-BF195257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A7378-BCC5-477A-A7E3-8FA84D3E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309FA-0C9D-4D46-969C-6AA8308FF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A18A-7C1F-4772-9CF1-9B646765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EE1BF-563B-44DB-85D2-1FAB0FAA9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85BD4-643A-4DF3-B524-DE2AE96B4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9D4F1-54AA-4F7E-9E4B-19EF6068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36B36-F18E-4067-A621-28EA8DEB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EFB23-9719-45BD-B887-26FE0C2D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C57DE-9DA6-476A-879B-0CD952E7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0F87C-891C-4F1F-B05F-6EF57D21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DFDF9-BE60-4D4F-985F-716A6743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AEAD7-76ED-42F3-907B-8D9754A5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656FA-8F49-4C47-8193-735BE7EE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6B94-22CC-4909-B963-785C65215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C7202-FED4-41B6-A008-7E39B70E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9AE03-FF8F-410D-B1D0-DEDE8E4B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C542F-1DCD-4DCE-AF3C-F0B08E45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D1066C-0A2C-4559-A16C-EEC3F084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8C826-A1EA-48C8-A973-C41757EB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AA685-7470-4ED2-894A-7F54A5F8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594943-A577-4FAA-AD04-A2545462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F742E-F495-4495-882A-5873F821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033ADB-1CAA-4B78-BE90-D4FAD250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F68B15-5C83-423B-84D3-D20C7F56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2167-01D7-4507-853D-F86F3E36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CFC9E-22AC-4FA3-B292-1224CC17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613508-462D-4E5E-9B15-2BEB5A13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E35531-D0F8-4D02-BB24-48D7EAA4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68B00E-018E-408D-8E51-AECB3547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9CFBF8-5E8E-4FC0-8991-EB87B557A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95DA-8FED-4222-B76B-3AD9FAD4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A6FF-230A-43A8-BAAB-FE40B549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D602-822B-4544-9174-45B1ABF2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F4CE-6A59-4056-9B67-B93AF762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D2B1-5AAF-4F80-8B89-8BC7DDC4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8004-A97C-4875-8DB1-449B0665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5D2D-8D95-4787-9CDA-FE51EEE6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747D-F8FF-4D86-B144-867235C3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E852-E87D-4958-A5FA-54B34BD6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DFEB-7190-4F21-BCDF-B77126D6F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A5A0-AF09-48C7-B009-E7E2B1FDF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D12A0-98BA-4466-A7AA-1332E14C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B3C43-7B13-4E36-844F-68F3B9C8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A257D-F81A-4720-A1C1-C31505FA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9F8DA-F683-4CF9-916A-B235A0B2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11BA2-E8F4-4F3F-8B83-38AE1762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09CB-367A-4B41-8EEE-DC002D28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9A93D-5405-4A3D-A771-D1C8D15C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7F5A7-765E-415A-B602-D0CC5760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F41B8-2706-4542-ACB5-CC7C7CC6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C8ED3-D1F5-41E2-8725-2C60D3A6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E7C04-9439-47E0-B3BE-713CC3B9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8894C-642A-4376-AF17-7A9A463B9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86A1F-C42F-4243-90E5-9BDFDD76E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EBF1D-F41E-4277-A045-EDA08E06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791F9-8651-4403-A525-0B20078F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D80AB-0959-4D6B-9FD3-9635F181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DB0F-AF67-48FE-9DD9-94DE03AA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0379A-70C1-44C5-BB03-6CDA50AC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7FE31-0DDD-478C-B041-E216535F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760D9-3148-42E3-9EFE-E9413F55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40049-F222-40E1-94F5-CC8D205C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C02AD-700C-47DD-8188-94F4C949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28A64-1AD2-410C-BA01-8230CCAD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7F472-356A-4113-A24F-44C9045A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0F43B-15EB-45B3-B3E1-DD096ADA8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02E87-68DF-4D34-9621-ECB72912C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916E6-788D-4611-831C-72AB542CC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7858-891F-4AA9-8192-CE499F04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BB996-7C42-4F57-AEEE-7AE2EC1B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BD076-3449-49FD-8EBB-61E9DE04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144D6-FE47-4E92-8065-7E574E6F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C025A-D408-4990-8B9C-56B958AF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B6396-6237-4530-AC2D-8F4DD80C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705CA-2AEC-4B24-863F-70585263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B0B9F-4164-4332-8051-B0BC439A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76B20-2478-477D-BB8E-7AB23ACB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018A5-A8B7-4389-B74F-08F1469B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8D7D1-EF19-43CE-A6CF-51F4F3A2E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DEBA-45D4-4048-B793-AFA4F836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1340A-7172-412F-BB28-66EA84496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05B79-2879-47AC-AA86-E96FD5A1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CEE18-9399-4567-BB3A-21E0EFC9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E1830-C110-47DB-A041-FE240592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DB963-5B5F-41D3-B1D0-EC37DB71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2B6DA-ACCC-4E9B-BEDC-FADB575F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EDB75-2C0B-4505-B3E3-DE82DC80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F5401-15AC-446E-8D32-D123C65E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11EC3-A24C-4607-A8C4-62FE8687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51FC8-E4EB-48BF-877E-1987CE34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A1C9-BB87-4011-9560-966BA8FA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A60E6-4F3B-41C7-BF42-87421044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EEE9E-9456-4735-BECB-0EBC4081D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2B3A3-E89B-45E8-B1F5-367FB0CD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5278A-6499-4B42-971A-E5E4ABE7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43A2A-36C0-43D9-A40F-F6B2EDA3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BEEFE-5E4D-4F08-BE95-FBB12A36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89264-E505-4294-A2C2-5C532A1D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206A4-1C58-4B01-BBFE-76D9741E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5BBCD-F9E5-4B5D-95EC-FFFDB55E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BFD70-3FD6-40D4-AA66-ED12DDDC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C4F1-4CC1-4131-8026-E79EA8AF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BEB33-D3D5-40C8-8486-D759F495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0FE7E-5DF9-4FF2-87B7-3CB251FE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FB42F-17B1-410F-8E21-61C7807D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BC585-D26B-4E79-8F1D-2472C2924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77F6D-D852-4DEE-86E9-457AA680D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64CDE6-6A93-4CD3-92AF-F09BC6FD8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DEE9BE-109F-460B-81D8-3FC6D1CC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2E109C-7834-4DB5-8BF8-14E7B66B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877A6C-96A1-4397-B939-FC556665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605AB8-1E4F-4D10-996F-2F7AF067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59B3-867C-4BF8-8223-31C66E8B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B7459A-896D-4F4B-B925-CD0A47CB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35F06A-00CA-4DC3-99BA-3837E337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DFCC24-255A-48BF-B4C6-E05BA7E1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D88BDE-22A1-423F-A2C2-00534A10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48E73F-6C79-40FE-92F9-944DC919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BCCD5B-7AC2-473B-B764-08AC4FC8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72F0E5-738E-4E56-87F8-89797B5F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C6400-19C0-40D3-A83F-DD6C550F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2734A-F8ED-4ED7-9EEF-BB604351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A5100-F1A3-455B-946A-62831620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79F9-1902-40BD-AB95-AB49E33CEEF3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63EE-36C3-468F-A9AE-9DFF8E76E003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80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26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40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54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668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682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696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10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12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43FC-0A63-4A89-A4B4-F5C6B2A78A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68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82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3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3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F37F-266E-4D4C-8560-B021088E2E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32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CDB2-FD06-4F2F-B3C2-6784CC1FB50E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B115-86EA-4266-A970-916B13E8AC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24A6-7EF3-44E5-97EB-90C7427054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4C56-5FF1-468B-8845-62F8F83F266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BE45-804D-4D22-AD97-F284E08C813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E56D-547C-476C-BC24-0049A89F33D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3371-DF6D-4F1F-980D-3292C0C81E3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2A5E-FB8A-416A-A651-A22FE588BA8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png"/><Relationship Id="rId3" Type="http://schemas.openxmlformats.org/officeDocument/2006/relationships/image" Target="../media/image21.gif"/><Relationship Id="rId4" Type="http://schemas.openxmlformats.org/officeDocument/2006/relationships/image" Target="../media/image22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4.png"/><Relationship Id="rId3" Type="http://schemas.openxmlformats.org/officeDocument/2006/relationships/image" Target="../media/image26.gi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WordArt 2"/>
          <p:cNvSpPr txBox="1"/>
          <p:nvPr/>
        </p:nvSpPr>
        <p:spPr>
          <a:xfrm>
            <a:off x="2971800" y="152388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同学朋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685800" y="5029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Arial"/>
                <a:ea typeface="黑体"/>
              </a:rPr>
              <a:t>我最亲爱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371600" y="685800"/>
            <a:ext cx="5943600" cy="25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d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单元　师友结伴同行 　　第三课   同侪携手共进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框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VREC003.WAV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一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平等互惠，体谅他人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和小宁是一对好朋友，小东的学习成绩很好，而小宁的成绩总不令人满意。小东在小宁的请求下经常帮助小宁补习功课，解答疑问，有时很晚才能回家，常常没有时间完成自己的功课。为此，小东的妈妈很着急，小东也很为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为什么觉得很为难，作为小宁你应该怎样做呢？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8" name="Picture 4" descr="7"/>
          <p:cNvPicPr/>
          <p:nvPr/>
        </p:nvPicPr>
        <p:blipFill>
          <a:blip r:embed="rId3"/>
          <a:stretch/>
        </p:blipFill>
        <p:spPr>
          <a:xfrm>
            <a:off x="7162920" y="4191120"/>
            <a:ext cx="1218960" cy="11811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5" descr="01"/>
          <p:cNvPicPr/>
          <p:nvPr/>
        </p:nvPicPr>
        <p:blipFill>
          <a:blip r:embed="rId4"/>
          <a:stretch/>
        </p:blipFill>
        <p:spPr>
          <a:xfrm>
            <a:off x="6477120" y="4572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5" name="arrow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9523" fill="hold"/>
                                        <p:tgtEl>
                                          <p:spTgt spid="10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新可.WAV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304920" cy="53352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可和小新是班上的文艺骨干。小可文笔好，小新画的好，大家称她俩是一对好搭档。但是最近她俩的关系出现了裂痕：小可认为小新画的插图不符合自己的意图，常常改动小新的画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新认为被改动的恰是自己的得意之处，因此很不高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是小可应该尊重小新的创意，还是小新应当允许小可的修改呢？她俩还能成为一对好搭档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Picture 4" descr="5"/>
          <p:cNvPicPr/>
          <p:nvPr/>
        </p:nvPicPr>
        <p:blipFill>
          <a:blip r:embed="rId3"/>
          <a:stretch/>
        </p:blipFill>
        <p:spPr>
          <a:xfrm>
            <a:off x="0" y="533520"/>
            <a:ext cx="1033560" cy="13716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5" descr="02"/>
          <p:cNvPicPr/>
          <p:nvPr/>
        </p:nvPicPr>
        <p:blipFill>
          <a:blip r:embed="rId4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301320" y="-4351320"/>
            <a:ext cx="46044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5" name="Rectangle 7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二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正确处理意见和分歧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5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2832" fill="hold"/>
                                        <p:tgtEl>
                                          <p:spTgt spid="10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a67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林晖.WAV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三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友谊需要尺度，要把握好原则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的朋友小晖在校外和八年级一个经常恃强凌弱的学生打了一架，小林听说那个学生还有五个帮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该如何帮助朋友小晖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9" name="Picture 4" descr="6"/>
          <p:cNvPicPr/>
          <p:nvPr/>
        </p:nvPicPr>
        <p:blipFill>
          <a:blip r:embed="rId2"/>
          <a:stretch/>
        </p:blipFill>
        <p:spPr>
          <a:xfrm>
            <a:off x="685800" y="403848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1030" name="Group 5"/>
          <p:cNvGrpSpPr/>
          <p:nvPr/>
        </p:nvGrpSpPr>
        <p:grpSpPr>
          <a:xfrm>
            <a:off x="6046920" y="2057400"/>
            <a:ext cx="3096720" cy="3124080"/>
            <a:chOff x="6046920" y="2057400"/>
            <a:chExt cx="3096720" cy="3124080"/>
          </a:xfrm>
        </p:grpSpPr>
        <p:pic>
          <p:nvPicPr>
            <p:cNvPr id="1031" name="Picture 6" descr="03"/>
            <p:cNvPicPr/>
            <p:nvPr/>
          </p:nvPicPr>
          <p:blipFill>
            <a:blip r:embed="rId3"/>
            <a:stretch/>
          </p:blipFill>
          <p:spPr>
            <a:xfrm>
              <a:off x="6046920" y="2057400"/>
              <a:ext cx="26478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Text Box 7"/>
            <p:cNvSpPr/>
            <p:nvPr/>
          </p:nvSpPr>
          <p:spPr>
            <a:xfrm>
              <a:off x="7488000" y="2174400"/>
              <a:ext cx="1655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怎么办呢？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cover dir="r"/>
    <p:sndAc>
      <p:stSnd>
        <p:snd r:embed="rId4" name="arrow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3998" fill="hold"/>
                                        <p:tgtEl>
                                          <p:spTgt spid="10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林2.WAV" descr=""/>
          <p:cNvPicPr/>
          <p:nvPr/>
        </p:nvPicPr>
        <p:blipFill>
          <a:blip r:embed="rId2"/>
          <a:stretch/>
        </p:blipFill>
        <p:spPr>
          <a:xfrm>
            <a:off x="8839080" y="441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四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慎重交友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晖没有听从小林的劝说，找了一些“朋友”去报仇了。结果受到了学校的处分，小晖不但不知错，而且还谩骂老师和校长。                                                                        小林应不应该还和小晖做朋友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6" name="Picture 4" descr="4"/>
          <p:cNvPicPr/>
          <p:nvPr/>
        </p:nvPicPr>
        <p:blipFill>
          <a:blip r:embed="rId3"/>
          <a:stretch/>
        </p:blipFill>
        <p:spPr>
          <a:xfrm>
            <a:off x="7862760" y="2362320"/>
            <a:ext cx="1281240" cy="220968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5"/>
          <p:cNvSpPr/>
          <p:nvPr/>
        </p:nvSpPr>
        <p:spPr>
          <a:xfrm>
            <a:off x="304920" y="4724280"/>
            <a:ext cx="7467480" cy="581400"/>
          </a:xfrm>
          <a:prstGeom prst="rect">
            <a:avLst/>
          </a:pr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与善人居，如入芝兰之室，久而不闻其香，即与之化矣。与不善人居，如入鲍鱼之肆，久而不闻其臭，亦与之化矣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4762" fill="hold"/>
                                        <p:tgtEl>
                                          <p:spTgt spid="10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AutoShape 2"/>
          <p:cNvSpPr/>
          <p:nvPr/>
        </p:nvSpPr>
        <p:spPr>
          <a:xfrm>
            <a:off x="539640" y="260280"/>
            <a:ext cx="962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9" name="Picture 3" descr="0002E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1820880"/>
          </a:xfrm>
          <a:prstGeom prst="rect">
            <a:avLst/>
          </a:prstGeom>
          <a:ln w="0">
            <a:noFill/>
          </a:ln>
        </p:spPr>
      </p:pic>
      <p:sp>
        <p:nvSpPr>
          <p:cNvPr id="1040" name="Text Box 4"/>
          <p:cNvSpPr/>
          <p:nvPr/>
        </p:nvSpPr>
        <p:spPr>
          <a:xfrm>
            <a:off x="152280" y="243828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与友同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1066680" y="167652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91720" y="260280"/>
            <a:ext cx="124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华文彩云"/>
              </a:rPr>
              <a:t>小结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华文彩云"/>
              </a:rPr>
              <a:t>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1935720" y="1600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什么是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935720" y="3733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友谊的原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AutoShape 10"/>
          <p:cNvSpPr/>
          <p:nvPr/>
        </p:nvSpPr>
        <p:spPr>
          <a:xfrm>
            <a:off x="3657600" y="2514600"/>
            <a:ext cx="304920" cy="3029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8840 h 3029040"/>
              <a:gd name="textAreaBottom" fmla="*/ 2950200 h 302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4038480" y="2362320"/>
            <a:ext cx="33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平等互惠，体谅他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7" name="Text Box 17"/>
          <p:cNvSpPr/>
          <p:nvPr/>
        </p:nvSpPr>
        <p:spPr>
          <a:xfrm>
            <a:off x="4038480" y="3352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正确处理意见和分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4038480" y="4114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友谊需要尺度，要把握好原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4038480" y="51055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0" name="Text Box 20"/>
          <p:cNvSpPr/>
          <p:nvPr/>
        </p:nvSpPr>
        <p:spPr>
          <a:xfrm>
            <a:off x="4114800" y="5105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慎重交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[周华健]朋友  伴奏 cn^ Net E音-周华健.mp3" descr=""/>
          <p:cNvPicPr/>
          <p:nvPr/>
        </p:nvPicPr>
        <p:blipFill>
          <a:blip r:embed="rId2"/>
          <a:stretch/>
        </p:blipFill>
        <p:spPr>
          <a:xfrm>
            <a:off x="6324480" y="1447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5410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琥珀"/>
              </a:rPr>
              <a:t>心灵导航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3" name="Text Box 3"/>
          <p:cNvSpPr/>
          <p:nvPr/>
        </p:nvSpPr>
        <p:spPr>
          <a:xfrm>
            <a:off x="2411280" y="1341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  <a:ea typeface="华文细黑"/>
              </a:rPr>
              <a:t>名   言   欣  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4" name="Text Box 4"/>
          <p:cNvSpPr/>
          <p:nvPr/>
        </p:nvSpPr>
        <p:spPr>
          <a:xfrm>
            <a:off x="395280" y="2276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世界上最美好的东西，莫过于有几个头脑和心地都很正直的严正的朋友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                               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爱因斯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395280" y="400536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多一个真正的朋友，就多一块陶冶情操的砺石，多一分战胜困难的力量，多一个锐意进取的伴侣。       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                              ──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（法）小仲马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59044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1258920" y="2781360"/>
            <a:ext cx="5943600" cy="1847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</a:t>
            </a: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的人际圈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685800"/>
            <a:ext cx="80769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780000" y="2349360"/>
            <a:ext cx="2286000" cy="1828800"/>
          </a:xfrm>
          <a:prstGeom prst="donut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835280" y="476280"/>
            <a:ext cx="6248160" cy="5715000"/>
          </a:xfrm>
          <a:prstGeom prst="donut">
            <a:avLst>
              <a:gd name="adj" fmla="val 25000"/>
            </a:avLst>
          </a:prstGeom>
          <a:solidFill>
            <a:srgbClr val="99ff66"/>
          </a:solidFill>
          <a:ln w="9360">
            <a:solidFill>
              <a:srgbClr val="1a5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51640" y="765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陌生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203640" y="11970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般的同学或熟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51280" y="4149720"/>
            <a:ext cx="19810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较好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924360" y="2349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知心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4643280" y="29973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3" name=""/>
          <p:cNvSpPr/>
          <p:nvPr/>
        </p:nvSpPr>
        <p:spPr>
          <a:xfrm>
            <a:off x="-27720" y="1278000"/>
            <a:ext cx="1399320" cy="4437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琥珀"/>
              </a:rPr>
              <a:t>人际关系树轮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5092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自己的人际关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461880" y="1700280"/>
            <a:ext cx="8064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在与同学的交往中，如果封闭自己，只会使我们的“人际关系树轮”萎缩，，使自己陷入孤立，如果保持积极开放的心态，我们就会接触更多的人，分享更多的经验和快乐，同时也会被更多的人接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1828800" y="10666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受欢迎的优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真诚、理解、值得信赖、理智、有思想、体贴、热情、友好、不自私、幽默、负责任、开朗、信任别人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华文新魏"/>
              </a:rPr>
              <a:t>┉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0880" y="4191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不受欢迎的缺点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尖刻、多嘴多舌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自私、目光短浅、粗鲁、自高自大、贪婪、不真诚、恶毒、冷酷、邪恶、说谎</a:t>
            </a: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华文新魏"/>
              </a:rPr>
              <a:t>┉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1365120" cy="281952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1905120" y="228600"/>
            <a:ext cx="4724280" cy="685800"/>
          </a:xfrm>
          <a:prstGeom prst="cloudCallout">
            <a:avLst>
              <a:gd name="adj1" fmla="val -67472"/>
              <a:gd name="adj2" fmla="val 152777"/>
            </a:avLst>
          </a:prstGeom>
          <a:solidFill>
            <a:srgbClr val="a8c9f6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谁最受欢迎？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WordArt 2" descr=""/>
          <p:cNvPicPr/>
          <p:nvPr/>
        </p:nvPicPr>
        <p:blipFill>
          <a:blip r:embed="rId2"/>
          <a:stretch/>
        </p:blipFill>
        <p:spPr>
          <a:xfrm>
            <a:off x="1755720" y="2292480"/>
            <a:ext cx="562608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3" name="arrow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ca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有两个朋友在路上边走边聊，突然一只狗熊从树丛中窜到他们面前。一个人迅速地爬上路旁的一棵大树上，躲了起来；另一个人无路可逃，只好躺在地上忍住呼吸装死，熊走到“死人”身旁，用鼻子嗅了嗅，便大摇大摆走了。熊走后，树上的人下来问装死的朋友，熊对你说了什么，这个装死的人回答道：“熊忠告我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87840" y="476280"/>
            <a:ext cx="667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4" name="Text Box 4"/>
          <p:cNvSpPr/>
          <p:nvPr/>
        </p:nvSpPr>
        <p:spPr>
          <a:xfrm>
            <a:off x="1371600" y="5486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对于在危险面前抛弃你的人决不可与他交朋友。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5" name="Picture 5" descr="1"/>
          <p:cNvPicPr/>
          <p:nvPr/>
        </p:nvPicPr>
        <p:blipFill>
          <a:blip r:embed="rId2"/>
          <a:stretch/>
        </p:blipFill>
        <p:spPr>
          <a:xfrm>
            <a:off x="7620120" y="4543560"/>
            <a:ext cx="1258920" cy="231444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34560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06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两个朋友在沙漠中旅行，在旅途中他们吵架了，一个还打了另外一个一记耳光。被打的觉得受辱，一言不语，在沙子上写下：“今天我的好朋友打了我一巴掌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他们继续往前走，到了沃野，他们就决定停下。被打耳光的那位差点儿淹死，幸好被朋友救起。被救起后，他拿了一把小剑在石头上刻下：“今天我的好朋友救了我一命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朋友好奇地问：“为什么我打了你以后，你要写在沙子上，而现在要刻在石头上呢？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另一个笑了笑，回答说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3600" y="1066680"/>
            <a:ext cx="6678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9" name="Picture 5" descr="3"/>
          <p:cNvPicPr/>
          <p:nvPr/>
        </p:nvPicPr>
        <p:blipFill>
          <a:blip r:embed="rId2"/>
          <a:stretch/>
        </p:blipFill>
        <p:spPr>
          <a:xfrm>
            <a:off x="152280" y="304920"/>
            <a:ext cx="733680" cy="533160"/>
          </a:xfrm>
          <a:prstGeom prst="rect">
            <a:avLst/>
          </a:prstGeom>
          <a:ln w="0">
            <a:noFill/>
          </a:ln>
        </p:spPr>
      </p:pic>
      <p:sp>
        <p:nvSpPr>
          <p:cNvPr id="1010" name="Text Box 6"/>
          <p:cNvSpPr/>
          <p:nvPr/>
        </p:nvSpPr>
        <p:spPr>
          <a:xfrm>
            <a:off x="533520" y="50292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当被一个朋友伤害时，要写在易忘的地方，风会负责抹去它；相反，如果被帮助，我们要把它刻在心里的深处，那里任何风都不能抹灭它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7640" fill="hold"/>
                                        <p:tgtEl>
                                          <p:spTgt spid="10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79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Text Box 2"/>
          <p:cNvSpPr/>
          <p:nvPr/>
        </p:nvSpPr>
        <p:spPr>
          <a:xfrm>
            <a:off x="0" y="68580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隶书"/>
                <a:ea typeface="华文隶书"/>
              </a:rPr>
              <a:t>普通的朋友与真正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从未看过你哭泣。一个真正的朋友有双肩让你的泪水湿尽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吵架后就认为友谊已经结束。一个真正的朋友明白当你们还没打过架就不叫真正的友谊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找你谈论你的困扰。一个真正的朋友找你解决你的困扰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拜访时，像一个客人一样。一个真正的朋友会打开冰箱自己拿东西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期望你永远在他身边陪他。一个真正的朋友期望他能永远陪在你身旁 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887480" y="55227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4" name="Picture 4" descr="8"/>
          <p:cNvPicPr/>
          <p:nvPr/>
        </p:nvPicPr>
        <p:blipFill>
          <a:blip r:embed="rId1"/>
          <a:stretch/>
        </p:blipFill>
        <p:spPr>
          <a:xfrm>
            <a:off x="3886200" y="2743200"/>
            <a:ext cx="857160" cy="28576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arrow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du.com</dc:creator>
  <dc:description>www.deardu.com</dc:description>
  <cp:keywords>www.deardu.com</cp:keywords>
  <dc:language>en-US</dc:language>
  <cp:lastModifiedBy>微软用户</cp:lastModifiedBy>
  <dcterms:modified xsi:type="dcterms:W3CDTF">2012-08-30T07:43:14Z</dcterms:modified>
  <cp:revision>10</cp:revision>
  <dc:subject>www.deardu.com</dc:subject>
  <dc:title>www.dear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