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arrow.wav" ContentType="audio/x-wav"/>
  <Override PartName="/ppt/media/image18.gif" ContentType="image/gif"/>
  <Override PartName="/ppt/media/image5.jpeg" ContentType="image/jpeg"/>
  <Override PartName="/ppt/media/image15.gif" ContentType="image/gif"/>
  <Override PartName="/ppt/media/image7.jpeg" ContentType="image/jpeg"/>
  <Override PartName="/ppt/media/image6.jpeg" ContentType="image/jpeg"/>
  <Override PartName="/ppt/media/image25.jpeg" ContentType="image/jpeg"/>
  <Override PartName="/ppt/media/image4.jpeg" ContentType="image/jpeg"/>
  <Override PartName="/ppt/media/image10.wmf" ContentType="image/x-wmf"/>
  <Override PartName="/ppt/media/image19.jpeg" ContentType="image/jpeg"/>
  <Override PartName="/ppt/media/image11.png" ContentType="image/png"/>
  <Override PartName="/ppt/media/image9.jpeg" ContentType="image/jpeg"/>
  <Override PartName="/ppt/media/image8.jpeg" ContentType="image/jpeg"/>
  <Override PartName="/ppt/media/image12.jpeg" ContentType="image/jpeg"/>
  <Override PartName="/ppt/media/image3.jpeg" ContentType="image/jpeg"/>
  <Override PartName="/ppt/media/image24.jpeg" ContentType="image/jpeg"/>
  <Override PartName="/ppt/media/image2.jpeg" ContentType="image/jpeg"/>
  <Override PartName="/ppt/media/image1.jpeg" ContentType="image/jpeg"/>
  <Override PartName="/ppt/media/cashreg.wav" ContentType="audio/x-wav"/>
  <Override PartName="/ppt/media/image22.jpeg" ContentType="image/jpeg"/>
  <Override PartName="/ppt/media/image28.jpeg" ContentType="image/jpeg"/>
  <Override PartName="/ppt/media/image27.gif" ContentType="image/gif"/>
  <Override PartName="/ppt/media/image13.gif" ContentType="image/gif"/>
  <Override PartName="/ppt/media/image16.gif" ContentType="image/gif"/>
  <Override PartName="/ppt/media/image17.jpeg" ContentType="image/jpeg"/>
  <Override PartName="/ppt/media/image23.gif" ContentType="image/gif"/>
  <Override PartName="/ppt/media/image14.png" ContentType="image/png"/>
  <Override PartName="/ppt/media/image21.gif" ContentType="image/gif"/>
  <Override PartName="/ppt/media/image26.gif" ContentType="image/gif"/>
  <Override PartName="/ppt/media/image20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E6A1-5E05-4B35-A562-6501778DC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7A81-0AA3-4E17-8ED6-CF4282197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A42F47-CE66-46A9-9339-CC87529BD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941EB1-6447-4993-AB8D-AF8D4D877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C96086-C1A4-44E5-8E6A-1BEABC884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7B4920-D3A0-4191-952A-E38289047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7E1CE1-37E7-4F9D-ACD9-96D03E6F1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394ECC-01CB-402A-95BE-AFDD15381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E91335-C9B3-427E-B461-A4DDA941D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C16DD0-EB1F-4442-B09A-1CEA56D7B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1FC4B7-1E46-4CA8-9813-362EAD19A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8A0277-1387-4493-BEC2-11D748590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6E15-49F6-4521-9BF5-D407EC2AE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DB1AC3-62E2-42D1-A4D7-559DFA7E6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1548CD-D661-4975-8994-CD3C22DE7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841F1F-D2AD-4003-8000-A199AC784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026F3C-994A-49EC-87A4-F7C8A3658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1F4E1D-F220-416D-BABB-4A6B40360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585600-0B22-4705-89F5-1E5BC0A09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C9FB9E-5002-48FB-B488-94E60D5DA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12D35D-E501-4C4F-B939-3CE8FF728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66D670-74E1-45D1-9AF6-5DA67B0C3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127281-0410-4502-97FF-43952D4B8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1A71-2312-4855-888F-76EBBDCFD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362E29-0FCF-4E1A-98FF-631392A35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86C411-514F-47CD-B5E8-6D9274941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2B8E87-49C6-4C1A-A49D-DF9A38952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C29993-1A54-4A60-AFE0-8354B19E7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F6D0A4-44BB-4E7E-8F82-FF3AC9638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3EB952-EE96-4923-81E7-BF06073C2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8BA838-BF48-457B-973F-7151E8DCB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E01602-C2C0-4BCE-8C1F-32EC4E2AD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89211B-8C94-4406-ADAB-0F14E6FEF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E08D9F-C37C-4694-B12C-CEF77160C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91485-ED3D-431A-B25A-79082C4E6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79B054-14C7-400B-9036-044E2A640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246525-C761-4529-8DCF-792D2B6E7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873048-F4E2-41EC-A573-AFD261502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582C7A-3F67-40E5-BB70-6E2789882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5FDDB3-9DFB-4FC1-A4A0-C19AF51AE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321EC1-D3A1-4D11-A938-0CB166DAF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9BB067-21E0-4946-94D8-9C0B4325C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44730F-43BE-4C74-8AC1-D6E7E4B08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6EF4A3-8D6E-4DB5-8F66-26442C6F3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AD5D2C-8940-40A8-AB02-BD00AD38A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6451A-4E1F-4AF5-8F7A-2AD39874D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2397D3-7978-486E-9D8A-A4B8698FD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244DC4-A9A4-4DB6-9AB4-6A7472F1A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A88700-34B4-4E15-9AC7-EA5A86D5F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AA5D68-A7CA-4BDF-93FA-622D053DF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C395B4-17B1-4A0B-B04C-C59C24D54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4DF0B-DB36-40C6-A217-C5FF84F04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AF0C9-C760-4053-B800-C477FDE01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551F0-1F89-4F03-9E14-549E9189E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DAE97-D72C-4D79-B5E8-968597E44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FCFBC-982B-4649-B3BE-3D28DEBBD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125F-7FB9-4EDB-90DE-2176409BC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5CCEB-F9C8-43FD-85CC-A647E888F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012E5-9656-421B-8FB5-EB60F4026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8D0D6-94C6-42C6-B157-C92DC78D7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FC8B2-F3E7-4396-8330-BCCB97992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18B4B-4339-4FB6-A7C8-8D6B7C601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7823E9-EB4B-457E-A7C3-8DBD27CD2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66D908-6DF8-4E72-93E0-7F0962AD1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C110FE-1500-450C-AB70-ECDAC122E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215F7C-7B14-42C3-8228-6E993BE14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9B0185-70A0-43F3-8A96-A3904AAED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E4F2-094B-45C6-BEF3-A3C14D6D3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383261-24A9-4DE4-8603-0DA8FC7DA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B6FAFB-C98A-4E91-BD2D-2F901D8D9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1CB33C-037B-4553-ADE1-BDD4D5323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CA1D2B-4B07-4501-BDAD-3DC31C704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073FA2-163E-4A5E-8247-3C3C4E85F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7CC3ED-555E-4D68-BA9A-D803EAAF3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FA088D-D17A-4F79-A900-CA28A9B72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66FF60-99AF-4477-9A7C-00A20E4A0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804BFC-B511-4E3D-97C4-7E156586F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555D45-F472-4CF2-9696-CF4ED9E5F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B522-BFA6-43CF-8E21-8FEB6663A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4146F9-5D34-42A1-982C-3962AA44C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666E5E-74C2-4915-B991-DAA8FB946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73A947-6D5D-4FAC-8F1D-7931E0B10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723AF7-5348-4869-85A2-A5834C433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ABE16C-38F3-40AA-8CED-F4EE94CD1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7BDA11-2668-4190-8D6B-D95545A7D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A14FE7-73EA-4FB8-96EE-2643E3176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872E8A-17E1-42AF-86C4-CB6D1E4E8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6706B7-C38F-4D24-9F36-28C95B9C7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56A7B5-1A04-4EF2-9FD9-23411C922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11E8-2227-4941-87F7-22730946F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3FFDFB-800A-443A-A101-96BF52571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00E467-2CB3-4EE8-9844-24B271D5A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193C0C-3683-42A9-8C47-DA4AB78D1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656B1B-A598-4C9C-B126-DBF2987F2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FFB49D-F1D4-42BB-B8CB-34675AE35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02A7B4-F963-4ED8-A9BB-761814691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497A24-B38D-43F7-890D-AEAAD8DC2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7D2036-FDB9-4448-B1E0-028B85D43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B866E4-7EDC-4F86-A753-C0DED7D3E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29FB03-EEA1-4A68-922E-B1A6396B8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3C35-0310-4FFA-91DE-40897C169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B6AA1C-5AA1-4483-9E3A-212ADCEBE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299ECF-CC3A-4906-9C65-5A3E6FD32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9DA819-3A16-466F-B26F-C4FCD2D8F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BF8E14-FFA6-4DD8-BEFE-99BA68782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C3EECF-5888-4A12-BA06-CFF12F786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B284BC-E65D-48C2-9844-B1144B0AF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9FC2BB-5D57-40CC-A760-2F3B9A800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988399-B062-4231-A768-F1B82B760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EB9795-F01F-4861-9FCE-AEA3B9BD4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B54EC2-FCBC-4EF3-AC7D-6CF4EDEEB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F6ED-547F-4887-93AE-93A0FD2DA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B7A7E5-E46C-46B1-91FE-33E073C65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7CC193-2C3F-4C5B-8CE6-3576C1B08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7EFA4E-0ED6-4BE6-A03E-BDC1E333D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793AD5-CB2F-4F27-9C0C-97A6819A9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2F8671-AE8B-4378-9D2F-AAD33A1FB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21503E-A778-49FA-8CB9-60EA24D34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B63428-87BA-47B3-8D3C-90B15D91C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85B41A-AE42-4417-A219-1D9830B22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569D42-248D-42EB-B68B-2DC38B6C5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42B435-2252-4EFC-8763-D6F40B917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3417-A428-4F30-8299-012E6A235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8F441B-EFDE-4EDE-8A55-4B3A2002D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B4797B-3B32-4B01-8038-3C77E78A4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5B97E5-D97A-4043-8089-FE27B7AF7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95BA85-EC8F-451B-B710-04BF41699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F57680-E8AA-40F4-BB1C-8DD96AAE3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A9F616C-5C61-4F12-A0DF-65F615843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D6AEAF5-5E3D-433A-BB65-BE5B1DA4B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C24D1BC-48F3-49BF-8B55-FF1521CC7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960C8A8-0E4F-4424-B904-1C08A1893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36D10FD-4784-49CA-B153-2AE174D8D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9C81-28E6-44E3-A863-D4CFD2C6C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DFD682E-1688-4C3A-B8EE-BE23E6ACF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8559439-B05C-40ED-8117-105B87FA7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01E52A4-02FF-4767-B844-B394A0DCA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C4172BE-3A68-4608-98F3-41AA005DD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FDB5E63-DFAA-4301-AE4E-9B4AEC07A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EA984AE-922F-4614-B1C5-1250BB36A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B28B673-CE29-45AF-958C-8977C695C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77D1A2-9897-42F8-9BA6-6DFE48B14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898476-547B-4FC0-9C5C-15ABD9602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D485CA-A4F6-457C-BC9F-EBBFF8E76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3D892-15DE-4F9A-BE7E-58FF0DF15426}" type="slidenum"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9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30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31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33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434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436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dt" idx="28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 type="ftr" idx="29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 type="sldNum" idx="30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FDC8A-CB53-4032-B833-A3D8DA2AE285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9" name="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480" name=""/>
            <p:cNvSpPr/>
            <p:nvPr/>
          </p:nvSpPr>
          <p:spPr>
            <a:xfrm>
              <a:off x="62208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2208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2208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62208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2208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2208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2208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32876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32876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32876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32876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32876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32876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32876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04300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04300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04300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04300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204300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04300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04300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74932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74932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74932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74932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74932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74932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74932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45600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45600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45600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45600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45600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45600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45600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171680" y="0"/>
              <a:ext cx="3204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171680" y="320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171680" y="1605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171680" y="224640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4171680" y="353088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171680" y="4173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171680" y="6099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87836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87836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87836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87836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87836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87836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87836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5846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5846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55846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55846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5846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5846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5846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2992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2992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2992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2992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2992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2992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2992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700560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700560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700560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00560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700560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700560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0560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7119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7119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7119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7119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77119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7119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7119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84265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84265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84265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84265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84265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84265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84265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66640" y="5208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25" name="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626" name=""/>
            <p:cNvSpPr/>
            <p:nvPr/>
          </p:nvSpPr>
          <p:spPr>
            <a:xfrm>
              <a:off x="1079280" y="34448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193400" y="36806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473120" y="36324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455120" y="37234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450080" y="37468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518840" y="37062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39" name="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640" name=""/>
            <p:cNvSpPr/>
            <p:nvPr/>
          </p:nvSpPr>
          <p:spPr>
            <a:xfrm>
              <a:off x="1079280" y="45529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193400" y="47887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1473120" y="47404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455120" y="48315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1450080" y="48549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1518840" y="48142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53" name="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654" name=""/>
            <p:cNvSpPr/>
            <p:nvPr/>
          </p:nvSpPr>
          <p:spPr>
            <a:xfrm>
              <a:off x="1079280" y="55627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193400" y="57985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1473120" y="57502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1455120" y="58413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450080" y="58647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1518840" y="58240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67" name="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668" name=""/>
            <p:cNvSpPr/>
            <p:nvPr/>
          </p:nvSpPr>
          <p:spPr>
            <a:xfrm>
              <a:off x="393480" y="39625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07600" y="41983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87320" y="41500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769320" y="42411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764280" y="42645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833040" y="42238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81" name="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682" name=""/>
            <p:cNvSpPr/>
            <p:nvPr/>
          </p:nvSpPr>
          <p:spPr>
            <a:xfrm>
              <a:off x="393480" y="507060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07600" y="530640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787320" y="525816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69320" y="53492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64280" y="537264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833040" y="533196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95" name="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696" name=""/>
            <p:cNvSpPr/>
            <p:nvPr/>
          </p:nvSpPr>
          <p:spPr>
            <a:xfrm>
              <a:off x="393480" y="61214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507600" y="63572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787320" y="63090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69320" y="64000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64280" y="64234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833040" y="63828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709" name="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710" name=""/>
            <p:cNvSpPr/>
            <p:nvPr/>
          </p:nvSpPr>
          <p:spPr>
            <a:xfrm>
              <a:off x="7041600" y="-7920"/>
              <a:ext cx="2102760" cy="191412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711" name="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712" name="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7485120" y="965880"/>
                <a:ext cx="18612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7314120" y="1054440"/>
                <a:ext cx="16308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7211520" y="476640"/>
                <a:ext cx="534960" cy="24228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7818120" y="1162800"/>
                <a:ext cx="383760" cy="39240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8700840" y="76572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8831880" y="750240"/>
                <a:ext cx="30168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8820360" y="900360"/>
                <a:ext cx="325080" cy="14256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8566200" y="103536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8625960" y="1158840"/>
                <a:ext cx="443880" cy="11124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8598600" y="1247400"/>
                <a:ext cx="455040" cy="36540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8895240" y="1100880"/>
                <a:ext cx="25776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 type="dt" idx="31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 type="ftr" idx="32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 type="sldNum" idx="33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C7C71-D9AB-4082-A52E-243A3188136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"/>
          <p:cNvSpPr/>
          <p:nvPr/>
        </p:nvSpPr>
        <p:spPr>
          <a:xfrm>
            <a:off x="4761000" y="20520"/>
            <a:ext cx="4438440" cy="4038840"/>
          </a:xfrm>
          <a:custGeom>
            <a:avLst/>
            <a:gdLst/>
            <a:ahLst/>
            <a:rect l="l" t="t" r="r" b="b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767" name="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768" name="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/>
              <a:ahLst/>
              <a:rect l="l" t="t" r="r" b="b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5702040" y="2068200"/>
              <a:ext cx="382320" cy="45468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5351400" y="2254680"/>
              <a:ext cx="334440" cy="60912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5141160" y="1036080"/>
              <a:ext cx="1097640" cy="51120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6385680" y="2482920"/>
              <a:ext cx="787680" cy="827640"/>
            </a:xfrm>
            <a:custGeom>
              <a:avLst/>
              <a:gdLst/>
              <a:ahLst/>
              <a:rect l="l" t="t" r="r" b="b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8197560" y="1645560"/>
              <a:ext cx="805680" cy="154080"/>
            </a:xfrm>
            <a:custGeom>
              <a:avLst/>
              <a:gdLst/>
              <a:ahLst/>
              <a:rect l="l" t="t" r="r" b="b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8442000" y="1929960"/>
              <a:ext cx="667080" cy="30060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7921080" y="2214720"/>
              <a:ext cx="1122120" cy="268200"/>
            </a:xfrm>
            <a:custGeom>
              <a:avLst/>
              <a:gdLst/>
              <a:ahLst/>
              <a:rect l="l" t="t" r="r" b="b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8043120" y="2475000"/>
              <a:ext cx="911520" cy="23472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7986960" y="2661840"/>
              <a:ext cx="933840" cy="771120"/>
            </a:xfrm>
            <a:custGeom>
              <a:avLst/>
              <a:gdLst/>
              <a:ahLst/>
              <a:rect l="l" t="t" r="r" b="b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8596440" y="2352960"/>
              <a:ext cx="528840" cy="1372680"/>
            </a:xfrm>
            <a:custGeom>
              <a:avLst/>
              <a:gdLst/>
              <a:ahLst/>
              <a:rect l="l" t="t" r="r" b="b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781" name="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782" name=""/>
            <p:cNvSpPr/>
            <p:nvPr/>
          </p:nvSpPr>
          <p:spPr>
            <a:xfrm>
              <a:off x="60948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60948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60948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131616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131616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131616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131616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131616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131616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31616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203040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203040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203040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203040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203040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203040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03040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273672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273672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273672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273672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273672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273672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273672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344340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344340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44340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344340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344340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44340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344340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4159080" y="36360"/>
              <a:ext cx="3204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4159080" y="3571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4159080" y="16416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4159080" y="2282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4159080" y="356724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4159080" y="42102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4159080" y="6135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486576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486576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486576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486576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486576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486576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86576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55720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55720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55720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55720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55720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55720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55720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62866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2866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62866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2866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62866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62866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62866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699300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699300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699300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699300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699300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699300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699300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76993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76993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76993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76993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76993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76993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76993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84139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84139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84139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84139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84139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84139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84139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554040" y="524520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 type="dt" idx="34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 type="ftr" idx="3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85309-C73B-47E9-9A10-4D46460848B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1" name="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932" name=""/>
            <p:cNvSpPr/>
            <p:nvPr/>
          </p:nvSpPr>
          <p:spPr>
            <a:xfrm>
              <a:off x="192240" y="4724280"/>
              <a:ext cx="328320" cy="1285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552600" y="5470200"/>
              <a:ext cx="136440" cy="1620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423720" y="5535360"/>
              <a:ext cx="120960" cy="21600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352440" y="5101920"/>
              <a:ext cx="385920" cy="18432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1436760" y="5317920"/>
              <a:ext cx="280800" cy="572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1531800" y="5310000"/>
              <a:ext cx="217800" cy="1285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1339920" y="5519520"/>
              <a:ext cx="393480" cy="954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1379520" y="5606640"/>
              <a:ext cx="322200" cy="8892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1363680" y="5679720"/>
              <a:ext cx="328680" cy="2732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1581120" y="5551200"/>
              <a:ext cx="200160" cy="50472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4B603-65D8-4B3A-9F97-65E77E380DD0}" type="slidenum"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FCCDB-4EFB-447D-9069-B48CAA46198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dt" idx="1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BC954-331E-4F08-8291-E9DB33CC429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76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pic>
          <p:nvPicPr>
            <p:cNvPr id="177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07854-B9DB-4304-9902-02F25067FEB3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dt" idx="16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sldNum" idx="18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3EFD4-BE90-49FF-8920-7EA34D8C2314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6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26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6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26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7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479A3-A7DF-4FC3-B365-38E0DB3E26CB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32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2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32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32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32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33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33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280F5-8B87-4444-98DD-9BB1DCC0F07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ftr" idx="2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dt" idx="25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ftr" idx="26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sldNum" idx="27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E80D2-6CB3-4611-97B3-072B8702069B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arrow.wav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4.png"/><Relationship Id="rId3" Type="http://schemas.openxmlformats.org/officeDocument/2006/relationships/image" Target="../media/image18.gif"/><Relationship Id="rId4" Type="http://schemas.openxmlformats.org/officeDocument/2006/relationships/image" Target="../media/image19.jpeg"/><Relationship Id="rId5" Type="http://schemas.openxmlformats.org/officeDocument/2006/relationships/audio" Target="../media/arrow.wav"/><Relationship Id="rId6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4.png"/><Relationship Id="rId3" Type="http://schemas.openxmlformats.org/officeDocument/2006/relationships/image" Target="../media/image21.gif"/><Relationship Id="rId4" Type="http://schemas.openxmlformats.org/officeDocument/2006/relationships/image" Target="../media/image22.jpeg"/><Relationship Id="rId5" Type="http://schemas.openxmlformats.org/officeDocument/2006/relationships/audio" Target="../media/arrow.wav"/><Relationship Id="rId6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3.gif"/><Relationship Id="rId3" Type="http://schemas.openxmlformats.org/officeDocument/2006/relationships/image" Target="../media/image24.jpeg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14.png"/><Relationship Id="rId3" Type="http://schemas.openxmlformats.org/officeDocument/2006/relationships/image" Target="../media/image26.gif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gif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14.png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1.png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image" Target="../media/image14.png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5.gif"/><Relationship Id="rId3" Type="http://schemas.openxmlformats.org/officeDocument/2006/relationships/image" Target="../media/image14.png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WordArt 2"/>
          <p:cNvSpPr txBox="1"/>
          <p:nvPr/>
        </p:nvSpPr>
        <p:spPr>
          <a:xfrm>
            <a:off x="2971800" y="1523880"/>
            <a:ext cx="502920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862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同学朋友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82" name="Text Box 6"/>
          <p:cNvSpPr/>
          <p:nvPr/>
        </p:nvSpPr>
        <p:spPr>
          <a:xfrm>
            <a:off x="685800" y="502920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6633"/>
                </a:solidFill>
                <a:latin typeface="Arial"/>
                <a:ea typeface="黑体"/>
              </a:rPr>
              <a:t>我最亲爱的朋友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1371600" y="685800"/>
            <a:ext cx="5943600" cy="2552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d5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第二单元　师友结伴同行 　　第三课   同侪携手共进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第一框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r"/>
    <p:sndAc>
      <p:stSnd>
        <p:snd r:embed="rId2" name="arrow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mph" presetID="27" repeatCount="3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" dur="500" autoRev="1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a679"/>
                                      </p:to>
                                    </p:animClr>
                                    <p:animClr clrSpc="rgb">
                                      <p:cBhvr>
                                        <p:cTn id="14" dur="500" autoRev="1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a679"/>
                                      </p:to>
                                    </p:animClr>
                                    <p:set>
                                      <p:cBhvr>
                                        <p:cTn id="15" dur="500" autoRev="1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5" name="VREC003.WAV" descr=""/>
          <p:cNvPicPr/>
          <p:nvPr/>
        </p:nvPicPr>
        <p:blipFill>
          <a:blip r:embed="rId2"/>
          <a:stretch/>
        </p:blipFill>
        <p:spPr>
          <a:xfrm>
            <a:off x="6781680" y="3657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380880" y="5257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交友原则一</a:t>
            </a:r>
            <a:r>
              <a:rPr b="1" lang="zh-CN" sz="4000" spc="-1" strike="noStrike">
                <a:solidFill>
                  <a:srgbClr val="ffff66"/>
                </a:solidFill>
                <a:latin typeface="Arial"/>
              </a:rPr>
              <a:t>：</a:t>
            </a:r>
            <a:r>
              <a:rPr b="1" lang="zh-CN" sz="4000" spc="-1" strike="noStrike">
                <a:solidFill>
                  <a:srgbClr val="800000"/>
                </a:solidFill>
                <a:latin typeface="Arial"/>
              </a:rPr>
              <a:t>平等互惠，体谅他人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380880" y="304920"/>
            <a:ext cx="6019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小东和小宁是一对好朋友，小东的学习成绩很好，而小宁的成绩总不令人满意。小东在小宁的请求下经常帮助小宁补习功课，解答疑问，有时很晚才能回家，常常没有时间完成自己的功课。为此，小东的妈妈很着急，小东也很为难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小东为什么觉得很为难，作为小宁你应该怎样做呢？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8" name="Picture 4" descr="7"/>
          <p:cNvPicPr/>
          <p:nvPr/>
        </p:nvPicPr>
        <p:blipFill>
          <a:blip r:embed="rId3"/>
          <a:stretch/>
        </p:blipFill>
        <p:spPr>
          <a:xfrm>
            <a:off x="7162920" y="4191120"/>
            <a:ext cx="1218960" cy="1181160"/>
          </a:xfrm>
          <a:prstGeom prst="rect">
            <a:avLst/>
          </a:prstGeom>
          <a:ln w="0">
            <a:noFill/>
          </a:ln>
        </p:spPr>
      </p:pic>
      <p:pic>
        <p:nvPicPr>
          <p:cNvPr id="1019" name="Picture 5" descr="01"/>
          <p:cNvPicPr/>
          <p:nvPr/>
        </p:nvPicPr>
        <p:blipFill>
          <a:blip r:embed="rId4"/>
          <a:stretch/>
        </p:blipFill>
        <p:spPr>
          <a:xfrm>
            <a:off x="6477120" y="457200"/>
            <a:ext cx="2438280" cy="3657600"/>
          </a:xfrm>
          <a:prstGeom prst="rect">
            <a:avLst/>
          </a:prstGeom>
          <a:ln w="0">
            <a:noFill/>
          </a:ln>
        </p:spPr>
      </p:pic>
    </p:spTree>
  </p:cSld>
  <p:transition>
    <p:cover dir="r"/>
    <p:sndAc>
      <p:stSnd>
        <p:snd r:embed="rId5" name="arrow.wav"/>
      </p:stSnd>
    </p:sndAc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0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0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0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0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5" dur="29523" fill="hold"/>
                                        <p:tgtEl>
                                          <p:spTgt spid="10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0" name="新可.WAV" descr=""/>
          <p:cNvPicPr/>
          <p:nvPr/>
        </p:nvPicPr>
        <p:blipFill>
          <a:blip r:embed="rId2"/>
          <a:stretch/>
        </p:blipFill>
        <p:spPr>
          <a:xfrm>
            <a:off x="6629400" y="4572000"/>
            <a:ext cx="304920" cy="533520"/>
          </a:xfrm>
          <a:prstGeom prst="rect">
            <a:avLst/>
          </a:prstGeom>
          <a:ln w="0">
            <a:noFill/>
          </a:ln>
        </p:spPr>
      </p:pic>
      <p:sp>
        <p:nvSpPr>
          <p:cNvPr id="1021" name="PlaceHolder 1"/>
          <p:cNvSpPr>
            <a:spLocks noGrp="1"/>
          </p:cNvSpPr>
          <p:nvPr>
            <p:ph/>
          </p:nvPr>
        </p:nvSpPr>
        <p:spPr>
          <a:xfrm>
            <a:off x="609480" y="228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663300"/>
                </a:solidFill>
                <a:latin typeface="Arial"/>
              </a:rPr>
              <a:t>小可和小新是班上的文艺骨干。小可文笔好，小新画的好，大家称她俩是一对好搭档。但是最近她俩的关系出现了裂痕：小可认为小新画的插图不符合自己的意图，常常改动小新的画</a:t>
            </a: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;</a:t>
            </a:r>
            <a:r>
              <a:rPr b="1" lang="zh-CN" sz="3200" spc="-1" strike="noStrike">
                <a:solidFill>
                  <a:srgbClr val="663300"/>
                </a:solidFill>
                <a:latin typeface="Arial"/>
              </a:rPr>
              <a:t>小新认为被改动的恰是自己的得意之处，因此很不高兴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663300"/>
                </a:solidFill>
                <a:latin typeface="Arial"/>
              </a:rPr>
              <a:t>是小可应该尊重小新的创意，还是小新应当允许小可的修改呢？她俩还能成为一对好搭档吗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2" name="Picture 4" descr="5"/>
          <p:cNvPicPr/>
          <p:nvPr/>
        </p:nvPicPr>
        <p:blipFill>
          <a:blip r:embed="rId3"/>
          <a:stretch/>
        </p:blipFill>
        <p:spPr>
          <a:xfrm>
            <a:off x="0" y="533520"/>
            <a:ext cx="1033560" cy="1371600"/>
          </a:xfrm>
          <a:prstGeom prst="rect">
            <a:avLst/>
          </a:prstGeom>
          <a:ln w="0">
            <a:noFill/>
          </a:ln>
        </p:spPr>
      </p:pic>
      <p:pic>
        <p:nvPicPr>
          <p:cNvPr id="1023" name="Picture 5" descr="02"/>
          <p:cNvPicPr/>
          <p:nvPr/>
        </p:nvPicPr>
        <p:blipFill>
          <a:blip r:embed="rId4"/>
          <a:stretch/>
        </p:blipFill>
        <p:spPr>
          <a:xfrm>
            <a:off x="6477120" y="4191120"/>
            <a:ext cx="2666880" cy="2666880"/>
          </a:xfrm>
          <a:prstGeom prst="rect">
            <a:avLst/>
          </a:prstGeom>
          <a:ln w="0">
            <a:noFill/>
          </a:ln>
        </p:spPr>
      </p:pic>
      <p:sp>
        <p:nvSpPr>
          <p:cNvPr id="1024" name="PlaceHolder 2"/>
          <p:cNvSpPr>
            <a:spLocks noGrp="1"/>
          </p:cNvSpPr>
          <p:nvPr>
            <p:ph type="title"/>
          </p:nvPr>
        </p:nvSpPr>
        <p:spPr>
          <a:xfrm>
            <a:off x="301320" y="-4351320"/>
            <a:ext cx="460440" cy="92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5" name="Rectangle 7"/>
          <p:cNvSpPr/>
          <p:nvPr/>
        </p:nvSpPr>
        <p:spPr>
          <a:xfrm>
            <a:off x="457200" y="51055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交友原则二：</a:t>
            </a:r>
            <a:r>
              <a:rPr b="1" lang="zh-CN" sz="4000" spc="-1" strike="noStrike">
                <a:solidFill>
                  <a:srgbClr val="a50021"/>
                </a:solidFill>
                <a:latin typeface="Arial"/>
              </a:rPr>
              <a:t>正确处理意见和分歧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r"/>
    <p:sndAc>
      <p:stSnd>
        <p:snd r:embed="rId5" name="arrow.wav"/>
      </p:stSnd>
    </p:sndAc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0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0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7" dur="32832" fill="hold"/>
                                        <p:tgtEl>
                                          <p:spTgt spid="10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a679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6" name="林晖.WAV" descr=""/>
          <p:cNvPicPr/>
          <p:nvPr/>
        </p:nvPicPr>
        <p:blipFill>
          <a:blip r:embed="rId1"/>
          <a:stretch/>
        </p:blipFill>
        <p:spPr>
          <a:xfrm>
            <a:off x="6172200" y="47242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5257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交友原则三：</a:t>
            </a:r>
            <a:r>
              <a:rPr b="1" lang="zh-CN" sz="4000" spc="-1" strike="noStrike">
                <a:solidFill>
                  <a:srgbClr val="a50021"/>
                </a:solidFill>
                <a:latin typeface="Arial"/>
              </a:rPr>
              <a:t>友谊需要尺度，要把握好原则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小林的朋友小晖在校外和八年级一个经常恃强凌弱的学生打了一架，小林听说那个学生还有五个帮手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小林该如何帮助朋友小晖呢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9" name="Picture 4" descr="6"/>
          <p:cNvPicPr/>
          <p:nvPr/>
        </p:nvPicPr>
        <p:blipFill>
          <a:blip r:embed="rId2"/>
          <a:stretch/>
        </p:blipFill>
        <p:spPr>
          <a:xfrm>
            <a:off x="685800" y="4038480"/>
            <a:ext cx="952560" cy="952560"/>
          </a:xfrm>
          <a:prstGeom prst="rect">
            <a:avLst/>
          </a:prstGeom>
          <a:ln w="0">
            <a:noFill/>
          </a:ln>
        </p:spPr>
      </p:pic>
      <p:grpSp>
        <p:nvGrpSpPr>
          <p:cNvPr id="1030" name="Group 5"/>
          <p:cNvGrpSpPr/>
          <p:nvPr/>
        </p:nvGrpSpPr>
        <p:grpSpPr>
          <a:xfrm>
            <a:off x="6046920" y="2057400"/>
            <a:ext cx="3096720" cy="3124080"/>
            <a:chOff x="6046920" y="2057400"/>
            <a:chExt cx="3096720" cy="3124080"/>
          </a:xfrm>
        </p:grpSpPr>
        <p:pic>
          <p:nvPicPr>
            <p:cNvPr id="1031" name="Picture 6" descr="03"/>
            <p:cNvPicPr/>
            <p:nvPr/>
          </p:nvPicPr>
          <p:blipFill>
            <a:blip r:embed="rId3"/>
            <a:stretch/>
          </p:blipFill>
          <p:spPr>
            <a:xfrm>
              <a:off x="6046920" y="2057400"/>
              <a:ext cx="2647800" cy="31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2" name="Text Box 7"/>
            <p:cNvSpPr/>
            <p:nvPr/>
          </p:nvSpPr>
          <p:spPr>
            <a:xfrm>
              <a:off x="7488000" y="2174400"/>
              <a:ext cx="165564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70868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333300"/>
                  </a:solidFill>
                  <a:latin typeface="Arial"/>
                  <a:ea typeface="楷体_GB2312"/>
                </a:rPr>
                <a:t>怎么办呢？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transition>
    <p:cover dir="r"/>
    <p:sndAc>
      <p:stSnd>
        <p:snd r:embed="rId4" name="arrow.wav"/>
      </p:stSnd>
    </p:sndAc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0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0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3" dur="1000"/>
                                        <p:tgtEl>
                                          <p:spTgt spid="10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0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0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8" dur="1000"/>
                                        <p:tgtEl>
                                          <p:spTgt spid="10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1" dur="13998" fill="hold"/>
                                        <p:tgtEl>
                                          <p:spTgt spid="10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3" name="林2.WAV" descr=""/>
          <p:cNvPicPr/>
          <p:nvPr/>
        </p:nvPicPr>
        <p:blipFill>
          <a:blip r:embed="rId2"/>
          <a:stretch/>
        </p:blipFill>
        <p:spPr>
          <a:xfrm>
            <a:off x="8839080" y="44197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228600" y="3428640"/>
            <a:ext cx="739152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交友原则四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慎重交友</a:t>
            </a:r>
            <a:br>
              <a:rPr sz="4000"/>
            </a:b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0" y="30456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小晖没有听从小林的劝说，找了一些“朋友”去报仇了。结果受到了学校的处分，小晖不但不知错，而且还谩骂老师和校长。                                                                        小林应不应该还和小晖做朋友呢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6" name="Picture 4" descr="4"/>
          <p:cNvPicPr/>
          <p:nvPr/>
        </p:nvPicPr>
        <p:blipFill>
          <a:blip r:embed="rId3"/>
          <a:stretch/>
        </p:blipFill>
        <p:spPr>
          <a:xfrm>
            <a:off x="7862760" y="2362320"/>
            <a:ext cx="1281240" cy="2209680"/>
          </a:xfrm>
          <a:prstGeom prst="rect">
            <a:avLst/>
          </a:prstGeom>
          <a:ln w="0">
            <a:noFill/>
          </a:ln>
        </p:spPr>
      </p:pic>
      <p:sp>
        <p:nvSpPr>
          <p:cNvPr id="1037" name="Text Box 5"/>
          <p:cNvSpPr/>
          <p:nvPr/>
        </p:nvSpPr>
        <p:spPr>
          <a:xfrm>
            <a:off x="304920" y="4724280"/>
            <a:ext cx="7467480" cy="581400"/>
          </a:xfrm>
          <a:prstGeom prst="rect">
            <a:avLst/>
          </a:prstGeom>
          <a:solidFill>
            <a:srgbClr val="9c9c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与善人居，如入芝兰之室，久而不闻其香，即与之化矣。与不善人居，如入鲍鱼之肆，久而不闻其臭，亦与之化矣。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r"/>
    <p:sndAc>
      <p:stSnd>
        <p:snd r:embed="rId4" name="arrow.wav"/>
      </p:stSnd>
    </p:sndAc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0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0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900" fill="hold"/>
                                        <p:tgtEl>
                                          <p:spTgt spid="10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000"/>
                            </p:stCondLst>
                            <p:childTnLst>
                              <p:par>
                                <p:cTn id="2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3" dur="14762" fill="hold"/>
                                        <p:tgtEl>
                                          <p:spTgt spid="10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1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AutoShape 2"/>
          <p:cNvSpPr/>
          <p:nvPr/>
        </p:nvSpPr>
        <p:spPr>
          <a:xfrm>
            <a:off x="539640" y="260280"/>
            <a:ext cx="962280" cy="914400"/>
          </a:xfrm>
          <a:prstGeom prst="pi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39" name="Picture 3" descr="0002E"/>
          <p:cNvPicPr/>
          <p:nvPr/>
        </p:nvPicPr>
        <p:blipFill>
          <a:blip r:embed="rId2"/>
          <a:stretch/>
        </p:blipFill>
        <p:spPr>
          <a:xfrm>
            <a:off x="0" y="4797360"/>
            <a:ext cx="9144000" cy="1820880"/>
          </a:xfrm>
          <a:prstGeom prst="rect">
            <a:avLst/>
          </a:prstGeom>
          <a:ln w="0">
            <a:noFill/>
          </a:ln>
        </p:spPr>
      </p:pic>
      <p:sp>
        <p:nvSpPr>
          <p:cNvPr id="1040" name="Text Box 4"/>
          <p:cNvSpPr/>
          <p:nvPr/>
        </p:nvSpPr>
        <p:spPr>
          <a:xfrm>
            <a:off x="152280" y="2438280"/>
            <a:ext cx="12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与友同行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1" name="AutoShape 5"/>
          <p:cNvSpPr/>
          <p:nvPr/>
        </p:nvSpPr>
        <p:spPr>
          <a:xfrm>
            <a:off x="1066680" y="1676520"/>
            <a:ext cx="533520" cy="2514600"/>
          </a:xfrm>
          <a:custGeom>
            <a:avLst/>
            <a:gdLst>
              <a:gd name="textAreaLeft" fmla="*/ 340920 w 533520"/>
              <a:gd name="textAreaRight" fmla="*/ 533880 w 533520"/>
              <a:gd name="textAreaTop" fmla="*/ 65520 h 2514600"/>
              <a:gd name="textAreaBottom" fmla="*/ 2449080 h 251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2" name="Rectangle 6"/>
          <p:cNvSpPr/>
          <p:nvPr/>
        </p:nvSpPr>
        <p:spPr>
          <a:xfrm>
            <a:off x="1791720" y="260280"/>
            <a:ext cx="1244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0000"/>
                </a:solidFill>
                <a:latin typeface="Arial"/>
                <a:ea typeface="华文彩云"/>
              </a:rPr>
              <a:t>小结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  <a:ea typeface="华文彩云"/>
              </a:rPr>
              <a:t>: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3" name="Rectangle 7"/>
          <p:cNvSpPr/>
          <p:nvPr/>
        </p:nvSpPr>
        <p:spPr>
          <a:xfrm>
            <a:off x="1935720" y="160020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Arial"/>
              </a:rPr>
              <a:t>什么是朋友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4" name="Rectangle 8"/>
          <p:cNvSpPr/>
          <p:nvPr/>
        </p:nvSpPr>
        <p:spPr>
          <a:xfrm>
            <a:off x="1935720" y="37339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Arial"/>
              </a:rPr>
              <a:t>友谊的原则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5" name="AutoShape 10"/>
          <p:cNvSpPr/>
          <p:nvPr/>
        </p:nvSpPr>
        <p:spPr>
          <a:xfrm>
            <a:off x="3657600" y="2514600"/>
            <a:ext cx="304920" cy="3029040"/>
          </a:xfrm>
          <a:custGeom>
            <a:avLst/>
            <a:gdLst>
              <a:gd name="textAreaLeft" fmla="*/ 194760 w 304920"/>
              <a:gd name="textAreaRight" fmla="*/ 305280 w 304920"/>
              <a:gd name="textAreaTop" fmla="*/ 78840 h 3029040"/>
              <a:gd name="textAreaBottom" fmla="*/ 2950200 h 3029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6" name="Text Box 16"/>
          <p:cNvSpPr/>
          <p:nvPr/>
        </p:nvSpPr>
        <p:spPr>
          <a:xfrm>
            <a:off x="4038480" y="2362320"/>
            <a:ext cx="339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平等互惠，体谅他人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7" name="Text Box 17"/>
          <p:cNvSpPr/>
          <p:nvPr/>
        </p:nvSpPr>
        <p:spPr>
          <a:xfrm>
            <a:off x="4038480" y="335268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正确处理意见和分歧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8" name="Text Box 18"/>
          <p:cNvSpPr/>
          <p:nvPr/>
        </p:nvSpPr>
        <p:spPr>
          <a:xfrm>
            <a:off x="4038480" y="4114800"/>
            <a:ext cx="49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友谊需要尺度，要把握好原则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9" name="Text Box 19"/>
          <p:cNvSpPr/>
          <p:nvPr/>
        </p:nvSpPr>
        <p:spPr>
          <a:xfrm>
            <a:off x="4038480" y="5105520"/>
            <a:ext cx="2667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0" name="Text Box 20"/>
          <p:cNvSpPr/>
          <p:nvPr/>
        </p:nvSpPr>
        <p:spPr>
          <a:xfrm>
            <a:off x="4114800" y="510552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Arial"/>
              </a:rPr>
              <a:t>慎重交友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r"/>
    <p:sndAc>
      <p:stSnd>
        <p:snd r:embed="rId3" name="arrow.wav"/>
      </p:stSnd>
    </p:sndAc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9" dur="10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9" dur="2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4" dur="2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9" dur="2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4" dur="2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9" dur="2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4" dur="2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1" name="[周华健]朋友  伴奏 cn^ Net E音-周华健.mp3" descr=""/>
          <p:cNvPicPr/>
          <p:nvPr/>
        </p:nvPicPr>
        <p:blipFill>
          <a:blip r:embed="rId2"/>
          <a:stretch/>
        </p:blipFill>
        <p:spPr>
          <a:xfrm>
            <a:off x="6324480" y="14479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-305280" y="0"/>
            <a:ext cx="54104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琥珀"/>
              </a:rPr>
              <a:t>心灵导航</a:t>
            </a:r>
            <a:endParaRPr b="0" lang="en-US" sz="5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53" name="Text Box 3"/>
          <p:cNvSpPr/>
          <p:nvPr/>
        </p:nvSpPr>
        <p:spPr>
          <a:xfrm>
            <a:off x="2411280" y="1341000"/>
            <a:ext cx="43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 Black"/>
                <a:ea typeface="华文细黑"/>
              </a:rPr>
              <a:t>名   言   欣  赏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4" name="Text Box 4"/>
          <p:cNvSpPr/>
          <p:nvPr/>
        </p:nvSpPr>
        <p:spPr>
          <a:xfrm>
            <a:off x="395280" y="2276640"/>
            <a:ext cx="828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cc0000"/>
                </a:solidFill>
                <a:latin typeface="Arial Black"/>
                <a:ea typeface="楷体_GB2312"/>
              </a:rPr>
              <a:t>世界上最美好的东西，莫过于有几个头脑和心地都很正直的严正的朋友。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 Black"/>
                <a:ea typeface="楷体_GB2312"/>
              </a:rPr>
              <a:t>                                        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  <a:ea typeface="楷体_GB2312"/>
              </a:rPr>
              <a:t>——</a:t>
            </a:r>
            <a:r>
              <a:rPr b="1" lang="zh-CN" sz="3200" spc="-1" strike="noStrike">
                <a:solidFill>
                  <a:srgbClr val="cc0000"/>
                </a:solidFill>
                <a:latin typeface="Arial Black"/>
                <a:ea typeface="楷体_GB2312"/>
              </a:rPr>
              <a:t>爱因斯坦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5" name="Text Box 5"/>
          <p:cNvSpPr/>
          <p:nvPr/>
        </p:nvSpPr>
        <p:spPr>
          <a:xfrm>
            <a:off x="395280" y="4005360"/>
            <a:ext cx="8064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楷体_GB2312"/>
              </a:rPr>
              <a:t>多一个真正的朋友，就多一块陶冶情操的砺石，多一分战胜困难的力量，多一个锐意进取的伴侣。                      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楷体_GB2312"/>
              </a:rPr>
              <a:t>                                       ──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楷体_GB2312"/>
              </a:rPr>
              <a:t>（法）小仲马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r"/>
    <p:sndAc>
      <p:stSnd>
        <p:snd r:embed="rId3" name="arrow.wav"/>
      </p:stSnd>
    </p:sndAc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6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9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3" dur="59044" fill="hold"/>
                                        <p:tgtEl>
                                          <p:spTgt spid="10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"/>
          <p:cNvSpPr txBox="1"/>
          <p:nvPr/>
        </p:nvSpPr>
        <p:spPr>
          <a:xfrm>
            <a:off x="1258920" y="2781360"/>
            <a:ext cx="5943600" cy="18478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一</a:t>
            </a:r>
            <a:r>
              <a:rPr b="0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.</a:t>
            </a:r>
            <a:r>
              <a:rPr b="0" lang="zh-CN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我的人际圈</a:t>
            </a:r>
            <a:endParaRPr b="0" lang="en-US" sz="7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p:transition>
    <p:cover dir="r"/>
    <p:sndAc>
      <p:stSnd>
        <p:snd r:embed="rId2" name="arrow.wav"/>
      </p:stSnd>
    </p:sndAc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533520" y="685800"/>
            <a:ext cx="8076960" cy="57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3780000" y="2349360"/>
            <a:ext cx="2286000" cy="1828800"/>
          </a:xfrm>
          <a:prstGeom prst="donut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1835280" y="476280"/>
            <a:ext cx="6248160" cy="5715000"/>
          </a:xfrm>
          <a:prstGeom prst="donut">
            <a:avLst>
              <a:gd name="adj" fmla="val 25000"/>
            </a:avLst>
          </a:prstGeom>
          <a:solidFill>
            <a:srgbClr val="99ff66"/>
          </a:solidFill>
          <a:ln w="9360">
            <a:solidFill>
              <a:srgbClr val="1a55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8" name=""/>
          <p:cNvSpPr txBox="1"/>
          <p:nvPr/>
        </p:nvSpPr>
        <p:spPr>
          <a:xfrm>
            <a:off x="7451640" y="765000"/>
            <a:ext cx="1371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隶书"/>
              </a:rPr>
              <a:t>陌生人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989" name=""/>
          <p:cNvSpPr txBox="1"/>
          <p:nvPr/>
        </p:nvSpPr>
        <p:spPr>
          <a:xfrm>
            <a:off x="3203640" y="1197000"/>
            <a:ext cx="3657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一般的同学或熟人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90" name=""/>
          <p:cNvSpPr txBox="1"/>
          <p:nvPr/>
        </p:nvSpPr>
        <p:spPr>
          <a:xfrm>
            <a:off x="3851280" y="4149720"/>
            <a:ext cx="1981080" cy="42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较好的朋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991" name=""/>
          <p:cNvSpPr txBox="1"/>
          <p:nvPr/>
        </p:nvSpPr>
        <p:spPr>
          <a:xfrm>
            <a:off x="3924360" y="2349360"/>
            <a:ext cx="1828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宋体"/>
              </a:rPr>
              <a:t>知心的朋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992" name=""/>
          <p:cNvSpPr txBox="1"/>
          <p:nvPr/>
        </p:nvSpPr>
        <p:spPr>
          <a:xfrm>
            <a:off x="4643280" y="2997360"/>
            <a:ext cx="457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我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93" name=""/>
          <p:cNvSpPr/>
          <p:nvPr/>
        </p:nvSpPr>
        <p:spPr>
          <a:xfrm>
            <a:off x="-27720" y="1278000"/>
            <a:ext cx="1399320" cy="4437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Arial"/>
                <a:ea typeface="华文琥珀"/>
              </a:rPr>
              <a:t>人际关系树轮图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250920" y="189000"/>
            <a:ext cx="41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1" lang="zh-CN" sz="4000" spc="-1" strike="noStrike">
                <a:solidFill>
                  <a:srgbClr val="333300"/>
                </a:solidFill>
                <a:latin typeface="Arial"/>
              </a:rPr>
              <a:t>自己的人际关系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r"/>
    <p:sndAc>
      <p:stSnd>
        <p:snd r:embed="rId4" name="arrow.wav"/>
      </p:stSnd>
    </p:sndAc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/>
          </p:nvPr>
        </p:nvSpPr>
        <p:spPr>
          <a:xfrm>
            <a:off x="461880" y="1700280"/>
            <a:ext cx="8064720" cy="40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在与同学的交往中，如果封闭自己，只会使我们的“人际关系树轮”萎缩，，使自己陷入孤立，如果保持积极开放的心态，我们就会接触更多的人，分享更多的经验和快乐，同时也会被更多的人接纳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"/>
    <p:sndAc>
      <p:stSnd>
        <p:snd r:embed="rId2" name="arrow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7" name=""/>
          <p:cNvSpPr/>
          <p:nvPr/>
        </p:nvSpPr>
        <p:spPr>
          <a:xfrm>
            <a:off x="1828800" y="1066680"/>
            <a:ext cx="640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华文新魏"/>
              </a:rPr>
              <a:t>　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新魏"/>
              </a:rPr>
              <a:t>　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  <a:ea typeface="华文新魏"/>
              </a:rPr>
              <a:t>受欢迎的优点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新魏"/>
              </a:rPr>
              <a:t>：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新魏"/>
              </a:rPr>
              <a:t>真诚、理解、值得信赖、理智、有思想、体贴、热情、友好、不自私、幽默、负责任、开朗、信任别人</a:t>
            </a:r>
            <a:r>
              <a:rPr b="1" lang="zh-CN" sz="2800" spc="-1" strike="noStrike">
                <a:solidFill>
                  <a:srgbClr val="ff3300"/>
                </a:solidFill>
                <a:latin typeface="隶书"/>
                <a:ea typeface="华文新魏"/>
              </a:rPr>
              <a:t>┉┉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380880" y="419112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不受欢迎的缺点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  <a:ea typeface="华文新魏"/>
              </a:rPr>
              <a:t>：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Arial"/>
                <a:ea typeface="华文新魏"/>
              </a:rPr>
              <a:t> 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  <a:ea typeface="华文新魏"/>
              </a:rPr>
              <a:t>尖刻、多嘴多舌、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Arial"/>
                <a:ea typeface="华文新魏"/>
              </a:rPr>
              <a:t>自私、目光短浅、粗鲁、自高自大、贪婪、不真诚、恶毒、冷酷、邪恶、说谎</a:t>
            </a:r>
            <a:r>
              <a:rPr b="1" lang="zh-CN" sz="2400" spc="-1" strike="noStrike">
                <a:solidFill>
                  <a:srgbClr val="3333ff"/>
                </a:solidFill>
                <a:latin typeface="隶书"/>
                <a:ea typeface="华文新魏"/>
              </a:rPr>
              <a:t>┉┉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99" name="" descr=""/>
          <p:cNvPicPr/>
          <p:nvPr/>
        </p:nvPicPr>
        <p:blipFill>
          <a:blip r:embed="rId3"/>
          <a:stretch/>
        </p:blipFill>
        <p:spPr>
          <a:xfrm>
            <a:off x="228600" y="685800"/>
            <a:ext cx="1365120" cy="2819520"/>
          </a:xfrm>
          <a:prstGeom prst="rect">
            <a:avLst/>
          </a:prstGeom>
          <a:ln w="0">
            <a:noFill/>
          </a:ln>
        </p:spPr>
      </p:pic>
      <p:sp>
        <p:nvSpPr>
          <p:cNvPr id="1000" name=""/>
          <p:cNvSpPr/>
          <p:nvPr/>
        </p:nvSpPr>
        <p:spPr>
          <a:xfrm>
            <a:off x="1905120" y="228600"/>
            <a:ext cx="4724280" cy="685800"/>
          </a:xfrm>
          <a:prstGeom prst="cloudCallout">
            <a:avLst>
              <a:gd name="adj1" fmla="val -67472"/>
              <a:gd name="adj2" fmla="val 152777"/>
            </a:avLst>
          </a:prstGeom>
          <a:solidFill>
            <a:srgbClr val="a8c9f6"/>
          </a:soli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谁最受欢迎？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r"/>
    <p:sndAc>
      <p:stSnd>
        <p:snd r:embed="rId4" name="arrow.wav"/>
      </p:stSnd>
    </p:sndAc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10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10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1" name="WordArt 2" descr=""/>
          <p:cNvPicPr/>
          <p:nvPr/>
        </p:nvPicPr>
        <p:blipFill>
          <a:blip r:embed="rId2"/>
          <a:stretch/>
        </p:blipFill>
        <p:spPr>
          <a:xfrm>
            <a:off x="1755720" y="2292480"/>
            <a:ext cx="5626080" cy="1584360"/>
          </a:xfrm>
          <a:prstGeom prst="rect">
            <a:avLst/>
          </a:prstGeom>
          <a:ln w="0">
            <a:noFill/>
          </a:ln>
        </p:spPr>
      </p:pic>
    </p:spTree>
  </p:cSld>
  <p:transition>
    <p:cover dir="r"/>
    <p:sndAc>
      <p:stSnd>
        <p:snd r:embed="rId3" name="arrow.wav"/>
      </p:stSnd>
    </p:sndAc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/>
          </p:nvPr>
        </p:nvSpPr>
        <p:spPr>
          <a:xfrm>
            <a:off x="684360" y="620280"/>
            <a:ext cx="77724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cca0c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有两个朋友在路上边走边聊，突然一只狗熊从树丛中窜到他们面前。一个人迅速地爬上路旁的一棵大树上，躲了起来；另一个人无路可逃，只好躺在地上忍住呼吸装死，熊走到“死人”身旁，用鼻子嗅了嗅，便大摇大摆走了。熊走后，树上的人下来问装死的朋友，熊对你说了什么，这个装死的人回答道：“熊忠告我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Text Box 3"/>
          <p:cNvSpPr/>
          <p:nvPr/>
        </p:nvSpPr>
        <p:spPr>
          <a:xfrm>
            <a:off x="87840" y="476280"/>
            <a:ext cx="66780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故事一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4" name="Text Box 4"/>
          <p:cNvSpPr/>
          <p:nvPr/>
        </p:nvSpPr>
        <p:spPr>
          <a:xfrm>
            <a:off x="1371600" y="548640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3366"/>
                </a:solidFill>
                <a:latin typeface="Arial"/>
              </a:rPr>
              <a:t>对于在危险面前抛弃你的人决不可与他交朋友。”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05" name="Picture 5" descr="1"/>
          <p:cNvPicPr/>
          <p:nvPr/>
        </p:nvPicPr>
        <p:blipFill>
          <a:blip r:embed="rId2"/>
          <a:stretch/>
        </p:blipFill>
        <p:spPr>
          <a:xfrm>
            <a:off x="7620120" y="4543560"/>
            <a:ext cx="1258920" cy="2314440"/>
          </a:xfrm>
          <a:prstGeom prst="rect">
            <a:avLst/>
          </a:prstGeom>
          <a:ln w="0">
            <a:noFill/>
          </a:ln>
        </p:spPr>
      </p:pic>
      <p:pic>
        <p:nvPicPr>
          <p:cNvPr id="1006" name="" descr=""/>
          <p:cNvPicPr/>
          <p:nvPr/>
        </p:nvPicPr>
        <p:blipFill>
          <a:blip r:embed="rId3"/>
          <a:stretch/>
        </p:blipFill>
        <p:spPr>
          <a:xfrm>
            <a:off x="304920" y="18288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cover dir="r"/>
    <p:sndAc>
      <p:stSnd>
        <p:snd r:embed="rId4" name="arrow.wav"/>
      </p:stSnd>
    </p:sndAc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8" dur="34560" fill="hold"/>
                                        <p:tgtEl>
                                          <p:spTgt spid="10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/>
          </p:nvPr>
        </p:nvSpPr>
        <p:spPr>
          <a:xfrm>
            <a:off x="610920" y="404640"/>
            <a:ext cx="7770600" cy="46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两个朋友在沙漠中旅行，在旅途中他们吵架了，一个还打了另外一个一记耳光。被打的觉得受辱，一言不语，在沙子上写下：“今天我的好朋友打了我一巴掌。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他们继续往前走，到了沃野，他们就决定停下。被打耳光的那位差点儿淹死，幸好被朋友救起。被救起后，他拿了一把小剑在石头上刻下：“今天我的好朋友救了我一命。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朋友好奇地问：“为什么我打了你以后，你要写在沙子上，而现在要刻在石头上呢？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另一个笑了笑，回答说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…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Text Box 3"/>
          <p:cNvSpPr/>
          <p:nvPr/>
        </p:nvSpPr>
        <p:spPr>
          <a:xfrm>
            <a:off x="3600" y="1066680"/>
            <a:ext cx="667800" cy="14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Arial"/>
              </a:rPr>
              <a:t>故事一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09" name="Picture 5" descr="3"/>
          <p:cNvPicPr/>
          <p:nvPr/>
        </p:nvPicPr>
        <p:blipFill>
          <a:blip r:embed="rId2"/>
          <a:stretch/>
        </p:blipFill>
        <p:spPr>
          <a:xfrm>
            <a:off x="152280" y="304920"/>
            <a:ext cx="733680" cy="533160"/>
          </a:xfrm>
          <a:prstGeom prst="rect">
            <a:avLst/>
          </a:prstGeom>
          <a:ln w="0">
            <a:noFill/>
          </a:ln>
        </p:spPr>
      </p:pic>
      <p:sp>
        <p:nvSpPr>
          <p:cNvPr id="1010" name="Text Box 6"/>
          <p:cNvSpPr/>
          <p:nvPr/>
        </p:nvSpPr>
        <p:spPr>
          <a:xfrm>
            <a:off x="533520" y="5029200"/>
            <a:ext cx="8229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000066"/>
                </a:solidFill>
                <a:latin typeface="Arial"/>
              </a:rPr>
              <a:t>当被一个朋友伤害时，要写在易忘的地方，风会负责抹去它；相反，如果被帮助，我们要把它刻在心里的深处，那里任何风都不能抹灭它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11" name="" descr=""/>
          <p:cNvPicPr/>
          <p:nvPr/>
        </p:nvPicPr>
        <p:blipFill>
          <a:blip r:embed="rId3"/>
          <a:stretch/>
        </p:blipFill>
        <p:spPr>
          <a:xfrm>
            <a:off x="228600" y="2362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cover dir="r"/>
    <p:sndAc>
      <p:stSnd>
        <p:snd r:embed="rId4" name="arrow.wav"/>
      </p:stSnd>
    </p:sndAc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1" dur="47640" fill="hold"/>
                                        <p:tgtEl>
                                          <p:spTgt spid="10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0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0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0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0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679"/>
            </a:gs>
            <a:gs pos="100000">
              <a:srgbClr val="aaa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Text Box 2"/>
          <p:cNvSpPr/>
          <p:nvPr/>
        </p:nvSpPr>
        <p:spPr>
          <a:xfrm>
            <a:off x="0" y="685800"/>
            <a:ext cx="914400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33"/>
                </a:solidFill>
                <a:latin typeface="华文隶书"/>
                <a:ea typeface="华文隶书"/>
              </a:rPr>
              <a:t>普通的朋友与真正的朋友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　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一个普通的朋友从未看过你哭泣。一个真正的朋友有双肩让你的泪水湿尽。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一个普通的朋友在吵架后就认为友谊已经结束。一个真正的朋友明白当你们还没打过架就不叫真正的友谊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  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一个普通的朋友找你谈论你的困扰。一个真正的朋友找你解决你的困扰。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一个普通的朋友在拜访时，像一个客人一样。一个真正的朋友会打开冰箱自己拿东西。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一个普通的朋友期望你永远在他身边陪他。一个真正的朋友期望他能永远陪在你身旁 ！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3" name="Text Box 3"/>
          <p:cNvSpPr/>
          <p:nvPr/>
        </p:nvSpPr>
        <p:spPr>
          <a:xfrm>
            <a:off x="1887480" y="552276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14" name="Picture 4" descr="8"/>
          <p:cNvPicPr/>
          <p:nvPr/>
        </p:nvPicPr>
        <p:blipFill>
          <a:blip r:embed="rId1"/>
          <a:stretch/>
        </p:blipFill>
        <p:spPr>
          <a:xfrm>
            <a:off x="3886200" y="2743200"/>
            <a:ext cx="857160" cy="2857680"/>
          </a:xfrm>
          <a:prstGeom prst="rect">
            <a:avLst/>
          </a:prstGeom>
          <a:ln w="0">
            <a:noFill/>
          </a:ln>
        </p:spPr>
      </p:pic>
    </p:spTree>
  </p:cSld>
  <p:transition>
    <p:cover dir="r"/>
    <p:sndAc>
      <p:stSnd>
        <p:snd r:embed="rId2" name="arrow.wav"/>
      </p:stSnd>
    </p:sndAc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7" dur="20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www.deardu.com</dc:creator>
  <dc:description>www.deardu.com</dc:description>
  <cp:keywords>www.deardu.com</cp:keywords>
  <dc:language>en-US</dc:language>
  <cp:lastModifiedBy>微软用户</cp:lastModifiedBy>
  <dcterms:modified xsi:type="dcterms:W3CDTF">2012-08-30T07:43:14Z</dcterms:modified>
  <cp:revision>10</cp:revision>
  <dc:subject>www.deardu.com</dc:subject>
  <dc:title>www.deardu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