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arrow.wav" ContentType="audio/x-wav"/>
  <Override PartName="/ppt/media/image18.gif" ContentType="image/gif"/>
  <Override PartName="/ppt/media/image5.jpeg" ContentType="image/jpeg"/>
  <Override PartName="/ppt/media/image15.gif" ContentType="image/gif"/>
  <Override PartName="/ppt/media/image7.jpeg" ContentType="image/jpeg"/>
  <Override PartName="/ppt/media/image6.jpeg" ContentType="image/jpeg"/>
  <Override PartName="/ppt/media/image25.jpeg" ContentType="image/jpeg"/>
  <Override PartName="/ppt/media/image4.jpeg" ContentType="image/jpeg"/>
  <Override PartName="/ppt/media/image10.wmf" ContentType="image/x-wmf"/>
  <Override PartName="/ppt/media/image19.jpeg" ContentType="image/jpeg"/>
  <Override PartName="/ppt/media/image11.png" ContentType="image/png"/>
  <Override PartName="/ppt/media/image9.jpeg" ContentType="image/jpeg"/>
  <Override PartName="/ppt/media/image8.jpeg" ContentType="image/jpeg"/>
  <Override PartName="/ppt/media/image12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1.jpeg" ContentType="image/jpeg"/>
  <Override PartName="/ppt/media/cashreg.wav" ContentType="audio/x-wav"/>
  <Override PartName="/ppt/media/image22.jpeg" ContentType="image/jpeg"/>
  <Override PartName="/ppt/media/image28.jpeg" ContentType="image/jpeg"/>
  <Override PartName="/ppt/media/image27.gif" ContentType="image/gif"/>
  <Override PartName="/ppt/media/image13.gif" ContentType="image/gif"/>
  <Override PartName="/ppt/media/image16.gif" ContentType="image/gif"/>
  <Override PartName="/ppt/media/image17.jpeg" ContentType="image/jpeg"/>
  <Override PartName="/ppt/media/image23.gif" ContentType="image/gif"/>
  <Override PartName="/ppt/media/image14.png" ContentType="image/png"/>
  <Override PartName="/ppt/media/image21.gif" ContentType="image/gif"/>
  <Override PartName="/ppt/media/image26.gif" ContentType="image/gif"/>
  <Override PartName="/ppt/media/image2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7FCD-C28F-4C66-8526-688D671F0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2D52-B874-482E-86E2-8FF5C381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F234D9-AB22-467C-96A3-C7D8B5F5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B7C8B3-14CA-4398-9429-2DB5592F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C3654-9141-4B52-A7C5-F5CDA29C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AE78DC-0D33-4C4A-8BE7-51F6FD68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05C3C6-7EB3-4E90-8E83-F571DA5D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8EBEC6-C2E7-4412-986C-862DBBBE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C2515-3035-4BF0-8946-0E324B6B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31C764-BEFB-4870-A254-16C6C86A7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AA4A7-7A76-4394-8235-EA15CB400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A0B74F-75B5-440B-BCF2-38BF3EEB3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75BA-FA8D-4DA5-BFF8-971D23916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64E9B3-4566-42D4-9FC8-3C224AF7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025625-6351-4577-BF58-E1D651A8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06189-CF91-4DDA-A958-E1C43CED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FFF34-5618-41B1-B812-941A7DBA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CA8E0-89C1-4046-9E1E-E9B751C7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71385-6760-4003-9EA5-C0462F70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773B27-1FD6-4F8F-9E22-FEC787E6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15E175-B40D-4DF3-AA5C-19AEA9FC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B02922-BAE5-48CF-8AF8-CB525877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74D28D-961A-4BB1-A5DA-67C01136A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D94A-173B-4A18-8A68-9AA58591A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320E9-1A50-4F40-BD0C-1EC50E849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A572D-B170-4F92-A3AB-A703181E3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51D6A-EFBA-4CD6-82C5-3D945997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CE148-8D29-4224-A3EB-19F79FDA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067BD-C961-4003-9B36-2A032A25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0AE65-84AF-4893-B20B-C539FC22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61D7A-9CC2-4525-B291-6B357797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97321-C6A3-4ED5-820E-9181E310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5FC1E-73AB-494B-9389-DC7B53C6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83F7E-19B7-4917-9364-30B1314C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D0A1-7536-40EB-9659-657FCE9E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7CC49-8B8A-4393-A520-15446855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3600C-7299-4071-8728-FB61DE919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C27008-4736-404A-A2A3-BCB875C6F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E68681-FB51-474F-B07F-9FEE083CC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41BCC6-DD82-4E8E-BF39-2604DFA2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482198-8AE6-42D9-A8BE-1976023C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98A6F6-11B0-4982-B758-17B60E98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ABA641-3A00-4C05-89E3-C0E2ABDF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ECF63C-947B-47CF-8D45-0B6D0F05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FE7505-75F1-4B27-B3EC-5BBF645C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0156-56E2-44EC-BF1B-ED6B940F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002CF6-D68D-462D-B1F4-DC63BA7B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2716C6-C422-48A5-8A3C-8B828F02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AA1874-3544-4275-9897-013AF3D3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BC30BB-3427-4BFF-8ABC-3295D1351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64838F-B057-435E-980E-159604D83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1BAC-B610-488B-A37B-E4986404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083E-90DA-4455-9E1F-DDC5E40E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68C7-9AA7-4E4C-8EF8-979E66C3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F693-E190-48AF-87C7-EF8E792D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7736-17E2-4A51-8116-2A1B19A8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D022-B3C3-4F0D-9DA0-9A4F535B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79A4-3631-4DAA-981C-3983DDEA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DE6C-E19D-4D6D-992C-FE3A5002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0509-DFA0-467B-9F7E-FFDD927A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3DDB-4B1C-4490-8E4C-A81775ED6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328E-3920-47D1-9FAF-F95A8607D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7A75C-D243-4151-B092-0EA9F6166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5DEBC-6DE8-43BC-A463-3F05CE94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FE970-2B81-41B6-8711-952ABED1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43E1B-0FE5-487F-8FB9-C49E0A68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083F9-F5D0-4014-BC8C-564807F8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C36A-F95F-4D63-813C-46AF0D7A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E1726-F674-4E11-8F88-9DD14231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FD590-F07B-4B58-96AB-B28081F7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F1865-9703-48AE-AF3A-A98212B3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4C1DA-622F-4A2D-871D-C7878AEE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72D95-360C-4607-9B32-1FF90BC4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83807-2E75-493C-BB2F-893D334CB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435ED-1218-47D9-986F-6C641E56E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AF8ED-49C0-46D0-B829-0E5970389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15EB2-53D0-4BA5-B8BC-0CA7A8F6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90BD8-8E9A-409D-B173-FCE107F2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5D11-5779-477C-B163-9DF4EB51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909A0-D628-45F5-A126-BA848EFB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ACF7F-DE75-4E92-B148-CB0E7FD3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EE58C-ED12-4948-B073-14BD5B41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38816-4A6A-41BD-859A-4C5C9A07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FAB44-0878-47D9-B4FC-1D564391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C876A-40D8-4A94-8A5A-66A9D598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2551C-D4A1-42CD-969E-9487E718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C7249-2358-47F4-BDD6-6FCF918B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E61CF-0028-462B-AA24-7AFDE16D7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C5D62-C880-4C72-813C-92A04370B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511B-36B1-4987-A828-D8C51569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22F2F-766E-4917-9B48-A7899241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1F7B2-1F72-491C-91DA-B4619F7B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7E36B-A67A-44A8-972D-37A46109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21127-0A93-4212-A2E7-EF4A2433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53B0F-677B-4F83-B14C-99933C5B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C16BB-6EC5-4D26-ACCA-8586FD29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2D13B-BC5D-477B-A979-359AA55D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83E43-1A42-4F5B-946D-CBBFE9DA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5ECE4-0DD1-46CA-993D-56BBB4A3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50B3B-29D3-4721-9416-855179990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01C9-32FB-444C-A324-B5A6CD98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80352-FD30-4A9E-BF1D-E4A904BDC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223A8-E130-4D2F-B58F-973D59B37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80967-ECFB-4778-8B77-BE48E66E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1A050-3C2F-42B2-BD68-A96FB1F4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3BAC5-F27A-4B66-A363-08295F8D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3C38B-8A3E-46FD-AF67-15B64BE0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7B303-DB5D-441D-82F5-3771CA68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49059-DCC2-4902-9EB2-23578F9C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B8C1E-69BD-40D9-941C-F6687D95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2695C-DB86-4ACB-B221-EED3A289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C731-8E21-401F-B16F-8122DA92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1E4C1-9D32-41B1-82F6-FCBD7E95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4FFED-3FA9-4485-BFA3-12CF35FF1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4E6C4-5D7C-451A-BED2-AC8E6D53A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095E9-9393-4EE9-9969-21AF8AE53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0BAB8-6401-4343-91AF-9F553AE8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B184D-81EE-4828-8311-54B70AB8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F9611-8FEE-40F0-8E08-6C6D21FD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4FE09-21BA-476D-B474-5E04A514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B359A-D162-421B-B8A4-58C9496B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1D4B5-9522-48CA-B757-AF01199F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AE3D-C883-493C-B698-5B8062B8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76AB0-DA00-4AFD-B7D5-B2507F53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563AB-E923-4FF8-9267-61254208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38720-BD70-4EB7-8B0A-612FD51B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4975D-8141-4BD5-8722-31B68931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F5147-3692-42C8-87D6-FA0899F63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668E1D-9785-4D9D-9693-9200152A3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E8A9BE-3B89-495A-A1DB-4CCABC62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E05039-29E5-47B0-861E-09293E59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9F0233-3CCE-40E6-B67F-C2A1EDD7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6FE6E6-D92B-473A-8891-2EE0E835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2839-6239-41F6-A970-3957F968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04B571-6371-4D59-B5BC-78D3B088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83A286-492C-4F8F-9A2C-F05EB9B9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CA6F88-5284-459F-9ECA-DB03E2FD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81A067-173D-425B-827F-CCBBF7D5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26A269-09C3-457C-AE80-37A505FD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5EEF0B-87CC-4A8E-A4E1-2D6B3EB2D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52367F-BB8E-4D37-8089-E9B34D82F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0D135-B160-4D87-A37E-5C01C8498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35C5A1-BA2A-4E71-A943-9497A9E8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FDD6E-4463-4B1D-8B5D-4975FA11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51A7-4FA1-4CE5-BDD1-0FCA631BD062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3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3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C2C8-7F9D-4A43-A73D-15372CADA8A5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80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626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640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654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668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682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696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710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712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3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3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3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33D1-4945-459C-861A-79E4647149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768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782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3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ftr" idx="3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E0C7-E804-499D-8FD0-FD57575A04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932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0688-BFB9-4974-BF39-E8521E53A3E9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5948-1521-449D-BB85-ABA9612E30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5BBA-1005-4213-915C-D3C7250D66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76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40E6-CA10-4BE8-986B-FE4BF97A987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0600-2155-4BDD-825B-C4B37E9DBCD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F1EB-4F08-445D-94D9-92B8F28F719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2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2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2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3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7B76-5A8A-4352-814D-F1C6BCC8F80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9630-3E03-4C56-A685-7E9D1D412AA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rrow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image" Target="../media/image18.gif"/><Relationship Id="rId4" Type="http://schemas.openxmlformats.org/officeDocument/2006/relationships/image" Target="../media/image19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4.png"/><Relationship Id="rId3" Type="http://schemas.openxmlformats.org/officeDocument/2006/relationships/image" Target="../media/image21.gif"/><Relationship Id="rId4" Type="http://schemas.openxmlformats.org/officeDocument/2006/relationships/image" Target="../media/image22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3.gif"/><Relationship Id="rId3" Type="http://schemas.openxmlformats.org/officeDocument/2006/relationships/image" Target="../media/image24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4.png"/><Relationship Id="rId3" Type="http://schemas.openxmlformats.org/officeDocument/2006/relationships/image" Target="../media/image26.gi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4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WordArt 2"/>
          <p:cNvSpPr txBox="1"/>
          <p:nvPr/>
        </p:nvSpPr>
        <p:spPr>
          <a:xfrm>
            <a:off x="2971800" y="1523880"/>
            <a:ext cx="5029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同学朋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2" name="Text Box 6"/>
          <p:cNvSpPr/>
          <p:nvPr/>
        </p:nvSpPr>
        <p:spPr>
          <a:xfrm>
            <a:off x="685800" y="5029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Arial"/>
                <a:ea typeface="黑体"/>
              </a:rPr>
              <a:t>我最亲爱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371600" y="685800"/>
            <a:ext cx="5943600" cy="25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d5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二单元　师友结伴同行 　　第三课   同侪携手共进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框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animClr clrSpc="rgb">
                                      <p:cBhvr>
                                        <p:cTn id="14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VREC003.WAV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一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平等互惠，体谅他人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80880" y="3049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和小宁是一对好朋友，小东的学习成绩很好，而小宁的成绩总不令人满意。小东在小宁的请求下经常帮助小宁补习功课，解答疑问，有时很晚才能回家，常常没有时间完成自己的功课。为此，小东的妈妈很着急，小东也很为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为什么觉得很为难，作为小宁你应该怎样做呢？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8" name="Picture 4" descr="7"/>
          <p:cNvPicPr/>
          <p:nvPr/>
        </p:nvPicPr>
        <p:blipFill>
          <a:blip r:embed="rId3"/>
          <a:stretch/>
        </p:blipFill>
        <p:spPr>
          <a:xfrm>
            <a:off x="7162920" y="4191120"/>
            <a:ext cx="1218960" cy="11811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5" descr="01"/>
          <p:cNvPicPr/>
          <p:nvPr/>
        </p:nvPicPr>
        <p:blipFill>
          <a:blip r:embed="rId4"/>
          <a:stretch/>
        </p:blipFill>
        <p:spPr>
          <a:xfrm>
            <a:off x="6477120" y="45720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5" name="arrow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29523" fill="hold"/>
                                        <p:tgtEl>
                                          <p:spTgt spid="10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新可.WAV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304920" cy="53352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可和小新是班上的文艺骨干。小可文笔好，小新画的好，大家称她俩是一对好搭档。但是最近她俩的关系出现了裂痕：小可认为小新画的插图不符合自己的意图，常常改动小新的画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新认为被改动的恰是自己的得意之处，因此很不高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是小可应该尊重小新的创意，还是小新应当允许小可的修改呢？她俩还能成为一对好搭档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2" name="Picture 4" descr="5"/>
          <p:cNvPicPr/>
          <p:nvPr/>
        </p:nvPicPr>
        <p:blipFill>
          <a:blip r:embed="rId3"/>
          <a:stretch/>
        </p:blipFill>
        <p:spPr>
          <a:xfrm>
            <a:off x="0" y="533520"/>
            <a:ext cx="1033560" cy="13716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5" descr="02"/>
          <p:cNvPicPr/>
          <p:nvPr/>
        </p:nvPicPr>
        <p:blipFill>
          <a:blip r:embed="rId4"/>
          <a:stretch/>
        </p:blipFill>
        <p:spPr>
          <a:xfrm>
            <a:off x="6477120" y="4191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024" name="PlaceHolder 2"/>
          <p:cNvSpPr>
            <a:spLocks noGrp="1"/>
          </p:cNvSpPr>
          <p:nvPr>
            <p:ph type="title"/>
          </p:nvPr>
        </p:nvSpPr>
        <p:spPr>
          <a:xfrm>
            <a:off x="301320" y="-4351320"/>
            <a:ext cx="46044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5" name="Rectangle 7"/>
          <p:cNvSpPr/>
          <p:nvPr/>
        </p:nvSpPr>
        <p:spPr>
          <a:xfrm>
            <a:off x="457200" y="510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二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正确处理意见和分歧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5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32832" fill="hold"/>
                                        <p:tgtEl>
                                          <p:spTgt spid="10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a67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林晖.WAV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三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友谊需要尺度，要把握好原则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的朋友小晖在校外和八年级一个经常恃强凌弱的学生打了一架，小林听说那个学生还有五个帮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该如何帮助朋友小晖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9" name="Picture 4" descr="6"/>
          <p:cNvPicPr/>
          <p:nvPr/>
        </p:nvPicPr>
        <p:blipFill>
          <a:blip r:embed="rId2"/>
          <a:stretch/>
        </p:blipFill>
        <p:spPr>
          <a:xfrm>
            <a:off x="685800" y="403848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1030" name="Group 5"/>
          <p:cNvGrpSpPr/>
          <p:nvPr/>
        </p:nvGrpSpPr>
        <p:grpSpPr>
          <a:xfrm>
            <a:off x="6046920" y="2057400"/>
            <a:ext cx="3096720" cy="3124080"/>
            <a:chOff x="6046920" y="2057400"/>
            <a:chExt cx="3096720" cy="3124080"/>
          </a:xfrm>
        </p:grpSpPr>
        <p:pic>
          <p:nvPicPr>
            <p:cNvPr id="1031" name="Picture 6" descr="03"/>
            <p:cNvPicPr/>
            <p:nvPr/>
          </p:nvPicPr>
          <p:blipFill>
            <a:blip r:embed="rId3"/>
            <a:stretch/>
          </p:blipFill>
          <p:spPr>
            <a:xfrm>
              <a:off x="6046920" y="2057400"/>
              <a:ext cx="26478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Text Box 7"/>
            <p:cNvSpPr/>
            <p:nvPr/>
          </p:nvSpPr>
          <p:spPr>
            <a:xfrm>
              <a:off x="7488000" y="2174400"/>
              <a:ext cx="1655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怎么办呢？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cover dir="r"/>
    <p:sndAc>
      <p:stSnd>
        <p:snd r:embed="rId4" name="arrow.wav"/>
      </p:stSnd>
    </p:sndAc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3998" fill="hold"/>
                                        <p:tgtEl>
                                          <p:spTgt spid="10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林2.WAV" descr=""/>
          <p:cNvPicPr/>
          <p:nvPr/>
        </p:nvPicPr>
        <p:blipFill>
          <a:blip r:embed="rId2"/>
          <a:stretch/>
        </p:blipFill>
        <p:spPr>
          <a:xfrm>
            <a:off x="8839080" y="441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四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慎重交友</a:t>
            </a: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晖没有听从小林的劝说，找了一些“朋友”去报仇了。结果受到了学校的处分，小晖不但不知错，而且还谩骂老师和校长。                                                                        小林应不应该还和小晖做朋友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6" name="Picture 4" descr="4"/>
          <p:cNvPicPr/>
          <p:nvPr/>
        </p:nvPicPr>
        <p:blipFill>
          <a:blip r:embed="rId3"/>
          <a:stretch/>
        </p:blipFill>
        <p:spPr>
          <a:xfrm>
            <a:off x="7862760" y="2362320"/>
            <a:ext cx="1281240" cy="2209680"/>
          </a:xfrm>
          <a:prstGeom prst="rect">
            <a:avLst/>
          </a:prstGeom>
          <a:ln w="0">
            <a:noFill/>
          </a:ln>
        </p:spPr>
      </p:pic>
      <p:sp>
        <p:nvSpPr>
          <p:cNvPr id="1037" name="Text Box 5"/>
          <p:cNvSpPr/>
          <p:nvPr/>
        </p:nvSpPr>
        <p:spPr>
          <a:xfrm>
            <a:off x="304920" y="4724280"/>
            <a:ext cx="7467480" cy="581400"/>
          </a:xfrm>
          <a:prstGeom prst="rect">
            <a:avLst/>
          </a:pr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与善人居，如入芝兰之室，久而不闻其香，即与之化矣。与不善人居，如入鲍鱼之肆，久而不闻其臭，亦与之化矣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4762" fill="hold"/>
                                        <p:tgtEl>
                                          <p:spTgt spid="10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AutoShape 2"/>
          <p:cNvSpPr/>
          <p:nvPr/>
        </p:nvSpPr>
        <p:spPr>
          <a:xfrm>
            <a:off x="539640" y="260280"/>
            <a:ext cx="962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9" name="Picture 3" descr="0002E"/>
          <p:cNvPicPr/>
          <p:nvPr/>
        </p:nvPicPr>
        <p:blipFill>
          <a:blip r:embed="rId2"/>
          <a:stretch/>
        </p:blipFill>
        <p:spPr>
          <a:xfrm>
            <a:off x="0" y="4797360"/>
            <a:ext cx="9144000" cy="1820880"/>
          </a:xfrm>
          <a:prstGeom prst="rect">
            <a:avLst/>
          </a:prstGeom>
          <a:ln w="0">
            <a:noFill/>
          </a:ln>
        </p:spPr>
      </p:pic>
      <p:sp>
        <p:nvSpPr>
          <p:cNvPr id="1040" name="Text Box 4"/>
          <p:cNvSpPr/>
          <p:nvPr/>
        </p:nvSpPr>
        <p:spPr>
          <a:xfrm>
            <a:off x="152280" y="2438280"/>
            <a:ext cx="12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与友同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1" name="AutoShape 5"/>
          <p:cNvSpPr/>
          <p:nvPr/>
        </p:nvSpPr>
        <p:spPr>
          <a:xfrm>
            <a:off x="1066680" y="1676520"/>
            <a:ext cx="533520" cy="2514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1791720" y="260280"/>
            <a:ext cx="124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华文彩云"/>
              </a:rPr>
              <a:t>小结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华文彩云"/>
              </a:rPr>
              <a:t>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1935720" y="1600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什么是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4" name="Rectangle 8"/>
          <p:cNvSpPr/>
          <p:nvPr/>
        </p:nvSpPr>
        <p:spPr>
          <a:xfrm>
            <a:off x="1935720" y="3733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友谊的原则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5" name="AutoShape 10"/>
          <p:cNvSpPr/>
          <p:nvPr/>
        </p:nvSpPr>
        <p:spPr>
          <a:xfrm>
            <a:off x="3657600" y="2514600"/>
            <a:ext cx="304920" cy="3029040"/>
          </a:xfrm>
          <a:custGeom>
            <a:avLst/>
            <a:gdLst>
              <a:gd name="textAreaLeft" fmla="*/ 194760 w 304920"/>
              <a:gd name="textAreaRight" fmla="*/ 305280 w 304920"/>
              <a:gd name="textAreaTop" fmla="*/ 78840 h 3029040"/>
              <a:gd name="textAreaBottom" fmla="*/ 2950200 h 302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6" name="Text Box 16"/>
          <p:cNvSpPr/>
          <p:nvPr/>
        </p:nvSpPr>
        <p:spPr>
          <a:xfrm>
            <a:off x="4038480" y="2362320"/>
            <a:ext cx="33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平等互惠，体谅他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7" name="Text Box 17"/>
          <p:cNvSpPr/>
          <p:nvPr/>
        </p:nvSpPr>
        <p:spPr>
          <a:xfrm>
            <a:off x="4038480" y="3352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正确处理意见和分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8" name="Text Box 18"/>
          <p:cNvSpPr/>
          <p:nvPr/>
        </p:nvSpPr>
        <p:spPr>
          <a:xfrm>
            <a:off x="4038480" y="4114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友谊需要尺度，要把握好原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9" name="Text Box 19"/>
          <p:cNvSpPr/>
          <p:nvPr/>
        </p:nvSpPr>
        <p:spPr>
          <a:xfrm>
            <a:off x="4038480" y="51055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0" name="Text Box 20"/>
          <p:cNvSpPr/>
          <p:nvPr/>
        </p:nvSpPr>
        <p:spPr>
          <a:xfrm>
            <a:off x="4114800" y="51055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慎重交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2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[周华健]朋友  伴奏 cn^ Net E音-周华健.mp3" descr=""/>
          <p:cNvPicPr/>
          <p:nvPr/>
        </p:nvPicPr>
        <p:blipFill>
          <a:blip r:embed="rId2"/>
          <a:stretch/>
        </p:blipFill>
        <p:spPr>
          <a:xfrm>
            <a:off x="6324480" y="1447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5410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琥珀"/>
              </a:rPr>
              <a:t>心灵导航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3" name="Text Box 3"/>
          <p:cNvSpPr/>
          <p:nvPr/>
        </p:nvSpPr>
        <p:spPr>
          <a:xfrm>
            <a:off x="2411280" y="1341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Black"/>
                <a:ea typeface="华文细黑"/>
              </a:rPr>
              <a:t>名   言   欣  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4" name="Text Box 4"/>
          <p:cNvSpPr/>
          <p:nvPr/>
        </p:nvSpPr>
        <p:spPr>
          <a:xfrm>
            <a:off x="395280" y="2276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世界上最美好的东西，莫过于有几个头脑和心地都很正直的严正的朋友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                                    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爱因斯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5" name="Text Box 5"/>
          <p:cNvSpPr/>
          <p:nvPr/>
        </p:nvSpPr>
        <p:spPr>
          <a:xfrm>
            <a:off x="395280" y="400536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多一个真正的朋友，就多一块陶冶情操的砺石，多一分战胜困难的力量，多一个锐意进取的伴侣。       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                              ──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（法）小仲马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59044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1258920" y="2781360"/>
            <a:ext cx="5943600" cy="1847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一</a:t>
            </a: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的人际圈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533520" y="685800"/>
            <a:ext cx="807696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780000" y="2349360"/>
            <a:ext cx="2286000" cy="1828800"/>
          </a:xfrm>
          <a:prstGeom prst="donut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835280" y="476280"/>
            <a:ext cx="6248160" cy="5715000"/>
          </a:xfrm>
          <a:prstGeom prst="donut">
            <a:avLst>
              <a:gd name="adj" fmla="val 25000"/>
            </a:avLst>
          </a:prstGeom>
          <a:solidFill>
            <a:srgbClr val="99ff66"/>
          </a:solidFill>
          <a:ln w="9360">
            <a:solidFill>
              <a:srgbClr val="1a55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7451640" y="765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陌生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3203640" y="119700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一般的同学或熟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3851280" y="4149720"/>
            <a:ext cx="19810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较好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924360" y="23493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知心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4643280" y="299736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3" name=""/>
          <p:cNvSpPr/>
          <p:nvPr/>
        </p:nvSpPr>
        <p:spPr>
          <a:xfrm>
            <a:off x="-27720" y="1278000"/>
            <a:ext cx="1399320" cy="4437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琥珀"/>
              </a:rPr>
              <a:t>人际关系树轮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5092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自己的人际关系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461880" y="1700280"/>
            <a:ext cx="806472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在与同学的交往中，如果封闭自己，只会使我们的“人际关系树轮”萎缩，，使自己陷入孤立，如果保持积极开放的心态，我们就会接触更多的人，分享更多的经验和快乐，同时也会被更多的人接纳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1828800" y="10666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新魏"/>
              </a:rPr>
              <a:t>受欢迎的优点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真诚、理解、值得信赖、理智、有思想、体贴、热情、友好、不自私、幽默、负责任、开朗、信任别人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华文新魏"/>
              </a:rPr>
              <a:t>┉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80880" y="41911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不受欢迎的缺点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尖刻、多嘴多舌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自私、目光短浅、粗鲁、自高自大、贪婪、不真诚、恶毒、冷酷、邪恶、说谎</a:t>
            </a:r>
            <a:r>
              <a:rPr b="1" lang="zh-CN" sz="2400" spc="-1" strike="noStrike">
                <a:solidFill>
                  <a:srgbClr val="3333ff"/>
                </a:solidFill>
                <a:latin typeface="隶书"/>
                <a:ea typeface="华文新魏"/>
              </a:rPr>
              <a:t>┉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3"/>
          <a:stretch/>
        </p:blipFill>
        <p:spPr>
          <a:xfrm>
            <a:off x="228600" y="685800"/>
            <a:ext cx="1365120" cy="281952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1905120" y="228600"/>
            <a:ext cx="4724280" cy="685800"/>
          </a:xfrm>
          <a:prstGeom prst="cloudCallout">
            <a:avLst>
              <a:gd name="adj1" fmla="val -67472"/>
              <a:gd name="adj2" fmla="val 152777"/>
            </a:avLst>
          </a:prstGeom>
          <a:solidFill>
            <a:srgbClr val="a8c9f6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谁最受欢迎？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WordArt 2" descr=""/>
          <p:cNvPicPr/>
          <p:nvPr/>
        </p:nvPicPr>
        <p:blipFill>
          <a:blip r:embed="rId2"/>
          <a:stretch/>
        </p:blipFill>
        <p:spPr>
          <a:xfrm>
            <a:off x="1755720" y="2292480"/>
            <a:ext cx="5626080" cy="15843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3" name="arrow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cca0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有两个朋友在路上边走边聊，突然一只狗熊从树丛中窜到他们面前。一个人迅速地爬上路旁的一棵大树上，躲了起来；另一个人无路可逃，只好躺在地上忍住呼吸装死，熊走到“死人”身旁，用鼻子嗅了嗅，便大摇大摆走了。熊走后，树上的人下来问装死的朋友，熊对你说了什么，这个装死的人回答道：“熊忠告我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Text Box 3"/>
          <p:cNvSpPr/>
          <p:nvPr/>
        </p:nvSpPr>
        <p:spPr>
          <a:xfrm>
            <a:off x="87840" y="476280"/>
            <a:ext cx="667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4" name="Text Box 4"/>
          <p:cNvSpPr/>
          <p:nvPr/>
        </p:nvSpPr>
        <p:spPr>
          <a:xfrm>
            <a:off x="1371600" y="5486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对于在危险面前抛弃你的人决不可与他交朋友。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5" name="Picture 5" descr="1"/>
          <p:cNvPicPr/>
          <p:nvPr/>
        </p:nvPicPr>
        <p:blipFill>
          <a:blip r:embed="rId2"/>
          <a:stretch/>
        </p:blipFill>
        <p:spPr>
          <a:xfrm>
            <a:off x="7620120" y="4543560"/>
            <a:ext cx="1258920" cy="231444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34560" fill="hold"/>
                                        <p:tgtEl>
                                          <p:spTgt spid="10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060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两个朋友在沙漠中旅行，在旅途中他们吵架了，一个还打了另外一个一记耳光。被打的觉得受辱，一言不语，在沙子上写下：“今天我的好朋友打了我一巴掌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他们继续往前走，到了沃野，他们就决定停下。被打耳光的那位差点儿淹死，幸好被朋友救起。被救起后，他拿了一把小剑在石头上刻下：“今天我的好朋友救了我一命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朋友好奇地问：“为什么我打了你以后，你要写在沙子上，而现在要刻在石头上呢？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另一个笑了笑，回答说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3"/>
          <p:cNvSpPr/>
          <p:nvPr/>
        </p:nvSpPr>
        <p:spPr>
          <a:xfrm>
            <a:off x="3600" y="1066680"/>
            <a:ext cx="6678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9" name="Picture 5" descr="3"/>
          <p:cNvPicPr/>
          <p:nvPr/>
        </p:nvPicPr>
        <p:blipFill>
          <a:blip r:embed="rId2"/>
          <a:stretch/>
        </p:blipFill>
        <p:spPr>
          <a:xfrm>
            <a:off x="152280" y="304920"/>
            <a:ext cx="733680" cy="533160"/>
          </a:xfrm>
          <a:prstGeom prst="rect">
            <a:avLst/>
          </a:prstGeom>
          <a:ln w="0">
            <a:noFill/>
          </a:ln>
        </p:spPr>
      </p:pic>
      <p:sp>
        <p:nvSpPr>
          <p:cNvPr id="1010" name="Text Box 6"/>
          <p:cNvSpPr/>
          <p:nvPr/>
        </p:nvSpPr>
        <p:spPr>
          <a:xfrm>
            <a:off x="533520" y="502920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当被一个朋友伤害时，要写在易忘的地方，风会负责抹去它；相反，如果被帮助，我们要把它刻在心里的深处，那里任何风都不能抹灭它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3"/>
          <a:stretch/>
        </p:blipFill>
        <p:spPr>
          <a:xfrm>
            <a:off x="2286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47640" fill="hold"/>
                                        <p:tgtEl>
                                          <p:spTgt spid="10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79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Text Box 2"/>
          <p:cNvSpPr/>
          <p:nvPr/>
        </p:nvSpPr>
        <p:spPr>
          <a:xfrm>
            <a:off x="0" y="68580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华文隶书"/>
                <a:ea typeface="华文隶书"/>
              </a:rPr>
              <a:t>普通的朋友与真正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　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从未看过你哭泣。一个真正的朋友有双肩让你的泪水湿尽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吵架后就认为友谊已经结束。一个真正的朋友明白当你们还没打过架就不叫真正的友谊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找你谈论你的困扰。一个真正的朋友找你解决你的困扰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拜访时，像一个客人一样。一个真正的朋友会打开冰箱自己拿东西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期望你永远在他身边陪他。一个真正的朋友期望他能永远陪在你身旁 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3" name="Text Box 3"/>
          <p:cNvSpPr/>
          <p:nvPr/>
        </p:nvSpPr>
        <p:spPr>
          <a:xfrm>
            <a:off x="1887480" y="55227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4" name="Picture 4" descr="8"/>
          <p:cNvPicPr/>
          <p:nvPr/>
        </p:nvPicPr>
        <p:blipFill>
          <a:blip r:embed="rId1"/>
          <a:stretch/>
        </p:blipFill>
        <p:spPr>
          <a:xfrm>
            <a:off x="3886200" y="2743200"/>
            <a:ext cx="857160" cy="285768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arrow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deardu.com</dc:creator>
  <dc:description>www.deardu.com</dc:description>
  <cp:keywords>www.deardu.com</cp:keywords>
  <dc:language>en-US</dc:language>
  <cp:lastModifiedBy>微软用户</cp:lastModifiedBy>
  <dcterms:modified xsi:type="dcterms:W3CDTF">2012-08-30T07:43:14Z</dcterms:modified>
  <cp:revision>10</cp:revision>
  <dc:subject>www.deardu.com</dc:subject>
  <dc:title>www.dear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