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arrow.wav" ContentType="audio/x-wav"/>
  <Override PartName="/ppt/media/image18.gif" ContentType="image/gif"/>
  <Override PartName="/ppt/media/image5.jpeg" ContentType="image/jpeg"/>
  <Override PartName="/ppt/media/image15.gif" ContentType="image/gif"/>
  <Override PartName="/ppt/media/image7.jpeg" ContentType="image/jpeg"/>
  <Override PartName="/ppt/media/image6.jpeg" ContentType="image/jpeg"/>
  <Override PartName="/ppt/media/image25.jpeg" ContentType="image/jpeg"/>
  <Override PartName="/ppt/media/image4.jpeg" ContentType="image/jpeg"/>
  <Override PartName="/ppt/media/image10.wmf" ContentType="image/x-wmf"/>
  <Override PartName="/ppt/media/image19.jpeg" ContentType="image/jpeg"/>
  <Override PartName="/ppt/media/image11.png" ContentType="image/png"/>
  <Override PartName="/ppt/media/image9.jpeg" ContentType="image/jpeg"/>
  <Override PartName="/ppt/media/image8.jpeg" ContentType="image/jpeg"/>
  <Override PartName="/ppt/media/image12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1.jpeg" ContentType="image/jpeg"/>
  <Override PartName="/ppt/media/cashreg.wav" ContentType="audio/x-wav"/>
  <Override PartName="/ppt/media/image22.jpeg" ContentType="image/jpeg"/>
  <Override PartName="/ppt/media/image28.jpeg" ContentType="image/jpeg"/>
  <Override PartName="/ppt/media/image27.gif" ContentType="image/gif"/>
  <Override PartName="/ppt/media/image13.gif" ContentType="image/gif"/>
  <Override PartName="/ppt/media/image16.gif" ContentType="image/gif"/>
  <Override PartName="/ppt/media/image17.jpeg" ContentType="image/jpeg"/>
  <Override PartName="/ppt/media/image23.gif" ContentType="image/gif"/>
  <Override PartName="/ppt/media/image14.png" ContentType="image/png"/>
  <Override PartName="/ppt/media/image21.gif" ContentType="image/gif"/>
  <Override PartName="/ppt/media/image26.gif" ContentType="image/gif"/>
  <Override PartName="/ppt/media/image20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8507-2307-4D0D-BD81-EFF84FA91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98A3-7330-4145-B42A-5F83CBD5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C94F5A-8112-4FAD-903E-61CEFFCFE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784CDF-40BC-4624-B156-1BFFB1B7F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97CA53-18E1-4508-B7CE-EB694F278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79FD34-7E6B-468A-8D2C-50BC4206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36D800-20AE-4CC6-8660-A7A860C0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F82704-2FAC-4FE6-B8F3-8D4E4B32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B1C26D-616B-4546-80E3-9F02C213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590C9A-E5FA-4575-8414-66DC256D3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9FF93A-4310-4F6D-A6B0-5A4169E40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E38685-086A-44F1-A91C-7F7F62534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3864-71D1-479B-85B1-EF0988E62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35065E-6482-4D82-9E69-AD6D8EAC6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012DE3-9553-478B-87A2-5349C7BF3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6B7CA1-C84F-4A8F-9665-F9392C709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A3023F-085C-4721-8CDE-ED2648FE1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9481A6-8655-4C2E-8039-7DD7B8BE8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28859E-587B-48DE-9794-1CB0CE32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8E177F-E884-440A-BB19-874D3FDB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79865D-A9E9-4CB6-8FB1-4F6C4D4F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DE5060-E230-4A05-AD04-5D567D094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00A09A-ACD3-43F8-9705-3B192523F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ED4B-7989-4B97-8687-8E5F1BD34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462BD8-F752-4632-BEC5-6618FD2DD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213921-4315-4001-BED3-34489CD93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FD26F2-7D27-4C67-8967-5961883BB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1D17E0-47DE-4CE8-8A83-C226CB04B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6E25B5-D00D-4729-B462-5B22B1582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226B94-C588-45FF-B1EB-9AC715282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2ED824-ED91-44B3-9F40-EDAFA1647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095118-416D-47CE-B97E-90C150FA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5B0AB9-D7BF-4A1C-ACBA-74DED3D4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DF573D-21AD-4B91-898B-345CC5CD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7C631-669B-412E-98AC-7EF2A2808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553D6A-F0CC-486E-A166-357B86057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4A3786-11B2-42EB-80E9-E4A1975B1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775F17-C900-4266-99B3-687344F86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6590BE-09B0-431F-B5C6-0862CCDEE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EBFEF7-6C33-4884-91D8-516591715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0DAB69-0F10-484C-B49F-ADB41AD6A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0D4B5F-A970-4E1E-913C-20719A7AB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137DF2-48C9-4233-B23D-B9AE4901F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D5803F-137C-4512-A2A6-56AE1C523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616240-B86F-4612-B8EA-29CA1F2B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4F674-B0C3-457F-9835-AC754899F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A2D31D-C22D-4DA3-9A2F-E67B7D94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6ACBD3-98F5-4AEC-8CBC-602BA551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B0268B-C965-4A30-8D6A-96BA467DD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947D03-452E-42B3-B6AF-00A855655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A56B86-ECED-4F4A-8204-AE98504BE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8833C-699F-4A41-BAF3-D3BA99545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DC116-C356-456C-997B-349A0FB28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07D45-C046-45D6-B01D-320148F7A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16B88-A25D-4025-8384-A9631D4FF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DF6CF-117F-451C-9A8D-7288EEDB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20F2-5C70-4067-8DED-61BC896BD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FC87D-1093-410D-9237-0A801910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770CE-0D93-4839-9FBD-63F361D2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9137C-D332-4D28-B753-142948091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34D79-8C22-4CE0-A38D-267532749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270C8-4973-414A-812A-F5B7A6DC7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4765A-EA95-4B47-9288-971FBF9E2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81CC5-80A6-4AED-95DC-19750C4E6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EBA98-CDE8-4232-A0CA-B822DBA3D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627B3-A240-4FD4-BF13-9283ED501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F8FFA-8220-4F34-B577-BF5913770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BEDE-CE5A-4A11-950B-4405C97E1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99736-C366-41B8-9036-F3980794E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C5C95-9898-4A2D-9CB2-AEBE7CB7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CA1C1-78FE-446A-B6A8-589C1B1B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CDDCA-B39B-4F68-A96D-F66A8070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C10F6-CAD4-417C-B711-F9D239CCA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B926A-4BE1-4D8A-A8ED-2A9514FEC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9B98E-6117-4B1D-B345-AB144291E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4B072-CFCC-4465-A44E-BBFE439E8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59541-E8FE-4A06-834B-E6EDF979A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C72E6-CBFC-4C9E-8A74-75BE90348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C639-8539-4F70-81EF-8ADA3C4E7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61041-67A3-4BFB-9152-7A558EA81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7AAB3-6FF4-4C37-8C69-F0D29DFD4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64A83-17A6-40A9-B801-548C65373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83B02-CE6B-4C26-90E6-BB2310B4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B84B6-35A5-4D22-9CC9-B9ADF304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3E526-1935-4662-A835-6860C6AB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6F7C7-E382-4DAE-A145-CB04DDD20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CFE32-A093-4323-8D45-4209D95C9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87894-549E-48DB-96F7-5DEFB05F6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D91B7-F1F2-4DAA-A1C2-C23B79BDF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B8F1-FA22-4070-8197-D07C910C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D3916-B4DC-4E6F-B626-9E00DB89F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F4E5E-F8BC-425C-83B4-B43B2796E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A3152-FCBD-4E33-ACF0-7AC3DE9C8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3B3C4-E744-42A3-9A5E-0B4E8AFE0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1F858-2F6E-4778-92CD-12C7B067C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87E2F-09C1-4605-9DC0-F4CD42CE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78CD2-5C34-4956-A644-D719CDCB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98F32-7CDE-4C32-A530-E51E83E1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8ACC2-DF20-4C93-8D04-6EC28F8D9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36F9B-234A-4A4B-AF00-ADACE041D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4911-7DFD-4A76-8B35-C80D76120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6549E-ECF3-4649-90A2-070E1C40E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DC7DF-43A9-4299-9E9E-E9E432471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EA4623-A640-4A0A-B9FC-411523F89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3AFCE-83CC-4E07-ACEA-C3D1D2CE5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10B59-545A-49A2-93CC-1B9969F72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E8549-395C-4345-9F3B-D9E47B90F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5841C-13C0-4BA8-9384-861736F2B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F90BE-C181-437B-8BE7-BBFE1354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087F9-E583-4A4E-8DE3-080F9B2F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AD0465-04CA-4B0E-90A4-5C364705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8656-5A62-4E63-9D72-441A8ED9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37168-DED9-4147-A92E-DF61D1BB6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AEB65-C99E-4351-809D-FDF1BDD87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6D7705-618E-48B4-8F3B-18C220C08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451B8-EE89-4EFB-B49B-257B36850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77229-4C87-40D2-A774-F62482DA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3D29F-DCF7-4343-8522-C771FB113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C8EBC-C048-4D4C-83D8-D969122DA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4071F5-6980-4FE1-87E7-BE9147781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60B01-F5DB-416D-A8C6-174802AC7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1B2996-C9C3-4DE4-8716-785AC9AD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D687-C4E6-4057-8686-AC95F89F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71B4A0-0307-4884-9548-8CE67E73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FDE45-02D4-4DF9-81B1-55E94E66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F3CDF7-4974-4D35-9B1E-E14EC2B1F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A1E1D-3451-466A-890E-48718844B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D96F9-915A-4E35-8CB3-85BA0AFD7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960382-7668-46A8-A257-28DDFB458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EEFE12-B428-4A3B-A356-14DFF3FBF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CAF771-9CD5-47D0-A825-95BF7D7ED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97EA0F-BD52-4B51-8E95-A0EEE5D3F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A762CB-2EAB-4792-9C95-FDD555BC4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E9C1-8087-4FF1-9E06-283B5891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522621-1769-46FF-918B-C0C19068A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829AA9-E250-452C-9A6B-7465C3BA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34D2B7-CC66-472B-8F61-A22D916E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0BCEE3-5DD8-4DCA-A47E-ECFD92AF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30E380-B788-447C-A504-5E3BBED33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1C9BCA-98FF-4C42-A493-1EF979620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0B246C-41EB-4142-BB38-F4CBB6AED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A6FD62-2C09-4F5C-AC2A-41AFC766B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985261-3E31-4A66-9171-422D86F81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FA08A5-EDE5-45C8-B459-7B906EE85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2D118-BFDE-4ADE-810F-EC7FC9D1E876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3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3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3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dt" idx="28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ftr" idx="29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sldNum" idx="30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0178F-18F6-48B6-A76E-BD7ABC04E558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480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626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640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654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668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682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696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710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711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712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 type="dt" idx="3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 type="ftr" idx="3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 type="sldNum" idx="3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2A34D-CC13-483D-A9EF-CA0BB137EF9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768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782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dt" idx="3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ftr" idx="3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17491-C54C-41A4-86B1-BA3FC9A79BA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1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932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FA548-CF05-45F6-A1CF-97F6C04D9FB4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6F01D-C5D2-4542-B742-299222550A9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1BC4A-7540-4593-862E-20665E10DF8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76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877FF-AE8E-4554-9E1A-59CE9392C94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F2BC6-5E92-4463-8770-F2A81A501D6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6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6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7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7CE5F-2FA0-4722-BB73-486084A8A6A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32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32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32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3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6A11D-0DAB-4DCD-B44B-5C00D3D86CE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08E36-D849-4261-B7BA-17429AB6A58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arrow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png"/><Relationship Id="rId3" Type="http://schemas.openxmlformats.org/officeDocument/2006/relationships/image" Target="../media/image18.gif"/><Relationship Id="rId4" Type="http://schemas.openxmlformats.org/officeDocument/2006/relationships/image" Target="../media/image19.jpe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4.png"/><Relationship Id="rId3" Type="http://schemas.openxmlformats.org/officeDocument/2006/relationships/image" Target="../media/image21.gif"/><Relationship Id="rId4" Type="http://schemas.openxmlformats.org/officeDocument/2006/relationships/image" Target="../media/image22.jpe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3.gif"/><Relationship Id="rId3" Type="http://schemas.openxmlformats.org/officeDocument/2006/relationships/image" Target="../media/image24.jpe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4.png"/><Relationship Id="rId3" Type="http://schemas.openxmlformats.org/officeDocument/2006/relationships/image" Target="../media/image26.gif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4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gif"/><Relationship Id="rId3" Type="http://schemas.openxmlformats.org/officeDocument/2006/relationships/image" Target="../media/image14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WordArt 2"/>
          <p:cNvSpPr txBox="1"/>
          <p:nvPr/>
        </p:nvSpPr>
        <p:spPr>
          <a:xfrm>
            <a:off x="2971800" y="1523880"/>
            <a:ext cx="50292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86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同学朋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82" name="Text Box 6"/>
          <p:cNvSpPr/>
          <p:nvPr/>
        </p:nvSpPr>
        <p:spPr>
          <a:xfrm>
            <a:off x="685800" y="50292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33"/>
                </a:solidFill>
                <a:latin typeface="Arial"/>
                <a:ea typeface="黑体"/>
              </a:rPr>
              <a:t>我最亲爱的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371600" y="685800"/>
            <a:ext cx="5943600" cy="255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d5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二单元　师友结伴同行 　　第三课   同侪携手共进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一框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a679"/>
                                      </p:to>
                                    </p:animClr>
                                    <p:animClr clrSpc="rgb">
                                      <p:cBhvr>
                                        <p:cTn id="14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a679"/>
                                      </p:to>
                                    </p:animClr>
                                    <p:set>
                                      <p:cBhvr>
                                        <p:cTn id="15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5" name="VREC003.WAV" descr=""/>
          <p:cNvPicPr/>
          <p:nvPr/>
        </p:nvPicPr>
        <p:blipFill>
          <a:blip r:embed="rId2"/>
          <a:stretch/>
        </p:blipFill>
        <p:spPr>
          <a:xfrm>
            <a:off x="6781680" y="3657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38088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一</a:t>
            </a: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：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平等互惠，体谅他人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380880" y="30492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小东和小宁是一对好朋友，小东的学习成绩很好，而小宁的成绩总不令人满意。小东在小宁的请求下经常帮助小宁补习功课，解答疑问，有时很晚才能回家，常常没有时间完成自己的功课。为此，小东的妈妈很着急，小东也很为难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小东为什么觉得很为难，作为小宁你应该怎样做呢？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8" name="Picture 4" descr="7"/>
          <p:cNvPicPr/>
          <p:nvPr/>
        </p:nvPicPr>
        <p:blipFill>
          <a:blip r:embed="rId3"/>
          <a:stretch/>
        </p:blipFill>
        <p:spPr>
          <a:xfrm>
            <a:off x="7162920" y="4191120"/>
            <a:ext cx="1218960" cy="118116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5" descr="01"/>
          <p:cNvPicPr/>
          <p:nvPr/>
        </p:nvPicPr>
        <p:blipFill>
          <a:blip r:embed="rId4"/>
          <a:stretch/>
        </p:blipFill>
        <p:spPr>
          <a:xfrm>
            <a:off x="6477120" y="457200"/>
            <a:ext cx="2438280" cy="365760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5" name="arrow.wav"/>
      </p:stSnd>
    </p:sndAc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" dur="29523" fill="hold"/>
                                        <p:tgtEl>
                                          <p:spTgt spid="10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新可.WAV" descr=""/>
          <p:cNvPicPr/>
          <p:nvPr/>
        </p:nvPicPr>
        <p:blipFill>
          <a:blip r:embed="rId2"/>
          <a:stretch/>
        </p:blipFill>
        <p:spPr>
          <a:xfrm>
            <a:off x="6629400" y="4572000"/>
            <a:ext cx="304920" cy="533520"/>
          </a:xfrm>
          <a:prstGeom prst="rect">
            <a:avLst/>
          </a:prstGeom>
          <a:ln w="0">
            <a:noFill/>
          </a:ln>
        </p:spPr>
      </p:pic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60948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小可和小新是班上的文艺骨干。小可文笔好，小新画的好，大家称她俩是一对好搭档。但是最近她俩的关系出现了裂痕：小可认为小新画的插图不符合自己的意图，常常改动小新的画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;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小新认为被改动的恰是自己的得意之处，因此很不高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是小可应该尊重小新的创意，还是小新应当允许小可的修改呢？她俩还能成为一对好搭档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2" name="Picture 4" descr="5"/>
          <p:cNvPicPr/>
          <p:nvPr/>
        </p:nvPicPr>
        <p:blipFill>
          <a:blip r:embed="rId3"/>
          <a:stretch/>
        </p:blipFill>
        <p:spPr>
          <a:xfrm>
            <a:off x="0" y="533520"/>
            <a:ext cx="1033560" cy="137160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5" descr="02"/>
          <p:cNvPicPr/>
          <p:nvPr/>
        </p:nvPicPr>
        <p:blipFill>
          <a:blip r:embed="rId4"/>
          <a:stretch/>
        </p:blipFill>
        <p:spPr>
          <a:xfrm>
            <a:off x="6477120" y="419112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1024" name="PlaceHolder 2"/>
          <p:cNvSpPr>
            <a:spLocks noGrp="1"/>
          </p:cNvSpPr>
          <p:nvPr>
            <p:ph type="title"/>
          </p:nvPr>
        </p:nvSpPr>
        <p:spPr>
          <a:xfrm>
            <a:off x="301320" y="-4351320"/>
            <a:ext cx="460440" cy="92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5" name="Rectangle 7"/>
          <p:cNvSpPr/>
          <p:nvPr/>
        </p:nvSpPr>
        <p:spPr>
          <a:xfrm>
            <a:off x="457200" y="5105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二：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正确处理意见和分歧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5" name="arrow.wav"/>
      </p:stSnd>
    </p:sndAc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32832" fill="hold"/>
                                        <p:tgtEl>
                                          <p:spTgt spid="10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a67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林晖.WAV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三：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友谊需要尺度，要把握好原则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林的朋友小晖在校外和八年级一个经常恃强凌弱的学生打了一架，小林听说那个学生还有五个帮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林该如何帮助朋友小晖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9" name="Picture 4" descr="6"/>
          <p:cNvPicPr/>
          <p:nvPr/>
        </p:nvPicPr>
        <p:blipFill>
          <a:blip r:embed="rId2"/>
          <a:stretch/>
        </p:blipFill>
        <p:spPr>
          <a:xfrm>
            <a:off x="685800" y="4038480"/>
            <a:ext cx="952560" cy="952560"/>
          </a:xfrm>
          <a:prstGeom prst="rect">
            <a:avLst/>
          </a:prstGeom>
          <a:ln w="0">
            <a:noFill/>
          </a:ln>
        </p:spPr>
      </p:pic>
      <p:grpSp>
        <p:nvGrpSpPr>
          <p:cNvPr id="1030" name="Group 5"/>
          <p:cNvGrpSpPr/>
          <p:nvPr/>
        </p:nvGrpSpPr>
        <p:grpSpPr>
          <a:xfrm>
            <a:off x="6046920" y="2057400"/>
            <a:ext cx="3096720" cy="3124080"/>
            <a:chOff x="6046920" y="2057400"/>
            <a:chExt cx="3096720" cy="3124080"/>
          </a:xfrm>
        </p:grpSpPr>
        <p:pic>
          <p:nvPicPr>
            <p:cNvPr id="1031" name="Picture 6" descr="03"/>
            <p:cNvPicPr/>
            <p:nvPr/>
          </p:nvPicPr>
          <p:blipFill>
            <a:blip r:embed="rId3"/>
            <a:stretch/>
          </p:blipFill>
          <p:spPr>
            <a:xfrm>
              <a:off x="6046920" y="2057400"/>
              <a:ext cx="264780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2" name="Text Box 7"/>
            <p:cNvSpPr/>
            <p:nvPr/>
          </p:nvSpPr>
          <p:spPr>
            <a:xfrm>
              <a:off x="7488000" y="2174400"/>
              <a:ext cx="16556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708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怎么办呢？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>
    <p:cover dir="r"/>
    <p:sndAc>
      <p:stSnd>
        <p:snd r:embed="rId4" name="arrow.wav"/>
      </p:stSnd>
    </p:sndAc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" dur="13998" fill="hold"/>
                                        <p:tgtEl>
                                          <p:spTgt spid="10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林2.WAV" descr=""/>
          <p:cNvPicPr/>
          <p:nvPr/>
        </p:nvPicPr>
        <p:blipFill>
          <a:blip r:embed="rId2"/>
          <a:stretch/>
        </p:blipFill>
        <p:spPr>
          <a:xfrm>
            <a:off x="8839080" y="4419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228600" y="3428640"/>
            <a:ext cx="73915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四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慎重交友</a:t>
            </a:r>
            <a:br>
              <a:rPr sz="4000"/>
            </a:b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0" y="3045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晖没有听从小林的劝说，找了一些“朋友”去报仇了。结果受到了学校的处分，小晖不但不知错，而且还谩骂老师和校长。                                                                        小林应不应该还和小晖做朋友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6" name="Picture 4" descr="4"/>
          <p:cNvPicPr/>
          <p:nvPr/>
        </p:nvPicPr>
        <p:blipFill>
          <a:blip r:embed="rId3"/>
          <a:stretch/>
        </p:blipFill>
        <p:spPr>
          <a:xfrm>
            <a:off x="7862760" y="2362320"/>
            <a:ext cx="1281240" cy="2209680"/>
          </a:xfrm>
          <a:prstGeom prst="rect">
            <a:avLst/>
          </a:prstGeom>
          <a:ln w="0">
            <a:noFill/>
          </a:ln>
        </p:spPr>
      </p:pic>
      <p:sp>
        <p:nvSpPr>
          <p:cNvPr id="1037" name="Text Box 5"/>
          <p:cNvSpPr/>
          <p:nvPr/>
        </p:nvSpPr>
        <p:spPr>
          <a:xfrm>
            <a:off x="304920" y="4724280"/>
            <a:ext cx="7467480" cy="581400"/>
          </a:xfrm>
          <a:prstGeom prst="rect">
            <a:avLst/>
          </a:pr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与善人居，如入芝兰之室，久而不闻其香，即与之化矣。与不善人居，如入鲍鱼之肆，久而不闻其臭，亦与之化矣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900" fill="hold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14762" fill="hold"/>
                                        <p:tgtEl>
                                          <p:spTgt spid="10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AutoShape 2"/>
          <p:cNvSpPr/>
          <p:nvPr/>
        </p:nvSpPr>
        <p:spPr>
          <a:xfrm>
            <a:off x="539640" y="260280"/>
            <a:ext cx="96228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9" name="Picture 3" descr="0002E"/>
          <p:cNvPicPr/>
          <p:nvPr/>
        </p:nvPicPr>
        <p:blipFill>
          <a:blip r:embed="rId2"/>
          <a:stretch/>
        </p:blipFill>
        <p:spPr>
          <a:xfrm>
            <a:off x="0" y="4797360"/>
            <a:ext cx="9144000" cy="1820880"/>
          </a:xfrm>
          <a:prstGeom prst="rect">
            <a:avLst/>
          </a:prstGeom>
          <a:ln w="0">
            <a:noFill/>
          </a:ln>
        </p:spPr>
      </p:pic>
      <p:sp>
        <p:nvSpPr>
          <p:cNvPr id="1040" name="Text Box 4"/>
          <p:cNvSpPr/>
          <p:nvPr/>
        </p:nvSpPr>
        <p:spPr>
          <a:xfrm>
            <a:off x="152280" y="2438280"/>
            <a:ext cx="12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与友同行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1" name="AutoShape 5"/>
          <p:cNvSpPr/>
          <p:nvPr/>
        </p:nvSpPr>
        <p:spPr>
          <a:xfrm>
            <a:off x="1066680" y="1676520"/>
            <a:ext cx="533520" cy="2514600"/>
          </a:xfrm>
          <a:custGeom>
            <a:avLst/>
            <a:gdLst>
              <a:gd name="textAreaLeft" fmla="*/ 340920 w 533520"/>
              <a:gd name="textAreaRight" fmla="*/ 533880 w 53352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2" name="Rectangle 6"/>
          <p:cNvSpPr/>
          <p:nvPr/>
        </p:nvSpPr>
        <p:spPr>
          <a:xfrm>
            <a:off x="1791720" y="260280"/>
            <a:ext cx="124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华文彩云"/>
              </a:rPr>
              <a:t>小结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华文彩云"/>
              </a:rPr>
              <a:t>: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3" name="Rectangle 7"/>
          <p:cNvSpPr/>
          <p:nvPr/>
        </p:nvSpPr>
        <p:spPr>
          <a:xfrm>
            <a:off x="1935720" y="16002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什么是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4" name="Rectangle 8"/>
          <p:cNvSpPr/>
          <p:nvPr/>
        </p:nvSpPr>
        <p:spPr>
          <a:xfrm>
            <a:off x="1935720" y="37339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友谊的原则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5" name="AutoShape 10"/>
          <p:cNvSpPr/>
          <p:nvPr/>
        </p:nvSpPr>
        <p:spPr>
          <a:xfrm>
            <a:off x="3657600" y="2514600"/>
            <a:ext cx="304920" cy="3029040"/>
          </a:xfrm>
          <a:custGeom>
            <a:avLst/>
            <a:gdLst>
              <a:gd name="textAreaLeft" fmla="*/ 194760 w 304920"/>
              <a:gd name="textAreaRight" fmla="*/ 305280 w 304920"/>
              <a:gd name="textAreaTop" fmla="*/ 78840 h 3029040"/>
              <a:gd name="textAreaBottom" fmla="*/ 2950200 h 3029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6" name="Text Box 16"/>
          <p:cNvSpPr/>
          <p:nvPr/>
        </p:nvSpPr>
        <p:spPr>
          <a:xfrm>
            <a:off x="4038480" y="2362320"/>
            <a:ext cx="33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平等互惠，体谅他人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7" name="Text Box 17"/>
          <p:cNvSpPr/>
          <p:nvPr/>
        </p:nvSpPr>
        <p:spPr>
          <a:xfrm>
            <a:off x="4038480" y="33526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正确处理意见和分歧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8" name="Text Box 18"/>
          <p:cNvSpPr/>
          <p:nvPr/>
        </p:nvSpPr>
        <p:spPr>
          <a:xfrm>
            <a:off x="4038480" y="41148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友谊需要尺度，要把握好原则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9" name="Text Box 19"/>
          <p:cNvSpPr/>
          <p:nvPr/>
        </p:nvSpPr>
        <p:spPr>
          <a:xfrm>
            <a:off x="4038480" y="5105520"/>
            <a:ext cx="266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0" name="Text Box 20"/>
          <p:cNvSpPr/>
          <p:nvPr/>
        </p:nvSpPr>
        <p:spPr>
          <a:xfrm>
            <a:off x="4114800" y="51055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Arial"/>
              </a:rPr>
              <a:t>慎重交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3" name="arrow.wav"/>
      </p:stSnd>
    </p:sndAc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9" dur="1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2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2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2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2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2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2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[周华健]朋友  伴奏 cn^ Net E音-周华健.mp3" descr=""/>
          <p:cNvPicPr/>
          <p:nvPr/>
        </p:nvPicPr>
        <p:blipFill>
          <a:blip r:embed="rId2"/>
          <a:stretch/>
        </p:blipFill>
        <p:spPr>
          <a:xfrm>
            <a:off x="6324480" y="1447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-305280" y="0"/>
            <a:ext cx="54104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琥珀"/>
              </a:rPr>
              <a:t>心灵导航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53" name="Text Box 3"/>
          <p:cNvSpPr/>
          <p:nvPr/>
        </p:nvSpPr>
        <p:spPr>
          <a:xfrm>
            <a:off x="2411280" y="13410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 Black"/>
                <a:ea typeface="华文细黑"/>
              </a:rPr>
              <a:t>名   言   欣  赏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4" name="Text Box 4"/>
          <p:cNvSpPr/>
          <p:nvPr/>
        </p:nvSpPr>
        <p:spPr>
          <a:xfrm>
            <a:off x="395280" y="227664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世界上最美好的东西，莫过于有几个头脑和心地都很正直的严正的朋友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                                      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爱因斯坦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5" name="Text Box 5"/>
          <p:cNvSpPr/>
          <p:nvPr/>
        </p:nvSpPr>
        <p:spPr>
          <a:xfrm>
            <a:off x="395280" y="4005360"/>
            <a:ext cx="806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多一个真正的朋友，就多一块陶冶情操的砺石，多一分战胜困难的力量，多一个锐意进取的伴侣。                    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                                       ──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（法）小仲马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3" name="arrow.wav"/>
      </p:stSnd>
    </p:sndAc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3" dur="59044" fill="hold"/>
                                        <p:tgtEl>
                                          <p:spTgt spid="10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 txBox="1"/>
          <p:nvPr/>
        </p:nvSpPr>
        <p:spPr>
          <a:xfrm>
            <a:off x="1258920" y="2781360"/>
            <a:ext cx="5943600" cy="1847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一</a:t>
            </a: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我的人际圈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533520" y="685800"/>
            <a:ext cx="807696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780000" y="2349360"/>
            <a:ext cx="2286000" cy="1828800"/>
          </a:xfrm>
          <a:prstGeom prst="donut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835280" y="476280"/>
            <a:ext cx="6248160" cy="5715000"/>
          </a:xfrm>
          <a:prstGeom prst="donut">
            <a:avLst>
              <a:gd name="adj" fmla="val 25000"/>
            </a:avLst>
          </a:prstGeom>
          <a:solidFill>
            <a:srgbClr val="99ff66"/>
          </a:solidFill>
          <a:ln w="9360">
            <a:solidFill>
              <a:srgbClr val="1a55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7451640" y="76500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隶书"/>
              </a:rPr>
              <a:t>陌生人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3203640" y="119700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一般的同学或熟人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3851280" y="4149720"/>
            <a:ext cx="198108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较好的朋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3924360" y="234936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知心的朋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4643280" y="299736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3" name=""/>
          <p:cNvSpPr/>
          <p:nvPr/>
        </p:nvSpPr>
        <p:spPr>
          <a:xfrm>
            <a:off x="-27720" y="1278000"/>
            <a:ext cx="1399320" cy="4437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  <a:ea typeface="华文琥珀"/>
              </a:rPr>
              <a:t>人际关系树轮图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50920" y="18900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333300"/>
                </a:solidFill>
                <a:latin typeface="Arial"/>
              </a:rPr>
              <a:t>自己的人际关系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/>
          </p:nvPr>
        </p:nvSpPr>
        <p:spPr>
          <a:xfrm>
            <a:off x="461880" y="1700280"/>
            <a:ext cx="806472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在与同学的交往中，如果封闭自己，只会使我们的“人际关系树轮”萎缩，，使自己陷入孤立，如果保持积极开放的心态，我们就会接触更多的人，分享更多的经验和快乐，同时也会被更多的人接纳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7" name=""/>
          <p:cNvSpPr/>
          <p:nvPr/>
        </p:nvSpPr>
        <p:spPr>
          <a:xfrm>
            <a:off x="1828800" y="106668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新魏"/>
              </a:rPr>
              <a:t>　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　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华文新魏"/>
              </a:rPr>
              <a:t>受欢迎的优点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真诚、理解、值得信赖、理智、有思想、体贴、热情、友好、不自私、幽默、负责任、开朗、信任别人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  <a:ea typeface="华文新魏"/>
              </a:rPr>
              <a:t>┉┉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80880" y="419112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不受欢迎的缺点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尖刻、多嘴多舌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自私、目光短浅、粗鲁、自高自大、贪婪、不真诚、恶毒、冷酷、邪恶、说谎</a:t>
            </a:r>
            <a:r>
              <a:rPr b="1" lang="zh-CN" sz="2400" spc="-1" strike="noStrike">
                <a:solidFill>
                  <a:srgbClr val="3333ff"/>
                </a:solidFill>
                <a:latin typeface="隶书"/>
                <a:ea typeface="华文新魏"/>
              </a:rPr>
              <a:t>┉┉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9" name="" descr=""/>
          <p:cNvPicPr/>
          <p:nvPr/>
        </p:nvPicPr>
        <p:blipFill>
          <a:blip r:embed="rId3"/>
          <a:stretch/>
        </p:blipFill>
        <p:spPr>
          <a:xfrm>
            <a:off x="228600" y="685800"/>
            <a:ext cx="1365120" cy="2819520"/>
          </a:xfrm>
          <a:prstGeom prst="rect">
            <a:avLst/>
          </a:prstGeom>
          <a:ln w="0">
            <a:noFill/>
          </a:ln>
        </p:spPr>
      </p:pic>
      <p:sp>
        <p:nvSpPr>
          <p:cNvPr id="1000" name=""/>
          <p:cNvSpPr/>
          <p:nvPr/>
        </p:nvSpPr>
        <p:spPr>
          <a:xfrm>
            <a:off x="1905120" y="228600"/>
            <a:ext cx="4724280" cy="685800"/>
          </a:xfrm>
          <a:prstGeom prst="cloudCallout">
            <a:avLst>
              <a:gd name="adj1" fmla="val -67472"/>
              <a:gd name="adj2" fmla="val 152777"/>
            </a:avLst>
          </a:prstGeom>
          <a:solidFill>
            <a:srgbClr val="a8c9f6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谁最受欢迎？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1" name="WordArt 2" descr=""/>
          <p:cNvPicPr/>
          <p:nvPr/>
        </p:nvPicPr>
        <p:blipFill>
          <a:blip r:embed="rId2"/>
          <a:stretch/>
        </p:blipFill>
        <p:spPr>
          <a:xfrm>
            <a:off x="1755720" y="2292480"/>
            <a:ext cx="5626080" cy="158436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3" name="arrow.wav"/>
      </p:stSnd>
    </p:sndAc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cca0c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有两个朋友在路上边走边聊，突然一只狗熊从树丛中窜到他们面前。一个人迅速地爬上路旁的一棵大树上，躲了起来；另一个人无路可逃，只好躺在地上忍住呼吸装死，熊走到“死人”身旁，用鼻子嗅了嗅，便大摇大摆走了。熊走后，树上的人下来问装死的朋友，熊对你说了什么，这个装死的人回答道：“熊忠告我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Text Box 3"/>
          <p:cNvSpPr/>
          <p:nvPr/>
        </p:nvSpPr>
        <p:spPr>
          <a:xfrm>
            <a:off x="87840" y="476280"/>
            <a:ext cx="6678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故事一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4" name="Text Box 4"/>
          <p:cNvSpPr/>
          <p:nvPr/>
        </p:nvSpPr>
        <p:spPr>
          <a:xfrm>
            <a:off x="1371600" y="54864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对于在危险面前抛弃你的人决不可与他交朋友。”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5" name="Picture 5" descr="1"/>
          <p:cNvPicPr/>
          <p:nvPr/>
        </p:nvPicPr>
        <p:blipFill>
          <a:blip r:embed="rId2"/>
          <a:stretch/>
        </p:blipFill>
        <p:spPr>
          <a:xfrm>
            <a:off x="7620120" y="4543560"/>
            <a:ext cx="1258920" cy="2314440"/>
          </a:xfrm>
          <a:prstGeom prst="rect">
            <a:avLst/>
          </a:prstGeom>
          <a:ln w="0">
            <a:noFill/>
          </a:ln>
        </p:spPr>
      </p:pic>
      <p:pic>
        <p:nvPicPr>
          <p:cNvPr id="1006" name="" descr=""/>
          <p:cNvPicPr/>
          <p:nvPr/>
        </p:nvPicPr>
        <p:blipFill>
          <a:blip r:embed="rId3"/>
          <a:stretch/>
        </p:blipFill>
        <p:spPr>
          <a:xfrm>
            <a:off x="304920" y="1828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4" name="arrow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34560" fill="hold"/>
                                        <p:tgtEl>
                                          <p:spTgt spid="10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/>
          </p:nvPr>
        </p:nvSpPr>
        <p:spPr>
          <a:xfrm>
            <a:off x="610920" y="404640"/>
            <a:ext cx="7770600" cy="46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两个朋友在沙漠中旅行，在旅途中他们吵架了，一个还打了另外一个一记耳光。被打的觉得受辱，一言不语，在沙子上写下：“今天我的好朋友打了我一巴掌。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他们继续往前走，到了沃野，他们就决定停下。被打耳光的那位差点儿淹死，幸好被朋友救起。被救起后，他拿了一把小剑在石头上刻下：“今天我的好朋友救了我一命。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朋友好奇地问：“为什么我打了你以后，你要写在沙子上，而现在要刻在石头上呢？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另一个笑了笑，回答说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Text Box 3"/>
          <p:cNvSpPr/>
          <p:nvPr/>
        </p:nvSpPr>
        <p:spPr>
          <a:xfrm>
            <a:off x="3600" y="1066680"/>
            <a:ext cx="66780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故事一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9" name="Picture 5" descr="3"/>
          <p:cNvPicPr/>
          <p:nvPr/>
        </p:nvPicPr>
        <p:blipFill>
          <a:blip r:embed="rId2"/>
          <a:stretch/>
        </p:blipFill>
        <p:spPr>
          <a:xfrm>
            <a:off x="152280" y="304920"/>
            <a:ext cx="733680" cy="533160"/>
          </a:xfrm>
          <a:prstGeom prst="rect">
            <a:avLst/>
          </a:prstGeom>
          <a:ln w="0">
            <a:noFill/>
          </a:ln>
        </p:spPr>
      </p:pic>
      <p:sp>
        <p:nvSpPr>
          <p:cNvPr id="1010" name="Text Box 6"/>
          <p:cNvSpPr/>
          <p:nvPr/>
        </p:nvSpPr>
        <p:spPr>
          <a:xfrm>
            <a:off x="533520" y="5029200"/>
            <a:ext cx="8229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当被一个朋友伤害时，要写在易忘的地方，风会负责抹去它；相反，如果被帮助，我们要把它刻在心里的深处，那里任何风都不能抹灭它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1" name="" descr=""/>
          <p:cNvPicPr/>
          <p:nvPr/>
        </p:nvPicPr>
        <p:blipFill>
          <a:blip r:embed="rId3"/>
          <a:stretch/>
        </p:blipFill>
        <p:spPr>
          <a:xfrm>
            <a:off x="22860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4" name="arrow.wav"/>
      </p:stSnd>
    </p:sndAc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47640" fill="hold"/>
                                        <p:tgtEl>
                                          <p:spTgt spid="10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0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79"/>
            </a:gs>
            <a:gs pos="100000">
              <a:srgbClr val="aaa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Text Box 2"/>
          <p:cNvSpPr/>
          <p:nvPr/>
        </p:nvSpPr>
        <p:spPr>
          <a:xfrm>
            <a:off x="0" y="685800"/>
            <a:ext cx="91440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华文隶书"/>
                <a:ea typeface="华文隶书"/>
              </a:rPr>
              <a:t>普通的朋友与真正的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　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从未看过你哭泣。一个真正的朋友有双肩让你的泪水湿尽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在吵架后就认为友谊已经结束。一个真正的朋友明白当你们还没打过架就不叫真正的友谊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找你谈论你的困扰。一个真正的朋友找你解决你的困扰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在拜访时，像一个客人一样。一个真正的朋友会打开冰箱自己拿东西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期望你永远在他身边陪他。一个真正的朋友期望他能永远陪在你身旁 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3" name="Text Box 3"/>
          <p:cNvSpPr/>
          <p:nvPr/>
        </p:nvSpPr>
        <p:spPr>
          <a:xfrm>
            <a:off x="1887480" y="552276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4" name="Picture 4" descr="8"/>
          <p:cNvPicPr/>
          <p:nvPr/>
        </p:nvPicPr>
        <p:blipFill>
          <a:blip r:embed="rId1"/>
          <a:stretch/>
        </p:blipFill>
        <p:spPr>
          <a:xfrm>
            <a:off x="3886200" y="2743200"/>
            <a:ext cx="857160" cy="285768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2" name="arrow.wav"/>
      </p:stSnd>
    </p:sndAc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2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deardu.com</dc:creator>
  <dc:description>www.deardu.com</dc:description>
  <cp:keywords>www.deardu.com</cp:keywords>
  <dc:language>en-US</dc:language>
  <cp:lastModifiedBy>微软用户</cp:lastModifiedBy>
  <dcterms:modified xsi:type="dcterms:W3CDTF">2012-08-30T07:43:14Z</dcterms:modified>
  <cp:revision>10</cp:revision>
  <dc:subject>www.deardu.com</dc:subject>
  <dc:title>www.deardu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